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1167-7831-4E3F-806C-32AC69FD3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C4A6-0D3C-4BDA-B09F-8CED1DB2E0D0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B9EC-9311-4B03-B3DF-450675007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141-3B7B-485C-931B-C9A3552A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954A-415F-4083-BB08-28BCCAA7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383F-A804-4EDE-B752-39069A06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C57D-31B5-4260-AB07-622BC33B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769-59BE-4764-8B3C-91D9CA19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366E-361C-400F-AB1C-5979E4B2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B15D-C262-4E33-8A69-6850D84F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9543-C8D1-4F4B-8001-A81D65FB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7956-0AF6-40CD-B7DA-1AEAD35D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366-C76E-46BD-B727-61F74940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F612-7956-4A2D-950A-B07A2671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F76-237B-4ABE-9116-B72248CC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6878-AB4F-49A5-849E-862B701C6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s://www.basu.org.in/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1523520"/>
            <a:ext cx="9163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hylum: Platyhelmint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IN" sz="4000" spc="-1" strike="noStrike">
                <a:solidFill>
                  <a:srgbClr val="ffff00"/>
                </a:solidFill>
                <a:latin typeface="Arial"/>
              </a:rPr>
              <a:t>Class : Cesto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0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r>
              <a:rPr b="1" lang="en-IN" sz="4000" spc="-1" strike="noStrike">
                <a:solidFill>
                  <a:srgbClr val="ffff00"/>
                </a:solidFill>
                <a:latin typeface="Arial"/>
              </a:rPr>
              <a:t>Cestodes ( Tapeworm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000" spc="-1" strike="noStrike">
                <a:solidFill>
                  <a:srgbClr val="ffc000"/>
                </a:solidFill>
                <a:latin typeface="Arial Black"/>
              </a:rPr>
              <a:t>                </a:t>
            </a:r>
            <a:r>
              <a:rPr b="1" lang="en-IN" sz="28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C:\Users\ACER\Desktop\moneizia.jpg"/>
          <p:cNvPicPr/>
          <p:nvPr/>
        </p:nvPicPr>
        <p:blipFill>
          <a:blip r:embed="rId1"/>
          <a:stretch/>
        </p:blipFill>
        <p:spPr>
          <a:xfrm>
            <a:off x="33480" y="484668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Look out for drench resistant worms in your goats and sheep with ..."/>
          <p:cNvPicPr/>
          <p:nvPr/>
        </p:nvPicPr>
        <p:blipFill>
          <a:blip r:embed="rId2"/>
          <a:stretch/>
        </p:blipFill>
        <p:spPr>
          <a:xfrm>
            <a:off x="7238880" y="1523880"/>
            <a:ext cx="1905120" cy="129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ow Do Dogs Get Worms? 6 Ways Your Pet Can Pick Them Up"/>
          <p:cNvPicPr/>
          <p:nvPr/>
        </p:nvPicPr>
        <p:blipFill>
          <a:blip r:embed="rId3"/>
          <a:srcRect l="17270" t="0" r="0" b="0"/>
          <a:stretch/>
        </p:blipFill>
        <p:spPr>
          <a:xfrm>
            <a:off x="0" y="2819520"/>
            <a:ext cx="2133720" cy="1747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400" spc="-1" strike="noStrike">
                <a:solidFill>
                  <a:srgbClr val="ffff00"/>
                </a:solidFill>
                <a:latin typeface="Arial Black"/>
              </a:rPr>
              <a:t>CEST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Bihar Animal Sciences University | बिहार पशु विज्ञान विश्वविद्यालय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8240" y="168120"/>
            <a:ext cx="1149120" cy="1194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Colour Logofinal"/>
          <p:cNvPicPr/>
          <p:nvPr/>
        </p:nvPicPr>
        <p:blipFill>
          <a:blip r:embed="rId6"/>
          <a:stretch/>
        </p:blipFill>
        <p:spPr>
          <a:xfrm>
            <a:off x="8062920" y="171360"/>
            <a:ext cx="1100160" cy="1246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3192480" y="4402080"/>
            <a:ext cx="4572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2d050"/>
                </a:solidFill>
                <a:latin typeface="Arial Black"/>
              </a:rPr>
              <a:t>Dr. AJIT KU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2d050"/>
                </a:solidFill>
                <a:latin typeface="Arial Black"/>
              </a:rPr>
              <a:t>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Arial Black"/>
              </a:rPr>
              <a:t>Department of Parasi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Arial Black"/>
              </a:rPr>
              <a:t>Bihar Veterinary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Arial Black"/>
              </a:rPr>
              <a:t>Bihar Animal Sciences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Arial Black"/>
              </a:rPr>
              <a:t>Patna-800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characters of Ces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 algn="just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Onchosphe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s bilaterally symmetrical, spherical or oval and is armed with 3 pairs of hoo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just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In cotyloda,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ggs hatch in the environment whereas in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Eucestod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, eggs hatch after being ingested by intermediate h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https://clinicalsciences.files.wordpress.com/2010/03/egg-taenia1.jpg"/>
          <p:cNvPicPr/>
          <p:nvPr/>
        </p:nvPicPr>
        <p:blipFill>
          <a:blip r:embed="rId1"/>
          <a:stretch/>
        </p:blipFill>
        <p:spPr>
          <a:xfrm>
            <a:off x="3429000" y="646200"/>
            <a:ext cx="4191120" cy="17478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706104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ff0000"/>
                </a:solidFill>
                <a:latin typeface="Arial Black"/>
              </a:rPr>
              <a:t>Metaces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4582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arval stages of cestode i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tacestodes or bladder worm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en-US" sz="2000" spc="-1" strike="noStrike" u="sng">
                <a:solidFill>
                  <a:srgbClr val="ffc000"/>
                </a:solidFill>
                <a:uFillTx/>
                <a:latin typeface="Arial"/>
              </a:rPr>
              <a:t>Different metacestode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Tetrathyridium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is an  elongated, solid bodied metacestode with deeply invaginated acetabular scolex. e.g. Mesocestoidid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Cysticercoid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s  single non-invaginated scolex embedded in a small solid vesicle. e.g.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Dipylidium caninum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4013280" y="3662280"/>
            <a:ext cx="5102280" cy="31845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https://ars.els-cdn.com/content/image/3-s2.0-B9780124159150000121-f12-12-9780124159150.gif"/>
          <p:cNvPicPr/>
          <p:nvPr/>
        </p:nvPicPr>
        <p:blipFill>
          <a:blip r:embed="rId2"/>
          <a:stretch/>
        </p:blipFill>
        <p:spPr>
          <a:xfrm>
            <a:off x="130320" y="3549600"/>
            <a:ext cx="3882960" cy="3297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 rot="16200000">
            <a:off x="7966080" y="567180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ff0000"/>
                </a:solidFill>
                <a:latin typeface="Arial Black"/>
              </a:rPr>
              <a:t>Types of metaces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400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Cysticercu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s fluid filled bladder containing an attached single invaginated scloex.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e.g.  </a:t>
            </a:r>
            <a:r>
              <a:rPr b="1" i="1" lang="en-US" sz="3200" spc="-1" strike="noStrike">
                <a:solidFill>
                  <a:srgbClr val="ffc000"/>
                </a:solidFill>
                <a:latin typeface="Arial"/>
              </a:rPr>
              <a:t>Taenia saginata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c000"/>
                </a:solidFill>
                <a:latin typeface="Arial"/>
              </a:rPr>
              <a:t>Taenia solium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c000"/>
                </a:solidFill>
                <a:latin typeface="Arial"/>
              </a:rPr>
              <a:t>Taenia pisiformis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enuru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s a large fluid containing bladder with a no. of invaginated scolices attached to the walls.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e.g. </a:t>
            </a:r>
            <a:r>
              <a:rPr b="1" i="1" lang="en-US" sz="2800" spc="-1" strike="noStrike">
                <a:solidFill>
                  <a:srgbClr val="ffc000"/>
                </a:solidFill>
                <a:latin typeface="Arial"/>
              </a:rPr>
              <a:t>Taenia multiceps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155520" y="-144360"/>
            <a:ext cx="1368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ysticercus"/>
          <p:cNvPicPr/>
          <p:nvPr/>
        </p:nvPicPr>
        <p:blipFill>
          <a:blip r:embed="rId1"/>
          <a:stretch/>
        </p:blipFill>
        <p:spPr>
          <a:xfrm>
            <a:off x="6438960" y="762120"/>
            <a:ext cx="2743200" cy="2476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Image result for coenurus images"/>
          <p:cNvPicPr/>
          <p:nvPr/>
        </p:nvPicPr>
        <p:blipFill>
          <a:blip r:embed="rId2"/>
          <a:stretch/>
        </p:blipFill>
        <p:spPr>
          <a:xfrm>
            <a:off x="6394320" y="3898800"/>
            <a:ext cx="2857680" cy="26672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70992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ff0000"/>
                </a:solidFill>
                <a:latin typeface="Arial Black"/>
              </a:rPr>
              <a:t>Types of metaces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6095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Strobilocercu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has a scolex which is not invaginated when fully developed and is attached to the bladder by a long segmented strobila. e.g. </a:t>
            </a:r>
            <a:r>
              <a:rPr b="1" i="1" lang="en-US" sz="3200" spc="-1" strike="noStrike">
                <a:solidFill>
                  <a:srgbClr val="ffc000"/>
                </a:solidFill>
                <a:latin typeface="Arial"/>
              </a:rPr>
              <a:t>Taenia taeniaeformis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Hydatid cys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s a thick walled large size fluid containing bladder with a no. of brood capsule inside it and each brood capsule contain a no. of scolices.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e.g. </a:t>
            </a:r>
            <a:r>
              <a:rPr b="1" i="1" lang="en-US" sz="2800" spc="-1" strike="noStrike">
                <a:solidFill>
                  <a:srgbClr val="ffc000"/>
                </a:solidFill>
                <a:latin typeface="Arial"/>
              </a:rPr>
              <a:t>Echinococcus granulosus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Image result for strobilocercus images"/>
          <p:cNvPicPr/>
          <p:nvPr/>
        </p:nvPicPr>
        <p:blipFill>
          <a:blip r:embed="rId1"/>
          <a:stretch/>
        </p:blipFill>
        <p:spPr>
          <a:xfrm>
            <a:off x="6095880" y="646200"/>
            <a:ext cx="3048120" cy="2859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Image result for hydatid cyst images"/>
          <p:cNvPicPr/>
          <p:nvPr/>
        </p:nvPicPr>
        <p:blipFill>
          <a:blip r:embed="rId2"/>
          <a:stretch/>
        </p:blipFill>
        <p:spPr>
          <a:xfrm>
            <a:off x="6084720" y="3903840"/>
            <a:ext cx="3048120" cy="25542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7039080" y="6585120"/>
            <a:ext cx="2057400" cy="2728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ff0000"/>
                </a:solidFill>
                <a:latin typeface="Arial Black"/>
              </a:rPr>
              <a:t>Types of metaces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Procercoi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is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rst larval stag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f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Diphyllobothrium latum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ccurs in the 1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intermediate host (Cyclops). It is solid bodied and bears 6 hooks on the cercomere in the posterior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ix h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Plerocercoi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larval stag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f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Diphyllobothrium latum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occurs in the 2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intermediate host (Fish). Plerocercoids are elongate, solid bodies metacestodes which bear an adult sco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Figure 4 from The terminology of larval cestodes or metacestodes ..."/>
          <p:cNvPicPr/>
          <p:nvPr/>
        </p:nvPicPr>
        <p:blipFill>
          <a:blip r:embed="rId1"/>
          <a:srcRect l="56478" t="-495" r="-160" b="78557"/>
          <a:stretch/>
        </p:blipFill>
        <p:spPr>
          <a:xfrm>
            <a:off x="3848040" y="2517840"/>
            <a:ext cx="2543400" cy="1257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Figure 4 from The terminology of larval cestodes or metacestodes ..."/>
          <p:cNvPicPr/>
          <p:nvPr/>
        </p:nvPicPr>
        <p:blipFill>
          <a:blip r:embed="rId2"/>
          <a:srcRect l="57108" t="37040" r="502" b="42816"/>
          <a:stretch/>
        </p:blipFill>
        <p:spPr>
          <a:xfrm>
            <a:off x="4572000" y="5410080"/>
            <a:ext cx="2467080" cy="1123920"/>
          </a:xfrm>
          <a:prstGeom prst="rect">
            <a:avLst/>
          </a:prstGeom>
          <a:ln w="0">
            <a:noFill/>
          </a:ln>
        </p:spPr>
      </p:pic>
      <p:sp>
        <p:nvSpPr>
          <p:cNvPr id="111" name="Right Arrow 1"/>
          <p:cNvSpPr/>
          <p:nvPr/>
        </p:nvSpPr>
        <p:spPr>
          <a:xfrm>
            <a:off x="2819520" y="3200400"/>
            <a:ext cx="1066680" cy="1522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7053120" y="6705720"/>
            <a:ext cx="205740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80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ff0000"/>
                </a:solidFill>
                <a:latin typeface="Arial Black"/>
              </a:rPr>
              <a:t>Class- Cestoda</a:t>
            </a:r>
            <a:br>
              <a:rPr sz="1800"/>
            </a:br>
            <a:r>
              <a:rPr b="0" lang="en-IN" sz="1800" spc="-1" strike="noStrike">
                <a:solidFill>
                  <a:srgbClr val="ff0000"/>
                </a:solidFill>
                <a:latin typeface="Arial Black"/>
              </a:rPr>
              <a:t>Two </a:t>
            </a:r>
            <a:br>
              <a:rPr sz="1800"/>
            </a:br>
            <a:r>
              <a:rPr b="0" lang="en-IN" sz="1800" spc="-1" strike="noStrike">
                <a:solidFill>
                  <a:srgbClr val="ff0000"/>
                </a:solidFill>
                <a:latin typeface="Arial Black"/>
              </a:rPr>
              <a:t>Sub-class</a:t>
            </a:r>
            <a:br>
              <a:rPr sz="1800"/>
            </a:br>
            <a:r>
              <a:rPr b="0" lang="en-IN" sz="1600" spc="-1" strike="noStrike">
                <a:solidFill>
                  <a:srgbClr val="002060"/>
                </a:solidFill>
                <a:latin typeface="Arial Black"/>
              </a:rPr>
              <a:t>Eucestoda</a:t>
            </a:r>
            <a:r>
              <a:rPr b="0" lang="en-IN" sz="16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en-IN" sz="1600" spc="-1" strike="noStrike">
                <a:solidFill>
                  <a:srgbClr val="002060"/>
                </a:solidFill>
                <a:latin typeface="Arial Black"/>
              </a:rPr>
              <a:t>                </a:t>
            </a:r>
            <a:r>
              <a:rPr b="0" lang="en-IN" sz="16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en-IN" sz="16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en-IN" sz="1600" spc="-1" strike="noStrike">
                <a:solidFill>
                  <a:srgbClr val="002060"/>
                </a:solidFill>
                <a:latin typeface="Arial Black"/>
              </a:rPr>
              <a:t>Cotyloda</a:t>
            </a:r>
            <a:br>
              <a:rPr sz="1600"/>
            </a:br>
            <a:r>
              <a:rPr b="0" lang="en-IN" sz="1600" spc="-1" strike="noStrike">
                <a:solidFill>
                  <a:srgbClr val="002060"/>
                </a:solidFill>
                <a:latin typeface="Arial Black"/>
              </a:rPr>
              <a:t>(true tapeworms)                   (Pseudotapeworms)</a:t>
            </a:r>
            <a:br>
              <a:rPr sz="1600"/>
            </a:br>
            <a:r>
              <a:rPr b="0" lang="en-IN" sz="1600" spc="-1" strike="noStrike">
                <a:solidFill>
                  <a:srgbClr val="002060"/>
                </a:solidFill>
                <a:latin typeface="Arial Black"/>
              </a:rPr>
              <a:t>Order- Cyclophyllidea                  Order- Pseudophyllide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388584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( true tapeworms)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(Pseudotapewo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52280" y="1752480"/>
          <a:ext cx="8991720" cy="5133960"/>
        </p:xfrm>
        <a:graphic>
          <a:graphicData uri="http://schemas.openxmlformats.org/drawingml/2006/table">
            <a:tbl>
              <a:tblPr/>
              <a:tblGrid>
                <a:gridCol w="1641600"/>
                <a:gridCol w="3674880"/>
                <a:gridCol w="367524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harac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002060"/>
                          </a:solidFill>
                          <a:latin typeface="Arial Black"/>
                        </a:rPr>
                        <a:t> </a:t>
                      </a:r>
                      <a:r>
                        <a:rPr b="1" lang="en-IN" sz="1600" spc="-1" strike="noStrike">
                          <a:solidFill>
                            <a:srgbClr val="002060"/>
                          </a:solidFill>
                          <a:latin typeface="Arial Black"/>
                        </a:rPr>
                        <a:t>Pseudophyll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002060"/>
                          </a:solidFill>
                          <a:latin typeface="Arial Black"/>
                        </a:rPr>
                        <a:t>Cyclophyll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55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two narrow deep grooves called 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oth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as Four suckers which may be armed with hoo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6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al p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ound on ventral su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al except Mesocestoides where it is on mid ventral su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perculated and unembryona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ryonated and non-opercula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6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ediate h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quire two intermediate h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one intermediate host except Mesocesto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604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n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Diphyllobothrida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iphyllobothrium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piromet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7030a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Anoplocephalida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plocephala, Moniezia, Stilesia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telina, Thysanosom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7030a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Dilepidida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pylidium,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ebotaenia, Choanotaeni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7030a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Davaineid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ainea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llietina, Cotugni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7030a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Taeniida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enia, Echinococcu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7030a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Hymenolepidida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menolepsi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7030a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Mesocestoidid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ocestoid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cxnSp>
        <p:nvCxnSpPr>
          <p:cNvPr id="116" name="Straight Arrow Connector 5"/>
          <p:cNvCxnSpPr/>
          <p:nvPr/>
        </p:nvCxnSpPr>
        <p:spPr>
          <a:xfrm flipH="1">
            <a:off x="2590560" y="532440"/>
            <a:ext cx="2057760" cy="533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Straight Arrow Connector 7"/>
          <p:cNvCxnSpPr/>
          <p:nvPr/>
        </p:nvCxnSpPr>
        <p:spPr>
          <a:xfrm>
            <a:off x="4648320" y="609120"/>
            <a:ext cx="1753200" cy="3819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360" y="623520"/>
            <a:ext cx="7058160" cy="58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Rectangle 3" descr=""/>
          <p:cNvPicPr/>
          <p:nvPr/>
        </p:nvPicPr>
        <p:blipFill>
          <a:blip r:embed="rId1"/>
          <a:stretch/>
        </p:blipFill>
        <p:spPr>
          <a:xfrm>
            <a:off x="2816280" y="3078000"/>
            <a:ext cx="4054320" cy="920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400" spc="-1" strike="noStrike">
                <a:solidFill>
                  <a:srgbClr val="ffff00"/>
                </a:solidFill>
                <a:latin typeface="Arial Black"/>
              </a:rPr>
              <a:t>General Cest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0720" y="1417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General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Life-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Metacest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characters of Ces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56386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estoda contain two sub-classes- Eucestoda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(true cestodes)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&amp; Cotyloda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(Fish tape worms)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orms are like ribbon or tape, hence call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tapeworm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ody is dorsoventrally flattened ribbon like metamerically segmen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C:\Users\ACER\Desktop\moneizia.jpg"/>
          <p:cNvPicPr/>
          <p:nvPr/>
        </p:nvPicPr>
        <p:blipFill>
          <a:blip r:embed="rId1"/>
          <a:stretch/>
        </p:blipFill>
        <p:spPr>
          <a:xfrm>
            <a:off x="5791320" y="762120"/>
            <a:ext cx="3352680" cy="6095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7086600" y="654048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characters of Ces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ody cavity an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alimentary canal absen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er body covering call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tegumen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neral body surface is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absorptiv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and help in nutrients absorb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Image result for outer covering of cestodes images"/>
          <p:cNvPicPr/>
          <p:nvPr/>
        </p:nvPicPr>
        <p:blipFill>
          <a:blip r:embed="rId1"/>
          <a:stretch/>
        </p:blipFill>
        <p:spPr>
          <a:xfrm>
            <a:off x="1523880" y="3048120"/>
            <a:ext cx="6397920" cy="36194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70866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characters of Ces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5334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dy of adult tapeworms consist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. 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Scolex or head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i. 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Neck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iii. 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Strob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dy consists of a head i.e. 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Scolex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bearing hold fast organs or suckers, then unsegmented 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neck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followed by 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strobil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which consists of 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immatur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(reproductive system and eggs are absent), 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matur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  (reproductive organs are mature and functional) and 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gravid segments of proglotti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(reproductive organs degenerate and filled with egg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https://classconnection.s3.amazonaws.com/172/flashcards/1100172/jpg/flatworm1330151589171.jpg"/>
          <p:cNvPicPr/>
          <p:nvPr/>
        </p:nvPicPr>
        <p:blipFill>
          <a:blip r:embed="rId1"/>
          <a:stretch/>
        </p:blipFill>
        <p:spPr>
          <a:xfrm>
            <a:off x="5334120" y="914400"/>
            <a:ext cx="3809880" cy="5715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705024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Characters of Ces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645840"/>
            <a:ext cx="6324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eucestoda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colex is normally provided with four (4) suckers which may be armed with h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scolex usually bears anteriorly a mobile protrusible rostellum which may be also armed with one or more concentric rows of h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cotyloda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scolex has narrow deep weakly spatula shaped muscular groove known as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Bothria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s hold fast organ instead of suc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Image result for cestodes image"/>
          <p:cNvPicPr/>
          <p:nvPr/>
        </p:nvPicPr>
        <p:blipFill>
          <a:blip r:embed="rId1"/>
          <a:stretch/>
        </p:blipFill>
        <p:spPr>
          <a:xfrm>
            <a:off x="7238880" y="762120"/>
            <a:ext cx="1597320" cy="1523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ttp://www.biology.ualberta.ca/parasites/ParPub/themes/image/img083a.jpg"/>
          <p:cNvPicPr/>
          <p:nvPr/>
        </p:nvPicPr>
        <p:blipFill>
          <a:blip r:embed="rId2"/>
          <a:stretch/>
        </p:blipFill>
        <p:spPr>
          <a:xfrm>
            <a:off x="7086600" y="3693960"/>
            <a:ext cx="1889280" cy="3014640"/>
          </a:xfrm>
          <a:prstGeom prst="rect">
            <a:avLst/>
          </a:prstGeom>
          <a:ln w="0">
            <a:noFill/>
          </a:ln>
        </p:spPr>
      </p:pic>
      <p:cxnSp>
        <p:nvCxnSpPr>
          <p:cNvPr id="74" name="Straight Arrow Connector 2"/>
          <p:cNvCxnSpPr/>
          <p:nvPr/>
        </p:nvCxnSpPr>
        <p:spPr>
          <a:xfrm flipV="1">
            <a:off x="4190760" y="5257080"/>
            <a:ext cx="3618360" cy="76284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triangle" w="med"/>
          </a:ln>
        </p:spPr>
      </p:cxnSp>
      <p:cxnSp>
        <p:nvCxnSpPr>
          <p:cNvPr id="75" name="Straight Arrow Connector 4"/>
          <p:cNvCxnSpPr/>
          <p:nvPr/>
        </p:nvCxnSpPr>
        <p:spPr>
          <a:xfrm>
            <a:off x="4723920" y="1523520"/>
            <a:ext cx="2667960" cy="4201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Straight Arrow Connector 6"/>
          <p:cNvCxnSpPr/>
          <p:nvPr/>
        </p:nvCxnSpPr>
        <p:spPr>
          <a:xfrm flipV="1">
            <a:off x="3885840" y="1218600"/>
            <a:ext cx="3506040" cy="19436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77" name="Picture 10" descr="See the source image"/>
          <p:cNvPicPr/>
          <p:nvPr/>
        </p:nvPicPr>
        <p:blipFill>
          <a:blip r:embed="rId3"/>
          <a:stretch/>
        </p:blipFill>
        <p:spPr>
          <a:xfrm>
            <a:off x="7010280" y="2241720"/>
            <a:ext cx="2133720" cy="14522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4970520" y="6499080"/>
            <a:ext cx="2057400" cy="2923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characters of Ces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fter shedding of gravid segments, the eggs are set free  either by disintegration of the gravid proglottids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(apolysis)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or through an opening call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thysanu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which  created in the uterus due to the pressure of eggs and the muscular activities of proglott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the cotyloda, the eggs are normally continuously discharged from the proglottid through a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uterine pore and not by apolys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characters of Ces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ever, when egg production has ceased, chains of exhausted proglottids may be detached from the strobila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(Pseudoapolysi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Hermophrodit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i.e. each mature proglottid contains one or two sets of male and female reproductive org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characters of Ces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cretory system consists of flame cells (Solenocytes) and efferent canal &amp; discharge nutrient at the terminal seg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estode eggs may be embryonated or unembryonated when passed from the host and the fully embryonated egg contains an onchosp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22:45:21Z</dcterms:created>
  <dc:creator>parasitology</dc:creator>
  <dc:description/>
  <dc:language>en-US</dc:language>
  <cp:lastModifiedBy>user</cp:lastModifiedBy>
  <dcterms:modified xsi:type="dcterms:W3CDTF">2020-03-29T16:29:19Z</dcterms:modified>
  <cp:revision>638</cp:revision>
  <dc:subject/>
  <dc:title>Slide 1</dc:title>
</cp:coreProperties>
</file>