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728-BFBB-4948-8648-059C7BE1E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3F6-A683-4BD8-B7F6-54F85CD0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0401-A596-41C2-A7C6-7A126DA1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0F5-F8BF-4CCA-A824-48962ABC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215-9A94-4D39-B0FE-41608E91784F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3BA2-5795-4E4F-AFAB-99D22A9A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FD08-8BD8-4F5E-9A38-303AFAC8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D7A-2A8F-4A08-AA07-D8B1BCE3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8C2-0B0E-4207-805C-DAE1575B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D31-B5C9-4115-B9BB-6D496074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850-8FB8-4657-9E6A-375C2922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6AD-E482-4662-9165-91222F2C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9C0-22DE-4B47-BC61-24A84773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23C-686E-45DE-B2DF-786EC515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72B-F50A-49C9-B232-14307376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2B6-83D9-4D07-8C59-15FAEE4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0ED-6B13-4E1E-A9C3-82CB4DEF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719-2234-403F-B803-418BA9F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1D9-6B68-42E8-AA77-2102094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E4F-80F6-4CFF-8A19-3E61A9A7C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basu.org.i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484560" y="1486080"/>
            <a:ext cx="916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c000"/>
                </a:solidFill>
                <a:latin typeface="Arial Black"/>
              </a:rPr>
              <a:t>                </a:t>
            </a:r>
            <a:r>
              <a:rPr b="1" lang="en-IN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74480" y="455400"/>
            <a:ext cx="82134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RUMINANTS TAPEW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ihar Animal Sciences University | बिहार पशु विज्ञान विश्वविद्याल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" y="249120"/>
            <a:ext cx="1149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olour Logofinal"/>
          <p:cNvPicPr/>
          <p:nvPr/>
        </p:nvPicPr>
        <p:blipFill>
          <a:blip r:embed="rId3"/>
          <a:stretch/>
        </p:blipFill>
        <p:spPr>
          <a:xfrm>
            <a:off x="8015400" y="196920"/>
            <a:ext cx="1100160" cy="1245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3192480" y="440208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Dr. AJIT K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Department of Parasi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Veterinary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Animal Science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Patna-800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-103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Genus :  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Stile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990720"/>
          <a:ext cx="9144000" cy="563868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  <a:gridCol w="1752480"/>
                <a:gridCol w="1905120"/>
                <a:gridCol w="1600200"/>
              </a:tblGrid>
              <a:tr h="147132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ve 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ermediate 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 of Lar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7996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ilesia hepa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( liver tapewor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ep, goat 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tle &amp; wild rumin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le 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batid mites (Galumna, Oribatula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sticerc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8740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esia globipunct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mall intse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-103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us :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tile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F:\StylsGlobImmatSeg (1).jpg"/>
          <p:cNvPicPr/>
          <p:nvPr/>
        </p:nvPicPr>
        <p:blipFill>
          <a:blip r:embed="rId1"/>
          <a:stretch/>
        </p:blipFill>
        <p:spPr>
          <a:xfrm>
            <a:off x="533520" y="609480"/>
            <a:ext cx="2247840" cy="274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download (2).jpg"/>
          <p:cNvPicPr/>
          <p:nvPr/>
        </p:nvPicPr>
        <p:blipFill>
          <a:blip r:embed="rId2"/>
          <a:stretch/>
        </p:blipFill>
        <p:spPr>
          <a:xfrm>
            <a:off x="5943600" y="685800"/>
            <a:ext cx="2971800" cy="2614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F:\IMG_20190110_121423.jpg"/>
          <p:cNvPicPr/>
          <p:nvPr/>
        </p:nvPicPr>
        <p:blipFill>
          <a:blip r:embed="rId3"/>
          <a:stretch/>
        </p:blipFill>
        <p:spPr>
          <a:xfrm>
            <a:off x="1371600" y="3429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-uterin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543800" y="5943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terus conatining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ight Arrow 9"/>
          <p:cNvSpPr/>
          <p:nvPr/>
        </p:nvSpPr>
        <p:spPr>
          <a:xfrm flipV="1" rot="2338200">
            <a:off x="1009440" y="5094000"/>
            <a:ext cx="990360" cy="164880"/>
          </a:xfrm>
          <a:prstGeom prst="rightArrow">
            <a:avLst>
              <a:gd name="adj1" fmla="val 50000"/>
              <a:gd name="adj2" fmla="val 6598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10"/>
          <p:cNvSpPr/>
          <p:nvPr/>
        </p:nvSpPr>
        <p:spPr>
          <a:xfrm rot="5562600">
            <a:off x="6705000" y="5365440"/>
            <a:ext cx="217440" cy="1601640"/>
          </a:xfrm>
          <a:prstGeom prst="downArrow">
            <a:avLst>
              <a:gd name="adj1" fmla="val 50000"/>
              <a:gd name="adj2" fmla="val 4989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7543800" y="4343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 Black"/>
              </a:rPr>
              <a:t>Courtesy: Souls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Genus :  </a:t>
            </a:r>
            <a:r>
              <a:rPr b="1" i="1" lang="en-US" sz="3600" spc="-1" strike="noStrike">
                <a:solidFill>
                  <a:srgbClr val="002060"/>
                </a:solidFill>
                <a:latin typeface="Arial"/>
              </a:rPr>
              <a:t>Stiles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ffff00"/>
                </a:solidFill>
                <a:latin typeface="Arial"/>
              </a:rPr>
              <a:t>Pathogenesi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400" spc="-1" strike="noStrike">
                <a:solidFill>
                  <a:srgbClr val="ffc000"/>
                </a:solidFill>
                <a:latin typeface="Arial"/>
              </a:rPr>
              <a:t>Stilesia  hepatica </a:t>
            </a:r>
            <a:r>
              <a:rPr b="1" lang="en-IN" sz="2400" spc="-1" strike="noStrike">
                <a:solidFill>
                  <a:srgbClr val="ffff00"/>
                </a:solidFill>
                <a:latin typeface="Arial"/>
              </a:rPr>
              <a:t>: less pathogenic. infected livers are condemned at meat inspection is the only major harm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400" spc="-1" strike="noStrike">
                <a:solidFill>
                  <a:srgbClr val="ffc000"/>
                </a:solidFill>
                <a:latin typeface="Arial"/>
              </a:rPr>
              <a:t>Stilesia  globipuncata </a:t>
            </a:r>
            <a:r>
              <a:rPr b="1" lang="en-IN" sz="2400" spc="-1" strike="noStrike">
                <a:solidFill>
                  <a:srgbClr val="ffc000"/>
                </a:solidFill>
                <a:latin typeface="Arial"/>
              </a:rPr>
              <a:t>: </a:t>
            </a:r>
            <a:r>
              <a:rPr b="1" lang="en-IN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IN" sz="2400" spc="-1" strike="noStrike">
                <a:solidFill>
                  <a:srgbClr val="00b0f0"/>
                </a:solidFill>
                <a:latin typeface="Arial"/>
              </a:rPr>
              <a:t>forms nodules, </a:t>
            </a:r>
            <a:r>
              <a:rPr b="1" lang="en-IN" sz="2400" spc="-1" strike="noStrike">
                <a:solidFill>
                  <a:srgbClr val="ffff00"/>
                </a:solidFill>
                <a:latin typeface="Arial"/>
              </a:rPr>
              <a:t>proliferative inflammation, desquamation of epithelium  of  small intes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ffffdb"/>
                </a:solidFill>
                <a:latin typeface="Arial"/>
              </a:rPr>
              <a:t>Treatm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ffff00"/>
                </a:solidFill>
                <a:latin typeface="Arial"/>
              </a:rPr>
              <a:t>Praziquantel @ 15 mg/kg body w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enus : 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Avitel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85440"/>
            <a:ext cx="6095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rphological charact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Scolex is provided with only </a:t>
            </a:r>
            <a:r>
              <a:rPr b="1" lang="en-US" sz="2400" spc="-1" strike="noStrike" u="sng">
                <a:solidFill>
                  <a:srgbClr val="ffffdb"/>
                </a:solidFill>
                <a:uFillTx/>
                <a:latin typeface="Arial"/>
              </a:rPr>
              <a:t>unarmed four prominent suckers</a:t>
            </a: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cdda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da0"/>
                </a:solidFill>
                <a:latin typeface="Arial"/>
              </a:rPr>
              <a:t>Scolex has neither rostellum nor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Each segment has one set of genital organs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nital pores alternate ir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Uterus is transverse in the middle of proglott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e par-uterine organs  per gravid segment</a:t>
            </a: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db"/>
                </a:solidFill>
                <a:latin typeface="Arial"/>
              </a:rPr>
              <a:t>Eggs hav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 pyriform appa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Avitellina centripunctata — Циклопедия"/>
          <p:cNvPicPr/>
          <p:nvPr/>
        </p:nvPicPr>
        <p:blipFill>
          <a:blip r:embed="rId1"/>
          <a:stretch/>
        </p:blipFill>
        <p:spPr>
          <a:xfrm>
            <a:off x="6292800" y="2347920"/>
            <a:ext cx="2857680" cy="2847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enus : 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Avitel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623880"/>
          <a:ext cx="8991720" cy="2556000"/>
        </p:xfrm>
        <a:graphic>
          <a:graphicData uri="http://schemas.openxmlformats.org/drawingml/2006/table">
            <a:tbl>
              <a:tblPr/>
              <a:tblGrid>
                <a:gridCol w="1947960"/>
                <a:gridCol w="1873440"/>
                <a:gridCol w="1423800"/>
                <a:gridCol w="2173320"/>
                <a:gridCol w="157320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a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ve 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ermediate 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 of Lar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408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tellina centripunct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ep, goat and other 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ocopterous insect like book lice, dusk lice and bark l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sticerc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tellina tat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32" descr="F:\AvitCentrSeg.jpg"/>
          <p:cNvPicPr/>
          <p:nvPr/>
        </p:nvPicPr>
        <p:blipFill>
          <a:blip r:embed="rId1"/>
          <a:stretch/>
        </p:blipFill>
        <p:spPr>
          <a:xfrm>
            <a:off x="152280" y="35053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3" descr="F:\IMG_20190110_121242.jpg"/>
          <p:cNvPicPr/>
          <p:nvPr/>
        </p:nvPicPr>
        <p:blipFill>
          <a:blip r:embed="rId2"/>
          <a:stretch/>
        </p:blipFill>
        <p:spPr>
          <a:xfrm>
            <a:off x="2895480" y="3200400"/>
            <a:ext cx="556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617220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-uterin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Arrow 7"/>
          <p:cNvSpPr/>
          <p:nvPr/>
        </p:nvSpPr>
        <p:spPr>
          <a:xfrm rot="674400">
            <a:off x="4473360" y="6321600"/>
            <a:ext cx="1828800" cy="149040"/>
          </a:xfrm>
          <a:prstGeom prst="rightArrow">
            <a:avLst>
              <a:gd name="adj1" fmla="val 50000"/>
              <a:gd name="adj2" fmla="val 5016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9"/>
          <p:cNvSpPr/>
          <p:nvPr/>
        </p:nvSpPr>
        <p:spPr>
          <a:xfrm rot="16200000">
            <a:off x="7010280" y="609588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2004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72428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7816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13"/>
          <p:cNvSpPr/>
          <p:nvPr/>
        </p:nvSpPr>
        <p:spPr>
          <a:xfrm flipV="1" rot="2670000">
            <a:off x="3982680" y="3534480"/>
            <a:ext cx="569880" cy="133560"/>
          </a:xfrm>
          <a:prstGeom prst="rightArrow">
            <a:avLst>
              <a:gd name="adj1" fmla="val 50000"/>
              <a:gd name="adj2" fmla="val 50471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n Arrow 14"/>
          <p:cNvSpPr/>
          <p:nvPr/>
        </p:nvSpPr>
        <p:spPr>
          <a:xfrm flipH="1">
            <a:off x="5029200" y="3429000"/>
            <a:ext cx="46080" cy="380880"/>
          </a:xfrm>
          <a:prstGeom prst="downArrow">
            <a:avLst>
              <a:gd name="adj1" fmla="val 50000"/>
              <a:gd name="adj2" fmla="val 4959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Arrow 15"/>
          <p:cNvSpPr/>
          <p:nvPr/>
        </p:nvSpPr>
        <p:spPr>
          <a:xfrm rot="8944200">
            <a:off x="5988960" y="3436560"/>
            <a:ext cx="896760" cy="21924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hysanosoma actinio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761760"/>
            <a:ext cx="6477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Common Name : </a:t>
            </a: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Fringed tape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osterior border of segment is fringed papil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resence of </a:t>
            </a:r>
            <a:r>
              <a:rPr b="0" lang="en-US" sz="2000" spc="-1" strike="noStrike" u="sng">
                <a:solidFill>
                  <a:srgbClr val="ffc000"/>
                </a:solidFill>
                <a:uFillTx/>
                <a:latin typeface="Arial Black"/>
              </a:rPr>
              <a:t>several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 Black"/>
              </a:rPr>
              <a:t> par-uterine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ach segment contain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 Black"/>
              </a:rPr>
              <a:t>two sets 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of genital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Pyriform apparatu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 Black"/>
              </a:rPr>
              <a:t>absent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 in 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PICTORIAL KEY TO FAMILIES OF CESTODES OF VETERINARY IMPORTANCE"/>
          <p:cNvPicPr/>
          <p:nvPr/>
        </p:nvPicPr>
        <p:blipFill>
          <a:blip r:embed="rId1"/>
          <a:stretch/>
        </p:blipFill>
        <p:spPr>
          <a:xfrm>
            <a:off x="6934320" y="2133720"/>
            <a:ext cx="1933560" cy="2666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hysanosoma actinio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838080"/>
          <a:ext cx="9144000" cy="2438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nal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ntermediat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ype of metacest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ysanosoma actinioid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ep, cattle and 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duct, pancreatic ducts and 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o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sticerc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4" descr="F:\Img0063c2.JPG"/>
          <p:cNvPicPr/>
          <p:nvPr/>
        </p:nvPicPr>
        <p:blipFill>
          <a:blip r:embed="rId1"/>
          <a:stretch/>
        </p:blipFill>
        <p:spPr>
          <a:xfrm>
            <a:off x="1523880" y="3505320"/>
            <a:ext cx="5943600" cy="3124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-691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y :  Mesocestoid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Genus : Mesocest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Scolex has neither rostellum nor h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Scolex is provided with only unarmed four oval shaped  suck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Segment are longer than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Each segment has one set of genital organs and genital pore opens on mid ventral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-uterine organs  persent in gravid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Life-cycle require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wo intermediate ho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sts where two different metacestodes will be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Corophagous mite acts as </a:t>
            </a: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c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 intermediate host 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in which first metacestode    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 cyticercoid) 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is develo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Dogs, cats, rodents, amphibia, reptiles and birds act as </a:t>
            </a: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 intermediate host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. In which 2</a:t>
            </a:r>
            <a:r>
              <a:rPr b="1" lang="en-US" sz="1800" spc="-1" strike="noStrike" baseline="30000">
                <a:solidFill>
                  <a:srgbClr val="ffffdb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 metacestode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tetrathyridium) </a:t>
            </a: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is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"/>
              </a:rPr>
              <a:t>Infection is harmless in final host but tetrathyridium may cause peritonitis and ascitis in dog and c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5356080"/>
          <a:ext cx="9144000" cy="150192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  <a:gridCol w="1066680"/>
                <a:gridCol w="2057400"/>
                <a:gridCol w="2133720"/>
              </a:tblGrid>
              <a:tr h="64008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a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v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irst Intermediat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Intermediat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18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443016"/>
                          </a:solidFill>
                          <a:latin typeface="Calibri"/>
                          <a:ea typeface="Times New Roman"/>
                        </a:rPr>
                        <a:t>Mesocestoi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443016"/>
                          </a:solidFill>
                          <a:latin typeface="Calibri"/>
                          <a:ea typeface="Times New Roman"/>
                        </a:rPr>
                        <a:t>variabi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Arial"/>
                        </a:rPr>
                        <a:t>Dog, cat ,other wild carnivores and m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Times New Roman"/>
                          <a:ea typeface="Times New Roman"/>
                        </a:rPr>
                        <a:t>Small intest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Arial"/>
                        </a:rPr>
                        <a:t>Corophagous oribatid mit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Arial"/>
                        </a:rPr>
                        <a:t>Dogs, cats, rodents, amphibia, reptiles and bi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0" y="-691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y :  Mesocestoid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Genus : Mesocest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buClr>
                <a:srgbClr val="ffffd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914400"/>
          <a:ext cx="9144000" cy="147168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  <a:gridCol w="1066680"/>
                <a:gridCol w="2057400"/>
                <a:gridCol w="213372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a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v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irst Intermediat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Intermediat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060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443016"/>
                          </a:solidFill>
                          <a:latin typeface="Calibri"/>
                          <a:ea typeface="Times New Roman"/>
                        </a:rPr>
                        <a:t>Mesocestoi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443016"/>
                          </a:solidFill>
                          <a:latin typeface="Calibri"/>
                          <a:ea typeface="Times New Roman"/>
                        </a:rPr>
                        <a:t>variabi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Arial"/>
                        </a:rPr>
                        <a:t>Dog, cat ,other wild carnivores and m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Times New Roman"/>
                          <a:ea typeface="Times New Roman"/>
                        </a:rPr>
                        <a:t>Small intest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Arial"/>
                        </a:rPr>
                        <a:t>Corophagous oribatid mit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43016"/>
                          </a:solidFill>
                          <a:latin typeface="Arial"/>
                        </a:rPr>
                        <a:t>Dogs, cats, rodents, amphibia, reptiles and bi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2" descr="F:\Mesocestoides_LifeCycle_web.gif"/>
          <p:cNvPicPr/>
          <p:nvPr/>
        </p:nvPicPr>
        <p:blipFill>
          <a:blip r:embed="rId1"/>
          <a:stretch/>
        </p:blipFill>
        <p:spPr>
          <a:xfrm>
            <a:off x="0" y="2386080"/>
            <a:ext cx="5105520" cy="447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F:\MESOCESTOIDIDAE-Mesocestoides-lineatus-from-Vulpes-vulpes-from-Bulgaria-A-Scolex-B.png"/>
          <p:cNvPicPr/>
          <p:nvPr/>
        </p:nvPicPr>
        <p:blipFill>
          <a:blip r:embed="rId2"/>
          <a:stretch/>
        </p:blipFill>
        <p:spPr>
          <a:xfrm>
            <a:off x="5486400" y="2714760"/>
            <a:ext cx="3657600" cy="3838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ffff00"/>
                </a:solidFill>
                <a:latin typeface="Arial Black"/>
              </a:rPr>
              <a:t>General Cest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0720" y="1417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General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Life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Metacest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ffff00"/>
                </a:solidFill>
                <a:latin typeface="Arial Black"/>
              </a:rPr>
              <a:t>RUMINANTS TAPE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17320"/>
            <a:ext cx="845496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ffffff"/>
                </a:solidFill>
                <a:latin typeface="Arial Black"/>
              </a:rPr>
              <a:t>Monie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ffffff"/>
                </a:solidFill>
                <a:latin typeface="Arial Black"/>
              </a:rPr>
              <a:t>Stil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ffffff"/>
                </a:solidFill>
                <a:latin typeface="Arial Black"/>
              </a:rPr>
              <a:t>Avitel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200" spc="-1" strike="noStrike">
                <a:solidFill>
                  <a:srgbClr val="ffffff"/>
                </a:solidFill>
                <a:latin typeface="Arial Black"/>
              </a:rPr>
              <a:t>Thysanos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What's New? | American Consortium for Small Ruminant Parasite Control"/>
          <p:cNvPicPr/>
          <p:nvPr/>
        </p:nvPicPr>
        <p:blipFill>
          <a:blip r:embed="rId1"/>
          <a:stretch/>
        </p:blipFill>
        <p:spPr>
          <a:xfrm>
            <a:off x="3581280" y="172728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ntegrated Parasite Management - Premier1Supplies Sheep Guide"/>
          <p:cNvPicPr/>
          <p:nvPr/>
        </p:nvPicPr>
        <p:blipFill>
          <a:blip r:embed="rId2"/>
          <a:stretch/>
        </p:blipFill>
        <p:spPr>
          <a:xfrm>
            <a:off x="6858000" y="426708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638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toda contain two sub-classes- Eucestod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true cestodes)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amp; Cotylod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Fish tape worms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orms are like ribbon or tape, hence call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apeworm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dy is dorsoventrally flattened ribbon like metamerically seg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C:\Users\ACER\Desktop\moneizia.jpg"/>
          <p:cNvPicPr/>
          <p:nvPr/>
        </p:nvPicPr>
        <p:blipFill>
          <a:blip r:embed="rId1"/>
          <a:stretch/>
        </p:blipFill>
        <p:spPr>
          <a:xfrm>
            <a:off x="5791320" y="762120"/>
            <a:ext cx="3352680" cy="6095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7086600" y="654048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dy cavity an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alimentary canal abs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er body covering call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egumen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body surface i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absorpti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and help in nutrients absorb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Image result for outer covering of cestodes images"/>
          <p:cNvPicPr/>
          <p:nvPr/>
        </p:nvPicPr>
        <p:blipFill>
          <a:blip r:embed="rId1"/>
          <a:stretch/>
        </p:blipFill>
        <p:spPr>
          <a:xfrm>
            <a:off x="1523880" y="3048120"/>
            <a:ext cx="6397920" cy="3619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70866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334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of adult tapeworms consis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colex or hea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eck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iii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trob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consists of a head i.e.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colex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bearing hold fast organs or suckers, then unsegmented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neck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followed by 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strobil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which consists of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immatur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reproductive system and eggs are absent),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matur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(reproductive organs are mature and functional) and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gravid segments of proglott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(reproductive organs degenerate and filled with egg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https://classconnection.s3.amazonaws.com/172/flashcards/1100172/jpg/flatworm1330151589171.jpg"/>
          <p:cNvPicPr/>
          <p:nvPr/>
        </p:nvPicPr>
        <p:blipFill>
          <a:blip r:embed="rId1"/>
          <a:stretch/>
        </p:blipFill>
        <p:spPr>
          <a:xfrm>
            <a:off x="5334120" y="91440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705024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645840"/>
            <a:ext cx="6324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eucestoda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olex is normally provided with four (4) suckers which may be armed with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colex usually bears anteriorly a mobile protrusible rostellum which may be also armed with one or more concentric rows of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cotyloda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scolex has narrow deep weakly spatula shaped muscular groove known a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Bothri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s hold fast organ instead of suc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Image result for cestodes image"/>
          <p:cNvPicPr/>
          <p:nvPr/>
        </p:nvPicPr>
        <p:blipFill>
          <a:blip r:embed="rId1"/>
          <a:stretch/>
        </p:blipFill>
        <p:spPr>
          <a:xfrm>
            <a:off x="7238880" y="762120"/>
            <a:ext cx="1597320" cy="152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ttp://www.biology.ualberta.ca/parasites/ParPub/themes/image/img083a.jpg"/>
          <p:cNvPicPr/>
          <p:nvPr/>
        </p:nvPicPr>
        <p:blipFill>
          <a:blip r:embed="rId2"/>
          <a:stretch/>
        </p:blipFill>
        <p:spPr>
          <a:xfrm>
            <a:off x="7086600" y="3693960"/>
            <a:ext cx="1889280" cy="301464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2"/>
          <p:cNvCxnSpPr/>
          <p:nvPr/>
        </p:nvCxnSpPr>
        <p:spPr>
          <a:xfrm flipV="1">
            <a:off x="4190760" y="5257080"/>
            <a:ext cx="3618360" cy="762840"/>
          </a:xfrm>
          <a:prstGeom prst="straightConnector1">
            <a:avLst/>
          </a:prstGeom>
          <a:ln w="9360">
            <a:solidFill>
              <a:srgbClr val="2f2f98"/>
            </a:solidFill>
            <a:miter/>
            <a:tailEnd len="med" type="triangle" w="med"/>
          </a:ln>
        </p:spPr>
      </p:cxnSp>
      <p:cxnSp>
        <p:nvCxnSpPr>
          <p:cNvPr id="168" name="Straight Arrow Connector 4"/>
          <p:cNvCxnSpPr/>
          <p:nvPr/>
        </p:nvCxnSpPr>
        <p:spPr>
          <a:xfrm>
            <a:off x="4723920" y="1523520"/>
            <a:ext cx="2667960" cy="420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Straight Arrow Connector 6"/>
          <p:cNvCxnSpPr/>
          <p:nvPr/>
        </p:nvCxnSpPr>
        <p:spPr>
          <a:xfrm flipV="1">
            <a:off x="3885840" y="1218600"/>
            <a:ext cx="3506040" cy="1943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0" name="Picture 10" descr="See the source image"/>
          <p:cNvPicPr/>
          <p:nvPr/>
        </p:nvPicPr>
        <p:blipFill>
          <a:blip r:embed="rId3"/>
          <a:stretch/>
        </p:blipFill>
        <p:spPr>
          <a:xfrm>
            <a:off x="7010280" y="2241720"/>
            <a:ext cx="2133720" cy="1452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4970520" y="6499080"/>
            <a:ext cx="2057400" cy="2923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ter shedding of gravid segments, the eggs are set free  either by disintegration of the gravid proglottids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apolysis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r through an opening called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thysan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which  created in the uterus due to the pressure of eggs and the muscular activities of proglott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cotyloda, the eggs are normally continuously discharged from the proglottid through 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uterine pore and not by apolys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ever, when egg production has ceased, chains of exhausted proglottids may be detached from the strobila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(Pseudoapolysi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Hermophrodi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.e. each mature proglottid contains one or two sets of male and female reproductive org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retory system consists of flame cells (Solenocytes) and efferent canal &amp; discharge nutrient at the terminal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tode eggs may be embryonated or unembryonated when passed from the host and the fully embryonated egg contains an onchosp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characters of 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Onchosphe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bilaterally symmetrical, spherical or oval and is armed with 3 pairs of hoo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n cotyloda,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ggs hatch in the environment whereas in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ucestod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eggs hatch after being ingested by intermediate h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https://clinicalsciences.files.wordpress.com/2010/03/egg-taenia1.jpg"/>
          <p:cNvPicPr/>
          <p:nvPr/>
        </p:nvPicPr>
        <p:blipFill>
          <a:blip r:embed="rId1"/>
          <a:stretch/>
        </p:blipFill>
        <p:spPr>
          <a:xfrm>
            <a:off x="3429000" y="646200"/>
            <a:ext cx="4191120" cy="1747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706104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rval stages of cestode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tacestodes or bladder worm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Different metacestod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Tetrathyridiu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is an  elongated, solid bodied metacestode with deeply invaginated acetabular scolex. e.g. Mesocestoidid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Cysticercoi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s  single non-invaginated scolex embedded in a small solid vesicle. e.g.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ipylidium caninu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4013280" y="3662280"/>
            <a:ext cx="5102280" cy="31845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https://ars.els-cdn.com/content/image/3-s2.0-B9780124159150000121-f12-12-9780124159150.gif"/>
          <p:cNvPicPr/>
          <p:nvPr/>
        </p:nvPicPr>
        <p:blipFill>
          <a:blip r:embed="rId2"/>
          <a:stretch/>
        </p:blipFill>
        <p:spPr>
          <a:xfrm>
            <a:off x="130320" y="3549600"/>
            <a:ext cx="3882960" cy="3297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 rot="16200000">
            <a:off x="7966080" y="567180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Types of 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ysticercu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fluid filled bladder containing an attached single invaginated scloex.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.g. 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saginata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solium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pisiformis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oenuru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s a large fluid containing bladder with a no. of invaginated scolices attached to the walls.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e.g.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Taenia multiceps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155520" y="-144360"/>
            <a:ext cx="1368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Cysticercus"/>
          <p:cNvPicPr/>
          <p:nvPr/>
        </p:nvPicPr>
        <p:blipFill>
          <a:blip r:embed="rId1"/>
          <a:stretch/>
        </p:blipFill>
        <p:spPr>
          <a:xfrm>
            <a:off x="6438960" y="762120"/>
            <a:ext cx="2743200" cy="2476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Image result for coenurus images"/>
          <p:cNvPicPr/>
          <p:nvPr/>
        </p:nvPicPr>
        <p:blipFill>
          <a:blip r:embed="rId2"/>
          <a:stretch/>
        </p:blipFill>
        <p:spPr>
          <a:xfrm>
            <a:off x="6394320" y="3898800"/>
            <a:ext cx="2857680" cy="2667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70992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0" y="-157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us :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onie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160" y="779400"/>
            <a:ext cx="5472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Morphological charac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Scolex is provided with only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"/>
              </a:rPr>
              <a:t>unarmed four prominent suckers</a:t>
            </a: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Scolex has </a:t>
            </a:r>
            <a:r>
              <a:rPr b="1" lang="en-US" sz="2000" spc="-1" strike="noStrike" u="sng">
                <a:solidFill>
                  <a:srgbClr val="ffffdb"/>
                </a:solidFill>
                <a:uFillTx/>
                <a:latin typeface="Arial"/>
              </a:rPr>
              <a:t>neither rostellum nor hook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Segment are broader than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db"/>
                </a:solidFill>
                <a:uFillTx/>
                <a:latin typeface="Arial"/>
              </a:rPr>
              <a:t>Largest tapeworm </a:t>
            </a: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of rumin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Each segment has 2 sets of genit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0" descr="F:\HNHM-PAR_Moniezia_expansa.jpg"/>
          <p:cNvPicPr/>
          <p:nvPr/>
        </p:nvPicPr>
        <p:blipFill>
          <a:blip r:embed="rId1"/>
          <a:stretch/>
        </p:blipFill>
        <p:spPr>
          <a:xfrm>
            <a:off x="5894280" y="779400"/>
            <a:ext cx="3140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orphological and Molecular Studies of Moniezia Sp. (Cestoda ..."/>
          <p:cNvPicPr/>
          <p:nvPr/>
        </p:nvPicPr>
        <p:blipFill>
          <a:blip r:embed="rId2"/>
          <a:srcRect l="0" t="0" r="0" b="13592"/>
          <a:stretch/>
        </p:blipFill>
        <p:spPr>
          <a:xfrm>
            <a:off x="6176880" y="3560760"/>
            <a:ext cx="293220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4681440" y="3835440"/>
            <a:ext cx="1219320" cy="2793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 Black"/>
              </a:rPr>
              <a:t>Su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2"/>
          <p:cNvSpPr/>
          <p:nvPr/>
        </p:nvSpPr>
        <p:spPr>
          <a:xfrm rot="2128800">
            <a:off x="5675040" y="3960720"/>
            <a:ext cx="625320" cy="61920"/>
          </a:xfrm>
          <a:prstGeom prst="rightArrow">
            <a:avLst>
              <a:gd name="adj1" fmla="val 50000"/>
              <a:gd name="adj2" fmla="val 4937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Types of 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trobilocerc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as a scolex which is not invaginated when fully developed and is attached to the bladder by a long segmented strobila. e.g. </a:t>
            </a:r>
            <a:r>
              <a:rPr b="1" i="1" lang="en-US" sz="3200" spc="-1" strike="noStrike">
                <a:solidFill>
                  <a:srgbClr val="ffc000"/>
                </a:solidFill>
                <a:latin typeface="Arial"/>
              </a:rPr>
              <a:t>Taenia taeniaeformis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Hydatid cys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s a thick walled large size fluid containing bladder with a no. of brood capsule inside it and each brood capsule contain a no. of scolices.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e.g. </a:t>
            </a:r>
            <a:r>
              <a:rPr b="1" i="1" lang="en-US" sz="2800" spc="-1" strike="noStrike">
                <a:solidFill>
                  <a:srgbClr val="ffc000"/>
                </a:solidFill>
                <a:latin typeface="Arial"/>
              </a:rPr>
              <a:t>Echinococcus granulosu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Image result for strobilocercus images"/>
          <p:cNvPicPr/>
          <p:nvPr/>
        </p:nvPicPr>
        <p:blipFill>
          <a:blip r:embed="rId1"/>
          <a:stretch/>
        </p:blipFill>
        <p:spPr>
          <a:xfrm>
            <a:off x="6095880" y="646200"/>
            <a:ext cx="3048120" cy="2859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mage result for hydatid cyst images"/>
          <p:cNvPicPr/>
          <p:nvPr/>
        </p:nvPicPr>
        <p:blipFill>
          <a:blip r:embed="rId2"/>
          <a:stretch/>
        </p:blipFill>
        <p:spPr>
          <a:xfrm>
            <a:off x="6084720" y="3903840"/>
            <a:ext cx="3048120" cy="25542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7039080" y="6585120"/>
            <a:ext cx="2057400" cy="2728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0000"/>
                </a:solidFill>
                <a:latin typeface="Arial Black"/>
              </a:rPr>
              <a:t>Types of metaces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rocercoi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rst larval stag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iphyllobothrium latum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the 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ntermediate host (Cyclops). It is solid bodied and bears 6 hooks on the cercomere in the posterior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x h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lerocercoi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rval stag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iphyllobothrium lat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ccurs in the 2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ntermediate host (Fish). Plerocercoids are elongate, solid bodies metacestodes which bear an adult sco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Figure 4 from The terminology of larval cestodes or metacestodes ..."/>
          <p:cNvPicPr/>
          <p:nvPr/>
        </p:nvPicPr>
        <p:blipFill>
          <a:blip r:embed="rId1"/>
          <a:srcRect l="56478" t="-495" r="-160" b="78557"/>
          <a:stretch/>
        </p:blipFill>
        <p:spPr>
          <a:xfrm>
            <a:off x="3848040" y="2517840"/>
            <a:ext cx="2543400" cy="125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Figure 4 from The terminology of larval cestodes or metacestodes ..."/>
          <p:cNvPicPr/>
          <p:nvPr/>
        </p:nvPicPr>
        <p:blipFill>
          <a:blip r:embed="rId2"/>
          <a:srcRect l="57108" t="37040" r="502" b="42816"/>
          <a:stretch/>
        </p:blipFill>
        <p:spPr>
          <a:xfrm>
            <a:off x="4572000" y="5410080"/>
            <a:ext cx="2467080" cy="1123920"/>
          </a:xfrm>
          <a:prstGeom prst="rect">
            <a:avLst/>
          </a:prstGeom>
          <a:ln w="0">
            <a:noFill/>
          </a:ln>
        </p:spPr>
      </p:pic>
      <p:sp>
        <p:nvSpPr>
          <p:cNvPr id="204" name="Right Arrow 1"/>
          <p:cNvSpPr/>
          <p:nvPr/>
        </p:nvSpPr>
        <p:spPr>
          <a:xfrm>
            <a:off x="2819520" y="320040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053120" y="6705720"/>
            <a:ext cx="2057400" cy="152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80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ff0000"/>
                </a:solidFill>
                <a:latin typeface="Arial Black"/>
              </a:rPr>
              <a:t>Class- Cestoda</a:t>
            </a:r>
            <a:br>
              <a:rPr sz="1800"/>
            </a:br>
            <a:r>
              <a:rPr b="0" lang="en-IN" sz="1800" spc="-1" strike="noStrike">
                <a:solidFill>
                  <a:srgbClr val="ff0000"/>
                </a:solidFill>
                <a:latin typeface="Arial Black"/>
              </a:rPr>
              <a:t>Two </a:t>
            </a:r>
            <a:br>
              <a:rPr sz="1800"/>
            </a:br>
            <a:r>
              <a:rPr b="0" lang="en-IN" sz="1800" spc="-1" strike="noStrike">
                <a:solidFill>
                  <a:srgbClr val="ff0000"/>
                </a:solidFill>
                <a:latin typeface="Arial Black"/>
              </a:rPr>
              <a:t>Sub-class</a:t>
            </a:r>
            <a:br>
              <a:rPr sz="1800"/>
            </a:b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Eucestoda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                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Cotyloda</a:t>
            </a:r>
            <a:br>
              <a:rPr sz="1600"/>
            </a:b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(true tapeworms)                   (Pseudotapeworms)</a:t>
            </a:r>
            <a:br>
              <a:rPr sz="1600"/>
            </a:br>
            <a:r>
              <a:rPr b="0" lang="en-IN" sz="1600" spc="-1" strike="noStrike">
                <a:solidFill>
                  <a:srgbClr val="002060"/>
                </a:solidFill>
                <a:latin typeface="Arial Black"/>
              </a:rPr>
              <a:t>Order- Cyclophyllidea                  Order- Pseudophyllide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388584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( true tapeworms)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(Pseudotapew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1752480"/>
          <a:ext cx="8991720" cy="5133960"/>
        </p:xfrm>
        <a:graphic>
          <a:graphicData uri="http://schemas.openxmlformats.org/drawingml/2006/table">
            <a:tbl>
              <a:tblPr/>
              <a:tblGrid>
                <a:gridCol w="1641600"/>
                <a:gridCol w="3674880"/>
                <a:gridCol w="36752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 </a:t>
                      </a:r>
                      <a:r>
                        <a:rPr b="1" lang="en-IN" sz="16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Pseudophyll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6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Cyclophyllid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two narrow deep grooves called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oth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 Four suckers which may be armed with hoo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al 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und on ventral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l except Mesocestoides where it is on mid ventral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perculated and unembryon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yonated and non-operc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h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quire two intermediate h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 one intermediate host except Mesocesto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604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n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Diphyllobothrid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iphyllobothriu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iromet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Anoplocephal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plocephala, Moniezia, Stilesi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telina, Thysanosom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Dilepid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ylidium,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ebotaenia, Choanotaen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Davainei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aine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llietina, Cotugn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aeni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enia, Echinococcu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ymenolepidida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menolepsi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7030a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Mesocestoidid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cestoid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cxnSp>
        <p:nvCxnSpPr>
          <p:cNvPr id="209" name="Straight Arrow Connector 5"/>
          <p:cNvCxnSpPr/>
          <p:nvPr/>
        </p:nvCxnSpPr>
        <p:spPr>
          <a:xfrm flipH="1">
            <a:off x="2590560" y="532440"/>
            <a:ext cx="205776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Straight Arrow Connector 7"/>
          <p:cNvCxnSpPr/>
          <p:nvPr/>
        </p:nvCxnSpPr>
        <p:spPr>
          <a:xfrm>
            <a:off x="4648320" y="609120"/>
            <a:ext cx="1753200" cy="3819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623520"/>
            <a:ext cx="705816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Rectangle 3" descr=""/>
          <p:cNvPicPr/>
          <p:nvPr/>
        </p:nvPicPr>
        <p:blipFill>
          <a:blip r:embed="rId1"/>
          <a:stretch/>
        </p:blipFill>
        <p:spPr>
          <a:xfrm>
            <a:off x="2816280" y="3078000"/>
            <a:ext cx="405432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-157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us :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onie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Species of </a:t>
            </a:r>
            <a:r>
              <a:rPr b="1" i="1" lang="en-US" sz="2400" spc="-1" strike="noStrike">
                <a:solidFill>
                  <a:srgbClr val="ffc000"/>
                </a:solidFill>
                <a:latin typeface="Arial Black"/>
              </a:rPr>
              <a:t>Moniezia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471680"/>
          <a:ext cx="9067680" cy="5234040"/>
        </p:xfrm>
        <a:graphic>
          <a:graphicData uri="http://schemas.openxmlformats.org/drawingml/2006/table">
            <a:tbl>
              <a:tblPr/>
              <a:tblGrid>
                <a:gridCol w="1981080"/>
                <a:gridCol w="1905120"/>
                <a:gridCol w="1371600"/>
                <a:gridCol w="1981080"/>
                <a:gridCol w="1828800"/>
              </a:tblGrid>
              <a:tr h="88272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Definitiv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Intermediate h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Type of  Metacest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2556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niezia expan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 sheep tapeworm or Double-pored ruminant tapewor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heep &amp; goat 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Arial Black"/>
                          <a:ea typeface="Times New Roman"/>
                        </a:rPr>
                        <a:t>(chiefly)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4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Oribatid mites 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Galumn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,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Oribatul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ysticerc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00160">
                <a:tc rowSpan="2"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niezia benede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do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Genus :  Moniez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ezia niezia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838080"/>
          <a:ext cx="9144000" cy="3089520"/>
        </p:xfrm>
        <a:graphic>
          <a:graphicData uri="http://schemas.openxmlformats.org/drawingml/2006/table">
            <a:tbl>
              <a:tblPr/>
              <a:tblGrid>
                <a:gridCol w="2066760"/>
                <a:gridCol w="3419640"/>
                <a:gridCol w="3657600"/>
              </a:tblGrid>
              <a:tr h="5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oniezia  expan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oniezia bened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oglottidal g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Ring shaped (rosette lik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 interproglottidal glands are extending along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ull breadth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proglott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Band lik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erproglottidal glands are confined to a short continuous row in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ddl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proglott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3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ngula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shape with well developed pyriform apparat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qu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shape with well developed pyriform apparat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2" descr="F:\Moni_s (1).jpg"/>
          <p:cNvPicPr/>
          <p:nvPr/>
        </p:nvPicPr>
        <p:blipFill>
          <a:blip r:embed="rId1"/>
          <a:stretch/>
        </p:blipFill>
        <p:spPr>
          <a:xfrm>
            <a:off x="1219320" y="3962520"/>
            <a:ext cx="6781680" cy="2895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0" y="480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Moni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xpa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209680" y="5715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Interproglottidal g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7924680" y="4876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Moni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bened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9144000" cy="10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Simplified Arabic Fixed"/>
              </a:rPr>
              <a:t>Genus : 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Simplified Arabic Fixed"/>
              </a:rPr>
              <a:t>Monie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Black"/>
              </a:rPr>
              <a:t>Life-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Gravid segments are passed in the faces of affected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Eggs released after disintegration of grav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                            </a:t>
            </a: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    </a:t>
            </a: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Eggs are ingested by oribatid mite (intermediate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h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Cysticercoid developed in the body ca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 Black"/>
              </a:rPr>
              <a:t>         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</a:rPr>
              <a:t>Final hosts get infection by the inges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 Black"/>
              </a:rPr>
              <a:t>          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</a:rPr>
              <a:t>cysticercoid infected mites during gr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Adult 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</a:rPr>
              <a:t>Moniezia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spp. are developed after 5-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weeks after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2"/>
          <p:cNvSpPr/>
          <p:nvPr/>
        </p:nvSpPr>
        <p:spPr>
          <a:xfrm rot="5400000">
            <a:off x="2619360" y="1495440"/>
            <a:ext cx="671760" cy="271440"/>
          </a:xfrm>
          <a:prstGeom prst="rightArrow">
            <a:avLst>
              <a:gd name="adj1" fmla="val 50000"/>
              <a:gd name="adj2" fmla="val 5017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Arrow 3"/>
          <p:cNvSpPr/>
          <p:nvPr/>
        </p:nvSpPr>
        <p:spPr>
          <a:xfrm rot="5400000">
            <a:off x="2514240" y="2590920"/>
            <a:ext cx="647640" cy="190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Arrow 4"/>
          <p:cNvSpPr/>
          <p:nvPr/>
        </p:nvSpPr>
        <p:spPr>
          <a:xfrm>
            <a:off x="3048120" y="35053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Down Arrow 5"/>
          <p:cNvSpPr/>
          <p:nvPr/>
        </p:nvSpPr>
        <p:spPr>
          <a:xfrm>
            <a:off x="3505320" y="46483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own Arrow 7"/>
          <p:cNvSpPr/>
          <p:nvPr/>
        </p:nvSpPr>
        <p:spPr>
          <a:xfrm>
            <a:off x="4038480" y="5715000"/>
            <a:ext cx="152640" cy="38088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PATH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lthough infection may occur in animals of any age but it is  more common 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Black"/>
              </a:rPr>
              <a:t>young animals than adults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Moniezia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 spp.  infection is usually common in young animals </a:t>
            </a:r>
            <a:r>
              <a:rPr b="1" lang="en-US" sz="2000" spc="-1" strike="noStrike">
                <a:solidFill>
                  <a:srgbClr val="f2ece4"/>
                </a:solidFill>
                <a:latin typeface="Arial Black"/>
              </a:rPr>
              <a:t>under 6 months of age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These tapeworm are less pathogenic  may be due to their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Black"/>
              </a:rPr>
              <a:t>unarmed scolex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Heavy infection can cause digestive disturbances, diarrhoea, emaciation, anaemia, stunning growth, unthriftiness, pot-bellied, obstruction of the intestine et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Genus :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Moniez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Findings of gravid proglottids looking lik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oked r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ins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n the faces of infected h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Microscopic detection of somewhat triangular shaped (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oniezia expansa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) or square shaped (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Moniezia benedeni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)  eggs with well developed pyriform appar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reat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iclosamide - @ 100 mg/kg body 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aziquantel - @ 3.75 mg/kg body 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bendazole - @ 5 mg/kg body w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d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dda0"/>
                </a:solidFill>
                <a:latin typeface="Arial Black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Treatment of the infected anim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Ploughing of the infected pasture to control oribat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m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:\images (1).jpg"/>
          <p:cNvPicPr/>
          <p:nvPr/>
        </p:nvPicPr>
        <p:blipFill>
          <a:blip r:embed="rId1"/>
          <a:stretch/>
        </p:blipFill>
        <p:spPr>
          <a:xfrm>
            <a:off x="6858000" y="34290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download (1).jpg"/>
          <p:cNvPicPr/>
          <p:nvPr/>
        </p:nvPicPr>
        <p:blipFill>
          <a:blip r:embed="rId2"/>
          <a:stretch/>
        </p:blipFill>
        <p:spPr>
          <a:xfrm>
            <a:off x="7054920" y="5180040"/>
            <a:ext cx="2009880" cy="167652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7315200" y="6553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. bened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7162920" y="4876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400" spc="-1" strike="noStrike">
                <a:solidFill>
                  <a:srgbClr val="002060"/>
                </a:solidFill>
                <a:latin typeface="Arial"/>
              </a:rPr>
              <a:t>M. expa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11"/>
          <p:cNvSpPr/>
          <p:nvPr/>
        </p:nvSpPr>
        <p:spPr>
          <a:xfrm flipV="1" rot="1215000">
            <a:off x="5759280" y="3436200"/>
            <a:ext cx="1833840" cy="1429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971960" y="6545160"/>
            <a:ext cx="2057400" cy="2923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-103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Genus :  </a:t>
            </a: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Stile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-360" y="609120"/>
            <a:ext cx="6095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dda0"/>
                </a:solidFill>
                <a:latin typeface="Arial Black"/>
              </a:rPr>
              <a:t>Morphological charact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Scolex is provided with only </a:t>
            </a:r>
            <a:r>
              <a:rPr b="1" lang="en-US" sz="1800" spc="-1" strike="noStrike" u="sng">
                <a:solidFill>
                  <a:srgbClr val="ffffdb"/>
                </a:solidFill>
                <a:uFillTx/>
                <a:latin typeface="Arial Black"/>
              </a:rPr>
              <a:t>unarmed four prominent </a:t>
            </a: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sucker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Scolex has </a:t>
            </a:r>
            <a:r>
              <a:rPr b="1" lang="en-US" sz="1800" spc="-1" strike="noStrike" u="sng">
                <a:solidFill>
                  <a:srgbClr val="ffffdb"/>
                </a:solidFill>
                <a:uFillTx/>
                <a:latin typeface="Arial Black"/>
              </a:rPr>
              <a:t>neither rostellum nor h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Segment are broader than lo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Each segment has one set of genital organs and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genital pores alternate irregul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Uterus is long, transverse and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dumb –bell 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Two par-uterine organs  per gravid segment</a:t>
            </a: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 and  each par-uterine organ contains about 30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ffdb"/>
                </a:solidFill>
                <a:latin typeface="Arial Black"/>
              </a:rPr>
              <a:t>Oval shaped eggs have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no pyriform appara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Stilesia - an overview | ScienceDirect Topics"/>
          <p:cNvPicPr/>
          <p:nvPr/>
        </p:nvPicPr>
        <p:blipFill>
          <a:blip r:embed="rId1"/>
          <a:stretch/>
        </p:blipFill>
        <p:spPr>
          <a:xfrm>
            <a:off x="6415200" y="1295280"/>
            <a:ext cx="2716200" cy="3616560"/>
          </a:xfrm>
          <a:prstGeom prst="rect">
            <a:avLst/>
          </a:prstGeom>
          <a:ln w="0">
            <a:noFill/>
          </a:ln>
        </p:spPr>
      </p:pic>
      <p:sp>
        <p:nvSpPr>
          <p:cNvPr id="95" name="Right Arrow 1"/>
          <p:cNvSpPr/>
          <p:nvPr/>
        </p:nvSpPr>
        <p:spPr>
          <a:xfrm rot="12763800">
            <a:off x="6994080" y="4834800"/>
            <a:ext cx="838440" cy="1522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934320" y="5334120"/>
            <a:ext cx="1904760" cy="3808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Arial"/>
              </a:rPr>
              <a:t>Stilesia hep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2:45:21Z</dcterms:created>
  <dc:creator>parasitology</dc:creator>
  <dc:description/>
  <dc:language>en-US</dc:language>
  <cp:lastModifiedBy>user</cp:lastModifiedBy>
  <dcterms:modified xsi:type="dcterms:W3CDTF">2020-03-29T16:38:22Z</dcterms:modified>
  <cp:revision>640</cp:revision>
  <dc:subject/>
  <dc:title>Slide 1</dc:title>
</cp:coreProperties>
</file>