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7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ED08-8C13-41F1-B927-834AEB4EF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DDBE-422C-4E6E-9F32-156527C675A3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37F8-2CB5-4A1D-969F-B38C83A71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6E5-B96B-446C-B6D3-3FC20A51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1F4-B14E-499C-90EC-BCDB50FC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77D-089D-43E7-ADDF-FF233D85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B25-0862-4FA2-84A5-A9511CB4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647-425B-4171-840E-8E7DCB4C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7D4-9D16-475D-A125-8DD1C0A4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D36-9EAB-4621-97C9-8CDB389D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48C-1DE0-46AC-BA79-4B2DB7F6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984-EC8E-4D4D-9FE1-FDFADAB7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AC3-5A7A-4E48-B784-B1168844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216-1EB9-422F-9A85-5A03B7F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2F5-BB1B-484F-836F-7DFDEC2B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A28F-E578-4DD0-A852-5FAE1647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basu.org.i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484560" y="1486080"/>
            <a:ext cx="9163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c000"/>
                </a:solidFill>
                <a:latin typeface="Arial Black"/>
              </a:rPr>
              <a:t>                </a:t>
            </a:r>
            <a:r>
              <a:rPr b="1" lang="en-IN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74480" y="455400"/>
            <a:ext cx="8213400" cy="38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ff00"/>
                </a:solidFill>
                <a:latin typeface="Arial Black"/>
              </a:rPr>
              <a:t>DOG TAPEWORMS -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Bihar Animal Sciences University | बिहार पशु विज्ञान विश्वविद्यालय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" y="249120"/>
            <a:ext cx="1149120" cy="119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olour Logofinal"/>
          <p:cNvPicPr/>
          <p:nvPr/>
        </p:nvPicPr>
        <p:blipFill>
          <a:blip r:embed="rId3"/>
          <a:stretch/>
        </p:blipFill>
        <p:spPr>
          <a:xfrm>
            <a:off x="8015400" y="196920"/>
            <a:ext cx="1100160" cy="1245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3192480" y="4402080"/>
            <a:ext cx="4572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2d050"/>
                </a:solidFill>
                <a:latin typeface="Arial Black"/>
              </a:rPr>
              <a:t>Dr. AJIT KU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2d050"/>
                </a:solidFill>
                <a:latin typeface="Arial Black"/>
              </a:rPr>
              <a:t>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Department of Parasi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Bihar Veterinary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Bihar Animal Science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 Black"/>
              </a:rPr>
              <a:t>Patna-800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Dipylidium can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Sympto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Diarrhoea or constipation, unthriftiness, abdominal pai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Dragging of anus on the ground </a:t>
            </a:r>
            <a:r>
              <a:rPr b="1" lang="en-US" sz="2400" spc="-1" strike="noStrike">
                <a:solidFill>
                  <a:srgbClr val="ffc000"/>
                </a:solidFill>
                <a:latin typeface="Arial Rounded MT Bold"/>
              </a:rPr>
              <a:t>( affected dog drag the anus over the ground because of </a:t>
            </a:r>
            <a:r>
              <a:rPr b="1" lang="en-US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anal pruritus due to gravid segments craw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Nervous disorders due to  absorption of the metabolites released by the </a:t>
            </a:r>
            <a:r>
              <a:rPr b="1" i="1" lang="en-US" sz="2400" spc="-1" strike="noStrike">
                <a:solidFill>
                  <a:srgbClr val="ffff00"/>
                </a:solidFill>
                <a:latin typeface="Arial Rounded MT Bold"/>
              </a:rPr>
              <a:t>D. canin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Dipylidium can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952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000"/>
                </a:solidFill>
                <a:latin typeface="Arial Rounded MT Bold"/>
              </a:rPr>
              <a:t>On the basis of typical clinical signs like </a:t>
            </a: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 Rounded MT Bold"/>
              </a:rPr>
              <a:t>dragging anus over the ground or any hard objects </a:t>
            </a:r>
            <a:r>
              <a:rPr b="1" lang="en-US" sz="2000" spc="-1" strike="noStrike">
                <a:solidFill>
                  <a:srgbClr val="ffc000"/>
                </a:solidFill>
                <a:latin typeface="Arial Rounded MT Bold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By finding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 Black"/>
                <a:ea typeface="Times New Roman"/>
              </a:rPr>
              <a:t>gravid segments around perianal region of infected do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gs , on the floor or bed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By microscopically  detecting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 Black"/>
                <a:ea typeface="Times New Roman"/>
              </a:rPr>
              <a:t>cucumber seed like gravid segments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Microscopic  detection of </a:t>
            </a: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 Black"/>
                <a:ea typeface="Times New Roman"/>
              </a:rPr>
              <a:t>20-30 eggs containing egg capsule in f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s://upload.wikimedia.org/wikipedia/commons/d/d4/Dipylidium_caninum_ovum_1.JPG"/>
          <p:cNvPicPr/>
          <p:nvPr/>
        </p:nvPicPr>
        <p:blipFill>
          <a:blip r:embed="rId1"/>
          <a:stretch/>
        </p:blipFill>
        <p:spPr>
          <a:xfrm>
            <a:off x="6629400" y="5257800"/>
            <a:ext cx="2057400" cy="130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s://upload.wikimedia.org/wikipedia/commons/9/9d/Dipylidium_caninum_proglottid_1.JPG"/>
          <p:cNvPicPr/>
          <p:nvPr/>
        </p:nvPicPr>
        <p:blipFill>
          <a:blip r:embed="rId2"/>
          <a:stretch/>
        </p:blipFill>
        <p:spPr>
          <a:xfrm>
            <a:off x="7462800" y="685800"/>
            <a:ext cx="168120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https://upload.wikimedia.org/wikipedia/commons/9/9d/Dipyl_can_worm1.JPG"/>
          <p:cNvPicPr/>
          <p:nvPr/>
        </p:nvPicPr>
        <p:blipFill>
          <a:blip r:embed="rId3"/>
          <a:stretch/>
        </p:blipFill>
        <p:spPr>
          <a:xfrm>
            <a:off x="5715000" y="7621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784872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co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029200" y="6477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000"/>
                </a:solidFill>
                <a:uFillTx/>
                <a:latin typeface="Arial Black"/>
                <a:ea typeface="Times New Roman"/>
              </a:rPr>
              <a:t>Egg capsule containing eg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G:\images.jpg"/>
          <p:cNvPicPr/>
          <p:nvPr/>
        </p:nvPicPr>
        <p:blipFill>
          <a:blip r:embed="rId4"/>
          <a:stretch/>
        </p:blipFill>
        <p:spPr>
          <a:xfrm>
            <a:off x="5867280" y="2819520"/>
            <a:ext cx="2895840" cy="2361960"/>
          </a:xfrm>
          <a:prstGeom prst="rect">
            <a:avLst/>
          </a:prstGeom>
          <a:ln w="0">
            <a:noFill/>
          </a:ln>
        </p:spPr>
      </p:pic>
      <p:cxnSp>
        <p:nvCxnSpPr>
          <p:cNvPr id="102" name="Straight Arrow Connector 10"/>
          <p:cNvCxnSpPr/>
          <p:nvPr/>
        </p:nvCxnSpPr>
        <p:spPr>
          <a:xfrm>
            <a:off x="4419360" y="3276720"/>
            <a:ext cx="2819880" cy="1296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Rectangle 10"/>
          <p:cNvSpPr/>
          <p:nvPr/>
        </p:nvSpPr>
        <p:spPr>
          <a:xfrm>
            <a:off x="2895480" y="6516720"/>
            <a:ext cx="2057400" cy="290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Dipylidium can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163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reatment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Praziquantel (10mg/kg body weight) and Niclosamide( 2g) are effective against adult w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da0"/>
                </a:solidFill>
                <a:latin typeface="Arial Black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dda0"/>
                </a:solidFill>
                <a:latin typeface="Arial Black"/>
              </a:rPr>
              <a:t>                   </a:t>
            </a:r>
            <a:r>
              <a:rPr b="1" lang="en-US" sz="3200" spc="-1" strike="noStrike">
                <a:solidFill>
                  <a:srgbClr val="fcdda0"/>
                </a:solidFill>
                <a:latin typeface="Arial Black"/>
              </a:rPr>
              <a:t>Control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Treatment of the infected animals and man with anticestodal drugs like praziquantel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By controlling the intermediate hosts  flea and lice) by using insecticidal drugs like amitraz, cypermethrin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0" y="-103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Family : Taeniida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Morphological Charact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b"/>
                </a:solidFill>
                <a:latin typeface="Arial Black"/>
              </a:rPr>
              <a:t>Scolex has rostellum which armed with double row of hooks </a:t>
            </a:r>
            <a:r>
              <a:rPr b="1" lang="en-US" sz="2400" spc="-1" strike="noStrike" u="sng">
                <a:solidFill>
                  <a:srgbClr val="ffc000"/>
                </a:solidFill>
                <a:uFillTx/>
                <a:latin typeface="Arial Black"/>
              </a:rPr>
              <a:t>except </a:t>
            </a:r>
            <a:r>
              <a:rPr b="1" i="1" lang="en-US" sz="2400" spc="-1" strike="noStrike" u="sng">
                <a:solidFill>
                  <a:srgbClr val="ffc000"/>
                </a:solidFill>
                <a:uFillTx/>
                <a:latin typeface="Arial Black"/>
              </a:rPr>
              <a:t>Taenia saginata</a:t>
            </a:r>
            <a:r>
              <a:rPr b="1" lang="en-US" sz="2400" spc="-1" strike="noStrike" u="sng">
                <a:solidFill>
                  <a:srgbClr val="ffc000"/>
                </a:solidFill>
                <a:uFillTx/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Black"/>
              </a:rPr>
              <a:t>Segment are longer than broa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db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b"/>
                </a:solidFill>
                <a:latin typeface="Arial Black"/>
              </a:rPr>
              <a:t>Genital pore alternate </a:t>
            </a:r>
            <a:r>
              <a:rPr b="1" lang="en-US" sz="2400" spc="-1" strike="noStrike" u="sng">
                <a:solidFill>
                  <a:srgbClr val="ffffdb"/>
                </a:solidFill>
                <a:uFillTx/>
                <a:latin typeface="Arial Black"/>
              </a:rPr>
              <a:t>irregularly</a:t>
            </a:r>
            <a:r>
              <a:rPr b="1" lang="en-US" sz="2400" spc="-1" strike="noStrike">
                <a:solidFill>
                  <a:srgbClr val="ffffdb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Each segment ha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 Black"/>
              </a:rPr>
              <a:t>single set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of genital or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Eggs are  small, brown in colour, spherical shaped containing an onchosphere which is covered by a thick and radially striated embryoph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ffff00"/>
                </a:solidFill>
                <a:latin typeface="Arial Black"/>
              </a:rPr>
              <a:t>Difference between </a:t>
            </a:r>
            <a:r>
              <a:rPr b="0" i="1" lang="en-IN" sz="2800" spc="-1" strike="noStrike">
                <a:solidFill>
                  <a:srgbClr val="ffff00"/>
                </a:solidFill>
                <a:latin typeface="Arial Black"/>
              </a:rPr>
              <a:t>T. solium </a:t>
            </a:r>
            <a:r>
              <a:rPr b="0" lang="en-IN" sz="2800" spc="-1" strike="noStrike">
                <a:solidFill>
                  <a:srgbClr val="ffff00"/>
                </a:solidFill>
                <a:latin typeface="Arial Black"/>
              </a:rPr>
              <a:t>and </a:t>
            </a:r>
            <a:r>
              <a:rPr b="0" i="1" lang="en-IN" sz="2800" spc="-1" strike="noStrike">
                <a:solidFill>
                  <a:srgbClr val="ffff00"/>
                </a:solidFill>
                <a:latin typeface="Arial Black"/>
              </a:rPr>
              <a:t>T. saginata</a:t>
            </a:r>
            <a:r>
              <a:rPr b="0" lang="en-IN" sz="2800" spc="-1" strike="noStrike">
                <a:solidFill>
                  <a:srgbClr val="ffff00"/>
                </a:solidFill>
                <a:latin typeface="Arial Black"/>
              </a:rPr>
              <a:t> with respect to sco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Content Placeholder 3" descr="Taenia solium &amp; Taenia saginata pptx - عملي - Muhadharaty"/>
          <p:cNvPicPr/>
          <p:nvPr/>
        </p:nvPicPr>
        <p:blipFill>
          <a:blip r:embed="rId1"/>
          <a:srcRect l="3961" t="2268" r="3543" b="9998"/>
          <a:stretch/>
        </p:blipFill>
        <p:spPr>
          <a:xfrm>
            <a:off x="871560" y="2171880"/>
            <a:ext cx="7848720" cy="46479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871560" y="6172200"/>
            <a:ext cx="1490760" cy="3808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Arial"/>
              </a:rPr>
              <a:t>T. so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795920" y="6181560"/>
            <a:ext cx="1490760" cy="3812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Arial"/>
              </a:rPr>
              <a:t>T. sagi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-734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Family : Taeniida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609480"/>
          <a:ext cx="9144000" cy="6230880"/>
        </p:xfrm>
        <a:graphic>
          <a:graphicData uri="http://schemas.openxmlformats.org/drawingml/2006/table">
            <a:tbl>
              <a:tblPr/>
              <a:tblGrid>
                <a:gridCol w="1797120"/>
                <a:gridCol w="1403280"/>
                <a:gridCol w="1488960"/>
                <a:gridCol w="3203640"/>
                <a:gridCol w="1251000"/>
              </a:tblGrid>
              <a:tr h="817560">
                <a:tc>
                  <a:txBody>
                    <a:bodyPr lIns="0" rIns="0" tIns="0" bIns="0" anchor="t">
                      <a:noAutofit/>
                    </a:bodyPr>
                    <a:p>
                      <a:pPr marL="515880" algn="ctr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Definitive h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ermediate h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308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ype of Lar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7308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lo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3024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Taenia sagin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260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Cattle and other rumin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Cysticercus bovis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found more in heart and masseters muscles of intermediate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rowSpan="6"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dult worms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mall 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784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Taenia sol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260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Pig and 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Cysticercus cellulosae </a:t>
                      </a:r>
                      <a:r>
                        <a:rPr b="0" lang="en-US" sz="14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found in skeletal and cardiac muscle of pig (Intermediate ho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684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b050"/>
                          </a:solidFill>
                          <a:latin typeface="Arial Black"/>
                          <a:ea typeface="Times New Roman"/>
                        </a:rPr>
                        <a:t>Taenia multice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908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b050"/>
                          </a:solidFill>
                          <a:latin typeface="Arial Black"/>
                          <a:ea typeface="Times New Roman"/>
                        </a:rPr>
                        <a:t>D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b050"/>
                          </a:solidFill>
                          <a:latin typeface="Arial Black"/>
                          <a:ea typeface="Times New Roman"/>
                        </a:rPr>
                        <a:t>Sheep and go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 algn="just">
                        <a:lnSpc>
                          <a:spcPct val="10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b050"/>
                          </a:solidFill>
                          <a:latin typeface="Arial Black"/>
                          <a:ea typeface="Times New Roman"/>
                        </a:rPr>
                        <a:t>Coenurus cerebralis </a:t>
                      </a:r>
                      <a:r>
                        <a:rPr b="0" lang="en-US" sz="1400" spc="-1" strike="noStrike">
                          <a:solidFill>
                            <a:srgbClr val="00b050"/>
                          </a:solidFill>
                          <a:latin typeface="Arial Black"/>
                          <a:ea typeface="Times New Roman"/>
                        </a:rPr>
                        <a:t>in intermediate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80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c00000"/>
                          </a:solidFill>
                          <a:latin typeface="Arial Black"/>
                          <a:ea typeface="Times New Roman"/>
                        </a:rPr>
                        <a:t>Taenia hydatig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63440" indent="-75960">
                        <a:lnSpc>
                          <a:spcPct val="10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Arial Black"/>
                          <a:ea typeface="Times New Roman"/>
                        </a:rPr>
                        <a:t>Dog and wild carniv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Arial Black"/>
                          <a:ea typeface="Times New Roman"/>
                        </a:rPr>
                        <a:t>Ruminants particularly she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 algn="just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c00000"/>
                          </a:solidFill>
                          <a:latin typeface="Arial Black"/>
                          <a:ea typeface="Times New Roman"/>
                        </a:rPr>
                        <a:t>Cysticercus tenuicol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 algn="just">
                        <a:lnSpc>
                          <a:spcPct val="105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c00000"/>
                          </a:solidFill>
                          <a:latin typeface="Arial Black"/>
                          <a:ea typeface="Times New Roman"/>
                        </a:rPr>
                        <a:t>found in peritoneal cavity of intermediate host (sh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188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b0f0"/>
                          </a:solidFill>
                          <a:latin typeface="Arial Black"/>
                          <a:ea typeface="Times New Roman"/>
                        </a:rPr>
                        <a:t>Taenia ov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908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b0f0"/>
                          </a:solidFill>
                          <a:latin typeface="Arial Black"/>
                          <a:ea typeface="Times New Roman"/>
                        </a:rPr>
                        <a:t>D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b0f0"/>
                          </a:solidFill>
                          <a:latin typeface="Arial Black"/>
                          <a:ea typeface="Times New Roman"/>
                        </a:rPr>
                        <a:t>She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b0f0"/>
                          </a:solidFill>
                          <a:latin typeface="Arial Black"/>
                          <a:ea typeface="Times New Roman"/>
                        </a:rPr>
                        <a:t>Cysticercus ovis </a:t>
                      </a:r>
                      <a:r>
                        <a:rPr b="0" lang="en-US" sz="1400" spc="-1" strike="noStrike">
                          <a:solidFill>
                            <a:srgbClr val="00b0f0"/>
                          </a:solidFill>
                          <a:latin typeface="Arial Black"/>
                          <a:ea typeface="Times New Roman"/>
                        </a:rPr>
                        <a:t>in mus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272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chinococcus granulos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9080" algn="ctr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0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omestic ruminants, pig and 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Hydatid cysts in lung and l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Taenia sagin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It is a zoonotic parasite an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 Black"/>
              </a:rPr>
              <a:t>largest tapeworm of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dult 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Taenia saginata 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found in the small intestine of man (final host) whereas 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Cysticercus bovis 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(metacestode) found usually in heart and masseters muscles of  cattle (intermediate ho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Scolex has </a:t>
            </a:r>
            <a:r>
              <a:rPr b="1" lang="en-US" sz="2000" spc="-1" strike="noStrike" u="sng">
                <a:solidFill>
                  <a:srgbClr val="ffc000"/>
                </a:solidFill>
                <a:uFillTx/>
                <a:latin typeface="Arial Black"/>
                <a:ea typeface="Times New Roman"/>
              </a:rPr>
              <a:t>neither rostellum nor hooks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Man  gets  infection  by  the  ingestion  of  raw  or  undercooked </a:t>
            </a: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ysticercus bovis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infec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 Black"/>
              </a:rPr>
              <a:t>(measly) beef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Cattle gets infection by the ingestion of eggs of </a:t>
            </a:r>
            <a:r>
              <a:rPr b="1" i="1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Taenia saginata 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during graz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2590920" cy="3048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Life-cycle of </a:t>
            </a:r>
            <a:r>
              <a:rPr b="1" i="1" lang="en-US" sz="36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Taenia sagin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4421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ggs and gravid segments of </a:t>
            </a: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T. saginata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re excreted from the infected m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cdda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da0"/>
                </a:solidFill>
                <a:latin typeface="Arial Black"/>
              </a:rPr>
              <a:t>Cattle get the infection by the ingestion of eggs during graz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Onchosphere from the egg come out in the intestine and penetrate the  intestinal wall with the help of their h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000"/>
                </a:solidFill>
                <a:latin typeface="Arial Black"/>
              </a:rPr>
              <a:t>Through blood circulation it spread throughout musculature and transform into larval 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ysticercus bovis 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(metacestode) develop 10-12 wks after infec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Man gets the infection by the ingestion of raw or undercooked beef (measly beef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dult </a:t>
            </a:r>
            <a:r>
              <a:rPr b="0" i="1" lang="en-US" sz="1600" spc="-1" strike="noStrike">
                <a:solidFill>
                  <a:srgbClr val="ffffff"/>
                </a:solidFill>
                <a:latin typeface="Arial Black"/>
              </a:rPr>
              <a:t>T. saginata 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evelops in the small intestine of man 2-3 months after  infe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Image result for taenia saginata image"/>
          <p:cNvPicPr/>
          <p:nvPr/>
        </p:nvPicPr>
        <p:blipFill>
          <a:blip r:embed="rId1"/>
          <a:stretch/>
        </p:blipFill>
        <p:spPr>
          <a:xfrm>
            <a:off x="4421160" y="685800"/>
            <a:ext cx="4724280" cy="6095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Arial Black"/>
              </a:rPr>
              <a:t>Taenia sagin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thogenesis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in  cattle is usually asymptomatic but sever infection may cause myositis, myocarditis with symptoms like heart failure, muscular stiffness, fever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 man, adult worms  may cause diarrhoea, epigastric pai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pidemiology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cdd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da0"/>
                </a:solidFill>
                <a:latin typeface="Arial"/>
              </a:rPr>
              <a:t>Infection is more common in underdeveloped and developing countries like Ind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or human hygiene and sanitation are responsible for the spreading of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Taenia sagin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163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agnosi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cattle - </a:t>
            </a:r>
            <a:r>
              <a:rPr b="1" i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ysticercus bovis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(metacestode) diagnosed in masseter muscle, heart, tongue, intercostal muscles and diaphragm during meat 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Man -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findings of gravid proglottids and eggs in the faces or perianal region. In adult cestode, scolex has without rostell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rcRect l="0" t="0" r="0" b="14182"/>
          <a:stretch/>
        </p:blipFill>
        <p:spPr>
          <a:xfrm>
            <a:off x="3200400" y="4038480"/>
            <a:ext cx="3029040" cy="2248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-228600" y="11415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DOG TAPEWOR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Dipyli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Ta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Echinococ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Tapeworm in Dogs | Therapy Pet"/>
          <p:cNvPicPr/>
          <p:nvPr/>
        </p:nvPicPr>
        <p:blipFill>
          <a:blip r:embed="rId1"/>
          <a:stretch/>
        </p:blipFill>
        <p:spPr>
          <a:xfrm>
            <a:off x="5259240" y="2523960"/>
            <a:ext cx="3810240" cy="319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https://www.wikihow.com/images/thumb/3/36/Diagnose-Tapeworms-in-Dogs-Step-5.jpg/v4-760px-Diagnose-Tapeworms-in-Dogs-Step-5.jpg"/>
          <p:cNvPicPr/>
          <p:nvPr/>
        </p:nvPicPr>
        <p:blipFill>
          <a:blip r:embed="rId2"/>
          <a:stretch/>
        </p:blipFill>
        <p:spPr>
          <a:xfrm>
            <a:off x="3278160" y="2743200"/>
            <a:ext cx="2587680" cy="1782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Taenia sagin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163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reatment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Drug is usually not highly effective against 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Cysticercus bovis. 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However some  drugs like praziquantel  50 mg/kg body weight orally  can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raziquantel (10mg/kg body weight) and Niclosamide( 2g) are effective against adult worms in 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da0"/>
                </a:solidFill>
                <a:latin typeface="Arial Black"/>
              </a:rPr>
              <a:t>               </a:t>
            </a:r>
            <a:r>
              <a:rPr b="1" lang="en-US" sz="3200" spc="-1" strike="noStrike">
                <a:solidFill>
                  <a:srgbClr val="fcdda0"/>
                </a:solidFill>
                <a:latin typeface="Arial Black"/>
              </a:rPr>
              <a:t>Control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Treatment of the infected 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Proper refrigeration and cooking of beef. Freezing at 10</a:t>
            </a:r>
            <a:r>
              <a:rPr b="1" lang="en-US" sz="2000" spc="-1" strike="noStrike" baseline="30000">
                <a:solidFill>
                  <a:srgbClr val="ffc000"/>
                </a:solidFill>
                <a:latin typeface="Arial Black"/>
              </a:rPr>
              <a:t>0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F for 9 days and thermal temperature above 57</a:t>
            </a:r>
            <a:r>
              <a:rPr b="1" lang="en-US" sz="2000" spc="-1" strike="noStrike" baseline="30000">
                <a:solidFill>
                  <a:srgbClr val="ffc000"/>
                </a:solidFill>
                <a:latin typeface="Arial Black"/>
              </a:rPr>
              <a:t>0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C will kill the metacest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Public education to increase awareness of hygiene and c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Improving human sani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Inspection of beef and proper disposal of human excreta are important meas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 Black"/>
              </a:rPr>
              <a:t>Prevent the grazing of infected pas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Taenia sol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9160" y="705960"/>
            <a:ext cx="5943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ommonly known as 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</a:rPr>
              <a:t>pork tapeworm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It is also a zoonotic para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Adult </a:t>
            </a:r>
            <a:r>
              <a:rPr b="1" i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Taenia solium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found in the small intestine of man (final host) whereas </a:t>
            </a:r>
            <a:r>
              <a:rPr b="1" i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Cysticercus cellulosae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(metacestode) found  mainly in skeletal and cardiac muscles of  pig  (intermediate ho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Scolex has rostellum which is armed with 2 rows of h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6705720" y="706320"/>
            <a:ext cx="1904760" cy="2895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553080" y="3772080"/>
            <a:ext cx="2438640" cy="2781000"/>
          </a:xfrm>
          <a:prstGeom prst="rect">
            <a:avLst/>
          </a:prstGeom>
          <a:ln w="0">
            <a:noFill/>
          </a:ln>
        </p:spPr>
      </p:pic>
      <p:sp>
        <p:nvSpPr>
          <p:cNvPr id="136" name="Right Arrow 1"/>
          <p:cNvSpPr/>
          <p:nvPr/>
        </p:nvSpPr>
        <p:spPr>
          <a:xfrm rot="20386200">
            <a:off x="6327720" y="2388960"/>
            <a:ext cx="914400" cy="160200"/>
          </a:xfrm>
          <a:prstGeom prst="rightArrow">
            <a:avLst>
              <a:gd name="adj1" fmla="val 50000"/>
              <a:gd name="adj2" fmla="val 4986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72280" y="1536840"/>
            <a:ext cx="1296720" cy="447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 Black"/>
              </a:rPr>
              <a:t>Roste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Arrow 7"/>
          <p:cNvSpPr/>
          <p:nvPr/>
        </p:nvSpPr>
        <p:spPr>
          <a:xfrm rot="20386200">
            <a:off x="6400440" y="1449360"/>
            <a:ext cx="914400" cy="15876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602320" y="223524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Su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Life-cycle of </a:t>
            </a:r>
            <a:r>
              <a:rPr b="1" i="1" lang="en-US" sz="3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Taenia sol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952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Life-cycle is similar to </a:t>
            </a:r>
            <a:r>
              <a:rPr b="1" i="1" lang="en-US" sz="2400" spc="-1" strike="noStrike">
                <a:solidFill>
                  <a:srgbClr val="ffffff"/>
                </a:solidFill>
                <a:latin typeface="Arial Black"/>
              </a:rPr>
              <a:t>T. saginata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xcep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Pig acts as the intermediate host  where larval stage 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Cysticercus cellulosae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)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  <a:ea typeface="Times New Roman"/>
              </a:rPr>
              <a:t>found  mainly in skeletal and cardiac muscles of  pi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Man also acts as a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 Black"/>
                <a:ea typeface="Times New Roman"/>
              </a:rPr>
              <a:t>intermediate host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 due to accidental ingestion of eggs through contaminated food or from dirty hand  and due to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 Black"/>
                <a:ea typeface="Times New Roman"/>
              </a:rPr>
              <a:t>auto-infection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 as a result of reverse peristalsis. Then metacestodes  develop in the brain, eye, sub-cutaneous tissue and other organ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4952880" y="1295280"/>
            <a:ext cx="4114800" cy="50770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0" y="2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rphological difference betwee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T. solium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and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T. sagi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914400"/>
          <a:ext cx="9144000" cy="6056280"/>
        </p:xfrm>
        <a:graphic>
          <a:graphicData uri="http://schemas.openxmlformats.org/drawingml/2006/table">
            <a:tbl>
              <a:tblPr/>
              <a:tblGrid>
                <a:gridCol w="2514600"/>
                <a:gridCol w="3352680"/>
                <a:gridCol w="3276720"/>
              </a:tblGrid>
              <a:tr h="855720">
                <a:tc>
                  <a:txBody>
                    <a:bodyPr lIns="0" rIns="0" tIns="0" bIns="0" anchor="t">
                      <a:noAutofit/>
                    </a:bodyPr>
                    <a:p>
                      <a:pPr marL="515880" algn="ctr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Taenia so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ff"/>
                          </a:solidFill>
                          <a:latin typeface="Arial Black"/>
                          <a:ea typeface="Times New Roman"/>
                        </a:rPr>
                        <a:t>Taenia sagin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320">
                        <a:lnSpc>
                          <a:spcPct val="11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012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Rostellum and h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Present and armed with 2 rows of h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928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Leng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3-5 m rarely up to 8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4-8 m rarely up to 2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64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Uterus of gravid seg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7-14 lateral branches on either 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15-30 lateral branches on each 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928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Ova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Trilob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Bilob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928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Vaginal sphincter mus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Ab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972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Gravid seg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Do not leave host spontaneousl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Leave the host spontaneous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31240"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. of eggs per seg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4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2320">
                        <a:lnSpc>
                          <a:spcPct val="11500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Arial Black"/>
                          <a:ea typeface="Times New Roman"/>
                        </a:rPr>
                        <a:t>8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Taenia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sp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https://upload.wikimedia.org/wikipedia/commons/thumb/9/95/Taenia_saginataD.JPG/220px-Taenia_saginataD.JPG"/>
          <p:cNvPicPr/>
          <p:nvPr/>
        </p:nvPicPr>
        <p:blipFill>
          <a:blip r:embed="rId1"/>
          <a:stretch/>
        </p:blipFill>
        <p:spPr>
          <a:xfrm>
            <a:off x="76320" y="914400"/>
            <a:ext cx="2290680" cy="34275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76320" y="434196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aenia saginat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glottid stained to show uterine branches: The pore on the side identifies it as a cyclophyllid cest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4362480" y="900000"/>
            <a:ext cx="4781520" cy="327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4495680" y="4232160"/>
            <a:ext cx="426744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Right Arrow 1"/>
          <p:cNvSpPr/>
          <p:nvPr/>
        </p:nvSpPr>
        <p:spPr>
          <a:xfrm rot="10800000">
            <a:off x="5838840" y="1066680"/>
            <a:ext cx="790560" cy="46080"/>
          </a:xfrm>
          <a:prstGeom prst="rightArrow">
            <a:avLst>
              <a:gd name="adj1" fmla="val 50000"/>
              <a:gd name="adj2" fmla="val 49642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553080" y="920880"/>
            <a:ext cx="1217880" cy="33804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Roste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753240" y="1374840"/>
            <a:ext cx="1676520" cy="6094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</a:rPr>
              <a:t>Su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Patho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hogenesis and symptoms  depend on location and number of adult or larval stages of the worm in the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rval stages of worm cause inapparent clinical signs in pigs but In man, larval stages cause various symptoms depending upon the location of the cyst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I)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Neurocysticercosis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f the cyst is developed in the CNS which  consists of neurological symptoms lik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pileps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paralysis, mental disturbances et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II)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Occular cysticercosis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en  cyst developed in the eye which leads loss of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Taenia sol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163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Adult stage can be diagnosed by finding the eggs and gravid segments in the faeces or in the perianal a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rval stage </a:t>
            </a:r>
            <a:r>
              <a:rPr b="1" i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ysticercus cellulosae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in pig can be diagnosed  by meat inspection whereas in man, larval stage  diagnosed b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Black"/>
                <a:ea typeface="Times New Roman"/>
              </a:rPr>
              <a:t>MRI  or CAT scan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or by serological test like ELISA (Enzyme linked immunosorbent Assay) and by molecular test like PCR (Polymerase Chain Reaction )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133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707400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Taenia sol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9163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Treatment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Drug is usually not highly effective against </a:t>
            </a:r>
            <a:r>
              <a:rPr b="1" i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Cysticercus bovis.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However, some  drugs like praziquantel @ 50 mg/kg body weight orally  can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raziquantel @10mg/kg body weight) and Niclosamide( 2g) are effective against adult worms in 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da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cdda0"/>
                </a:solidFill>
                <a:latin typeface="Arial Black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Treatment of the infected m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Proper refrigeration and cooking of pork. Freezing at -20</a:t>
            </a:r>
            <a:r>
              <a:rPr b="1" lang="en-US" sz="2000" spc="-1" strike="noStrike" baseline="30000">
                <a:solidFill>
                  <a:srgbClr val="ffc000"/>
                </a:solidFill>
                <a:latin typeface="Arial Black"/>
              </a:rPr>
              <a:t>0 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F for 2 or more days and cooking above 57</a:t>
            </a:r>
            <a:r>
              <a:rPr b="1" lang="en-US" sz="2000" spc="-1" strike="noStrike" baseline="30000">
                <a:solidFill>
                  <a:srgbClr val="ffc000"/>
                </a:solidFill>
                <a:latin typeface="Arial Black"/>
              </a:rPr>
              <a:t>0</a:t>
            </a: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C will kill the metacestodes  in p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Public education to increase awareness of hygie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 Black"/>
              </a:rPr>
              <a:t>Improving human sanit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People should be careful to avoid foods that might be contaminated by human feces and avoid raw and inadequately cooked p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40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360" y="623520"/>
            <a:ext cx="705816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ctangle 3" descr=""/>
          <p:cNvPicPr/>
          <p:nvPr/>
        </p:nvPicPr>
        <p:blipFill>
          <a:blip r:embed="rId1"/>
          <a:stretch/>
        </p:blipFill>
        <p:spPr>
          <a:xfrm>
            <a:off x="2816280" y="3078000"/>
            <a:ext cx="4054320" cy="920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ffff00"/>
                </a:solidFill>
                <a:latin typeface="Arial Black"/>
              </a:rPr>
              <a:t>Family: Dilepidid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ffff00"/>
                </a:solidFill>
                <a:latin typeface="Arial Black"/>
              </a:rPr>
              <a:t>General charac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Arial Black"/>
              </a:rPr>
              <a:t>Adult tapeworms found in birds and mam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c000"/>
                </a:solidFill>
                <a:latin typeface="Arial Black"/>
              </a:rPr>
              <a:t>Retractile rostellum usually armed with 1 or 2 rows of </a:t>
            </a:r>
            <a:r>
              <a:rPr b="0" lang="en-IN" sz="2400" spc="-1" strike="noStrike" u="sng">
                <a:solidFill>
                  <a:srgbClr val="ffc000"/>
                </a:solidFill>
                <a:uFillTx/>
                <a:latin typeface="Arial Black"/>
              </a:rPr>
              <a:t>rose-thorn shaped hooks</a:t>
            </a:r>
            <a:r>
              <a:rPr b="0" lang="en-IN" sz="2400" spc="-1" strike="noStrike">
                <a:solidFill>
                  <a:srgbClr val="ffc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00"/>
                </a:solidFill>
                <a:latin typeface="Arial Black"/>
              </a:rPr>
              <a:t>Genital organs: </a:t>
            </a:r>
            <a:r>
              <a:rPr b="0" lang="en-IN" sz="2400" spc="-1" strike="noStrike">
                <a:solidFill>
                  <a:srgbClr val="ffffff"/>
                </a:solidFill>
                <a:latin typeface="Arial Black"/>
              </a:rPr>
              <a:t>one or two per se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c000"/>
                </a:solidFill>
                <a:latin typeface="Arial Black"/>
              </a:rPr>
              <a:t>Uterus is sac like or may be replaced by </a:t>
            </a:r>
            <a:r>
              <a:rPr b="0" lang="en-IN" sz="2400" spc="-1" strike="noStrike" u="sng">
                <a:solidFill>
                  <a:srgbClr val="ffc000"/>
                </a:solidFill>
                <a:uFillTx/>
                <a:latin typeface="Arial Black"/>
              </a:rPr>
              <a:t>egg capsules </a:t>
            </a:r>
            <a:r>
              <a:rPr b="0" lang="en-IN" sz="2400" spc="-1" strike="noStrike">
                <a:solidFill>
                  <a:srgbClr val="ffc000"/>
                </a:solidFill>
                <a:latin typeface="Arial Black"/>
              </a:rPr>
              <a:t>or </a:t>
            </a:r>
            <a:r>
              <a:rPr b="0" lang="en-IN" sz="2400" spc="-1" strike="noStrike" u="sng">
                <a:solidFill>
                  <a:srgbClr val="ffc000"/>
                </a:solidFill>
                <a:uFillTx/>
                <a:latin typeface="Arial Black"/>
              </a:rPr>
              <a:t>a par-uterine organ</a:t>
            </a:r>
            <a:r>
              <a:rPr b="0" lang="en-IN" sz="2400" spc="-1" strike="noStrike">
                <a:solidFill>
                  <a:srgbClr val="ffc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ffff"/>
                </a:solidFill>
                <a:latin typeface="Arial Black"/>
              </a:rPr>
              <a:t>Genus: </a:t>
            </a:r>
            <a:r>
              <a:rPr b="0" i="1" lang="en-IN" sz="2400" spc="-1" strike="noStrike">
                <a:solidFill>
                  <a:srgbClr val="ffc000"/>
                </a:solidFill>
                <a:latin typeface="Arial Black"/>
              </a:rPr>
              <a:t>Dipylidium can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ffc000"/>
                </a:solidFill>
                <a:latin typeface="Arial Black"/>
              </a:rPr>
              <a:t>                </a:t>
            </a:r>
            <a:r>
              <a:rPr b="0" i="1" lang="en-IN" sz="2400" spc="-1" strike="noStrike">
                <a:solidFill>
                  <a:srgbClr val="ffc000"/>
                </a:solidFill>
                <a:latin typeface="Arial Black"/>
              </a:rPr>
              <a:t>Amoebota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c000"/>
                </a:solidFill>
                <a:latin typeface="Arial Black"/>
              </a:rPr>
              <a:t>                </a:t>
            </a:r>
            <a:r>
              <a:rPr b="0" i="1" lang="en-IN" sz="2400" spc="-1" strike="noStrike">
                <a:solidFill>
                  <a:srgbClr val="ffc000"/>
                </a:solidFill>
                <a:latin typeface="Arial Black"/>
              </a:rPr>
              <a:t>Choanota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Proglottids of Dipylidium caninum obtained from dog feces"/>
          <p:cNvPicPr/>
          <p:nvPr/>
        </p:nvPicPr>
        <p:blipFill>
          <a:blip r:embed="rId1"/>
          <a:srcRect l="14242" t="2442" r="44073" b="7812"/>
          <a:stretch/>
        </p:blipFill>
        <p:spPr>
          <a:xfrm>
            <a:off x="7972560" y="4614840"/>
            <a:ext cx="1171440" cy="2228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Amoebotaenia sp. Tapeworms - MONSTER HUNTER'S GUIDE TO: VETERINARY ..."/>
          <p:cNvPicPr/>
          <p:nvPr/>
        </p:nvPicPr>
        <p:blipFill>
          <a:blip r:embed="rId2"/>
          <a:srcRect l="31615" t="5769" r="27633" b="8646"/>
          <a:stretch/>
        </p:blipFill>
        <p:spPr>
          <a:xfrm>
            <a:off x="5715000" y="4838760"/>
            <a:ext cx="861840" cy="1981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543480" y="6586560"/>
            <a:ext cx="2133360" cy="2332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0" y="-134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 Black"/>
              </a:rPr>
              <a:t>Dipylidium can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Black"/>
              </a:rPr>
              <a:t>Common  Name 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lea tapeworm or Cucumber tapeworm or Double pored tapeworm of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Definitive host or Final host :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g, c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x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Intermediate host :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 Black"/>
              </a:rPr>
              <a:t>Dog fleas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 (</a:t>
            </a:r>
            <a:r>
              <a:rPr b="1" i="1" lang="en-US" sz="1800" spc="-1" strike="noStrike">
                <a:solidFill>
                  <a:srgbClr val="ffff00"/>
                </a:solidFill>
                <a:latin typeface="Arial Black"/>
              </a:rPr>
              <a:t>Ctenocephalides canis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Black"/>
              </a:rPr>
              <a:t>                                          </a:t>
            </a:r>
            <a:r>
              <a:rPr b="1" i="1" lang="en-US" sz="1800" spc="-1" strike="noStrike">
                <a:solidFill>
                  <a:srgbClr val="ffff00"/>
                </a:solidFill>
                <a:latin typeface="Arial Black"/>
              </a:rPr>
              <a:t>Ctenocephalides felis 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and </a:t>
            </a:r>
            <a:r>
              <a:rPr b="1" i="1" lang="en-US" sz="1800" spc="-1" strike="noStrike">
                <a:solidFill>
                  <a:srgbClr val="ffff00"/>
                </a:solidFill>
                <a:latin typeface="Arial Black"/>
              </a:rPr>
              <a:t>Pulex irritans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)  an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                                         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 Black"/>
              </a:rPr>
              <a:t>dog louse 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(</a:t>
            </a:r>
            <a:r>
              <a:rPr b="1" i="1" lang="en-US" sz="1800" spc="-1" strike="noStrike">
                <a:solidFill>
                  <a:srgbClr val="ffff00"/>
                </a:solidFill>
                <a:latin typeface="Arial Black"/>
              </a:rPr>
              <a:t>Trichodectes canis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Type of larva (metacestode)-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    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Cysticercoid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in intermediate 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Predilection site :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all intes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rcRect l="26760" t="6095" r="9098" b="0"/>
          <a:stretch/>
        </p:blipFill>
        <p:spPr>
          <a:xfrm>
            <a:off x="5443560" y="5100480"/>
            <a:ext cx="3676680" cy="1739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2"/>
          <a:srcRect l="9199" t="14331" r="31996" b="0"/>
          <a:stretch/>
        </p:blipFill>
        <p:spPr>
          <a:xfrm>
            <a:off x="1657440" y="5100480"/>
            <a:ext cx="2923920" cy="1595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-9360" y="6586560"/>
            <a:ext cx="1666800" cy="2188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0" y="-734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 Old Style"/>
              </a:rPr>
              <a:t>Family : Dilepidid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5943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Rounded MT Bold"/>
              </a:rPr>
              <a:t>Salient 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Commonest tapeworm of d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Scolex has a rostellum which  is armed with 3-5 rows of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rose thorn shaped 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irregularly arranged h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Suckers are una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92d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 Rounded MT Bold"/>
              </a:rPr>
              <a:t>Each segment has 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Arial Rounded MT Bold"/>
              </a:rPr>
              <a:t>double sets of genital organs </a:t>
            </a:r>
            <a:r>
              <a:rPr b="1" lang="en-US" sz="2400" spc="-1" strike="noStrike">
                <a:solidFill>
                  <a:srgbClr val="92d050"/>
                </a:solidFill>
                <a:latin typeface="Arial Rounded MT Bold"/>
              </a:rPr>
              <a:t>with bilateral genital p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Rounded MT Bold"/>
              </a:rPr>
              <a:t>Ovary and vitelline gland form a </a:t>
            </a:r>
            <a:r>
              <a:rPr b="1" lang="en-US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bunch of grapes </a:t>
            </a:r>
            <a:r>
              <a:rPr b="1" lang="en-US" sz="2400" spc="-1" strike="noStrike">
                <a:solidFill>
                  <a:srgbClr val="ffc000"/>
                </a:solidFill>
                <a:latin typeface="Arial Rounded MT Bold"/>
              </a:rPr>
              <a:t>on either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Eggs lie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egg capsule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nd each egg capsule contains up to 30 eg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Rounded MT Bold"/>
              </a:rPr>
              <a:t>Mature and gravid segments are </a:t>
            </a:r>
            <a:r>
              <a:rPr b="1" lang="en-US" sz="2400" spc="-1" strike="noStrike" u="sng">
                <a:solidFill>
                  <a:srgbClr val="ffc000"/>
                </a:solidFill>
                <a:uFillTx/>
                <a:latin typeface="Arial Rounded MT Bold"/>
              </a:rPr>
              <a:t>cucumber seed sha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Untitled Document"/>
          <p:cNvPicPr/>
          <p:nvPr/>
        </p:nvPicPr>
        <p:blipFill>
          <a:blip r:embed="rId1"/>
          <a:srcRect l="46970" t="1669" r="0" b="-1661"/>
          <a:stretch/>
        </p:blipFill>
        <p:spPr>
          <a:xfrm>
            <a:off x="6095880" y="2743200"/>
            <a:ext cx="3048120" cy="4181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Untitled Document"/>
          <p:cNvPicPr/>
          <p:nvPr/>
        </p:nvPicPr>
        <p:blipFill>
          <a:blip r:embed="rId2"/>
          <a:srcRect l="1203" t="13866" r="52307" b="24583"/>
          <a:stretch/>
        </p:blipFill>
        <p:spPr>
          <a:xfrm>
            <a:off x="6443640" y="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7924680" y="5943600"/>
            <a:ext cx="1185840" cy="3808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 Rounded MT Bold"/>
                <a:ea typeface="Times New Roman"/>
              </a:rPr>
              <a:t>Life-cycle of 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Dipylidium canin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760" y="807840"/>
            <a:ext cx="6834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ravid segments of </a:t>
            </a: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D. caninum 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re passed out with the faces of infected definitive host like dog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 Black"/>
              </a:rPr>
              <a:t>Gravid segments of </a:t>
            </a:r>
            <a:r>
              <a:rPr b="0" i="1" lang="en-US" sz="2000" spc="-1" strike="noStrike">
                <a:solidFill>
                  <a:srgbClr val="ffc000"/>
                </a:solidFill>
                <a:latin typeface="Arial Black"/>
              </a:rPr>
              <a:t>D. caninum  </a:t>
            </a:r>
            <a:r>
              <a:rPr b="0" lang="en-US" sz="2000" spc="-1" strike="noStrike">
                <a:solidFill>
                  <a:srgbClr val="ffc000"/>
                </a:solidFill>
                <a:latin typeface="Arial Black"/>
              </a:rPr>
              <a:t>are active and mot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uring migration or crawling of gravid segments in perineal region or on floor, they egg are released from the gravid seg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Eggs are ingested by fleas and lice  and onchospheres are release from the eggs and these migrate in to the abdominal cavity  and developed into cysticerc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Common Laboratory Procedures for Diagnosing Parasitism | Veterian Key"/>
          <p:cNvPicPr/>
          <p:nvPr/>
        </p:nvPicPr>
        <p:blipFill>
          <a:blip r:embed="rId1"/>
          <a:stretch/>
        </p:blipFill>
        <p:spPr>
          <a:xfrm>
            <a:off x="6858000" y="1066680"/>
            <a:ext cx="2286000" cy="222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Ctenocephalides canis in cats | Vetlexicon Felis from Vetstream ..."/>
          <p:cNvPicPr/>
          <p:nvPr/>
        </p:nvPicPr>
        <p:blipFill>
          <a:blip r:embed="rId2"/>
          <a:stretch/>
        </p:blipFill>
        <p:spPr>
          <a:xfrm>
            <a:off x="6891480" y="4414680"/>
            <a:ext cx="2286000" cy="1752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7086600" y="3289320"/>
            <a:ext cx="2057400" cy="9777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2060"/>
                </a:solidFill>
                <a:latin typeface="Arial"/>
              </a:rPr>
              <a:t>Faeces cont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2060"/>
                </a:solidFill>
                <a:latin typeface="Arial"/>
              </a:rPr>
              <a:t>gravid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ight Arrow 2"/>
          <p:cNvSpPr/>
          <p:nvPr/>
        </p:nvSpPr>
        <p:spPr>
          <a:xfrm rot="16200000">
            <a:off x="7457760" y="2934720"/>
            <a:ext cx="1079640" cy="14616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891480" y="6172200"/>
            <a:ext cx="2252520" cy="68580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2060"/>
                </a:solidFill>
                <a:latin typeface="Arial"/>
              </a:rPr>
              <a:t>Egg caps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2060"/>
                </a:solidFill>
                <a:latin typeface="Arial"/>
              </a:rPr>
              <a:t>cont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2060"/>
                </a:solidFill>
                <a:latin typeface="Arial"/>
              </a:rPr>
              <a:t>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4834080" y="6566040"/>
            <a:ext cx="2057400" cy="291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 Rounded MT Bold"/>
                <a:ea typeface="Times New Roman"/>
              </a:rPr>
              <a:t>Life-cycle of 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Dipylidium canin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finitive host like dog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gets the infection by the ingestion of  cysticercoi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 Black"/>
                <a:ea typeface="Times New Roman"/>
              </a:rPr>
              <a:t>infected flea or l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dult 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Dipylidium caninum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ll be developed in the small intestine of definitive host 3-4 weeks after 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Children get the infection of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Dipylidium caninum 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by </a:t>
            </a: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 Black"/>
              </a:rPr>
              <a:t>accidental ingestion of infected flea or lice 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</a:rPr>
              <a:t>during playing with p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620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 Rounded MT Bold"/>
                <a:ea typeface="Times New Roman"/>
              </a:rPr>
              <a:t>Life-cycle of 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Dipylidium canin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9360" y="3925800"/>
            <a:ext cx="9144000" cy="2971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7086600" y="6553080"/>
            <a:ext cx="2057400" cy="2923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03320"/>
            <a:ext cx="9144000" cy="645840"/>
          </a:xfrm>
          <a:prstGeom prst="rect">
            <a:avLst/>
          </a:prstGeom>
          <a:gradFill rotWithShape="0">
            <a:gsLst>
              <a:gs pos="0">
                <a:srgbClr val="e7febe"/>
              </a:gs>
              <a:gs pos="100000">
                <a:srgbClr val="f1fd9b"/>
              </a:gs>
            </a:gsLst>
            <a:lin ang="5400000"/>
          </a:gradFill>
          <a:ln w="63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Dipylidium can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5562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thogenesis 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Adults are usually non-pathogenic but sever infection may cause  enteritis,  mechanical obstruction of intestin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Migration of gravid segments in the perianal region caused constant irritation  resulting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anal pruritus</a:t>
            </a: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(dragging of anus on the grou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G:\img_why_does_my_dog_drag_his_bum_on_the_ground_1454_600.jpg"/>
          <p:cNvPicPr/>
          <p:nvPr/>
        </p:nvPicPr>
        <p:blipFill>
          <a:blip r:embed="rId1"/>
          <a:stretch/>
        </p:blipFill>
        <p:spPr>
          <a:xfrm>
            <a:off x="5676840" y="1886040"/>
            <a:ext cx="3467160" cy="3848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7086600" y="6553080"/>
            <a:ext cx="2057400" cy="2923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Image source: Googl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2:45:21Z</dcterms:created>
  <dc:creator>parasitology</dc:creator>
  <dc:description/>
  <dc:language>en-US</dc:language>
  <cp:lastModifiedBy>user</cp:lastModifiedBy>
  <dcterms:modified xsi:type="dcterms:W3CDTF">2020-03-29T16:37:23Z</dcterms:modified>
  <cp:revision>640</cp:revision>
  <dc:subject/>
  <dc:title>Slide 1</dc:title>
</cp:coreProperties>
</file>