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DB4A-7CFE-4F0F-93D3-68170160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B87B-963E-426B-BC6E-C0A8E7185298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F36-36F8-4550-A16E-4E916390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B5C-8257-4D8C-96F7-C3053166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32E-B3BA-446B-AAA1-F07B4707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05C-C017-4472-8077-E19589B5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A64-5E24-4512-828C-03337B56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C0A-48AB-4C34-8100-A1CB6D54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E2D-E6B6-4B29-BAC4-9737FAC0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196-76C7-40C3-B1C8-57142EA5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25A-80DB-427D-A4AF-728A75B9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6D7-8CAB-4BFC-9407-9B2A9276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916-CFDB-43D1-A45C-E3C5DE23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454-1081-46C7-A324-2BE33CD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A9B7-8E0E-4F13-ADF3-0AC22E6A8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basu.org.i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484560" y="1486080"/>
            <a:ext cx="9163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c000"/>
                </a:solidFill>
                <a:latin typeface="Arial Black"/>
              </a:rPr>
              <a:t>                </a:t>
            </a:r>
            <a:r>
              <a:rPr b="1" lang="en-IN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74480" y="455400"/>
            <a:ext cx="821340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ff00"/>
                </a:solidFill>
                <a:latin typeface="Arial Black"/>
              </a:rPr>
              <a:t>DOG TAPEWORMS –II</a:t>
            </a:r>
            <a:br>
              <a:rPr sz="3600"/>
            </a:br>
            <a:r>
              <a:rPr b="0" lang="en-IN" sz="3600" spc="-1" strike="noStrike">
                <a:solidFill>
                  <a:srgbClr val="ffff00"/>
                </a:solidFill>
                <a:latin typeface="Arial Black"/>
              </a:rPr>
              <a:t>(</a:t>
            </a:r>
            <a:r>
              <a:rPr b="0" i="1" lang="en-IN" sz="3600" spc="-1" strike="noStrike">
                <a:solidFill>
                  <a:srgbClr val="ffff00"/>
                </a:solidFill>
                <a:latin typeface="Arial Black"/>
              </a:rPr>
              <a:t>Taenia multiceps </a:t>
            </a:r>
            <a:br>
              <a:rPr sz="3600"/>
            </a:br>
            <a:r>
              <a:rPr b="0" lang="en-IN" sz="3600" spc="-1" strike="noStrike">
                <a:solidFill>
                  <a:srgbClr val="ffff00"/>
                </a:solidFill>
                <a:latin typeface="Arial Black"/>
              </a:rPr>
              <a:t>&amp;</a:t>
            </a:r>
            <a:br>
              <a:rPr sz="3600"/>
            </a:br>
            <a:r>
              <a:rPr b="0" i="1" lang="en-IN" sz="3600" spc="-1" strike="noStrike">
                <a:solidFill>
                  <a:srgbClr val="ffff00"/>
                </a:solidFill>
                <a:latin typeface="Arial Black"/>
              </a:rPr>
              <a:t>Echinococcus</a:t>
            </a:r>
            <a:r>
              <a:rPr b="0" lang="en-IN" sz="3600" spc="-1" strike="noStrike">
                <a:solidFill>
                  <a:srgbClr val="ffff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Bihar Animal Sciences University | बिहार पशु विज्ञान विश्वविद्यालय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" y="249120"/>
            <a:ext cx="114912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olour Logofinal"/>
          <p:cNvPicPr/>
          <p:nvPr/>
        </p:nvPicPr>
        <p:blipFill>
          <a:blip r:embed="rId3"/>
          <a:stretch/>
        </p:blipFill>
        <p:spPr>
          <a:xfrm>
            <a:off x="8015400" y="196920"/>
            <a:ext cx="1100160" cy="1245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3192480" y="4402080"/>
            <a:ext cx="4572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2d050"/>
                </a:solidFill>
                <a:latin typeface="Arial Black"/>
              </a:rPr>
              <a:t>Dr. AJIT K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2d050"/>
                </a:solidFill>
                <a:latin typeface="Arial Black"/>
              </a:rPr>
              <a:t>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Department of Parasi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Bihar Veterinary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Bihar Animal Science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Patna-800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Echinococcus </a:t>
            </a:r>
            <a:r>
              <a:rPr b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dult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chinococcus granulosu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und in the small intestine of dog (final host) and hydatid cyst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mainly in liver and lung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f intermediate h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lex has rostellum which is armed with 2 rows of hoo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dult worm usually contain 3 or 4 proglottids (rarely up to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ilobed ovary i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kidney shape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Terminal segment is gravid and is usually 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</a:rPr>
              <a:t>about half of the total  length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of the w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avid proglottids usually disintegrate in the intestine so that only eggs and not proglottids are found in the fae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 host (dog) gets the infection by the ingestion of hydatid cysts infected meat whereas intermediate hosts get the infection by the ingestion of eggs during graz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Echinococcus Granulosus. Causes Cystic Echinococcosis Stock Vector ..."/>
          <p:cNvPicPr/>
          <p:nvPr/>
        </p:nvPicPr>
        <p:blipFill>
          <a:blip r:embed="rId1"/>
          <a:srcRect l="29748" t="5035" r="28206" b="8818"/>
          <a:stretch/>
        </p:blipFill>
        <p:spPr>
          <a:xfrm>
            <a:off x="6477120" y="990720"/>
            <a:ext cx="2409840" cy="5211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Echinococcus </a:t>
            </a:r>
            <a:r>
              <a:rPr b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5867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acestode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datid cyst  which found in different organs like liver, lung, mainly and also in heart, kidney and brain etc. of intermediate h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datid cyst is surrounded by a fibrous wall from the host and contains two walls derived from the parasite i.e. an outer laminated membrane and within this is a granular germina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rood capsules develop from the germinal membran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ff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db"/>
                </a:solidFill>
                <a:latin typeface="Arial"/>
              </a:rPr>
              <a:t>Brood capsules when detached and float freely in the cyst fluid  is called </a:t>
            </a:r>
            <a:r>
              <a:rPr b="0" lang="en-US" sz="2400" spc="-1" strike="noStrike" u="sng">
                <a:solidFill>
                  <a:srgbClr val="ffffdb"/>
                </a:solidFill>
                <a:uFillTx/>
                <a:latin typeface="Arial"/>
              </a:rPr>
              <a:t>hydatid sand</a:t>
            </a:r>
            <a:r>
              <a:rPr b="0" lang="en-US" sz="2400" spc="-1" strike="noStrike">
                <a:solidFill>
                  <a:srgbClr val="ffffd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Hydatid cysts are found primarily in the lungs of sheep, both liver and lungs of pigs and in the livers of horse and ca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age result for hydatid cyst images"/>
          <p:cNvPicPr/>
          <p:nvPr/>
        </p:nvPicPr>
        <p:blipFill>
          <a:blip r:embed="rId1"/>
          <a:stretch/>
        </p:blipFill>
        <p:spPr>
          <a:xfrm>
            <a:off x="6095880" y="2514600"/>
            <a:ext cx="266724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ff00"/>
                </a:solidFill>
                <a:latin typeface="Arial Black"/>
              </a:rPr>
              <a:t>Hydatid cyst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Cystic echinococcosis of the liver: A primer for hepatologists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56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View Image"/>
          <p:cNvPicPr/>
          <p:nvPr/>
        </p:nvPicPr>
        <p:blipFill>
          <a:blip r:embed="rId2"/>
          <a:srcRect l="0" t="2347" r="0" b="19532"/>
          <a:stretch/>
        </p:blipFill>
        <p:spPr>
          <a:xfrm>
            <a:off x="190440" y="762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ydatid Liver Cyst Dr Mohammad sadra nazari - ppt video online ..."/>
          <p:cNvPicPr/>
          <p:nvPr/>
        </p:nvPicPr>
        <p:blipFill>
          <a:blip r:embed="rId3"/>
          <a:srcRect l="5984" t="26594" r="40671" b="30274"/>
          <a:stretch/>
        </p:blipFill>
        <p:spPr>
          <a:xfrm>
            <a:off x="0" y="3638520"/>
            <a:ext cx="4038480" cy="3219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Echinococcus </a:t>
            </a:r>
            <a:r>
              <a:rPr b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685800"/>
          <a:ext cx="8991720" cy="6173640"/>
        </p:xfrm>
        <a:graphic>
          <a:graphicData uri="http://schemas.openxmlformats.org/drawingml/2006/table">
            <a:tbl>
              <a:tblPr/>
              <a:tblGrid>
                <a:gridCol w="1752840"/>
                <a:gridCol w="1371600"/>
                <a:gridCol w="1676160"/>
                <a:gridCol w="2590920"/>
                <a:gridCol w="1600200"/>
              </a:tblGrid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22536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708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Final h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6880" indent="-239400">
                        <a:lnSpc>
                          <a:spcPct val="104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Intermediate h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236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240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540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Echinococcus granulos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Canids, fel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&amp; hyaen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Ungulates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Cystic echinociccosis or unilocular echinococc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or cystic hydatid dis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320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Echinococcus multilocula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Fox, dog , cats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Ro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Alveolar echinococcosis or multilocular echinococcosis or alveolar hydatid dis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Northern hemisphere (primari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210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Echinococcus voge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Bush do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South American ro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Polycystic echinococc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Central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Sou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36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Echinococcus oligarth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Wild fel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Ro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Polycystic echinococc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-do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Echinococcus granulo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</a:rPr>
              <a:t>Final hosts :-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Dog and wild ca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Intermediate host :-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uminants, pig,  camel, horse, ma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 Black"/>
              </a:rPr>
              <a:t>Metacestode (larval stage) –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Hydatid c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</a:rPr>
              <a:t>Transmission of infection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inal hosts get infection by the ingestion of raw or undercooked meat containing hydatid cy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Intermediate hosts get infection through contaminated water or forage with eggs of </a:t>
            </a:r>
            <a:r>
              <a:rPr b="1" i="1" lang="en-US" sz="2400" spc="-1" strike="noStrike">
                <a:solidFill>
                  <a:srgbClr val="ffff00"/>
                </a:solidFill>
                <a:latin typeface="Arial Black"/>
              </a:rPr>
              <a:t>E. granul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Man specially children get infection during fondling with infected p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Life-cycle of </a:t>
            </a: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E. granulo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ggs of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E. granulosus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ssed  with faeces of infected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cdda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dda0"/>
                </a:solidFill>
                <a:latin typeface="Arial Black"/>
              </a:rPr>
              <a:t>Intermediate hosts get the infection by the ingestion of eggs along with grasses during grazing or drinking eggs contaminated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Onchosphere from the egg come out in the intestine and penetrate the  intestinal wall with the help of their h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</a:rPr>
              <a:t>Through blood circulation it reach in different organs like liver and lung  mainly. Here, onchosphere transform into the fluid filled cysts i.e. hydatid cy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b0f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Hydatid cyst become mature in 6-12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Final hosts (Dog etc.) get infection by the ingestion of </a:t>
            </a:r>
            <a:r>
              <a:rPr b="0" lang="en-US" sz="2000" spc="-1" strike="noStrike">
                <a:solidFill>
                  <a:srgbClr val="ffc000"/>
                </a:solidFill>
                <a:latin typeface="Arial Black"/>
              </a:rPr>
              <a:t>hydatid cysts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he wall of cyst digested off and the scolices are released in the small intestine and become adult 40-50 days after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Life-cycle of </a:t>
            </a: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E. granulo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655920" y="1039320"/>
            <a:ext cx="10450440" cy="609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64620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athogenesis of 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Echinococ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0676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heavy Infection, adult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chinococcus  garnulosu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y cause enteritis in dogs (final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b"/>
                </a:solidFill>
                <a:latin typeface="Arial"/>
              </a:rPr>
              <a:t>In domestic animals (intermediate host) clinical signs are not usually seen even in heavy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 intermediate host , the pathogenicity due to hydatid cyst depend upon the size, number and the location of the cy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Hydatid cysts may cause 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pressure atrophy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of the affected organs which leads to  hamper the function of affected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rupture of hydatid cysts may give new daughter cysts in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eakage of hydatid fluid can lead to various allergic manifestations like urticaria, asthma an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fatal anaphylactic shock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even death of the infected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athogenesis of Echinococ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80880" y="1254240"/>
            <a:ext cx="3124440" cy="234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81480" y="1274760"/>
            <a:ext cx="3000600" cy="2390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380880" y="37339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Hydatid cysts in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E. granulo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6248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is very difficult to differentiate the eggs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chinococc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from other taeniid eggs. Therefore, a dog  must be purged with arecoline hydrobromide @ 1-2 mg/kg and the mucous portion of the purged materials examined for minute adult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. granulo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By serological tests like complement fixation test (CFT), ELISA, 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Arial"/>
              </a:rPr>
              <a:t>Casoni’s test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datid cystic fluid contain two major antigens i.e.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Arc 5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Antigen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With the help of radiography like X-ray, ultrasonography, computed tomography (CT) scan, MRI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ost-mortem examination to detect the hydatid cy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7759800" y="76212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719760" y="1933560"/>
            <a:ext cx="14572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6248520" y="4551480"/>
            <a:ext cx="1841400" cy="2066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8077320" y="31240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6719760" y="1219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8089920" y="510552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ydatid cyst  in 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Taenia multic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6477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dult worms 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found in the small intestine of dog, fox, jackal etc. (final host) whereas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 Black"/>
                <a:ea typeface="Times New Roman"/>
              </a:rPr>
              <a:t>Coenurus cerebralis 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(metacestode) found more in the brain and spinal cord of sheep, goat and cattle (intermediate ho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b"/>
                </a:solidFill>
                <a:latin typeface="Arial"/>
              </a:rPr>
              <a:t>Scolex has rostellum which armed with double row of 22-32 hoo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Uterus has14-20 lateral branches on either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heep and goat get  infection  by  the  ingestion  of eggs of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T. multiceps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during gra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Final hosts (dog etc.) get infection by the ingestion of </a:t>
            </a:r>
            <a:r>
              <a:rPr b="1" i="1" lang="en-US" sz="2000" spc="-1" strike="noStrike">
                <a:solidFill>
                  <a:srgbClr val="ffc000"/>
                </a:solidFill>
                <a:latin typeface="Arial Black"/>
              </a:rPr>
              <a:t>Coenurus cerebr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7010280" y="689040"/>
            <a:ext cx="1733760" cy="263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217980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E. granulo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163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TREATMEN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For final hosts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recoline hydrobromide  @ 1-2 mg/kg body weight orally is highly effective. Addition of sucrose is recommended to avoid the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raziqunatel @  mg/kg body weight ora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For intermediat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urgical remove of the cy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Blac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But it is very risky, if cyst is ruptured , then anaphylactic shock may be noticed or if the remnant of the cyst or cystic layer is left,  a new cyst will be developed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ome drugs are also effective up to certain extent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lbendazole @10-20 mg/kg body wt. orallt per day for one month even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raziquentel @ 5 mg/kg body weight or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E. granulo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163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Control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r deworming of d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providing cooked meat to the d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gs should not allow to defecate in the parks, vegetable gardens and in the grazing fields used by farm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truction or caging of stray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 should washed  the raw vegetables and fruits before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360" y="623520"/>
            <a:ext cx="705816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2816280" y="3078000"/>
            <a:ext cx="405432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Life-cycle of </a:t>
            </a: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Taenia multic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ggs and gravid segments of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T. multiceps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ssed  with faeces of infected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cdda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dda0"/>
                </a:solidFill>
                <a:latin typeface="Arial Black"/>
              </a:rPr>
              <a:t>Sheep and goat get the infection by the ingestion of eggs during graz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Onchosphere from the egg come out in the intestine and penetrate the  intestinal wall with the help of their h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</a:rPr>
              <a:t>Through blood circulation, it localize in the central nervous system or other body parts of intermediate h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ysticercus cerebralis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(metacestode) become  infective after 6-8  months  after infection in intermediate h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Final hosts (dog etc.) get infection by the ingestion of </a:t>
            </a:r>
            <a:r>
              <a:rPr b="1" i="1" lang="en-US" sz="2000" spc="-1" strike="noStrike">
                <a:solidFill>
                  <a:srgbClr val="ffc000"/>
                </a:solidFill>
                <a:latin typeface="Arial Black"/>
              </a:rPr>
              <a:t>Coenurus cerebralis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20" y="76320"/>
            <a:ext cx="86868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ff00"/>
                </a:solidFill>
                <a:latin typeface="Arial Black"/>
              </a:rPr>
              <a:t>Life-cycle of </a:t>
            </a:r>
            <a:r>
              <a:rPr b="0" i="1" lang="en-IN" sz="3600" spc="-1" strike="noStrike">
                <a:solidFill>
                  <a:srgbClr val="ffff00"/>
                </a:solidFill>
                <a:latin typeface="Arial Black"/>
              </a:rPr>
              <a:t>T. multic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oenurus cerebralis life cycle involving intermediate and definite ..."/>
          <p:cNvPicPr/>
          <p:nvPr/>
        </p:nvPicPr>
        <p:blipFill>
          <a:blip r:embed="rId1"/>
          <a:stretch/>
        </p:blipFill>
        <p:spPr>
          <a:xfrm>
            <a:off x="3240" y="141768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athogenesis of 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T. multic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fection is usually chronic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isease caused by the larval stages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. multicep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call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gid” or “stagger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The symptoms of infection depend on the location of the cyst in the brain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the cyst is located on the surface of the cerebral hemisphere in parietal region which is common, then affected sheep or goat shows circling movement towards the affected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ath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cyst is present i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terior part of the 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then the affected animal keeps the head on the chest and walks with high steps in a straight line until it meets an obstacle to remain motionless for a while and skull undergo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ssure atroph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an be felt by pal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If cyst is in the cerebellum, the affected animal  is hyperaesthetic with </a:t>
            </a:r>
            <a:r>
              <a:rPr b="1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jerky or staggering gait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nd becomes pro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ffff00"/>
                </a:solidFill>
                <a:latin typeface="Arial Black"/>
              </a:rPr>
              <a:t>Symptoms of G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" descr="http://www.scielo.br/img/revistas/rbpv/v28n3/1984-2961-rbpv-S1984-29612019054-gf01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athogenesis of G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cyst is present i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inal cord of affected sheep or go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then hind legs become paraly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bove  mentioned clinical symptoms may be intermittent, but if the condition persists, the affected sheep or goat becomes off fed, prostrate and die due to ema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G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163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Diagnosis of larval stage (</a:t>
            </a:r>
            <a:r>
              <a:rPr b="1" i="1" lang="en-US" sz="2800" spc="-1" strike="noStrike">
                <a:solidFill>
                  <a:srgbClr val="ffc000"/>
                </a:solidFill>
                <a:latin typeface="Arial"/>
              </a:rPr>
              <a:t>Coenurus cerebralis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)  can be made by clinical signs, radiological examination and also by Post-morte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reat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Drug is not effective against cy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Remove the cyst surgically is the best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                        </a:t>
            </a:r>
            <a:r>
              <a:rPr b="1" i="1" lang="en-IN" sz="2000" spc="-1" strike="noStrike">
                <a:solidFill>
                  <a:srgbClr val="ffff00"/>
                </a:solidFill>
                <a:latin typeface="Arial"/>
              </a:rPr>
              <a:t>Coenurus cerebralis</a:t>
            </a:r>
            <a:r>
              <a:rPr b="1" i="1" lang="en-IN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962520" y="3774960"/>
            <a:ext cx="2859120" cy="266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3908520"/>
            <a:ext cx="2657520" cy="2466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2:45:21Z</dcterms:created>
  <dc:creator>parasitology</dc:creator>
  <dc:description/>
  <dc:language>en-US</dc:language>
  <cp:lastModifiedBy>user</cp:lastModifiedBy>
  <dcterms:modified xsi:type="dcterms:W3CDTF">2020-03-29T16:41:18Z</dcterms:modified>
  <cp:revision>641</cp:revision>
  <dc:subject/>
  <dc:title>Slide 1</dc:title>
</cp:coreProperties>
</file>