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2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7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235D-9D5D-4BDF-A2C1-F4142A40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FE45-9D5D-4B87-B2FE-0FAB8359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0CDD-D151-4B40-A389-2E309FDE9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D4C5-E498-40A6-B570-B637D050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193-15F9-4E73-916D-FFF036FF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BC5-C337-4613-9A88-7CF903E1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3 spectral bands required (e.g. R,G,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85E-36E9-4EF5-9897-99A7A9AA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722-07DA-453C-88CA-09ABEE1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0F72C-9C50-4ADF-9C4E-50E00532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0B4DC-841E-43C6-B453-78B6A37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EEDE8-7CF1-44FD-AACE-8CB634F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07839-49CA-4AF9-B07D-9B8DC69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97D75-4575-4C33-8B77-4CB2B3D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4EBC9-5A89-49C0-BDBF-BD49EE3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B824-7236-4CDC-9DEB-440E4A2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717D1-9799-4EE7-B6FB-50AFC252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F5D7-5AA0-4AFF-89A2-E0A1B9F7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9D757-77E1-42B2-8375-FE5DA131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B46-C611-4E42-8BCA-FF80B162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87ECD-D17E-4657-8AE7-7AE19DB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81296-E066-4E3F-8B75-B0599198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3348B-E846-4BD3-8358-EC8FA5E1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6131F-0EEE-40D6-82A4-5AB23B33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B932E-A9B1-40C2-8D61-416DBC32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193A-B83A-46F4-9B9E-E56CA08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FEA85-4171-46F0-8AAD-AD13BDE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7268-2168-47C8-BA47-7206D89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A605-6252-4556-A568-13822055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9DBD7-C69E-4EB4-A0E0-A6869A0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E14-4F0F-4450-A873-F1792C52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68AED-8FD6-48F6-899B-7B108CAE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C7916-8C88-4DB5-8806-1B16354F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AD389-27AE-4E4B-8135-F7FEE29E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15ACE-CF1A-4158-A230-A808A80B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8281-0497-466D-BF7C-B821BE1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46DE0-CD5D-43F2-A41F-B34AFB8E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DE2DF-F7A5-4535-9361-79108909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4DB95-7E19-4EDF-97EB-B535369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40A19-9D47-4E12-A394-BABB111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BBEE8-1C2E-49FC-9D15-F5DB9A4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F265-109B-49AF-8019-D60ECAD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D1696-9978-45B1-A6CD-E2D9C81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5CA45-442A-4C7A-9B6B-A735E31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74412-EC1E-4161-9672-C33C6914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FE859-7A58-4BF1-B72A-FD6D0AC3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F8D38-DB6D-4F0B-A01A-B2122A3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3C1C-6191-426F-9A8F-94E70A7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66021-487D-4E2D-B4AB-AD6D178B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F7D2B-E1E6-4483-A20C-29FC03F3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8D6B3-DD3C-40A3-BD44-1D73AFC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C0840-7A26-42AD-8624-73880F9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F829-7492-4E48-B17E-992A9BD2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C02F2-B8BB-4245-B862-7030044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998EE-EE5D-4539-B421-3FF611F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5077-B2CE-4EDA-A1F2-81EA251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1E546-DD9C-4498-9073-0EB89828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5E481-F834-4240-9FA5-BF9BC645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7449C-54EB-4C25-882C-8B250A3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FA8C6-3B76-4AFC-BC32-6216C0FD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CDC01-D422-42AD-AEC4-128AB24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4F105-86E4-4ADA-83E2-B65C51B2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E2400-D0CA-41F4-AE74-D39D8512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607-BDFA-427F-A3E2-19F21FF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35C9B-9D5E-4F37-91C6-5D7A27C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B3DA1-5B57-4440-BF5B-39D3813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7172A-2786-457E-958B-3AA6331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28276-9A78-40F6-B085-0069C76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BF5A3-6F86-49B8-A6F1-1A60587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020B1-8A53-4991-BCD1-4D87982C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956B2-5D4C-40FE-8FA4-615D753E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7BA09-64A1-47DE-BCAE-97B98406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4ECD1-E9AF-4553-B92A-AE63A57D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D00CE-6CFD-41B6-A887-DCF52CB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F548-87E4-4F19-9680-EFA19F91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E0E47-7362-4B02-9FC9-BF173108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C5037-6B90-46E3-B037-62ABB96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6EA6D-DC40-4078-A013-F0A461BC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49093-5C60-4E66-99F9-6F4B607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C451A-173D-42AE-A03D-C8A410F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27FBE-9496-4571-A83F-D051B40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4D0EE-76EB-4EDF-8136-CE94A69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78C90-F663-4162-B46E-846190E6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F2A3E-A838-4650-B7A5-389484C6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01101-3AB3-4BE2-A43A-B2D8FED6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0B2D-8A8A-4917-931F-E7766406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EA4DF-B2C2-4281-B55D-B724E6B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85845-FF4D-49E0-980C-657C551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16634-A7B4-4722-A324-A5BCBD36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5EAA4-9C14-47BC-98C1-8B28904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6C376-6A95-464F-9E47-828C11E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3C924-24BC-4240-B0ED-C096E23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06A50-09C4-42E1-91A4-0CA412F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F37AC-1ECC-48DA-BE8E-CF3E7DCC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845AE-16BA-4CA7-B023-7A63FBA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5C0D2-7DF0-40CD-BED7-1C0B8558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3BEF-310E-4B13-8ED9-2FECA5D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10E72-1785-4BFC-A22D-8F9AFB8F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2DB9A-74B7-4F1C-950B-C7DCAA1B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3FEB1-5F6F-4CB7-8AE2-D4E7036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BBDF0-3FF7-4B98-87E1-69938A6A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A4C3F-11BE-4F27-AE46-7C3ED61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EFB5A-7428-49E2-922D-78EAC94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04E55-DDAF-4EA3-8DC2-D62DF3B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D8400-18F4-4BD6-85D7-E6CBFBD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64731-862B-49A8-A8E8-6DFD85A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C4702-0980-42F7-9DB6-5E3F7E90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BDA-097B-408E-BB52-0FA5391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94411-5AFF-4C8E-8C57-764894EE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23555-14CC-4222-8983-881EE06B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B075D-2CB4-4618-9EC0-2D8BEE1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D2EF0-22C8-489B-B2EA-75CB308A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9670B-33EE-4F87-A1B2-9989010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C1609-4DAB-4AA0-B740-FEE735B3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6A728-1DC2-4F2F-B83E-640DA05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E0769-8D0D-4C32-83C6-E9BFA94B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89C9A-6505-4ACE-86DD-63BD45CD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59C1D-2727-44E8-9BCA-B130532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721-1354-4BC2-B508-148D188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5AC5-F096-4444-A42D-7B0963E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01D13-D472-42E9-9E51-1C43DE9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D08C4-B030-411C-A694-980491A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08076-ED42-44EF-BCE9-71C373B5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13D99-8F3B-410C-BFA0-D1D7A95A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AEEC0-DCB7-487E-AEA4-B71511A0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3B128-474D-4276-AD15-5E956722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C457F-87E4-4EEA-9F6D-C9D8EC47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FE643-A141-4019-98DF-06358824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0401A-871F-4CD8-82EB-2EFB7A33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D4918-6BB9-46B3-A682-5999BCA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103-C6D9-4701-9E67-AF70DEF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0ED7A-64EA-4CF0-9ED4-3EAD7E0E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7131F-2C87-40C0-842A-18396E9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97BDA-9645-4832-96FB-F1B2E13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B288D-E9B1-403E-9C0D-4FD8D4C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52A0F-AA47-41D0-A5B8-624A868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82704-1009-4524-8258-430AB229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08092-D0F3-43CA-829A-A9CC89BF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A8ABC-2E47-4922-A177-144881AE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30FEA-F74F-4F2B-AD69-609305A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44A12-5BCB-467A-B2FF-5321F8E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AFCD-7A4A-4D8B-89A5-A673FDFF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1B056-C7B2-49FD-ACD2-1295C7A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A569A-D440-45AF-8208-B6E39DF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0FDC2-9C05-433E-8CA1-561F2EA4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09F33-F064-4638-9E61-2C23C28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53ED3-7000-4BEC-AB57-ECF2A77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E2E5A-DE83-41BD-9C32-2898BF9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36694-5A6B-4395-BF84-E550BA1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64C019-AC96-467F-94F2-CD3F509C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9E135-1DDD-4EDC-A7FE-E700860D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4E1C6-6AA8-43E4-8042-68E3C727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B5CD-2559-431B-934C-92CAF403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70207-5B39-4333-B0CB-7160461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AB915-44CF-43C3-88DA-9AB086FE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F0593-C882-4F6E-86AF-AD0E0E39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0C154-E652-4DDD-A88E-BA8668C2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670A7-D94A-4DA3-9C14-1CE5961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81312-BD9F-4D14-9B32-83DD2B7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8E0E0-F76C-4CBF-8D61-6F9AD06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29D86-335D-42F8-BF5D-DAC355E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BAEDB-D9D3-47D0-AA2E-AB2559AD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F35C0E-1249-4309-BCFD-8F843818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94E-28E6-47AD-A0A0-F805F479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EC40B-EDFF-4334-B5F0-C1216B0E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4E44E-E2CA-4683-A4E9-C5B9BD4C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E4C81-1411-4170-A74F-F0497B1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37761-CFD6-41A4-A317-BDA38BD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16ACC-C705-40BD-BFCD-B8E62AC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10623-115F-4B61-995F-B5E905E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F5121-5976-4B69-BA5A-1BF4264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A4B20-3881-4BF5-BC35-811AE8A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8D63E-8D94-48AA-B095-837C309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4B363-81B7-4FE7-855B-4EE5775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1ABF-517D-4DDC-9089-02E0C36B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1F964-517A-4D03-A440-75DF58E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5838B-9268-451A-8D9D-13BD9A6B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448D8-8AA4-4BEB-A081-92106A09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F1F94-E894-4452-B12C-3A1C18AA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0FACE8-6F4D-4E07-85B1-CD3809C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E47F2F-6A67-43A7-844D-D483D64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A21DD-2A36-4FE3-AB5B-985C6811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5C61D-E621-4E17-9F38-105840EC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B9741-B900-4AFC-882F-F148F73A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D4C79-5AEA-4058-B6BA-A602598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E581-79F9-4A5E-83A4-A906F9D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276CC-5BEA-4202-ACDA-4D66AC2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C33E94-AA17-4A5F-9A6C-E3693CD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6077B3-035D-4B3F-9354-FFA8418A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4C79D-750F-473D-82FE-89DFAD3C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56AF9F-E9B7-4C61-9807-D6338E8E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22A3CA-D694-4346-BD67-E5CF1AD2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E9A009-3D7C-488D-92B0-B85D72E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65807-C7FE-46B7-9A7E-E51EE8F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00708-3FD5-4BFD-BDA2-32A0047C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B56EC-F516-44D1-AE16-D9950D3E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B461-5E4A-48D1-A731-32A070C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9F447-6E76-4A01-9861-BB3C868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20E50-784C-428F-9EB5-5FBF747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7B40D8-39A5-4AA0-BECF-30D2AFA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59F1E-6D88-4DC2-A99B-340DABF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9EE214-673D-4E25-9F6D-9F6F55A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58B2E-1993-4A73-AE21-A4A61241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68F061-3F32-4CFC-865F-1C9FD1EA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042C32-D96B-4690-A751-2AD1BC50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9A11D9-F8F1-4811-9410-F96F3E2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FBE167-F696-4FC0-89B1-46DC87CF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41D0-F0F7-4F1A-BD40-1494038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414F5-8B6F-4BFD-A793-979F4EC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2FC39A-DC3C-4A24-A344-096D56F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67DD8F-BE8A-47E1-90A8-34C0D55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D04CF3-5430-48C7-8CA5-48FF58A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8FBDA2-595D-464E-A36F-BB5CD74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D9E99-999A-44B8-89C6-D3C150D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D1DF1E-07BE-4934-88E7-60C0DDB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314DB2-A8E4-4573-AA51-1CC8FE5F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6BCF0-95EC-4248-B263-7DB7AC6B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B8643A-9C8E-4715-B2B1-B490D0EF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4CB0-2273-407A-A96C-A90B55D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93E9C9-A570-4D6F-9CAD-829D676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DF3E9C-E711-4135-836E-A212708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D6EE33-4948-4539-AD77-CA7B4AC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42DD19-CA50-401B-8B1D-B9BB924F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066C62-9FBF-4B7B-BE6E-2AC79DE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0BC2AC-E787-40D3-86D2-D852752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36FF00-50E6-4197-A3C5-F34F9C3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CA60DB-6635-4EF7-A15C-193C2DD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53B2FF-7E16-406B-A46C-38D03411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A07A04-5713-4111-BD25-431ED792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890-894D-499A-945F-8CC194A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EEAA-371F-4F9D-A707-0A6F0E30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E7F2D9-4A99-48E3-9495-0FAF0778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833F-200C-4048-8F3A-A3FD289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2EFC-B0AC-42A1-9A34-0E8C6E0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D3DB-86F3-45E2-9126-FF33FA4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7A1D-A115-44B7-99C8-E87AF1C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4F05-64C9-4401-BB20-0A431F4B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0D5A-871E-4DC7-8E3D-3D26202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B56E-E0C3-40E3-B019-25D69CD3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EF5D-7E2F-47F1-9A47-2EA9905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8A79-A380-46F4-9FEA-B05B523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E6C-D4AF-4543-A596-49377948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C286-9791-4AB4-B92A-502F632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0672-0ABF-48FD-885A-851433B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8E40-2CA6-4E36-8B80-6DE921B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AE4B-3B0C-4669-BD6D-023D745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7455-A676-454D-A0F7-5576DC5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8B0D-2179-45A8-9BDB-5BB9116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DF4C-AD5B-4FC7-84A9-CC41FB3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0381-6F84-40A0-A43C-9DE4153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955B-6B12-4323-845F-D80D6010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9F54-FF29-484B-96C9-36864CD8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946-9F9D-4C3D-8698-50345275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8B2A2-5D18-43F0-8CFF-6ECD187A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949D-DBCA-463F-81FE-481BB24F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9A6B-426A-4A3C-A15D-68A3CCB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01D1-FCCE-4745-B80E-9AD4D636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FFD5-E046-4449-AA35-37C4B09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2101-8786-4A98-872D-12729B3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FD84-557B-4FB8-A03C-62BCF9F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ABBA-7A0F-42B2-9939-3726B76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1C91-A280-438A-BF7B-518D401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8289-639A-45D8-A44C-E4C151C5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EF8-D1E0-42E4-826C-F834102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7610-2DF7-4B2C-A78C-A3C3F733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936B-CAFF-4FA6-A686-83F1A229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CE848-EE9E-462A-B527-6EDE43C0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1235-03CD-451F-AD09-098E4D5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98E9-7FDF-457A-BDDF-3A934C6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8AC6-A8C9-4BF1-A101-FCD8FC6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E458-173B-4FBC-BA38-EFF59AF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4124-0C9A-4866-8BA1-AB3C404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C386-8869-4D24-8020-0329521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4246-551A-475D-9E01-37C7526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59D-100A-42E4-A672-96D87C2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0E3C-38B0-4B07-83FA-B02D1E69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0CFA-8920-466E-8297-3CA6D4F0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7C68-E897-4620-8203-12C23FCA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052A6-66FE-4594-8520-780684C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7D13-EDF0-4AC2-9C44-D7E3F6E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8DA1-311F-4D50-80B5-2DBD4F3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BF90C-7F66-4432-ADD5-E9CD34E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D9DE-CDCD-4D86-AFD5-BD3932C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2E1E8-B797-4EF3-A942-4DEE159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836D-0512-47DA-8CFD-DBA6174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A0E-CFD3-4A54-B1A0-0E17BB0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DD11-8118-4420-A4F9-5ADD6FD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E39B-0EC7-47F8-A22F-B0AA479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2FD75-1774-4CEE-B846-ECD06C5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0B23-F217-4DC7-A814-0344DA3F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E92D-9B2F-400B-B10F-9BE90F02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5FAB9-BCD2-4BA2-A9B6-B64AB2D5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FBEC8-D405-4556-AFC9-F475D85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AA046-3FE3-4C56-A408-83C92E6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0BE9-B676-417E-B960-DAD2B7D9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15C76-1A1B-4CBC-9E31-1024B5B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EA4-3D57-4EA9-82EB-D80CC7D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EE9E-8DF0-4A24-8FB9-FE7D3D2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522A-3A2F-4778-A269-2AA3BF3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C4AE-E709-4A43-B5DE-0D2F7A2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254CC-1FBC-4127-BF3E-DC4A87E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4C59-8B1B-49BE-91B0-12F652C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185C3-988B-43BA-BDD4-614D5AE9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99B62-555C-4D2C-9199-92AC5DCD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D4EE-D9A6-4DF5-93D2-0555D9C2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C1291-63F3-4871-B955-E581408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EB551-F818-43D7-BAD6-557DE68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9E17-8C65-4858-BC26-E69E16E8E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A8FF-30CB-4E30-9A52-A779BBDC6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DED5-2826-461A-A5D7-28CF6BEC6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965-3CB2-4C60-91B3-8B3C4F97D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D5B5-4A77-4851-B781-B2910E53C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3460-F090-4AAD-9379-4F7DB5DD9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552-1980-410A-9348-49AB03997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E1D7-4B4E-40D7-B7A8-CF5D503EA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C25-B0EA-4618-824B-974B750DF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1032-D0BC-420E-A05C-14AB549F2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4E2-3547-41CA-825A-EA989AB41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2A7-62D1-4C8C-8C88-45224554B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F59-6045-4F7D-AF7A-CC18E3076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7F1-83CF-4E56-A591-EF010E07A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2B73-AFDE-4E7A-A34E-60EADB1C7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37F-5A05-4A05-8A0E-BE755260B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D31-6A9C-488E-BA57-7680E7F6D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C7E-D620-49AA-B67D-0E0B027F5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FDE-598D-4887-AECD-CC67ED293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221-599D-4A93-B710-DF93242C3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3F2-5110-4659-9E1B-7792F12DA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CED-B867-4DA8-8099-B1A74A565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29E-C906-438A-A2D0-4EAF29A0F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EB1-75A5-4D3A-95CE-E24A20F47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51A-50FF-41A0-B894-940C04707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4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AESTHESI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r. Ravindra Ku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ihar Animal Sciences University, Pa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Olfaction/Smel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 Narrow"/>
              </a:rPr>
              <a:t>Olfaction is characterized by a sensitivity to volatile substances in extreme di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fact accounts for its description as a distance recept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It differs from gustatory/taste receptors as taste receptors require gross contact with chemical stimulant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s many as 100,000 unique odors can be discr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0% of which are nox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dors perceived to be noxious are often deleterious (rotting meat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Olfaction or smell is a major sensory function for most of anim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while in human beings its of secondary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Olfactory receptors are located in the olfactory epithelium of the nasal cavity, especially in the mucosa of the nasal septum and ethmoturbinat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even primary odors /olfactory stimulants a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Mu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Fl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Pepperim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 Eth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 Pu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. Put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. Camphorac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525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2818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factory Receptor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factory Trans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4" descr="s-22"/>
          <p:cNvPicPr/>
          <p:nvPr/>
        </p:nvPicPr>
        <p:blipFill>
          <a:blip r:embed="rId1"/>
          <a:stretch/>
        </p:blipFill>
        <p:spPr>
          <a:xfrm>
            <a:off x="1590840" y="2743200"/>
            <a:ext cx="5962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30200" y="152352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30120" y="2041200"/>
            <a:ext cx="85312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Olfactory Receptor Neur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lfactory Trans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4" descr="s-23"/>
          <p:cNvPicPr/>
          <p:nvPr/>
        </p:nvPicPr>
        <p:blipFill>
          <a:blip r:embed="rId1"/>
          <a:stretch/>
        </p:blipFill>
        <p:spPr>
          <a:xfrm>
            <a:off x="4724280" y="2590920"/>
            <a:ext cx="3372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228240" y="1739520"/>
            <a:ext cx="861372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entral Olfactory Pathways (Cont’d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3" descr="s-25"/>
          <p:cNvPicPr/>
          <p:nvPr/>
        </p:nvPicPr>
        <p:blipFill>
          <a:blip r:embed="rId1"/>
          <a:stretch/>
        </p:blipFill>
        <p:spPr>
          <a:xfrm>
            <a:off x="1523880" y="2225520"/>
            <a:ext cx="6096240" cy="434052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4"/>
          <p:cNvSpPr/>
          <p:nvPr/>
        </p:nvSpPr>
        <p:spPr>
          <a:xfrm>
            <a:off x="228600" y="1292400"/>
            <a:ext cx="792468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86ec4"/>
                </a:solidFill>
                <a:latin typeface="Verdana"/>
              </a:rPr>
              <a:t>Sm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/>
          </p:nvPr>
        </p:nvSpPr>
        <p:spPr>
          <a:xfrm>
            <a:off x="228240" y="1739520"/>
            <a:ext cx="861372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entral Olfactory Pathways (Cont’d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3" descr="s-26"/>
          <p:cNvPicPr/>
          <p:nvPr/>
        </p:nvPicPr>
        <p:blipFill>
          <a:blip r:embed="rId1"/>
          <a:stretch/>
        </p:blipFill>
        <p:spPr>
          <a:xfrm>
            <a:off x="2521080" y="2171880"/>
            <a:ext cx="4101840" cy="441936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4"/>
          <p:cNvSpPr/>
          <p:nvPr/>
        </p:nvSpPr>
        <p:spPr>
          <a:xfrm>
            <a:off x="228600" y="1292400"/>
            <a:ext cx="792468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86ec4"/>
                </a:solidFill>
                <a:latin typeface="Verdana"/>
              </a:rPr>
              <a:t>Sm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Perception of sme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factory cells sending axons into the olfactory bulb to end on dendrites from mitral cells in a structure called glomerul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ximately 25,000 axons enter each glomerulus and synapse with about 25 mitral cells that in turn send signals into the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glomerulus are about 60 tufted cells that send signals to the brain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sheet of cells high up in our nasal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ize of the olfactory epithelium is proportionate to olfactory ac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Man has 10 c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Dog has 170 c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Dogs also have 100x a many receptors per c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Olfactory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AESTHE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hemical sens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a)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 Taste/Gu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b)       Smell/ol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)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mmon chemical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ouch   -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ain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- Nerve e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Arial"/>
              </a:rPr>
              <a:t>Hearing    -----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Vision       ----- 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Application of Ol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uminants as well as dogs have been observed to employ olfactory signals in the recognition of their you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Audition, rather than olfaction, has proved critical to the identifications of their young by domestic f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ole of Olfaction in Re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Whitten eff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(1966): Disruption of estrus cycle in grouped mice is at once reversed by arrival of male, even if male is caged to prevent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Bruce eff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 Newly mated mice on being exposed to another male, results in failure of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Common chemical s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revalence of common chemical senses in the lower vertebrates and invertebrates and they diffuse &amp; relatively unspecialized nature of the receptors support this conten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Irritants such as ammonia and acids, stimulate the free nerve endings of numerous surfaces as for example, those in nasal chambers, mouth and eyelids of verteb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Pain and Its Contro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nd It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. Noci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ensory process ---provides signals that trigge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alg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issue already damaged is much more sensitive to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Nociceptors are sensitized by various substances released by damaged tissue (protaglandins, histamin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P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ulation of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ain can be modified by non-painful sensory input (i.e., rub the skin around a bru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ate Theory of Pain-circuit in spinal cord dorsa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veral brain regions can act to suppress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PAG (periacqueductal gray matter) project to the raphe (serotonin) that sends axons to the spinal cord (5-HT is inhibitory, block synaptic a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rain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dorph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Share many opioid properties and bind to opioid receptors in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Opioid receptors are throughout the body, but especially in the brain and particularly in brain areas that process and modulate nociceptive information (PA, raphe, and spinal 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ye is a cam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is a came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ed annulus with radial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ole (aperture) whose size is controlled by the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“film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" descr="humaneye"/>
          <p:cNvPicPr/>
          <p:nvPr/>
        </p:nvPicPr>
        <p:blipFill>
          <a:blip r:embed="rId1"/>
          <a:stretch/>
        </p:blipFill>
        <p:spPr>
          <a:xfrm>
            <a:off x="2589120" y="1474920"/>
            <a:ext cx="4119480" cy="246204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5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otoreceptor cells (rods and cones)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y  structures of the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lids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lpebr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&amp; lower separated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lpebral fi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edial &amp; lateral cant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16-04_EyeSurfcAnatmy_1"/>
          <p:cNvPicPr/>
          <p:nvPr/>
        </p:nvPicPr>
        <p:blipFill>
          <a:blip r:embed="rId1"/>
          <a:srcRect l="12727" t="25882" r="13636" b="20000"/>
          <a:stretch/>
        </p:blipFill>
        <p:spPr>
          <a:xfrm>
            <a:off x="3581280" y="3703680"/>
            <a:ext cx="5554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cr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id has mucus, antibodies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crimal gl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rbit superolateral to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rs pass out throug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unc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solacrimal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into nasal cavity (sniff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3" descr="16-05_AccsyEyeStrct_1"/>
          <p:cNvPicPr/>
          <p:nvPr/>
        </p:nvPicPr>
        <p:blipFill>
          <a:blip r:embed="rId1"/>
          <a:srcRect l="49091" t="14118" r="2727" b="10588"/>
          <a:stretch/>
        </p:blipFill>
        <p:spPr>
          <a:xfrm>
            <a:off x="5456160" y="1447920"/>
            <a:ext cx="36338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et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05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tina up-clo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3" descr=""/>
          <p:cNvPicPr/>
          <p:nvPr/>
        </p:nvPicPr>
        <p:blipFill>
          <a:blip r:embed="rId1"/>
          <a:srcRect l="0" t="4218" r="0" b="15573"/>
          <a:stretch/>
        </p:blipFill>
        <p:spPr>
          <a:xfrm>
            <a:off x="1371600" y="1066680"/>
            <a:ext cx="6172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109" name="Group 8"/>
          <p:cNvGrpSpPr/>
          <p:nvPr/>
        </p:nvGrpSpPr>
        <p:grpSpPr>
          <a:xfrm>
            <a:off x="4040280" y="5181120"/>
            <a:ext cx="953280" cy="916200"/>
            <a:chOff x="4040280" y="5181120"/>
            <a:chExt cx="953280" cy="916200"/>
          </a:xfrm>
        </p:grpSpPr>
        <p:sp>
          <p:nvSpPr>
            <p:cNvPr id="1110" name="Text Box 4"/>
            <p:cNvSpPr/>
            <p:nvPr/>
          </p:nvSpPr>
          <p:spPr>
            <a:xfrm>
              <a:off x="4040280" y="5576760"/>
              <a:ext cx="95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5"/>
            <p:cNvSpPr/>
            <p:nvPr/>
          </p:nvSpPr>
          <p:spPr>
            <a:xfrm flipV="1">
              <a:off x="441972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6"/>
            <p:cNvSpPr/>
            <p:nvPr/>
          </p:nvSpPr>
          <p:spPr>
            <a:xfrm flipV="1">
              <a:off x="457200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"/>
            <p:cNvSpPr/>
            <p:nvPr/>
          </p:nvSpPr>
          <p:spPr>
            <a:xfrm flipV="1">
              <a:off x="472428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Chemical s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imal body has a network of chemical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eceptors-chemorecep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ell membranes responds to chemical stimulation. Some cells have become specialized &amp; respond only to chemical stimuli from external environment.  Where as others responds to internal chem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Fish have chemo receptors distributed over the body surf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emical senses are commonly divided into thre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a)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Taste/Gu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b)  Smell/ol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c) Common chemical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2"/>
          <p:cNvSpPr/>
          <p:nvPr/>
        </p:nvSpPr>
        <p:spPr>
          <a:xfrm>
            <a:off x="7035120" y="6384960"/>
            <a:ext cx="175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ngraversGothic BT Regular"/>
                <a:ea typeface="Arial"/>
              </a:rPr>
              <a:t>© Stephen E. Palmer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"/>
          <p:cNvSpPr/>
          <p:nvPr/>
        </p:nvSpPr>
        <p:spPr>
          <a:xfrm>
            <a:off x="765000" y="1143000"/>
            <a:ext cx="309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e-sha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 in high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4"/>
          <p:cNvSpPr/>
          <p:nvPr/>
        </p:nvSpPr>
        <p:spPr>
          <a:xfrm>
            <a:off x="529920" y="182520"/>
            <a:ext cx="68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types of light-sensitive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5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1660680" cy="504180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6"/>
          <p:cNvSpPr/>
          <p:nvPr/>
        </p:nvSpPr>
        <p:spPr>
          <a:xfrm>
            <a:off x="840960" y="3352680"/>
            <a:ext cx="270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d-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y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 at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y-scal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d / Cone sensitiv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705720" cy="5035320"/>
          </a:xfrm>
          <a:prstGeom prst="rect">
            <a:avLst/>
          </a:prstGeom>
          <a:ln w="0">
            <a:noFill/>
          </a:ln>
        </p:spPr>
      </p:pic>
      <p:sp>
        <p:nvSpPr>
          <p:cNvPr id="1121" name="Text Box 4"/>
          <p:cNvSpPr/>
          <p:nvPr/>
        </p:nvSpPr>
        <p:spPr>
          <a:xfrm>
            <a:off x="1511640" y="6211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mous sock-matching probl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3" descr="spectrum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equiluminant"/>
          <p:cNvPicPr/>
          <p:nvPr/>
        </p:nvPicPr>
        <p:blipFill>
          <a:blip r:embed="rId2"/>
          <a:stretch/>
        </p:blipFill>
        <p:spPr>
          <a:xfrm>
            <a:off x="0" y="3505320"/>
            <a:ext cx="5867280" cy="2361960"/>
          </a:xfrm>
          <a:prstGeom prst="rect">
            <a:avLst/>
          </a:prstGeom>
          <a:ln w="0">
            <a:noFill/>
          </a:ln>
        </p:spPr>
      </p:pic>
      <p:sp>
        <p:nvSpPr>
          <p:cNvPr id="1125" name="Rectangle 5"/>
          <p:cNvSpPr/>
          <p:nvPr/>
        </p:nvSpPr>
        <p:spPr>
          <a:xfrm>
            <a:off x="5954760" y="6546960"/>
            <a:ext cx="3189240" cy="307080"/>
          </a:xfrm>
          <a:prstGeom prst="rect">
            <a:avLst/>
          </a:prstGeom>
          <a:noFill/>
          <a:ln w="64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  <a:ea typeface="Arial"/>
              </a:rPr>
              <a:t>http://www.yorku.ca/eye/photopik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"/>
          <p:cNvSpPr/>
          <p:nvPr/>
        </p:nvSpPr>
        <p:spPr>
          <a:xfrm>
            <a:off x="492120" y="586728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Luminance Sensitivi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3"/>
          <p:cNvSpPr/>
          <p:nvPr/>
        </p:nvSpPr>
        <p:spPr>
          <a:xfrm>
            <a:off x="7355880" y="6613560"/>
            <a:ext cx="175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ngraversGothic BT Regular"/>
                <a:ea typeface="Arial"/>
              </a:rPr>
              <a:t>© Stephen E. Palmer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2"/>
          <a:srcRect l="0" t="0" r="13430" b="0"/>
          <a:stretch/>
        </p:blipFill>
        <p:spPr>
          <a:xfrm>
            <a:off x="990720" y="1595520"/>
            <a:ext cx="4952880" cy="450036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5"/>
          <p:cNvSpPr/>
          <p:nvPr/>
        </p:nvSpPr>
        <p:spPr>
          <a:xfrm>
            <a:off x="1601280" y="137160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ree kinds of c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2161080" y="22860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Arial"/>
                <a:ea typeface="Arial"/>
              </a:rPr>
              <a:t>Physiology of Colo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9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3260520" cy="350532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10"/>
          <p:cNvSpPr/>
          <p:nvPr/>
        </p:nvSpPr>
        <p:spPr>
          <a:xfrm>
            <a:off x="2958840" y="5943600"/>
            <a:ext cx="49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y are M and L cones so cl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receptors: 2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nsitive to light - vision permitted in dim light but only gray and fuz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lack and 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not sh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uity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ub-types: blue, red and green light c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4"/>
          <p:cNvSpPr/>
          <p:nvPr/>
        </p:nvSpPr>
        <p:spPr>
          <a:xfrm>
            <a:off x="520560" y="620856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Know that rods are for B &amp; W and cones are for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Ishihara charts for color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4" descr="img021"/>
          <p:cNvPicPr/>
          <p:nvPr/>
        </p:nvPicPr>
        <p:blipFill>
          <a:blip r:embed="rId1"/>
          <a:srcRect l="0" t="12000" r="0" b="12000"/>
          <a:stretch/>
        </p:blipFill>
        <p:spPr>
          <a:xfrm>
            <a:off x="304920" y="1273320"/>
            <a:ext cx="8592840" cy="489888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5"/>
          <p:cNvSpPr/>
          <p:nvPr/>
        </p:nvSpPr>
        <p:spPr>
          <a:xfrm>
            <a:off x="1378080" y="624852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only X-linked recessive: 8% males and 0.4% fe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4" descr="img022"/>
          <p:cNvPicPr/>
          <p:nvPr/>
        </p:nvPicPr>
        <p:blipFill>
          <a:blip r:embed="rId1"/>
          <a:stretch/>
        </p:blipFill>
        <p:spPr>
          <a:xfrm>
            <a:off x="533520" y="152280"/>
            <a:ext cx="84103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more detail, it’s fascina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Picture 3" descr="16-11_Photoreceptors_1"/>
          <p:cNvPicPr/>
          <p:nvPr/>
        </p:nvPicPr>
        <p:blipFill>
          <a:blip r:embed="rId1"/>
          <a:srcRect l="7059" t="3636" r="12941" b="5455"/>
          <a:stretch/>
        </p:blipFill>
        <p:spPr>
          <a:xfrm>
            <a:off x="40687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,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 – refers to th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c – refers to the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eyedrops and ear drops mixed up is probably not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486400" y="838080"/>
            <a:ext cx="3581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s of the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(external)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r (ossicles) for hea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ear (labyrinth) for hearing &amp;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4" descr="16-17a_EarStructur_1"/>
          <p:cNvPicPr/>
          <p:nvPr/>
        </p:nvPicPr>
        <p:blipFill>
          <a:blip r:embed="rId1"/>
          <a:srcRect l="12727" t="25882" r="11818" b="0"/>
          <a:stretch/>
        </p:blipFill>
        <p:spPr>
          <a:xfrm>
            <a:off x="76320" y="1828800"/>
            <a:ext cx="5691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Taste/Gu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Taste probably encourages nutritional pru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aste will stimulate flow of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It helps the animal to select food according to its physiological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 may help the animal in rejection of toxic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imp. Function of taste is its effect on digestive system.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aste stimuli can increase gastric contractions and reduce intestinal motilit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s well as influence the gastric &amp; pancreatic secre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in external acoustic meatus hits tympanic membrane (eardrum) – it vi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3" descr="16-17b_EarStructur_1"/>
          <p:cNvPicPr/>
          <p:nvPr/>
        </p:nvPicPr>
        <p:blipFill>
          <a:blip r:embed="rId1"/>
          <a:srcRect l="5455" t="18824" r="0" b="5882"/>
          <a:stretch/>
        </p:blipFill>
        <p:spPr>
          <a:xfrm>
            <a:off x="0" y="2133720"/>
            <a:ext cx="7132680" cy="438948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4"/>
          <p:cNvSpPr/>
          <p:nvPr/>
        </p:nvSpPr>
        <p:spPr>
          <a:xfrm>
            <a:off x="6324480" y="32767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 is equalized by the pharyngotympanic tube (AKA eustachian or auditory t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 causes ossicles in air filled middle ear to m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leus (h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s (anv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es (stirru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3" descr="16-17b_EarStructur_1"/>
          <p:cNvPicPr/>
          <p:nvPr/>
        </p:nvPicPr>
        <p:blipFill>
          <a:blip r:embed="rId1"/>
          <a:srcRect l="7273" t="15294" r="0" b="8235"/>
          <a:stretch/>
        </p:blipFill>
        <p:spPr>
          <a:xfrm>
            <a:off x="92160" y="2401920"/>
            <a:ext cx="6994440" cy="445608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4"/>
          <p:cNvSpPr/>
          <p:nvPr/>
        </p:nvSpPr>
        <p:spPr>
          <a:xfrm>
            <a:off x="6248520" y="210024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sicles articulate to form a lever system that amplifies and transmits the vibratory motion of the TM to fluids of inner ear cochlea via ova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4403880" y="1103400"/>
            <a:ext cx="230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se are 3 of the smallest bones of th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eletal muscles of  middle 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3" descr="16-19_EarOssclMuscls_1"/>
          <p:cNvPicPr/>
          <p:nvPr/>
        </p:nvPicPr>
        <p:blipFill>
          <a:blip r:embed="rId1"/>
          <a:srcRect l="0" t="8235" r="0" b="8235"/>
          <a:stretch/>
        </p:blipFill>
        <p:spPr>
          <a:xfrm>
            <a:off x="76320" y="1600200"/>
            <a:ext cx="7543800" cy="4870440"/>
          </a:xfrm>
          <a:prstGeom prst="rect">
            <a:avLst/>
          </a:prstGeom>
          <a:ln w="0">
            <a:noFill/>
          </a:ln>
        </p:spPr>
      </p:pic>
      <p:sp>
        <p:nvSpPr>
          <p:cNvPr id="1160" name="Text Box 4"/>
          <p:cNvSpPr/>
          <p:nvPr/>
        </p:nvSpPr>
        <p:spPr>
          <a:xfrm>
            <a:off x="6308640" y="262728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loud, muscles contract, limiting vibration and dampening th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ner ear =  bony “labyrinth” of 3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lea -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bule -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ircular canals -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4" descr="16-20_MembrnsLbyrnth_3"/>
          <p:cNvPicPr/>
          <p:nvPr/>
        </p:nvPicPr>
        <p:blipFill>
          <a:blip r:embed="rId1"/>
          <a:srcRect l="0" t="16471" r="8182" b="18824"/>
          <a:stretch/>
        </p:blipFill>
        <p:spPr>
          <a:xfrm>
            <a:off x="3200400" y="3086280"/>
            <a:ext cx="6926400" cy="377172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5"/>
          <p:cNvSpPr/>
          <p:nvPr/>
        </p:nvSpPr>
        <p:spPr>
          <a:xfrm>
            <a:off x="441360" y="491328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ed with perilymph and endoly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2657880" y="6056280"/>
            <a:ext cx="45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hlea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7"/>
          <p:cNvSpPr/>
          <p:nvPr/>
        </p:nvSpPr>
        <p:spPr>
          <a:xfrm>
            <a:off x="3809160" y="534816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stibule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3351600" y="437976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ircular canals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640080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etrous part of the temporal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-22860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ral organ of Corti in cochlea contains receptors for hearing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mplifies sound 100 tim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236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bration of stirrup at oval window starts traveling waves displacing basil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y hair cells stim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ending of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chle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rve  division of VIII (Vestibulo-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chle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4" descr="16-23abc_CochleaAnat_1"/>
          <p:cNvPicPr/>
          <p:nvPr/>
        </p:nvPicPr>
        <p:blipFill>
          <a:blip r:embed="rId1"/>
          <a:stretch/>
        </p:blipFill>
        <p:spPr>
          <a:xfrm>
            <a:off x="2598840" y="1600200"/>
            <a:ext cx="65451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Picture 2" descr="16-25_AuditoryPathwy_1"/>
          <p:cNvPicPr/>
          <p:nvPr/>
        </p:nvPicPr>
        <p:blipFill>
          <a:blip r:embed="rId1"/>
          <a:srcRect l="15294" t="18182" r="18824" b="15455"/>
          <a:stretch/>
        </p:blipFill>
        <p:spPr>
          <a:xfrm>
            <a:off x="3733920" y="0"/>
            <a:ext cx="5173560" cy="674208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3"/>
          <p:cNvSpPr/>
          <p:nvPr/>
        </p:nvSpPr>
        <p:spPr>
          <a:xfrm>
            <a:off x="380880" y="22860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4800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librium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vestib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rve branch of VIII (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Vestibu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lear n.) to the brain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pecial sense for which most of the information goes to lower brain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bule contains utricle and sac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ntains  a ma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 equilibrium and linear 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 rotational mov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 of hairs imbedded in otolithic membrane (calcium carbonate “sto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bular nerve branches of VIII (Vestibulocochlear 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4" descr="16-21a_Maculae_1"/>
          <p:cNvPicPr/>
          <p:nvPr/>
        </p:nvPicPr>
        <p:blipFill>
          <a:blip r:embed="rId1"/>
          <a:srcRect l="12941" t="5455" r="11765" b="9091"/>
          <a:stretch/>
        </p:blipFill>
        <p:spPr>
          <a:xfrm>
            <a:off x="0" y="106200"/>
            <a:ext cx="43876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icircular ca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 3 lies in one of the 3 planes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tational 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t with ampulla housing a small crest: crista amp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s project into jellylike cupula &amp; basilar cells synapse with fibers of vestibul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4" descr="16-22a_CristaAmpllris_1"/>
          <p:cNvPicPr/>
          <p:nvPr/>
        </p:nvPicPr>
        <p:blipFill>
          <a:blip r:embed="rId1"/>
          <a:srcRect l="0" t="22353" r="0" b="18824"/>
          <a:stretch/>
        </p:blipFill>
        <p:spPr>
          <a:xfrm>
            <a:off x="685800" y="3200400"/>
            <a:ext cx="7543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II Vestibulocochlear 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4" descr="15_27Figure-L"/>
          <p:cNvPicPr/>
          <p:nvPr/>
        </p:nvPicPr>
        <p:blipFill>
          <a:blip r:embed="rId1"/>
          <a:stretch/>
        </p:blipFill>
        <p:spPr>
          <a:xfrm>
            <a:off x="27000" y="1187280"/>
            <a:ext cx="88120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aste buds: mostly on to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ungiform papill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mall, on entire surface of ton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ircumvallate papill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inverted “V” near back of ton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4" descr="16-01_TasteBuds_1"/>
          <p:cNvPicPr/>
          <p:nvPr/>
        </p:nvPicPr>
        <p:blipFill>
          <a:blip r:embed="rId1"/>
          <a:srcRect l="0" t="11765" r="0" b="7059"/>
          <a:stretch/>
        </p:blipFill>
        <p:spPr>
          <a:xfrm>
            <a:off x="800280" y="2133720"/>
            <a:ext cx="75438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Sites which transforms a stimuli in to an 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Receptors are very specific in nerve and they respond to only specific stimul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lassification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of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Exteroceptors  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ptors of warmth, cold, Touch, Pressure &amp; vision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Interoceptors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 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ptors of taste and olfactory recepto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Proprioceptors 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ptors of Muscle, Joint &amp; Deep  tiss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unctional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Chemo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2 ,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lectromagnetic 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-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rmorec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hot &amp;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Mechano receptors 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ch, Pressur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456840" y="883800"/>
            <a:ext cx="4724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te buds of 50-100 epithelial cell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te receptor cell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ustato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villi through pore, bathed in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olved molecules bind &amp; induce receptor cells to generate impulses in sensory nerve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3" descr="16-01_TasteBuds_1"/>
          <p:cNvPicPr/>
          <p:nvPr/>
        </p:nvPicPr>
        <p:blipFill>
          <a:blip r:embed="rId1"/>
          <a:srcRect l="50004" t="12941" r="0" b="7059"/>
          <a:stretch/>
        </p:blipFill>
        <p:spPr>
          <a:xfrm>
            <a:off x="5372280" y="1782720"/>
            <a:ext cx="3771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ypes of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ifth type the water fib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respond to water without solute,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ut its absent in Rat, sheep &amp; calf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Specific receptors may not exist for each of these taste types.  Some other species variations are Ex.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at lacks receptor for sweat substances while in bitch its poorly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istribution of the four primary modalities of taste over the surface of the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Bitter at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our along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Sweat a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alt on anterior dor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sour &amp; bitter is also tasted on the pa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urophysiology of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tory (taste) pathway to brainstem &amp; cerebral cortex via two cranial ner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I (Facial n.) – anterior 2/3 of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X (Glossopharyngeal n.) – posterior 1/3 tongue and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gus  - Receptors in Pharynx and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al area of somato sensory cortex. are destroyed in the thalamus or cortex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, loss of taste discrimination occur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20:33Z</dcterms:created>
  <dc:creator>R Kumar</dc:creator>
  <dc:description/>
  <dc:language>en-US</dc:language>
  <cp:lastModifiedBy>BASU</cp:lastModifiedBy>
  <dcterms:modified xsi:type="dcterms:W3CDTF">2020-03-22T06:32:46Z</dcterms:modified>
  <cp:revision>16</cp:revision>
  <dc:subject/>
  <dc:title>Chemical Senses: Olfaction</dc:title>
</cp:coreProperties>
</file>