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5.jpeg" ContentType="image/jpeg"/>
  <Override PartName="/ppt/media/image8.jpeg" ContentType="image/jpe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B7C61-390B-4264-A0C1-2A9260C765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119A6-E0F0-431D-8422-6E80F9111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91AF93-64A3-4B9C-8C33-A5132CC235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879A52-D670-409C-9130-0CBBA3875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2BA3E3-1AD4-4999-944B-23A464AD56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A35A7A-19A6-4CE6-B5FA-A44E48938E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ED0211-88C1-4197-9098-852F542DFC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E8A196-518B-44CA-B565-B3ADBC0FBB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1E17EC-5C88-4B45-B835-BA1DE42E2D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A6CE2A-FE36-4581-979B-4ACAFC52EE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A9DE2-70AA-4E1E-843F-8B4B00B549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4E313-88A8-49E9-B0CB-8568931BC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97668-CBAD-49CC-BEFD-D0237F257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0D0C71-ED1B-4FD4-A8A7-198598BC3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5C4BDD-7C0B-47A8-A329-1902516DBA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46F6A2-C07D-4828-A6D3-B6443B485A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E16D1F-010C-4321-8A87-478F3E9CD3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F50C5C-B3FC-490F-8ADE-D8F527A191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8DBC4A-11FE-4F2A-93C6-1C16B55F6F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1DB0B4-4F45-47C8-93AE-88C428D0B9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625651-33A9-4DD7-A63C-A1DBB8B4C8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A2CA1F-BEFA-4E68-A886-0A23535A86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09FA3-566B-4068-BE33-7E823FFCF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A9182F-4159-4B66-AC08-EC7228BFE1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EB60DD-550A-4233-9FED-5CC24EF777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38E630-3993-496D-8E97-420B4852AC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E9AEEA-AFDB-44CE-9282-BADF3A2ADA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635FB6-298A-4217-88F6-94826AF7C9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0B93DA-AF33-4C0F-A0CD-541BC8D442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3DC690-4C94-40C3-B2BF-7D5D432290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CB0934-A5BD-4BD4-B7AA-5DC0E74656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F750DF-D3CA-4DD4-821B-F5027861CC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27CB20-C84E-432C-840D-96A8E819CC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0D7A6-F05A-4E7D-A57A-4C8EE4A74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BF1578-027D-492E-ACEE-E3264BFD5C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700028-7F8E-477C-85E2-3C56C59023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7787C4-CED9-47C4-9772-29C2BD912B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E61F27-380E-4238-9DB0-3F33524204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D2A397-BED2-4CAC-AF7D-3727F1F74F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4FDA2F-EC9B-4836-968B-D6EE904178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6B57B8-C1DF-42FA-9F07-E9DE3C48F8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FA3C9A-8505-44BB-AFB8-08A7905FAE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DD4AE2-35EB-4C6D-AC4B-622114FB06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50501C-2E70-4009-A4A9-520E1CC3C8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242E8-1B8B-4F1F-9CBB-737CA502A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1E963E-1921-47C6-9C9C-646250FF6A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F785F8-DE9D-4E06-97BC-637B607B1C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E53A3B-F6A0-4120-8CE6-D7DBC00A0C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5BBC01-30E8-4C5E-8E5F-0D830BE12F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C4322E-3205-457E-8354-CABF22B251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DB25B3-DFF7-45E9-8F6C-329E6FCB48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5C93BE-91DA-42BA-91B8-EE77824D0C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34A6DF-098C-4D0F-B3A5-56A1E76688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09B322-22E7-412D-8833-C209E5C9E9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6F1044-E107-4D9B-B17D-B7FE4A4DCC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F3BFA-8D9D-4B44-85D6-A683BABA6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55F6E8-A0CB-4A66-B82C-7C25E5234E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82E9B1-934F-4E24-BFF1-54A8BA934B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1A8FAA-A0F8-49B4-B905-DF6B09FCF8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AAFA33-4E14-49B1-8B60-04582BCDE3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A96F74-D676-4DD3-931F-3174E92919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D43F4F-C5A7-422D-97D3-A4FEDF9133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DF815C-0754-4232-B894-6987222D75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6A1D8F-C9C8-4961-91ED-8BBE8C2125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9AB825-B7D2-4D49-93E6-4A0440D92A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163993-5C10-4767-AAC7-B9C346137B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632BB-EA2C-4DA3-9960-7599AC7B1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9AED23-3A1C-499E-AB59-5F643B9D52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8C992D-2F13-492D-8BB1-BCD8A59D0FC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945D31-8C86-4DA2-9413-00E30EA8207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D1C178-3619-4F2E-A597-C77DA9EC2F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2323D3-C61D-46B8-93A7-9C458B9393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DFE119-9697-401E-9EBB-A521A17F04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88B356-CE09-4E3F-B549-7EF6473969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A2729B-DDA1-46F3-B152-6E0737F94A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5E975C-6FC9-40E4-A1B9-20F02ABACF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1F9258-D6CD-4DA2-816E-3D870322F8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B7D52-CEA5-464E-8DC4-76D972926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F7029C-EE5C-4CEE-9010-2D0472D4FE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6D7C52-6142-4B41-B2DC-C78EABC0D5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398087-3014-4DC9-90A8-F630962938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BED284-E1A3-4F51-B719-DAE9CD1D83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19C8B7-22AB-4E19-8DBF-649241A8B6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A631D4-6345-4E4C-8F0C-170D04B8AD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231973-AAB9-441C-AFC0-8F200BCBA2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F9FB69-1587-45FF-BBEF-0E0B33DEEA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7DC379-D85B-4141-AF6A-161BAFA1FB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D75E43-2A26-435C-A869-6B546E45DD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89963-B71F-4528-89DF-AB38A1558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FDAD7A-9F90-4BBB-BC4E-85714FD1B7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53E5C2-977A-4F6A-9EC6-5BBBB9C2D8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3AE5C1-C483-462C-8C70-0AB21440F4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D35FE7-786F-4F8E-A18B-609ECDAC33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8DA9AE-E194-40BE-B56F-A92FA0DE57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3A42A5-5072-4C7A-B7FA-C83937F9DFC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02B6025-BD5C-4809-9260-0BF3C1D41E8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77F40-04D2-40C6-B681-633F3794A8E0}" type="slidenum">
              <a:rPr b="0" lang="en-I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5"/>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8"/>
            <p:cNvGrpSpPr/>
            <p:nvPr/>
          </p:nvGrpSpPr>
          <p:grpSpPr>
            <a:xfrm>
              <a:off x="2520" y="4992120"/>
              <a:ext cx="9141480" cy="1872360"/>
              <a:chOff x="2520" y="4992120"/>
              <a:chExt cx="9141480" cy="1872360"/>
            </a:xfrm>
          </p:grpSpPr>
          <p:pic>
            <p:nvPicPr>
              <p:cNvPr id="52" name="Freeform 18"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19"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9B3F1-8A25-4295-B115-5E8B1450B547}" type="slidenum">
              <a:rPr b="0" lang="en-IN"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3F4ED-8FCB-42E4-88E9-F7130275285B}" type="slidenum">
              <a:rPr b="0" lang="en-IN"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528CE-661F-4D43-A3D4-B15707D165DC}" type="slidenum">
              <a:rPr b="0" lang="en-IN"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680C0-C2EE-4DEC-811E-CC7731ECFDC1}" type="slidenum">
              <a:rPr b="0" lang="en-I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29D6D-DDC5-417B-B3A7-7F2DDA4A005C}" type="slidenum">
              <a:rPr b="0" lang="en-IN"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E8FB6-0E5E-458D-9C23-6598F03CF51A}" type="slidenum">
              <a:rPr b="0" lang="en-I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5"/>
          <p:cNvGrpSpPr/>
          <p:nvPr/>
        </p:nvGrpSpPr>
        <p:grpSpPr>
          <a:xfrm>
            <a:off x="-12600" y="5784840"/>
            <a:ext cx="3414600" cy="1092240"/>
            <a:chOff x="-12600" y="5784840"/>
            <a:chExt cx="3414600" cy="1092240"/>
          </a:xfrm>
        </p:grpSpPr>
        <p:pic>
          <p:nvPicPr>
            <p:cNvPr id="324" name="Right Triangle 15"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6" descr=""/>
          <p:cNvPicPr/>
          <p:nvPr/>
        </p:nvPicPr>
        <p:blipFill>
          <a:blip r:embed="rId4"/>
          <a:stretch/>
        </p:blipFill>
        <p:spPr>
          <a:xfrm>
            <a:off x="-19080" y="5772240"/>
            <a:ext cx="3421080" cy="1109520"/>
          </a:xfrm>
          <a:prstGeom prst="rect">
            <a:avLst/>
          </a:prstGeom>
          <a:ln w="0">
            <a:noFill/>
          </a:ln>
        </p:spPr>
      </p:pic>
      <p:sp>
        <p:nvSpPr>
          <p:cNvPr id="327"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D08F3-5E72-4FC9-98DD-471D218BCCB6}" type="slidenum">
              <a:rPr b="0" lang="en-IN"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92160" y="743040"/>
            <a:ext cx="8705880" cy="2006640"/>
          </a:xfrm>
          <a:prstGeom prst="rect">
            <a:avLst/>
          </a:prstGeom>
          <a:ln w="0">
            <a:noFill/>
          </a:ln>
        </p:spPr>
      </p:pic>
      <p:grpSp>
        <p:nvGrpSpPr>
          <p:cNvPr id="371" name="Group 3"/>
          <p:cNvGrpSpPr/>
          <p:nvPr/>
        </p:nvGrpSpPr>
        <p:grpSpPr>
          <a:xfrm>
            <a:off x="1036800" y="2443320"/>
            <a:ext cx="7070400" cy="2166120"/>
            <a:chOff x="1036800" y="2443320"/>
            <a:chExt cx="7070400" cy="2166120"/>
          </a:xfrm>
        </p:grpSpPr>
        <p:sp>
          <p:nvSpPr>
            <p:cNvPr id="372" name="Rectangle 4"/>
            <p:cNvSpPr/>
            <p:nvPr/>
          </p:nvSpPr>
          <p:spPr>
            <a:xfrm>
              <a:off x="1036800" y="2443320"/>
              <a:ext cx="7070400" cy="216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Arial"/>
                  <a:ea typeface="Arial"/>
                </a:rPr>
                <a:t>Dr V.P.Saini</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Prof. &amp; Dea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ea typeface="Arial"/>
                </a:rPr>
                <a:t>College of Fisheries, Kishanganj</a:t>
              </a:r>
              <a:endParaRPr b="0" lang="en-US" sz="3200" spc="-1" strike="noStrike">
                <a:solidFill>
                  <a:srgbClr val="000000"/>
                </a:solidFill>
                <a:latin typeface="Arial"/>
              </a:endParaRPr>
            </a:p>
          </p:txBody>
        </p:sp>
        <p:pic>
          <p:nvPicPr>
            <p:cNvPr id="373" name="Picture 5" descr="C:\Users\HP\Desktop\Seal.jpg"/>
            <p:cNvPicPr/>
            <p:nvPr/>
          </p:nvPicPr>
          <p:blipFill>
            <a:blip r:embed="rId2"/>
            <a:srcRect l="7862" t="6853" r="7862" b="5557"/>
            <a:stretch/>
          </p:blipFill>
          <p:spPr>
            <a:xfrm>
              <a:off x="6705000" y="3048120"/>
              <a:ext cx="947520" cy="92412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Colchicine and cytochalasin-B  disrupt cell division and induce ploidy induction. </a:t>
            </a:r>
            <a:endParaRPr b="0" lang="en-US" sz="27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Anaesthetics such as nitrous oxide and Freon 22 induce triploidy. But the results are inconsistent and unsatisfactory.  </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6" name="Title 1" descr=""/>
          <p:cNvPicPr/>
          <p:nvPr/>
        </p:nvPicPr>
        <p:blipFill>
          <a:blip r:embed="rId1"/>
          <a:stretch/>
        </p:blipFill>
        <p:spPr>
          <a:xfrm>
            <a:off x="268200" y="189000"/>
            <a:ext cx="8425080" cy="1238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1" lang="en-US" sz="2700" spc="-1" strike="noStrike">
                <a:solidFill>
                  <a:srgbClr val="ff8119"/>
                </a:solidFill>
                <a:latin typeface="Lucida Sans Unicode"/>
              </a:rPr>
              <a:t>i</a:t>
            </a:r>
            <a:r>
              <a:rPr b="1" lang="en-US" sz="2700" spc="-1" strike="noStrike">
                <a:solidFill>
                  <a:srgbClr val="ff8119"/>
                </a:solidFill>
                <a:latin typeface="Arial"/>
                <a:ea typeface="Arial"/>
              </a:rPr>
              <a:t>) Chromosome analysis</a:t>
            </a:r>
            <a:r>
              <a:rPr b="1" lang="en-US" sz="2700" spc="-1" strike="noStrike">
                <a:solidFill>
                  <a:srgbClr val="000000"/>
                </a:solidFill>
                <a:latin typeface="Arial"/>
                <a:ea typeface="Arial"/>
              </a:rPr>
              <a:t> </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t>
            </a:r>
            <a:r>
              <a:rPr b="0" lang="en-US" sz="2700" spc="-1" strike="noStrike">
                <a:solidFill>
                  <a:srgbClr val="000000"/>
                </a:solidFill>
                <a:latin typeface="Arial"/>
                <a:ea typeface="Arial"/>
              </a:rPr>
              <a:t>-Simplest, appropriate method for determining the ploidy level.  </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t>
            </a:r>
            <a:r>
              <a:rPr b="0" lang="en-US" sz="2700" spc="-1" strike="noStrike">
                <a:solidFill>
                  <a:srgbClr val="000000"/>
                </a:solidFill>
                <a:latin typeface="Arial"/>
                <a:ea typeface="Arial"/>
              </a:rPr>
              <a:t>- Very much labour intensive , time consuming.</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ea typeface="Arial"/>
              </a:rPr>
              <a:t>ii) The ploidy level can be distinguished by  measuring and comparing the nuclear volume and cell volume of the erythrocytes.</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This can be done with the help of  light microscopy.</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ea typeface="Arial"/>
              </a:rPr>
              <a:t>iii) Flow cytometry is used to estimate the DNA concentration of diploid and  triploids.</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8" name="Title 1" descr=""/>
          <p:cNvPicPr/>
          <p:nvPr/>
        </p:nvPicPr>
        <p:blipFill>
          <a:blip r:embed="rId1"/>
          <a:stretch/>
        </p:blipFill>
        <p:spPr>
          <a:xfrm>
            <a:off x="-12600" y="268200"/>
            <a:ext cx="8705880" cy="115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04920" y="1294920"/>
            <a:ext cx="8610480" cy="506124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Results in all-paternal inheritance.</a:t>
            </a:r>
            <a:endParaRPr b="0" lang="en-US" sz="27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Involves genetic inactivation of the egg’s genome and fertilization with haploid sperm (followed by diploidization) or diploid sperm.</a:t>
            </a:r>
            <a:endParaRPr b="0" lang="en-US" sz="27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t>
            </a:r>
            <a:r>
              <a:rPr b="0" lang="en-US" sz="2700" spc="-1" strike="noStrike">
                <a:solidFill>
                  <a:srgbClr val="000000"/>
                </a:solidFill>
                <a:latin typeface="Arial"/>
                <a:ea typeface="Arial"/>
              </a:rPr>
              <a:t>Method requires the suppression of the first mitotic cleavage. </a:t>
            </a:r>
            <a:endParaRPr b="0" lang="en-US" sz="2700" spc="-1" strike="noStrike">
              <a:solidFill>
                <a:srgbClr val="000000"/>
              </a:solidFill>
              <a:latin typeface="Lucida Sans Unicode"/>
            </a:endParaRPr>
          </a:p>
        </p:txBody>
      </p:sp>
      <p:pic>
        <p:nvPicPr>
          <p:cNvPr id="390" name="Title 1" descr=""/>
          <p:cNvPicPr/>
          <p:nvPr/>
        </p:nvPicPr>
        <p:blipFill>
          <a:blip r:embed="rId1"/>
          <a:stretch/>
        </p:blipFill>
        <p:spPr>
          <a:xfrm>
            <a:off x="231840" y="268200"/>
            <a:ext cx="8461440" cy="957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80880" y="304560"/>
            <a:ext cx="8305920" cy="617220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Survival of the androgenotes is very low due to,</a:t>
            </a:r>
            <a:endParaRPr b="0" lang="en-US" sz="27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t>
            </a:r>
            <a:r>
              <a:rPr b="0" lang="en-US" sz="2700" spc="-1" strike="noStrike">
                <a:solidFill>
                  <a:srgbClr val="000000"/>
                </a:solidFill>
                <a:latin typeface="Arial"/>
                <a:ea typeface="Arial"/>
              </a:rPr>
              <a:t>-irradiation damage suffered by eggs.</a:t>
            </a:r>
            <a:endParaRPr b="0" lang="en-US" sz="27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t>
            </a:r>
            <a:r>
              <a:rPr b="0" lang="en-US" sz="2700" spc="-1" strike="noStrike">
                <a:solidFill>
                  <a:srgbClr val="000000"/>
                </a:solidFill>
                <a:latin typeface="Arial"/>
                <a:ea typeface="Arial"/>
              </a:rPr>
              <a:t>-homozygous expression of lethal gene.</a:t>
            </a:r>
            <a:endParaRPr b="0" lang="en-US" sz="27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t>
            </a:r>
            <a:r>
              <a:rPr b="0" lang="en-US" sz="2700" spc="-1" strike="noStrike">
                <a:solidFill>
                  <a:srgbClr val="000000"/>
                </a:solidFill>
                <a:latin typeface="Arial"/>
                <a:ea typeface="Arial"/>
              </a:rPr>
              <a:t>-damage inflicted by thermal shock treatment to suppress the first mitotic cleavage.</a:t>
            </a:r>
            <a:endParaRPr b="0" lang="en-US" sz="27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Induced in fish by fertilizing irradiated eggs (gamma or X ray or U-V ray) with normal spermatozoa. </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533520" y="685800"/>
            <a:ext cx="8153280" cy="56707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U-V (254 nm) irradiation is easy, inexpensive, can be easily set up under laboratory condition.</a:t>
            </a:r>
            <a:endParaRPr b="0" lang="en-US" sz="27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Diploid androgenetic individuals can then be produced by various treatments (thermal, pressure or chemical shock) to suppress the first cleavage division to yield a homozygous diploid. </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228600" y="533160"/>
            <a:ext cx="8686800" cy="582300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It can be used to generate clonal lines.</a:t>
            </a:r>
            <a:endParaRPr b="0" lang="en-US" sz="27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It has the advantage of storing and regenerating lines from cryopreserved sperm.</a:t>
            </a:r>
            <a:endParaRPr b="0" lang="en-US" sz="27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Androgenetic fishes were successfully produced only in about a dozen economically important food fishes (e.g., common carp, tilapia, rainbow trout and Siberian sturgeon).</a:t>
            </a:r>
            <a:endParaRPr b="0" lang="en-US" sz="27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Androgenetic tilapia can be useful for monosex fish culture. </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533520" y="1371240"/>
            <a:ext cx="8153280" cy="4984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It is a reproductive manipulation resulting in all-maternal inheritance.</a:t>
            </a:r>
            <a:endParaRPr b="0" lang="en-US" sz="27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It involves egg activation  by genetically inactivated homologous or heterologous sperm  and diploidization by retention of second polar body (</a:t>
            </a:r>
            <a:r>
              <a:rPr b="0" i="1" lang="en-US" sz="2700" spc="-1" strike="noStrike">
                <a:solidFill>
                  <a:srgbClr val="000000"/>
                </a:solidFill>
                <a:latin typeface="Arial"/>
                <a:ea typeface="Arial"/>
              </a:rPr>
              <a:t>meiotic gynogenesis</a:t>
            </a:r>
            <a:r>
              <a:rPr b="0" lang="en-US" sz="2700" spc="-1" strike="noStrike">
                <a:solidFill>
                  <a:srgbClr val="000000"/>
                </a:solidFill>
                <a:latin typeface="Arial"/>
                <a:ea typeface="Arial"/>
              </a:rPr>
              <a:t>), or suppression of the first mitotic cleavage (</a:t>
            </a:r>
            <a:r>
              <a:rPr b="0" i="1" lang="en-US" sz="2700" spc="-1" strike="noStrike">
                <a:solidFill>
                  <a:srgbClr val="000000"/>
                </a:solidFill>
                <a:latin typeface="Arial"/>
                <a:ea typeface="Arial"/>
              </a:rPr>
              <a:t>mitotic gynogenesis</a:t>
            </a:r>
            <a:r>
              <a:rPr b="0" lang="en-US" sz="2700" spc="-1" strike="noStrike">
                <a:solidFill>
                  <a:srgbClr val="000000"/>
                </a:solidFill>
                <a:latin typeface="Arial"/>
                <a:ea typeface="Arial"/>
              </a:rPr>
              <a:t>).</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5" name="Title 1" descr=""/>
          <p:cNvPicPr/>
          <p:nvPr/>
        </p:nvPicPr>
        <p:blipFill>
          <a:blip r:embed="rId1"/>
          <a:stretch/>
        </p:blipFill>
        <p:spPr>
          <a:xfrm>
            <a:off x="225360" y="73080"/>
            <a:ext cx="8467920" cy="1353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914400" y="304920"/>
            <a:ext cx="7772400" cy="635616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The shocks destroy the aster formation or the microtubules of the spindle and inhibit nuclear division. Thus, a diploid embryo containing maternal genetic material alone can be produced. </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Gynogenesis is a    natural    form of reproduction in the teleost, </a:t>
            </a:r>
            <a:r>
              <a:rPr b="0" i="1" lang="en-US" sz="2700" spc="-1" strike="noStrike">
                <a:solidFill>
                  <a:srgbClr val="000000"/>
                </a:solidFill>
                <a:latin typeface="Arial"/>
                <a:ea typeface="Arial"/>
              </a:rPr>
              <a:t>Mollienesia formosa</a:t>
            </a:r>
            <a:r>
              <a:rPr b="0" lang="en-US" sz="2700" spc="-1" strike="noStrike">
                <a:solidFill>
                  <a:srgbClr val="000000"/>
                </a:solidFill>
                <a:latin typeface="Arial"/>
                <a:ea typeface="Arial"/>
              </a:rPr>
              <a:t>. </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4" descr=""/>
          <p:cNvPicPr/>
          <p:nvPr/>
        </p:nvPicPr>
        <p:blipFill>
          <a:blip r:embed="rId1"/>
          <a:stretch/>
        </p:blipFill>
        <p:spPr>
          <a:xfrm>
            <a:off x="414360" y="469800"/>
            <a:ext cx="8589960" cy="5132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228240" y="1295280"/>
            <a:ext cx="8458200" cy="518184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Gamma, UV radiation are used to inactivate sperm. </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Gamma radiation has greater penetration and helpful in the treatment of large quantities of sperm at a time.</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Residual chromosome fragments found in gynogenetic offspring after fertilization with gamma –irradiated sperm, reduce survival or cause abnormalities therefore, in the gynogenetic offspring, UV is a preferred method for sperm chromosome inactivation.</a:t>
            </a:r>
            <a:endParaRPr b="0" lang="en-US" sz="2700" spc="-1" strike="noStrike">
              <a:solidFill>
                <a:srgbClr val="000000"/>
              </a:solidFill>
              <a:latin typeface="Lucida Sans Unicode"/>
            </a:endParaRPr>
          </a:p>
        </p:txBody>
      </p:sp>
      <p:pic>
        <p:nvPicPr>
          <p:cNvPr id="399" name="Title 1" descr=""/>
          <p:cNvPicPr/>
          <p:nvPr/>
        </p:nvPicPr>
        <p:blipFill>
          <a:blip r:embed="rId1"/>
          <a:stretch/>
        </p:blipFill>
        <p:spPr>
          <a:xfrm>
            <a:off x="268200" y="268200"/>
            <a:ext cx="842508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066680"/>
            <a:ext cx="8229600" cy="5059440"/>
          </a:xfrm>
          <a:prstGeom prst="rect">
            <a:avLst/>
          </a:prstGeom>
          <a:noFill/>
          <a:ln w="0">
            <a:noFill/>
          </a:ln>
        </p:spPr>
        <p:txBody>
          <a:bodyPr anchor="t">
            <a:normAutofit/>
          </a:bodyPr>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Arial"/>
                <a:ea typeface="Arial"/>
              </a:rPr>
              <a:t> </a:t>
            </a:r>
            <a:r>
              <a:rPr b="0" lang="en-US" sz="3500" spc="-1" strike="noStrike">
                <a:solidFill>
                  <a:srgbClr val="ff0000"/>
                </a:solidFill>
                <a:latin typeface="Arial"/>
                <a:ea typeface="Arial"/>
              </a:rPr>
              <a:t>INTRODUCTION</a:t>
            </a:r>
            <a:endParaRPr b="0" lang="en-US" sz="35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Lucida Sans Unicode"/>
            </a:endParaRPr>
          </a:p>
          <a:p>
            <a:pPr marL="365040" indent="-25560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he changes in the number of chromosome sets is brought out by destruction of one set, as in egg or sperm cells or by the disruption of the metaphase spindle during karyokinesis in either somatic or germinal cells.  </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80880" y="1219320"/>
            <a:ext cx="8305920" cy="49068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The haploid embryo generated by gynogenesis dies unless some special treatment is conducted, so apparently it is necessary for the embryo to become diploid by doubling its chromosomes. </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Polyploidization treatment can be performed by inhibiting meiotic phase II after insemination with sperm that has received a genetic inactivation treatment. </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1" name="Title 1" descr=""/>
          <p:cNvPicPr/>
          <p:nvPr/>
        </p:nvPicPr>
        <p:blipFill>
          <a:blip r:embed="rId1"/>
          <a:stretch/>
        </p:blipFill>
        <p:spPr>
          <a:xfrm>
            <a:off x="231840" y="103320"/>
            <a:ext cx="8461440" cy="1323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Achieved by inhibiting the extrusion of the second polar body. </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The resulting offspring are homozygous at a locus only if no recombination occurred. </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Determination of the percentage of heterozygous offspring, helps to calculate the recombination frequency. </a:t>
            </a:r>
            <a:endParaRPr b="0" lang="en-US" sz="2700" spc="-1" strike="noStrike">
              <a:solidFill>
                <a:srgbClr val="000000"/>
              </a:solidFill>
              <a:latin typeface="Lucida Sans Unicode"/>
            </a:endParaRPr>
          </a:p>
        </p:txBody>
      </p:sp>
      <p:pic>
        <p:nvPicPr>
          <p:cNvPr id="403"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80880" y="1143000"/>
            <a:ext cx="8305920" cy="49831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Polyploidization can be caused by the   inhibition of cell division during the first cleavage. </a:t>
            </a:r>
            <a:endParaRPr b="0" lang="en-US" sz="27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The original haploid set of chromosomes during meiotic phase I and II will be duplicated before the first cleavage.</a:t>
            </a:r>
            <a:endParaRPr b="0" lang="en-US" sz="27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Pairs of chromosomes after the first cleavage inhibition are homologous to each other irrespective of crossing over. </a:t>
            </a:r>
            <a:endParaRPr b="0" lang="en-US" sz="2700" spc="-1" strike="noStrike">
              <a:solidFill>
                <a:srgbClr val="000000"/>
              </a:solidFill>
              <a:latin typeface="Lucida Sans Unicode"/>
            </a:endParaRPr>
          </a:p>
        </p:txBody>
      </p:sp>
      <p:pic>
        <p:nvPicPr>
          <p:cNvPr id="405" name="Title 1" descr=""/>
          <p:cNvPicPr/>
          <p:nvPr/>
        </p:nvPicPr>
        <p:blipFill>
          <a:blip r:embed="rId1"/>
          <a:stretch/>
        </p:blipFill>
        <p:spPr>
          <a:xfrm>
            <a:off x="231840" y="103320"/>
            <a:ext cx="8461440" cy="1323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533520" y="762120"/>
            <a:ext cx="8153280" cy="559440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Mitotic gynogenesis  results in fully homozygous offspring, since it is achieved by inhibiting the first mitotic cleavage after duplication of the haploid genome.</a:t>
            </a:r>
            <a:endParaRPr b="0" lang="en-US" sz="27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It has been achieved in zebra fish (</a:t>
            </a:r>
            <a:r>
              <a:rPr b="0" i="1" lang="en-US" sz="2700" spc="-1" strike="noStrike">
                <a:solidFill>
                  <a:srgbClr val="000000"/>
                </a:solidFill>
                <a:latin typeface="Arial"/>
                <a:ea typeface="Arial"/>
              </a:rPr>
              <a:t>Danio rerio),</a:t>
            </a:r>
            <a:r>
              <a:rPr b="0" lang="en-US" sz="2700" spc="-1" strike="noStrike">
                <a:solidFill>
                  <a:srgbClr val="000000"/>
                </a:solidFill>
                <a:latin typeface="Arial"/>
                <a:ea typeface="Arial"/>
              </a:rPr>
              <a:t> medaka (</a:t>
            </a:r>
            <a:r>
              <a:rPr b="0" i="1" lang="en-US" sz="2700" spc="-1" strike="noStrike">
                <a:solidFill>
                  <a:srgbClr val="000000"/>
                </a:solidFill>
                <a:latin typeface="Arial"/>
                <a:ea typeface="Arial"/>
              </a:rPr>
              <a:t>Oryzias latipes),</a:t>
            </a:r>
            <a:r>
              <a:rPr b="0" lang="en-US" sz="2700" spc="-1" strike="noStrike">
                <a:solidFill>
                  <a:srgbClr val="000000"/>
                </a:solidFill>
                <a:latin typeface="Arial"/>
                <a:ea typeface="Arial"/>
              </a:rPr>
              <a:t> common carp (</a:t>
            </a:r>
            <a:r>
              <a:rPr b="0" i="1" lang="en-US" sz="2700" spc="-1" strike="noStrike">
                <a:solidFill>
                  <a:srgbClr val="000000"/>
                </a:solidFill>
                <a:latin typeface="Arial"/>
                <a:ea typeface="Arial"/>
              </a:rPr>
              <a:t>Cyprinus carpio)</a:t>
            </a:r>
            <a:r>
              <a:rPr b="0" lang="en-US" sz="2700" spc="-1" strike="noStrike">
                <a:solidFill>
                  <a:srgbClr val="000000"/>
                </a:solidFill>
                <a:latin typeface="Arial"/>
                <a:ea typeface="Arial"/>
              </a:rPr>
              <a:t> Nile tilapia (</a:t>
            </a:r>
            <a:r>
              <a:rPr b="0" i="1" lang="en-US" sz="2700" spc="-1" strike="noStrike">
                <a:solidFill>
                  <a:srgbClr val="000000"/>
                </a:solidFill>
                <a:latin typeface="Arial"/>
                <a:ea typeface="Arial"/>
              </a:rPr>
              <a:t>Oreochromis niloticus)</a:t>
            </a:r>
            <a:r>
              <a:rPr b="0" lang="en-US" sz="2700" spc="-1" strike="noStrike">
                <a:solidFill>
                  <a:srgbClr val="000000"/>
                </a:solidFill>
                <a:latin typeface="Arial"/>
                <a:ea typeface="Arial"/>
              </a:rPr>
              <a:t> and Indian catfish (</a:t>
            </a:r>
            <a:r>
              <a:rPr b="0" i="1" lang="en-US" sz="2700" spc="-1" strike="noStrike">
                <a:solidFill>
                  <a:srgbClr val="000000"/>
                </a:solidFill>
                <a:latin typeface="Arial"/>
                <a:ea typeface="Arial"/>
              </a:rPr>
              <a:t>Heteropneustes fossilis). </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533520" y="1371240"/>
            <a:ext cx="8153280" cy="52578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In female homogametic species all female population is produced. </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50 to 100% inbred individuals can be produced in a single generation.</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Inbred lines of fish can be crossed to produce hybrid vigour or heterosis.</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It has the ability to map genes relative to their centromeres in fish after retention of the second polar body.</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8" name="Title 1" descr=""/>
          <p:cNvPicPr/>
          <p:nvPr/>
        </p:nvPicPr>
        <p:blipFill>
          <a:blip r:embed="rId1"/>
          <a:stretch/>
        </p:blipFill>
        <p:spPr>
          <a:xfrm>
            <a:off x="268200" y="298440"/>
            <a:ext cx="8504280" cy="1158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80880" y="456840"/>
            <a:ext cx="8305920" cy="609588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Generates homozygous lines by applying a second cycle of gynogenesis to the homozygous fish produced initially by gynogenesis. </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This is useful for the production of  female or monosex exotic species for release into the natural environment without risk of reproduction. </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Combining gynogenesis and sex reversal it is possible to produce males with female genotype.</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Polyploidy is the induction of individuals with extra (triploids, tetraploids) sets of chromosomes.</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t>
            </a:r>
            <a:endParaRPr b="0" lang="en-US" sz="2700" spc="-1" strike="noStrike">
              <a:solidFill>
                <a:srgbClr val="000000"/>
              </a:solidFill>
              <a:latin typeface="Lucida Sans Unicode"/>
            </a:endParaRPr>
          </a:p>
        </p:txBody>
      </p:sp>
      <p:pic>
        <p:nvPicPr>
          <p:cNvPr id="411" name="Title 1" descr=""/>
          <p:cNvPicPr/>
          <p:nvPr/>
        </p:nvPicPr>
        <p:blipFill>
          <a:blip r:embed="rId1"/>
          <a:stretch/>
        </p:blipFill>
        <p:spPr>
          <a:xfrm>
            <a:off x="231840" y="268200"/>
            <a:ext cx="8461440" cy="1158840"/>
          </a:xfrm>
          <a:prstGeom prst="rect">
            <a:avLst/>
          </a:prstGeom>
          <a:ln w="0">
            <a:noFill/>
          </a:ln>
        </p:spPr>
      </p:pic>
      <p:pic>
        <p:nvPicPr>
          <p:cNvPr id="412" name="Content Placeholder 3" descr=""/>
          <p:cNvPicPr/>
          <p:nvPr/>
        </p:nvPicPr>
        <p:blipFill>
          <a:blip r:embed="rId2"/>
          <a:stretch/>
        </p:blipFill>
        <p:spPr>
          <a:xfrm>
            <a:off x="792000" y="2451240"/>
            <a:ext cx="7766280" cy="4144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151920" y="1600200"/>
            <a:ext cx="8534520" cy="4525920"/>
          </a:xfrm>
          <a:prstGeom prst="rect">
            <a:avLst/>
          </a:prstGeom>
          <a:noFill/>
          <a:ln w="0">
            <a:noFill/>
          </a:ln>
        </p:spPr>
        <p:txBody>
          <a:bodyPr anchor="t">
            <a:normAutofit/>
          </a:bodyPr>
          <a:p>
            <a:pPr marL="582480" indent="-514080">
              <a:lnSpc>
                <a:spcPct val="10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They are sterile and therefore useful for stocking natural bodies of water where population control is desirable.</a:t>
            </a:r>
            <a:endParaRPr b="0" lang="en-US" sz="2700" spc="-1" strike="noStrike">
              <a:solidFill>
                <a:srgbClr val="000000"/>
              </a:solidFill>
              <a:latin typeface="Lucida Sans Unicode"/>
            </a:endParaRPr>
          </a:p>
          <a:p>
            <a:pPr marL="582480" indent="-514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82480" indent="-514080">
              <a:lnSpc>
                <a:spcPct val="10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t>
            </a:r>
            <a:r>
              <a:rPr b="0" lang="en-US" sz="2700" spc="-1" strike="noStrike">
                <a:solidFill>
                  <a:srgbClr val="000000"/>
                </a:solidFill>
                <a:latin typeface="Arial"/>
                <a:ea typeface="Arial"/>
              </a:rPr>
              <a:t>They grow faster at and after sexual maturity (in triploids 20-30% of the energy utilized for normal gonadal development is diverted to somatic growth). </a:t>
            </a:r>
            <a:endParaRPr b="0" lang="en-US" sz="2700" spc="-1" strike="noStrike">
              <a:solidFill>
                <a:srgbClr val="000000"/>
              </a:solidFill>
              <a:latin typeface="Lucida Sans Unicode"/>
            </a:endParaRPr>
          </a:p>
          <a:p>
            <a:pPr marL="582480" indent="-514080">
              <a:lnSpc>
                <a:spcPct val="10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4"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80880" y="1371240"/>
            <a:ext cx="8305920" cy="47545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Polyploidization treatment after hybridization  yields heterogeneous polyploids. </a:t>
            </a:r>
            <a:endParaRPr b="0" lang="en-US" sz="27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When triploidization treatment is conducted, heterogeneous triploids that contains 2 genomes from the mother and one genome from the father is produced.</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6" name="Title 1" descr=""/>
          <p:cNvPicPr/>
          <p:nvPr/>
        </p:nvPicPr>
        <p:blipFill>
          <a:blip r:embed="rId1"/>
          <a:stretch/>
        </p:blipFill>
        <p:spPr>
          <a:xfrm>
            <a:off x="201600" y="268200"/>
            <a:ext cx="8491680" cy="1158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Induction of tetraploidy involves applying shock treatment soon after zygote formation.</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This is to prevent the first mitotic cleavage thereby inducing the tetraploid condition.</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Unlike triploids, tetraploids reach sexual maturity.  </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8" name="Title 1" descr=""/>
          <p:cNvPicPr/>
          <p:nvPr/>
        </p:nvPicPr>
        <p:blipFill>
          <a:blip r:embed="rId1"/>
          <a:stretch/>
        </p:blipFill>
        <p:spPr>
          <a:xfrm>
            <a:off x="371520" y="103320"/>
            <a:ext cx="8321760" cy="132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380880" y="1600200"/>
            <a:ext cx="8305920" cy="502920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4b9e8"/>
                </a:solidFill>
                <a:latin typeface="Arial"/>
                <a:ea typeface="Arial"/>
              </a:rPr>
              <a:t>1) Inactivation of gametes</a:t>
            </a:r>
            <a:endParaRPr b="0" lang="en-US" sz="27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rradiation of spermatozoa with gamma radiation, X-ray or U-V light or  dimethylsulphate  destroys the genetic material without inactivating the spermatozoa.</a:t>
            </a:r>
            <a:endParaRPr b="0" lang="en-US" sz="28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V irradiation form pyrimidine dimers in DNA leading to its genetic inactivation.</a:t>
            </a:r>
            <a:endParaRPr b="0" lang="en-US" sz="28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optimum dose of UV varies with spermatozoa concentration.</a:t>
            </a:r>
            <a:endParaRPr b="0" lang="en-US" sz="2800" spc="-1" strike="noStrike">
              <a:solidFill>
                <a:srgbClr val="000000"/>
              </a:solidFill>
              <a:latin typeface="Lucida Sans Unicode"/>
            </a:endParaRPr>
          </a:p>
        </p:txBody>
      </p:sp>
      <p:pic>
        <p:nvPicPr>
          <p:cNvPr id="376" name="Title 1" descr=""/>
          <p:cNvPicPr/>
          <p:nvPr/>
        </p:nvPicPr>
        <p:blipFill>
          <a:blip r:embed="rId1"/>
          <a:stretch/>
        </p:blipFill>
        <p:spPr>
          <a:xfrm>
            <a:off x="92160" y="225360"/>
            <a:ext cx="8905680" cy="1231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Title 1" descr=""/>
          <p:cNvPicPr/>
          <p:nvPr/>
        </p:nvPicPr>
        <p:blipFill>
          <a:blip r:embed="rId1"/>
          <a:stretch/>
        </p:blipFill>
        <p:spPr>
          <a:xfrm>
            <a:off x="907920" y="1974960"/>
            <a:ext cx="8236080" cy="2163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04560" y="1218960"/>
            <a:ext cx="8381880" cy="464796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chromosomed spermatozoa  activates the egg followed by shock treatment (to prevent second polar body release), and establishes XX condition. </a:t>
            </a:r>
            <a:endParaRPr b="0" lang="en-US" sz="2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o induce androgenesis, the maternal (egg) genome is inactivated by irradiation and fertilized with normal sperm.  </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914400" y="380520"/>
            <a:ext cx="7772400" cy="597564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Fish eggs - difficult to manipulate - large size.</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t>
            </a:r>
            <a:r>
              <a:rPr b="0" lang="en-US" sz="2700" spc="-1" strike="noStrike">
                <a:solidFill>
                  <a:srgbClr val="000000"/>
                </a:solidFill>
                <a:latin typeface="Arial"/>
                <a:ea typeface="Arial"/>
              </a:rPr>
              <a:t>Fish spermatozoa - easy to manipulate - small size. </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Gynogenetic, androgenetic individuals -haploids with low survival rate.</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Diploidization by shock treatment improves the survival rate.</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04920" y="456840"/>
            <a:ext cx="8610480" cy="617220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4b9e8"/>
                </a:solidFill>
                <a:latin typeface="Arial"/>
                <a:ea typeface="Arial"/>
              </a:rPr>
              <a:t>2) Shock treatment</a:t>
            </a:r>
            <a:r>
              <a:rPr b="1" lang="en-US" sz="2700" spc="-1" strike="noStrike">
                <a:solidFill>
                  <a:srgbClr val="000000"/>
                </a:solidFill>
                <a:latin typeface="Arial"/>
                <a:ea typeface="Arial"/>
              </a:rPr>
              <a:t> </a:t>
            </a:r>
            <a:endParaRPr b="0" lang="en-US" sz="27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loidy induction - multiplication of the chromosome set during embryonic development, by insemination, release of polar body and first-cell division.</a:t>
            </a:r>
            <a:endParaRPr b="0" lang="en-US" sz="28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nipulation is done  by application of thermal or temperature (cold and heat), pressure or chemical shock.</a:t>
            </a:r>
            <a:endParaRPr b="0" lang="en-US" sz="28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hocking of inseminated fish egg causes depolymerization of tubulin polymers that form microtubules essential for  formation of  spindle apparatus.</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228600" y="456840"/>
            <a:ext cx="8610480" cy="58993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hock treatment results in the inhibition of spindle formation and aster movement. </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When heat shock is applied shortly before first cleavage, cytokinesis is  inhibited and cause zygotes to undergo two genomic replications with only one cytoplasmic division.</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is is necessary for diploidizing gynogenetic and androgenetic offspring and in inducing triploidy and tetraploidy.</a:t>
            </a:r>
            <a:endParaRPr b="0" lang="en-US" sz="2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228600" y="1447560"/>
            <a:ext cx="8686800" cy="49086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Cold shocks for cold water species (salmonids) - 0</a:t>
            </a:r>
            <a:r>
              <a:rPr b="0" lang="en-US" sz="2700" spc="-1" strike="noStrike">
                <a:solidFill>
                  <a:srgbClr val="000000"/>
                </a:solidFill>
                <a:latin typeface="Symbol"/>
                <a:ea typeface="Symbol"/>
              </a:rPr>
              <a:t></a:t>
            </a:r>
            <a:r>
              <a:rPr b="0" lang="en-US" sz="2700" spc="-1" strike="noStrike">
                <a:solidFill>
                  <a:srgbClr val="000000"/>
                </a:solidFill>
                <a:latin typeface="Arial"/>
                <a:ea typeface="Arial"/>
              </a:rPr>
              <a:t>C</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Cold shocks for warm water species  (Common carp, Tilapia and Indian major carps), 8-12</a:t>
            </a:r>
            <a:r>
              <a:rPr b="0" lang="en-US" sz="2700" spc="-1" strike="noStrike">
                <a:solidFill>
                  <a:srgbClr val="000000"/>
                </a:solidFill>
                <a:latin typeface="Symbol"/>
                <a:ea typeface="Symbol"/>
              </a:rPr>
              <a:t></a:t>
            </a:r>
            <a:r>
              <a:rPr b="0" lang="en-US" sz="2700" spc="-1" strike="noStrike">
                <a:solidFill>
                  <a:srgbClr val="000000"/>
                </a:solidFill>
                <a:latin typeface="Arial"/>
                <a:ea typeface="Arial"/>
              </a:rPr>
              <a:t>C.</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Heat shock for cold water fishes around </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t>
            </a:r>
            <a:r>
              <a:rPr b="0" lang="en-US" sz="2700" spc="-1" strike="noStrike">
                <a:solidFill>
                  <a:srgbClr val="000000"/>
                </a:solidFill>
                <a:latin typeface="Arial"/>
                <a:ea typeface="Arial"/>
              </a:rPr>
              <a:t>26-28</a:t>
            </a:r>
            <a:r>
              <a:rPr b="0" lang="en-US" sz="2700" spc="-1" strike="noStrike">
                <a:solidFill>
                  <a:srgbClr val="000000"/>
                </a:solidFill>
                <a:latin typeface="Symbol"/>
                <a:ea typeface="Symbol"/>
              </a:rPr>
              <a:t></a:t>
            </a:r>
            <a:r>
              <a:rPr b="0" lang="en-US" sz="2700" spc="-1" strike="noStrike">
                <a:solidFill>
                  <a:srgbClr val="000000"/>
                </a:solidFill>
                <a:latin typeface="Arial"/>
                <a:ea typeface="Arial"/>
              </a:rPr>
              <a:t>C.</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Heat shock for warm water fishes 39-42</a:t>
            </a:r>
            <a:r>
              <a:rPr b="0" lang="en-US" sz="2700" spc="-1" strike="noStrike">
                <a:solidFill>
                  <a:srgbClr val="000000"/>
                </a:solidFill>
                <a:latin typeface="Symbol"/>
                <a:ea typeface="Symbol"/>
              </a:rPr>
              <a:t></a:t>
            </a:r>
            <a:r>
              <a:rPr b="0" lang="en-US" sz="2700" spc="-1" strike="noStrike">
                <a:solidFill>
                  <a:srgbClr val="000000"/>
                </a:solidFill>
                <a:latin typeface="Arial"/>
                <a:ea typeface="Arial"/>
              </a:rPr>
              <a:t>C.</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2" name="Title 1" descr=""/>
          <p:cNvPicPr/>
          <p:nvPr/>
        </p:nvPicPr>
        <p:blipFill>
          <a:blip r:embed="rId1"/>
          <a:stretch/>
        </p:blipFill>
        <p:spPr>
          <a:xfrm>
            <a:off x="268200" y="268200"/>
            <a:ext cx="842508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294920"/>
            <a:ext cx="8229600" cy="506124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Simple to administer.</a:t>
            </a:r>
            <a:endParaRPr b="0" lang="en-US" sz="27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Pressure range varies between 7000 to 9000 pascals (Psi).</a:t>
            </a:r>
            <a:endParaRPr b="0" lang="en-US" sz="27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The hydrostatic pressure is applied by  French Cell Press designed by mechanical engineering method.</a:t>
            </a:r>
            <a:endParaRPr b="0" lang="en-US" sz="27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t>
            </a:r>
            <a:endParaRPr b="0" lang="en-US" sz="27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Less side effect than the thermal shock.</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4" name="Title 1" descr=""/>
          <p:cNvPicPr/>
          <p:nvPr/>
        </p:nvPicPr>
        <p:blipFill>
          <a:blip r:embed="rId1"/>
          <a:stretch/>
        </p:blipFill>
        <p:spPr>
          <a:xfrm>
            <a:off x="291960" y="268200"/>
            <a:ext cx="8328240" cy="884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8T03:19:16Z</dcterms:created>
  <dc:creator>DELL</dc:creator>
  <dc:description/>
  <dc:language>en-US</dc:language>
  <cp:lastModifiedBy>HP</cp:lastModifiedBy>
  <dcterms:modified xsi:type="dcterms:W3CDTF">2020-03-27T06:28:53Z</dcterms:modified>
  <cp:revision>43</cp:revision>
  <dc:subject/>
  <dc:title>PowerPoint Presentation</dc:title>
</cp:coreProperties>
</file>