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36E-4035-44A3-A0EA-69A4CA73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2FC-C53D-4C48-90FD-4AF93F4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A8C-0DFB-4D0E-85D9-0F9BE1EB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4F2-94EF-4296-B910-710E08EF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036E-F63A-4D7C-843E-E7E87E27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E249-4466-450B-986D-B39B56C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E2D1-010B-4DEE-B5CC-EC843FB4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2315-0174-4842-85C1-638A508F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BE56-E811-46EE-B2D7-9EA7526A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121C-4A7E-4E7E-B7CA-40D06E7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A1CB-0694-483E-9F40-DD8758E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86E-D8E2-444B-807D-38660624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436-CA8A-4CAB-AA17-D45ED4FB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3DBD-873D-40EB-9A40-600F358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E7BC-AA51-4C92-BB33-A503A2F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040-FD15-44B5-AAC0-F928F739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1618-2305-4E55-B735-F917D856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5C3-8722-4876-A4CE-EF9507F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38A-0927-446F-BA28-CDDCE70B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133-0BB5-44FF-808A-93A9510F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1F7-8A96-43CF-A31D-8A051E95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F37-CD79-4823-8CCA-EA3DAAB0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3FE-D7E5-4F0B-83E1-DB14E8F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D44-0C9C-4867-A7AC-396535E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7415-43EF-4616-87D2-7584AE9D4A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7942-6BB9-4B98-9D8F-C625158F13F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 of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gi are classified according to their structure and method of reproduc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four main groups of fungi ar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mon molds (Zygomycot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ac fungi (Ascomycot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ub fungi (Basidiomycot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erfect fungi (Deuteromycot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Cycle of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Graphic1 copy"/>
          <p:cNvPicPr/>
          <p:nvPr/>
        </p:nvPicPr>
        <p:blipFill>
          <a:blip r:embed="rId1"/>
          <a:stretch/>
        </p:blipFill>
        <p:spPr>
          <a:xfrm>
            <a:off x="838080" y="1461960"/>
            <a:ext cx="7693200" cy="4981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4143240" y="4284720"/>
            <a:ext cx="14576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319560" y="4019400"/>
            <a:ext cx="258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exual Reprodu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459080" y="646128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sexual Reprodu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3" name="Picture 8" descr="key"/>
          <p:cNvPicPr/>
          <p:nvPr/>
        </p:nvPicPr>
        <p:blipFill>
          <a:blip r:embed="rId2"/>
          <a:srcRect l="2101" t="6010" r="3515" b="7316"/>
          <a:stretch/>
        </p:blipFill>
        <p:spPr>
          <a:xfrm>
            <a:off x="388800" y="1773360"/>
            <a:ext cx="1729080" cy="834840"/>
          </a:xfrm>
          <a:prstGeom prst="rect">
            <a:avLst/>
          </a:prstGeom>
          <a:ln w="0">
            <a:noFill/>
          </a:ln>
        </p:spPr>
      </p:pic>
      <p:sp>
        <p:nvSpPr>
          <p:cNvPr id="164" name="Freeform 9"/>
          <p:cNvSpPr/>
          <p:nvPr/>
        </p:nvSpPr>
        <p:spPr>
          <a:xfrm>
            <a:off x="6973920" y="3016080"/>
            <a:ext cx="1809720" cy="362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5964120" y="1415880"/>
            <a:ext cx="2686320" cy="187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Cycle of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sb4594f1_01"/>
          <p:cNvPicPr/>
          <p:nvPr/>
        </p:nvPicPr>
        <p:blipFill>
          <a:blip r:embed="rId1"/>
          <a:stretch/>
        </p:blipFill>
        <p:spPr>
          <a:xfrm>
            <a:off x="3432240" y="1981080"/>
            <a:ext cx="5711760" cy="382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4495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In asexual reproduction, spores called </a:t>
            </a:r>
            <a:r>
              <a:rPr b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conidia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form at tips of </a:t>
            </a:r>
            <a:r>
              <a:rPr b="1" i="1" lang="en-US" sz="2600" spc="-1" strike="noStrike">
                <a:solidFill>
                  <a:srgbClr val="292929"/>
                </a:solidFill>
                <a:latin typeface="Arial"/>
              </a:rPr>
              <a:t>conidiophores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idiophores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re specialized hypha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Cycle of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sb4594f1_02"/>
          <p:cNvPicPr/>
          <p:nvPr/>
        </p:nvPicPr>
        <p:blipFill>
          <a:blip r:embed="rId1"/>
          <a:stretch/>
        </p:blipFill>
        <p:spPr>
          <a:xfrm>
            <a:off x="3719520" y="1676520"/>
            <a:ext cx="5367240" cy="4805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745080" y="4352760"/>
            <a:ext cx="124452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508560" y="42721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ametang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929200" y="5803920"/>
            <a:ext cx="14097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5781600" y="5842080"/>
            <a:ext cx="19836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559480" y="5891040"/>
            <a:ext cx="24588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712840" y="56815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Mating type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275520" y="5222880"/>
            <a:ext cx="155736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6176880" y="5273640"/>
            <a:ext cx="12384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198120" y="5213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+ Mating type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7807320" y="3814920"/>
            <a:ext cx="11746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55480" y="37558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Hyphae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5732640" y="1862280"/>
            <a:ext cx="8762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684400" y="18018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Hyphae </a:t>
            </a:r>
            <a:br>
              <a:rPr sz="1800"/>
            </a:b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(N) +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Freeform 18"/>
          <p:cNvSpPr/>
          <p:nvPr/>
        </p:nvSpPr>
        <p:spPr>
          <a:xfrm>
            <a:off x="4632480" y="4559400"/>
            <a:ext cx="228600" cy="11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During sexual reproduction, haploid hyphae of two different mating types (+ and - ) grow close together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Cycle of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N + N hyphae then produce a fruiting body in which sexual reproduction continu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scu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forms within the fruiting bod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ithin the ascus, two nuclei of different mating types fuse to form a diploid zygote (2N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Cycle of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b4594f1_03"/>
          <p:cNvPicPr/>
          <p:nvPr/>
        </p:nvPicPr>
        <p:blipFill>
          <a:blip r:embed="rId1"/>
          <a:stretch/>
        </p:blipFill>
        <p:spPr>
          <a:xfrm>
            <a:off x="380880" y="2057400"/>
            <a:ext cx="8331480" cy="4560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5214960" y="2289240"/>
            <a:ext cx="85248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157720" y="23353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scus (N + 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162080" y="2041560"/>
            <a:ext cx="2260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221480" y="20350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Fruiting body (N + 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7353360" y="3214800"/>
            <a:ext cx="13460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7331040" y="31464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Zygote (2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151080" y="4500720"/>
            <a:ext cx="71748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3180240" y="44402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sc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Cycle of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zygote divides by meiosis, producing four haploid cell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most ascomycetes, meiosis is followed by mitosis, so that eight cells called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scospore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re produced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ascospore can germinate and grow into a haploid myceliu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Cycle of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25520" y="1247760"/>
            <a:ext cx="8642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2" name="Picture 5" descr="sb4594f1_04"/>
          <p:cNvPicPr/>
          <p:nvPr/>
        </p:nvPicPr>
        <p:blipFill>
          <a:blip r:embed="rId1"/>
          <a:stretch/>
        </p:blipFill>
        <p:spPr>
          <a:xfrm>
            <a:off x="228600" y="1158840"/>
            <a:ext cx="8370720" cy="458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Rectangle 6"/>
          <p:cNvSpPr/>
          <p:nvPr/>
        </p:nvSpPr>
        <p:spPr>
          <a:xfrm>
            <a:off x="1224000" y="4138560"/>
            <a:ext cx="1098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203480" y="406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Hypha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693960" y="3916440"/>
            <a:ext cx="14828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226040" y="4040280"/>
            <a:ext cx="493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160800" y="3738600"/>
            <a:ext cx="17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8 Ascospores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4940280" y="3429000"/>
            <a:ext cx="7174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941720" y="3308400"/>
            <a:ext cx="9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scu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272880" y="109548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77840" y="4419720"/>
            <a:ext cx="174600" cy="41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218880" y="4013280"/>
            <a:ext cx="726840" cy="403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eas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easts are unicellular fungi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easts reproduce asexually by budding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ry granules of yeast contain ascospores, which become active in a moist environmen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on M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miliar molds that grow on meat, cheese, and bread are members of the phylum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Zygomycot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ygomycetes have life cycles that include a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zygospor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zygospor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is a resting spore that contains zygotes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formed during the sexual phas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f the mold's life cycle.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373880" cy="14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and Function of Bread Mold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lack bread mold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Rhizopus stolonifer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is a zygomycet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lack bread mold has two types of hypha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hizoid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re rootlike hyphae that penetrate the bread's surfac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tolons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re stemlike hyphae that run along the surface of the brea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544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of a Black Bread M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ntitled-2"/>
          <p:cNvPicPr/>
          <p:nvPr/>
        </p:nvPicPr>
        <p:blipFill>
          <a:blip r:embed="rId1"/>
          <a:srcRect l="796" t="-390" r="532" b="1597"/>
          <a:stretch/>
        </p:blipFill>
        <p:spPr>
          <a:xfrm>
            <a:off x="990720" y="1676520"/>
            <a:ext cx="7138800" cy="4743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5715000" y="2176560"/>
            <a:ext cx="6350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959520" y="2773440"/>
            <a:ext cx="8478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556400" y="3116160"/>
            <a:ext cx="53028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702560" y="3286080"/>
            <a:ext cx="160200" cy="1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978360" y="5064120"/>
            <a:ext cx="450720" cy="1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413000" y="48988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sexual Reprodu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722920" y="447192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xual Reprodu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904000" y="3429000"/>
            <a:ext cx="1184040" cy="3459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IOSI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3689280" y="2424240"/>
            <a:ext cx="2117880" cy="425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of a Black Bread M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yphae from different mating types fuse and produce gamete-forming structures called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gametangi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6" descr="p531"/>
          <p:cNvPicPr/>
          <p:nvPr/>
        </p:nvPicPr>
        <p:blipFill>
          <a:blip r:embed="rId1"/>
          <a:stretch/>
        </p:blipFill>
        <p:spPr>
          <a:xfrm>
            <a:off x="1143000" y="2286000"/>
            <a:ext cx="567684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273720" y="4964040"/>
            <a:ext cx="3002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765040" y="48690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Mating type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319800" y="4454640"/>
            <a:ext cx="188604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775840" y="43974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+ Mating type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104440" y="59450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tol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021280" y="5425920"/>
            <a:ext cx="345960" cy="565200"/>
          </a:xfrm>
          <a:prstGeom prst="line">
            <a:avLst/>
          </a:prstGeom>
          <a:ln w="316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145760" y="62704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hizoid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414600" y="5832360"/>
            <a:ext cx="774720" cy="601920"/>
          </a:xfrm>
          <a:prstGeom prst="line">
            <a:avLst/>
          </a:prstGeom>
          <a:ln w="316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3565440" y="6434280"/>
            <a:ext cx="636840" cy="0"/>
          </a:xfrm>
          <a:prstGeom prst="line">
            <a:avLst/>
          </a:prstGeom>
          <a:ln w="316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6693120" y="28764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ametang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Freeform 18"/>
          <p:cNvSpPr/>
          <p:nvPr/>
        </p:nvSpPr>
        <p:spPr>
          <a:xfrm>
            <a:off x="5753160" y="3030480"/>
            <a:ext cx="995400" cy="428760"/>
          </a:xfrm>
          <a:prstGeom prst="pie">
            <a:avLst/>
          </a:prstGeom>
          <a:noFill/>
          <a:ln w="284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>
            <a:off x="5022360" y="2556000"/>
            <a:ext cx="568440" cy="266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of a Black Bread M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24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aploid (N) gametes produced in the gametangia fuse with gametes of the opposite mating type to form diploid (2N) zygot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ygotes develop into thick-walled zygospor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4" descr="21-5_02"/>
          <p:cNvPicPr/>
          <p:nvPr/>
        </p:nvPicPr>
        <p:blipFill>
          <a:blip r:embed="rId1"/>
          <a:stretch/>
        </p:blipFill>
        <p:spPr>
          <a:xfrm>
            <a:off x="4952880" y="2209680"/>
            <a:ext cx="41911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of a Black Bread M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In favorable conditions, the zygospore germinates, undergoes meiosis, and releases new haploid spores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4" descr="21-5_03"/>
          <p:cNvPicPr/>
          <p:nvPr/>
        </p:nvPicPr>
        <p:blipFill>
          <a:blip r:embed="rId1"/>
          <a:stretch/>
        </p:blipFill>
        <p:spPr>
          <a:xfrm>
            <a:off x="4210200" y="2330280"/>
            <a:ext cx="4070160" cy="4527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7810560" y="3465360"/>
            <a:ext cx="484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648560" y="3406680"/>
            <a:ext cx="19836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705800" y="34513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pores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932520" y="3027240"/>
            <a:ext cx="83520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270920" y="287172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porangium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418000" y="2387520"/>
            <a:ext cx="80820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032440" y="240660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Zygospore (2N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5848200" y="4270320"/>
            <a:ext cx="110808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829040" y="4275000"/>
            <a:ext cx="19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Zygospore (2N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5224320" y="5554800"/>
            <a:ext cx="182412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5380200" y="52466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xual Reprodu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1" name="Picture 16" descr="key"/>
          <p:cNvPicPr/>
          <p:nvPr/>
        </p:nvPicPr>
        <p:blipFill>
          <a:blip r:embed="rId2"/>
          <a:srcRect l="2101" t="6003" r="3502" b="7293"/>
          <a:stretch/>
        </p:blipFill>
        <p:spPr>
          <a:xfrm>
            <a:off x="2438280" y="4191120"/>
            <a:ext cx="1600200" cy="774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5627520" y="3691080"/>
            <a:ext cx="1184400" cy="412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IOSI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of a Black Bread M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21-5_05"/>
          <p:cNvPicPr/>
          <p:nvPr/>
        </p:nvPicPr>
        <p:blipFill>
          <a:blip r:embed="rId1"/>
          <a:stretch/>
        </p:blipFill>
        <p:spPr>
          <a:xfrm>
            <a:off x="2558880" y="1652760"/>
            <a:ext cx="6118560" cy="4965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957840" y="3220920"/>
            <a:ext cx="133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pores (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696120" y="3733920"/>
            <a:ext cx="1948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porangiopho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787520" y="4379760"/>
            <a:ext cx="113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hizoid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830920" y="1754280"/>
            <a:ext cx="32364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900760" y="1650960"/>
            <a:ext cx="16668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627320" y="237636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porangiu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7058160" y="2484360"/>
            <a:ext cx="566640" cy="81000"/>
          </a:xfrm>
          <a:prstGeom prst="line">
            <a:avLst/>
          </a:prstGeom>
          <a:ln w="316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7284960" y="4148280"/>
            <a:ext cx="490680" cy="866520"/>
          </a:xfrm>
          <a:prstGeom prst="pie">
            <a:avLst/>
          </a:prstGeom>
          <a:noFill/>
          <a:ln w="3168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Freeform 13"/>
          <p:cNvSpPr/>
          <p:nvPr/>
        </p:nvSpPr>
        <p:spPr>
          <a:xfrm>
            <a:off x="4618080" y="2766960"/>
            <a:ext cx="433440" cy="490680"/>
          </a:xfrm>
          <a:prstGeom prst="pie">
            <a:avLst/>
          </a:prstGeom>
          <a:noFill/>
          <a:ln w="3168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 flipH="1">
            <a:off x="5622840" y="3224160"/>
            <a:ext cx="547920" cy="666720"/>
          </a:xfrm>
          <a:prstGeom prst="line">
            <a:avLst/>
          </a:prstGeom>
          <a:ln w="316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exual Reprodu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c 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phylum Ascomycota is named for the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scu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a reproductive structure that contains spor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ife cycle of an ascomycete usually includes both asexual and sexual reproduc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21:14:06Z</dcterms:created>
  <dc:creator>Administrator</dc:creator>
  <dc:description/>
  <dc:language>en-US</dc:language>
  <cp:lastModifiedBy>HP</cp:lastModifiedBy>
  <dcterms:modified xsi:type="dcterms:W3CDTF">2016-12-07T07:31:39Z</dcterms:modified>
  <cp:revision>2</cp:revision>
  <dc:subject/>
  <dc:title>Classification of Fungi</dc:title>
</cp:coreProperties>
</file>