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1135080" y="68868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3"/>
          </p:nvPr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2C0C54-24A6-49D8-B312-F6B13E302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9803C-F399-45F5-B22B-5CB8BDBA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91AAAD-BD37-43DF-914F-6B5B90833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30200" y="1611360"/>
            <a:ext cx="8524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6004080" y="6089760"/>
            <a:ext cx="28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All Slide"/>
          <p:cNvPicPr/>
          <p:nvPr/>
        </p:nvPicPr>
        <p:blipFill>
          <a:blip r:embed="rId3"/>
          <a:stretch/>
        </p:blipFill>
        <p:spPr>
          <a:xfrm>
            <a:off x="0" y="0"/>
            <a:ext cx="914400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303120" y="6581880"/>
            <a:ext cx="8840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7485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0" y="6588000"/>
            <a:ext cx="9144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8512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Wolters Kluwer Health | Lippincott Williams &amp; Wilk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9"/>
          <p:cNvSpPr/>
          <p:nvPr/>
        </p:nvSpPr>
        <p:spPr>
          <a:xfrm>
            <a:off x="1219320" y="2666880"/>
            <a:ext cx="6705360" cy="3505320"/>
          </a:xfrm>
          <a:prstGeom prst="rect">
            <a:avLst/>
          </a:prstGeom>
          <a:noFill/>
          <a:ln w="19080">
            <a:solidFill>
              <a:srgbClr val="1974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Master slide"/>
          <p:cNvPicPr/>
          <p:nvPr/>
        </p:nvPicPr>
        <p:blipFill>
          <a:blip r:embed="rId3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3"/>
          <p:cNvSpPr/>
          <p:nvPr/>
        </p:nvSpPr>
        <p:spPr>
          <a:xfrm>
            <a:off x="0" y="6588000"/>
            <a:ext cx="9144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8512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Wolters Kluwer Health | Lippincott Williams &amp; Wilk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23640" y="1693440"/>
            <a:ext cx="6692760" cy="3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irect and Indirect Calorimetery 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2836800"/>
            <a:ext cx="64008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3"/>
          <p:cNvSpPr/>
          <p:nvPr/>
        </p:nvSpPr>
        <p:spPr>
          <a:xfrm>
            <a:off x="2459160" y="121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.: 1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osed-Circuit Spirometry cont’d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exercise, closed-circuit spirometry measurement becomes problem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ject must remain close to the bulky equi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rcuit offers considerable resistance to accommodate the large breathing volumes during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moval lags behind its production rate during intense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Open-Circuit Spirometry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 relatively simple, practical way to measur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ption and infer energy expendi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dur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ject inhales ambient air with a constant composition (20.93%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0.03%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, 79.04% nitrogen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in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% in expired air compared with the % in inspired ambient air indirectly reflect the ongoing process of energy metabo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47840" y="333360"/>
            <a:ext cx="8248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0200" y="1450440"/>
            <a:ext cx="8524800" cy="76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Indirect Open-Circuit Calorimetry Procedure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29760" y="261108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able spirome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g techniq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ized instr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7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hemical Gas Analyzers for Calibration Purpose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29760" y="256500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cro-Scholander technique: Measures oxygen and carbon dioxide concentration in expired air in about 10 minutes to an accuracy of ± 0.015 mL per 100 mL of g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ldane method: Uses a larger air sample and requires between 10 and 15 minutes to complete one analy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0200" y="120024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Micro-Scholander and Haldane gas analyzer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99" name="Picture 5" descr="D:\D\Projects\FRC\McArdle\Project_SRC\Image_Bank\image_bank\images\preview\figure_8.7.jpg"/>
          <p:cNvPicPr/>
          <p:nvPr/>
        </p:nvPicPr>
        <p:blipFill>
          <a:blip r:embed="rId1"/>
          <a:stretch/>
        </p:blipFill>
        <p:spPr>
          <a:xfrm>
            <a:off x="3544920" y="2050920"/>
            <a:ext cx="20541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oubly Labeled Water Technique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 safe way to estimate total daily energy expenditure in free-living conditions without the normal constraints imposed by laboratory procedu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nsive and needs sophisticated measurement equi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oubly Labeled Water Technique cont’d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29760" y="2031840"/>
            <a:ext cx="8613720" cy="36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5600" indent="-255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ject consumes water with a known concentration of stable isotopes of hydrogen and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eled hydrogen leaves the body in sweat, urine, and pulmonary water vapor, labeled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ves as both water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ces between elimination rates of isotopes relative to the body’s normal levels estimate total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d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96200" indent="-20772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ption is estimated fro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tion and an assumed respiratory quotient value of 0.8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oubly Labeled Water Technique cont’d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in 3-5% compared to directly measured energy expenditure in controlled set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n ideal way to assess total energy expenditure over prolonged periods including bed rest and extreme activiti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backs include the cost of the water and expense incurred in spectrometric analysis of both isoto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16000" y="361800"/>
            <a:ext cx="84708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0200" y="941040"/>
            <a:ext cx="8524800" cy="10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Measuring the Body’s Heat Produc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of the body’s metabolic processes result in heat prod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ate of heat production operationally defines the rate of energy metabo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alorie is the basic unit of heat measuremen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orimetry defines the measurement of heat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 calorimetr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irect calorimet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Respiratory Quotien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bohydrate, fat, and protein require different amounts of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complete oxidation of each molecule’s carbon and hydrogen atoms to th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water end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piratory quotient (RQ) describes this ratio of metabolic gas exchan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Q =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duced ÷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onsum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a convenient guide to approximate the nutrient mixture catabolized for energy during rest and aerobic exerc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RQ for Macronutrient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bohydrate RQ=1.00 because gas exchange during glucose oxidation produces a number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lecules equal to the number of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lecules consum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t RQ=0.70 because fat catabolism requires mor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relation 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ein RQ=0.82 because proteins require more oxygen in relation to carbon dioxide produc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Q seldom reflects oxidation of one macronutrient, but instead a mixture with an RQ intermediate between 0.70-1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Respiratory Exchange Ratio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flects the ratio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roduced to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med when  factors other than food combustion alter the exchange of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lungs and the ratio of gas exchange no longer reflects only the substrate mixture of energy metabol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computed in the same manner as R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16000" y="322200"/>
            <a:ext cx="86328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an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0200" y="12621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irect and indirect heat measuremen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76" name="Picture 5" descr="D:\D\Projects\FRC\McArdle\Project_SRC\Image_Bank\image_bank\images\preview\figure_8.1.jpg"/>
          <p:cNvPicPr/>
          <p:nvPr/>
        </p:nvPicPr>
        <p:blipFill>
          <a:blip r:embed="rId1"/>
          <a:stretch/>
        </p:blipFill>
        <p:spPr>
          <a:xfrm>
            <a:off x="2346480" y="1886040"/>
            <a:ext cx="4448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irect Calorimetry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75400" indent="-2754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ly measures energy expenditure during rest and physical activ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s considerable theoretical implications but limited practical applications in hum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963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urate measurements of heat production in the calorimeter require considerable time and expense and formidable engineering expert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963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orimeters remain inapplicable for energy determinations for most sport, occupational, and recreational activ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30200" y="129060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Human calorimeter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80" name="Picture 5" descr="D:\D\Projects\FRC\McArdle\Project_SRC\Image_Bank\image_bank\images\preview\figure_8.2.jpg"/>
          <p:cNvPicPr/>
          <p:nvPr/>
        </p:nvPicPr>
        <p:blipFill>
          <a:blip r:embed="rId1"/>
          <a:stretch/>
        </p:blipFill>
        <p:spPr>
          <a:xfrm>
            <a:off x="1947960" y="1952640"/>
            <a:ext cx="5244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alorimeter Type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29760" y="228888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75400" indent="-27540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flow calorimeter: The temperature change in air that flows through an insulated space, multiplied by the air’s mass and specific heat, determines heat p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er calorimeter: A change in temperature occurs in water flowing through coils in environmentally self-contained body suits worn by astrona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ient layer calorimetry: Measures body heat that flows from subject through a sheet of insulating materi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rage calorimetry: Subject sits in an insulated tank surrounded by a known mass of water at a constant temperature and the heat given off by the subject changes the temperature of the surrounding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0200" y="161136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Indirect Calorimetry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nergy-releasing reactions in humans depend on oxygen use so measuring oxygen consumption during physical activities provides an indirect yet accurate estimate of energy expendi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9640" indent="-269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simpler and less expens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9640" indent="-269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ields results comparable to direct measurement in the human calorime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9640" indent="-269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wo type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7280" indent="-38844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d-circuit spiromet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7280" indent="-38844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-circuit spirome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9640" indent="-26964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0200" y="1275840"/>
            <a:ext cx="8524800" cy="3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osed-Circuit Spirometry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29760" y="209520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5600" indent="-255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e method and is able to directly measur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mption but has limited practical ap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dur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breathes 100%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prefilled spiro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losed system because the subject rebreathes only the gas in the spirome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nister of potassium hydroxide placed in the breathing circuit absorbs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exhaled 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6792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rum attached to the spirometer revolves at a known speed to record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d from changes in the system’s total volu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0200" y="1305000"/>
            <a:ext cx="852480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osed-circuit method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88" name="Picture 5" descr="D:\D\Projects\FRC\McArdle\Project_SRC\Image_Bank\image_bank\images\preview\figure_8.3.jpg"/>
          <p:cNvPicPr/>
          <p:nvPr/>
        </p:nvPicPr>
        <p:blipFill>
          <a:blip r:embed="rId1"/>
          <a:stretch/>
        </p:blipFill>
        <p:spPr>
          <a:xfrm>
            <a:off x="2333520" y="1930320"/>
            <a:ext cx="447372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9:07:27Z</dcterms:created>
  <dc:creator>Dale Gray</dc:creator>
  <dc:description/>
  <dc:language>en-US</dc:language>
  <cp:lastModifiedBy>sanjay kumar</cp:lastModifiedBy>
  <cp:lastPrinted>2001-01-03T19:47:24Z</cp:lastPrinted>
  <dcterms:modified xsi:type="dcterms:W3CDTF">2019-05-06T10:20:49Z</dcterms:modified>
  <cp:revision>102</cp:revision>
  <dc:subject/>
  <dc:title>LWW PPT Slide Template Master</dc:title>
</cp:coreProperties>
</file>