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902040" y="-360"/>
            <a:ext cx="298440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939960" y="752400"/>
            <a:ext cx="500832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0" y="9518400"/>
            <a:ext cx="298440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902040" y="9518400"/>
            <a:ext cx="298440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4B0C-6947-4F90-840C-882D5D21B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39960" y="75240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902040" y="9518760"/>
            <a:ext cx="2984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757D-3E90-4C7E-B734-2BB068990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902040" y="9518760"/>
            <a:ext cx="2984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9BF1-4271-48C3-AD0B-7826545B49F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39960" y="75240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39960" y="75240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902040" y="9518760"/>
            <a:ext cx="2984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9F4A-13C8-4BD5-8617-477DCDF0A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C180-5D67-4FB4-98AE-1B8A23908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C62B-0BA3-4497-A0BC-3BDBA2D8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532C-4C66-41E5-87D7-E72DA9360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C4F6-E5B1-4371-AC9C-B427CFA1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E8F5-68FC-4764-BD2F-D36B7EB77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6910-93C9-4642-94B5-687556F1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F46F-53F5-430A-AEBB-F1436706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E217-9154-43C0-880D-309FBF83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2BCB-EA55-48C5-A7CD-B62CCC78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8A78-45BC-4AAA-B412-B0D2B5C2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30D1-4A9F-468E-99F4-B53640B2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DF84-4F5B-4DB2-9DD1-3FDCA527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7331-554B-448D-8211-D25BD31A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55FB-A260-4623-B842-94557850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F4D9-199F-4C66-BB44-E41C3082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7530-850D-406D-BC2C-DD30C07D8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8009-121D-4CC8-9B2B-2F2B287E8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1F6BA-D283-45CD-9958-6F102D3A0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57290-0C4B-4FB5-9BF6-76263B40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BF406-4CDF-4037-A6EE-E5D02153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C8FAD-15BE-4453-87AA-AD4038C6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8138A-9C44-450C-A576-15CE87A9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8CAA-5F06-4040-B76E-3214DE4A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22CA9-D47B-46D8-87C7-5FB1242B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27B7F-70AD-48C8-90D9-08576EE2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83F8B-D010-4ED0-9CAA-3E26C7EF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FAD72-3EBF-4792-8A0C-AAE7F278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B58B2-091C-4C62-A3A3-B6B67218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0AAFE-220C-464F-BFC7-C13E20BA0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A4DD6-C6EA-433F-9276-5039DACAE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5E173-C4A2-4654-9D75-06A1927E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39521-F224-424F-8ABA-6C848EA0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3BCB6-E924-4A1F-93E4-C414360D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E77F-1C54-449E-8F33-C8A805BC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8C67D-E975-4551-952D-9FE12901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3A254-C161-406D-8978-E73471E0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26900-5B28-46A6-965F-FFD6002C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B0B8B-157E-4A93-AC4F-0F51FEC3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8BDFD-2B89-4314-A23F-D3209FB5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14ACB-B0B7-489E-B15E-CC5BCBD1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E15FB-554B-4DD8-9211-6CAD5461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7C79E-7391-48DC-A821-051664965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7BC46-5C82-4C48-9C01-B247DFCE9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E46D1-6FE7-4A14-9F5E-16B03731D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7382-7A4B-4A63-A193-E4702AF2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0C36A-AE42-4D6E-AE38-672C5E0D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9A4BB-0646-4347-9420-B8964818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45E3F-B5D1-43A3-BE60-B926BF7F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E0079-4D08-48D6-ADF2-545A62F0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722A5-D59F-4FDF-B59A-D4D77FA6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F5279-781E-4507-96F4-DCC1C78E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B911A-E284-4872-A157-D4DFF276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42E4C-9897-4248-B938-0AE7222C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5A5B8-6868-4479-9398-0A2C4F2E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029C9-CAC2-4132-AC18-60099B12C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7166-FE2D-42AB-9ED2-F2F702CD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FF2CA-C0A8-456F-8F3D-7E89292A9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F9B50-AABA-412A-B32F-0E77C6E14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88520-B812-4F52-997B-0332FC00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7EF3B-405F-40BC-A9AA-25CEA7FA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9E44F-8911-4939-8873-32860A02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D4B86-6F8B-4843-A446-64924054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61520-5E90-406D-97BE-CDDCC8A8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9D30E-8D85-43EA-8450-02FA2F8F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10C1C-72F4-4C22-A79A-7BFA5299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FDCF3-6F7C-4811-A364-3A09C6C4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A3B5-3799-41BB-875D-D34D7BE6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5EFC7-1221-49E0-B544-70F6D050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24282-3984-447C-B0F2-E656297BE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B62A1-2F76-4379-A08E-AEC65C945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69852-8BB3-4956-8817-36DDDBB26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84F72-BBB8-4E9F-AAAE-634A254A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14289-DDF0-4101-8A86-F9DF08C7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1A6EF-2CA2-4FC8-94D6-BAFB71E0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B58CF-28BD-472F-BD34-B8A915A1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88365-4677-4FA6-93C2-A5B9BA35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71EA2-BAF9-4C3E-BA00-A737954E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E995-3D17-4FD4-9BCC-19AE1B41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8861F-81D4-4F1C-AFCF-2E920E28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09050-EB80-4C3A-A5CD-216FDC38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32B8E-BF3D-471D-A11E-D413310F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C6730-B81F-4983-A4DE-4019820D1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6445F-647B-4CED-895B-EFE0529A6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17D2-98F0-4EF4-BD96-8D6D8A7C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4C3A-3965-477C-878D-3CC458A029D1}" type="slidenum">
              <a:rPr b="0" lang="en-I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CD0C-AA10-4ADB-9FF2-AD1749CC2E8F}" type="slidenum">
              <a:rPr b="0" lang="en-I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519D-9EB3-4502-A769-9B53A36327D2}" type="slidenum">
              <a:rPr b="0" lang="en-I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BA8D-AE24-4C85-907A-403312492FCD}" type="slidenum">
              <a:rPr b="0" lang="en-I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8337-5EC9-4EC9-A2AA-F4AB8FEE7926}" type="slidenum">
              <a:rPr b="0" lang="en-I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D9AB-2177-4772-8C64-8C9E2FC54370}" type="slidenum">
              <a:rPr b="0" lang="en-I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1E7C-D02C-4FE2-A28B-7A74D11FD387}" type="slidenum">
              <a:rPr b="0" lang="en-I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4" descr="00102604"/>
          <p:cNvPicPr/>
          <p:nvPr/>
        </p:nvPicPr>
        <p:blipFill>
          <a:blip r:embed="rId1">
            <a:lum contrast="10000"/>
          </a:blip>
          <a:srcRect l="7015" t="2781" r="6138" b="5553"/>
          <a:stretch/>
        </p:blipFill>
        <p:spPr>
          <a:xfrm>
            <a:off x="2500200" y="1285920"/>
            <a:ext cx="5214960" cy="347652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36640" y="1856880"/>
            <a:ext cx="74073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572314"/>
                </a:solidFill>
                <a:latin typeface="Arial"/>
                <a:ea typeface="Arial"/>
              </a:rPr>
              <a:t>  </a:t>
            </a:r>
            <a:r>
              <a:rPr b="1" lang="en-US" sz="3600" spc="-1" strike="noStrike">
                <a:solidFill>
                  <a:srgbClr val="572314"/>
                </a:solidFill>
                <a:latin typeface="Arial"/>
                <a:ea typeface="Arial"/>
              </a:rPr>
              <a:t>GENES </a:t>
            </a:r>
            <a:br>
              <a:rPr sz="3600"/>
            </a:br>
            <a:r>
              <a:rPr b="1" lang="en-US" sz="3600" spc="-1" strike="noStrike">
                <a:solidFill>
                  <a:srgbClr val="572314"/>
                </a:solidFill>
                <a:latin typeface="Arial"/>
                <a:ea typeface="Arial"/>
              </a:rPr>
              <a:t>&amp; </a:t>
            </a:r>
            <a:br>
              <a:rPr sz="3600"/>
            </a:br>
            <a:r>
              <a:rPr b="1" lang="en-US" sz="3600" spc="-1" strike="noStrike">
                <a:solidFill>
                  <a:srgbClr val="572314"/>
                </a:solidFill>
                <a:latin typeface="Arial"/>
                <a:ea typeface="Arial"/>
              </a:rPr>
              <a:t>CHROMOSOMES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7" name="Picture 10" descr="dna-big"/>
          <p:cNvPicPr/>
          <p:nvPr/>
        </p:nvPicPr>
        <p:blipFill>
          <a:blip r:embed="rId2"/>
          <a:stretch/>
        </p:blipFill>
        <p:spPr>
          <a:xfrm>
            <a:off x="0" y="0"/>
            <a:ext cx="1214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28" name="Group 5"/>
          <p:cNvGrpSpPr/>
          <p:nvPr/>
        </p:nvGrpSpPr>
        <p:grpSpPr>
          <a:xfrm>
            <a:off x="1857240" y="4672080"/>
            <a:ext cx="7072560" cy="2166120"/>
            <a:chOff x="1857240" y="4672080"/>
            <a:chExt cx="7072560" cy="2166120"/>
          </a:xfrm>
        </p:grpSpPr>
        <p:sp>
          <p:nvSpPr>
            <p:cNvPr id="329" name="Rectangle 6"/>
            <p:cNvSpPr/>
            <p:nvPr/>
          </p:nvSpPr>
          <p:spPr>
            <a:xfrm>
              <a:off x="1857240" y="4672080"/>
              <a:ext cx="7072560" cy="21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00000"/>
                  </a:solidFill>
                  <a:latin typeface="Arial"/>
                </a:rPr>
                <a:t>Dr V.P.Sain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2060"/>
                  </a:solidFill>
                  <a:latin typeface="Arial"/>
                </a:rPr>
                <a:t>Prof. &amp; Dea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b050"/>
                  </a:solidFill>
                  <a:latin typeface="Arial"/>
                </a:rPr>
                <a:t>College of Fisheries, Kishangan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Picture 7" descr="C:\Users\HP\Desktop\Seal.jpg"/>
            <p:cNvPicPr/>
            <p:nvPr/>
          </p:nvPicPr>
          <p:blipFill>
            <a:blip r:embed="rId3"/>
            <a:srcRect l="7862" t="6853" r="7862" b="5557"/>
            <a:stretch/>
          </p:blipFill>
          <p:spPr>
            <a:xfrm>
              <a:off x="7501320" y="5286240"/>
              <a:ext cx="947880" cy="924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GENE EXPRESSIO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 the molecular mechanism by which a gene produces specific phenotyp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ich controls a specific metabolic actici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2" name="Picture 10" descr="dna-big"/>
          <p:cNvPicPr/>
          <p:nvPr/>
        </p:nvPicPr>
        <p:blipFill>
          <a:blip r:embed="rId1"/>
          <a:stretch/>
        </p:blipFill>
        <p:spPr>
          <a:xfrm>
            <a:off x="0" y="0"/>
            <a:ext cx="1214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4" descr="00102604"/>
          <p:cNvPicPr/>
          <p:nvPr/>
        </p:nvPicPr>
        <p:blipFill>
          <a:blip r:embed="rId1"/>
          <a:srcRect l="7015" t="2781" r="6138" b="5553"/>
          <a:stretch/>
        </p:blipFill>
        <p:spPr>
          <a:xfrm>
            <a:off x="1071720" y="0"/>
            <a:ext cx="8072280" cy="68580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GEN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285920" y="1214280"/>
            <a:ext cx="74008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gene is a unit of information which is held as a code in a discrete segment of DN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is code specifies the  amino acid sequence of a protein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ons- The coding parts of a gene sequenc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rons-The non coding parts of a gene           sequenc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6" name="Picture 10" descr="dna-big"/>
          <p:cNvPicPr/>
          <p:nvPr/>
        </p:nvPicPr>
        <p:blipFill>
          <a:blip r:embed="rId2"/>
          <a:stretch/>
        </p:blipFill>
        <p:spPr>
          <a:xfrm>
            <a:off x="0" y="0"/>
            <a:ext cx="1214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4" descr="00102604"/>
          <p:cNvPicPr/>
          <p:nvPr/>
        </p:nvPicPr>
        <p:blipFill>
          <a:blip r:embed="rId1"/>
          <a:srcRect l="7015" t="2781" r="6138" b="5553"/>
          <a:stretch/>
        </p:blipFill>
        <p:spPr>
          <a:xfrm>
            <a:off x="1071720" y="0"/>
            <a:ext cx="8072280" cy="685800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Activities of genes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285920" y="1285560"/>
            <a:ext cx="7400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gene can be replicated  -  genetic information can be passed from generation to generation unchange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sequences of bases in the RNA depends directly on the sequences of bases in the gen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gene can accept occasional changes, or mutation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0" name="Picture 10" descr="dna-big"/>
          <p:cNvPicPr/>
          <p:nvPr/>
        </p:nvPicPr>
        <p:blipFill>
          <a:blip r:embed="rId2"/>
          <a:stretch/>
        </p:blipFill>
        <p:spPr>
          <a:xfrm>
            <a:off x="0" y="0"/>
            <a:ext cx="1214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4" descr="00102604"/>
          <p:cNvPicPr/>
          <p:nvPr/>
        </p:nvPicPr>
        <p:blipFill>
          <a:blip r:embed="rId1"/>
          <a:srcRect l="7015" t="2781" r="6138" b="5553"/>
          <a:stretch/>
        </p:blipFill>
        <p:spPr>
          <a:xfrm>
            <a:off x="1071720" y="0"/>
            <a:ext cx="807228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CHROMOSOM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e chromosomes are darkly stained small bodies present in the nucleus and determine the mechanism of inheritanc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hromosomes are the physical structures which act as messenger of heredity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fter specific staining, it can be clearly seen during mitotic cell division during the metaphase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4" name="Picture 10" descr="dna-big"/>
          <p:cNvPicPr/>
          <p:nvPr/>
        </p:nvPicPr>
        <p:blipFill>
          <a:blip r:embed="rId2"/>
          <a:stretch/>
        </p:blipFill>
        <p:spPr>
          <a:xfrm>
            <a:off x="0" y="0"/>
            <a:ext cx="1214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4" descr="00102604"/>
          <p:cNvPicPr/>
          <p:nvPr/>
        </p:nvPicPr>
        <p:blipFill>
          <a:blip r:embed="rId1"/>
          <a:srcRect l="7015" t="2781" r="6138" b="5553"/>
          <a:stretch/>
        </p:blipFill>
        <p:spPr>
          <a:xfrm>
            <a:off x="1071720" y="0"/>
            <a:ext cx="807228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Contd…..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all eukaryotic organisms including fishes, the DNA molecules in the nucleus are combined  into proteins, mainly histones, to make chromosom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nes are located on structures called “chromosomes”, which are located in the nucleus of every cel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8" name="Picture 10" descr="dna-big"/>
          <p:cNvPicPr/>
          <p:nvPr/>
        </p:nvPicPr>
        <p:blipFill>
          <a:blip r:embed="rId2"/>
          <a:stretch/>
        </p:blipFill>
        <p:spPr>
          <a:xfrm>
            <a:off x="0" y="0"/>
            <a:ext cx="1214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4" descr="00102604"/>
          <p:cNvPicPr/>
          <p:nvPr/>
        </p:nvPicPr>
        <p:blipFill>
          <a:blip r:embed="rId1"/>
          <a:srcRect l="7015" t="2781" r="6138" b="5553"/>
          <a:stretch/>
        </p:blipFill>
        <p:spPr>
          <a:xfrm>
            <a:off x="1071720" y="0"/>
            <a:ext cx="8072280" cy="68580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Diploid chromosom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chromosome number in the cells of the body is normally made up of two sets, one of maternal (female) and one of paternal (male) origin,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 denoted by 2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2" name="Picture 10" descr="dna-big"/>
          <p:cNvPicPr/>
          <p:nvPr/>
        </p:nvPicPr>
        <p:blipFill>
          <a:blip r:embed="rId2"/>
          <a:stretch/>
        </p:blipFill>
        <p:spPr>
          <a:xfrm>
            <a:off x="0" y="0"/>
            <a:ext cx="1214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Haploid chromosome</a:t>
            </a:r>
            <a:r>
              <a:rPr b="0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single set of chromosomes found in a mature egg or in a spermatozoa is known a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aploid s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denoted by 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 haploid set of chromosome is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no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en more than two sets of chromosomes occur in cells, the condition is term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lyploi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5" name="Picture 10" descr="dna-big"/>
          <p:cNvPicPr/>
          <p:nvPr/>
        </p:nvPicPr>
        <p:blipFill>
          <a:blip r:embed="rId1"/>
          <a:stretch/>
        </p:blipFill>
        <p:spPr>
          <a:xfrm>
            <a:off x="0" y="0"/>
            <a:ext cx="1214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4" descr="00102604"/>
          <p:cNvPicPr/>
          <p:nvPr/>
        </p:nvPicPr>
        <p:blipFill>
          <a:blip r:embed="rId1"/>
          <a:srcRect l="7015" t="2781" r="6138" b="5553"/>
          <a:stretch/>
        </p:blipFill>
        <p:spPr>
          <a:xfrm>
            <a:off x="1071720" y="0"/>
            <a:ext cx="807228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72314"/>
                </a:solidFill>
                <a:latin typeface="Arial"/>
                <a:ea typeface="Arial"/>
              </a:rPr>
              <a:t>Chromosome classification by centromeric position</a:t>
            </a:r>
            <a:br>
              <a:rPr sz="2600"/>
            </a:br>
            <a:endParaRPr b="0" lang="en-US" sz="2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tacentric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b- metacentric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b- telocentric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rocentric or telocentric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9" name="Picture 10" descr="dna-big"/>
          <p:cNvPicPr/>
          <p:nvPr/>
        </p:nvPicPr>
        <p:blipFill>
          <a:blip r:embed="rId2"/>
          <a:stretch/>
        </p:blipFill>
        <p:spPr>
          <a:xfrm>
            <a:off x="0" y="0"/>
            <a:ext cx="1214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00102604"/>
          <p:cNvPicPr/>
          <p:nvPr/>
        </p:nvPicPr>
        <p:blipFill>
          <a:blip r:embed="rId1"/>
          <a:srcRect l="7015" t="2781" r="6138" b="5553"/>
          <a:stretch/>
        </p:blipFill>
        <p:spPr>
          <a:xfrm>
            <a:off x="1071720" y="0"/>
            <a:ext cx="8072280" cy="68580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etacentric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entrom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located approximately at the centre of the chromosome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ir arms are approximately equal and they appear U or V shape during movemen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b- metacentri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en  the centromere  lies a little distance away from the middle of the chromosomes may be called sub-metacentric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2" name="Picture 10" descr="dna-big"/>
          <p:cNvPicPr/>
          <p:nvPr/>
        </p:nvPicPr>
        <p:blipFill>
          <a:blip r:embed="rId2"/>
          <a:stretch/>
        </p:blipFill>
        <p:spPr>
          <a:xfrm>
            <a:off x="0" y="0"/>
            <a:ext cx="1214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4" descr="00102604"/>
          <p:cNvPicPr/>
          <p:nvPr/>
        </p:nvPicPr>
        <p:blipFill>
          <a:blip r:embed="rId1"/>
          <a:srcRect l="7015" t="2781" r="6138" b="5553"/>
          <a:stretch/>
        </p:blipFill>
        <p:spPr>
          <a:xfrm>
            <a:off x="1071720" y="0"/>
            <a:ext cx="807228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ub- telocentric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entromere is located at sub-terminal position of the chromosome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One arm is much longer than the other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ey appear J or L-shaped during movement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crocentric or telocentric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entromere is located at the end (terminal) of the   chromosome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is is the most common karyotypes among fish species, and also it is found in a variety of distantly related fish taxa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5" name="Picture 10" descr="dna-big"/>
          <p:cNvPicPr/>
          <p:nvPr/>
        </p:nvPicPr>
        <p:blipFill>
          <a:blip r:embed="rId2"/>
          <a:stretch/>
        </p:blipFill>
        <p:spPr>
          <a:xfrm>
            <a:off x="0" y="0"/>
            <a:ext cx="1214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Genes are made up of DNA. Each chromosome contains many genes."/>
          <p:cNvPicPr/>
          <p:nvPr/>
        </p:nvPicPr>
        <p:blipFill>
          <a:blip r:embed="rId1"/>
          <a:stretch/>
        </p:blipFill>
        <p:spPr>
          <a:xfrm>
            <a:off x="3413160" y="-103320"/>
            <a:ext cx="5737320" cy="223056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3"/>
          <p:cNvSpPr/>
          <p:nvPr/>
        </p:nvSpPr>
        <p:spPr>
          <a:xfrm>
            <a:off x="1042920" y="1382760"/>
            <a:ext cx="8101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4e1e"/>
                </a:solidFill>
                <a:latin typeface="Roboto"/>
              </a:rPr>
              <a:t>What is a ge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20"/>
                </a:solidFill>
                <a:latin typeface="Roboto"/>
              </a:rPr>
              <a:t>A gene is the basic physical and functional unit of hered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20"/>
                </a:solidFill>
                <a:latin typeface="Roboto"/>
              </a:rPr>
              <a:t>Genes, which are made up of DNA, act as instructions to make molecules called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ene represents a unit of specific molecular information and corresponds to a discrete segment of D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formation is given by the sequence of the different bases (A,C,G,T) found in that seg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10" descr="dna-big"/>
          <p:cNvPicPr/>
          <p:nvPr/>
        </p:nvPicPr>
        <p:blipFill>
          <a:blip r:embed="rId2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4" descr="00102604"/>
          <p:cNvPicPr/>
          <p:nvPr/>
        </p:nvPicPr>
        <p:blipFill>
          <a:blip r:embed="rId1"/>
          <a:srcRect l="7015" t="2781" r="6138" b="5553"/>
          <a:stretch/>
        </p:blipFill>
        <p:spPr>
          <a:xfrm>
            <a:off x="1071720" y="0"/>
            <a:ext cx="80722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7" name=""/>
          <p:cNvGraphicFramePr/>
          <p:nvPr/>
        </p:nvGraphicFramePr>
        <p:xfrm>
          <a:off x="1500120" y="857160"/>
          <a:ext cx="7143840" cy="550080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  <a:gridCol w="1785960"/>
                <a:gridCol w="1785960"/>
              </a:tblGrid>
              <a:tr h="1157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ntromeric pos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ntromeric index (rang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5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centr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arly medi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-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5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metacentr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medi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-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61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rocentr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termi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-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5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locentr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mi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8" name="Rectangle 1"/>
          <p:cNvSpPr/>
          <p:nvPr/>
        </p:nvSpPr>
        <p:spPr>
          <a:xfrm>
            <a:off x="1357200" y="3276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romosome classification by centromeric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10" descr="dna-big"/>
          <p:cNvPicPr/>
          <p:nvPr/>
        </p:nvPicPr>
        <p:blipFill>
          <a:blip r:embed="rId2"/>
          <a:stretch/>
        </p:blipFill>
        <p:spPr>
          <a:xfrm>
            <a:off x="0" y="0"/>
            <a:ext cx="1214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4" descr="00102604"/>
          <p:cNvPicPr/>
          <p:nvPr/>
        </p:nvPicPr>
        <p:blipFill>
          <a:blip r:embed="rId1"/>
          <a:srcRect l="7015" t="2781" r="6138" b="5553"/>
          <a:stretch/>
        </p:blipFill>
        <p:spPr>
          <a:xfrm>
            <a:off x="1071720" y="0"/>
            <a:ext cx="807228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portions of the chromosomes on their side of the centromere are called as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romosome arm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total number of chromosome arms in a karyotype is called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ndamental arm num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(FN)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2" name="Picture 10" descr="dna-big"/>
          <p:cNvPicPr/>
          <p:nvPr/>
        </p:nvPicPr>
        <p:blipFill>
          <a:blip r:embed="rId2"/>
          <a:stretch/>
        </p:blipFill>
        <p:spPr>
          <a:xfrm>
            <a:off x="0" y="0"/>
            <a:ext cx="1214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00102604"/>
          <p:cNvPicPr/>
          <p:nvPr/>
        </p:nvPicPr>
        <p:blipFill>
          <a:blip r:embed="rId1"/>
          <a:srcRect l="7015" t="2781" r="6138" b="5553"/>
          <a:stretch/>
        </p:blipFill>
        <p:spPr>
          <a:xfrm>
            <a:off x="1071720" y="0"/>
            <a:ext cx="8072280" cy="68580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Centromeric index</a:t>
            </a:r>
            <a:r>
              <a:rPr b="0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length of the shorter of the two chromosome arms multiplied  by 100 and divided by the length of the whole chromosome and expressed as percentag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357120" y="4643280"/>
            <a:ext cx="87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10" descr="dna-big"/>
          <p:cNvPicPr/>
          <p:nvPr/>
        </p:nvPicPr>
        <p:blipFill>
          <a:blip r:embed="rId2"/>
          <a:stretch/>
        </p:blipFill>
        <p:spPr>
          <a:xfrm>
            <a:off x="0" y="0"/>
            <a:ext cx="1214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4" descr="00102604"/>
          <p:cNvPicPr/>
          <p:nvPr/>
        </p:nvPicPr>
        <p:blipFill>
          <a:blip r:embed="rId1"/>
          <a:srcRect l="7015" t="2781" r="6138" b="5553"/>
          <a:stretch/>
        </p:blipFill>
        <p:spPr>
          <a:xfrm>
            <a:off x="1071720" y="0"/>
            <a:ext cx="807228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Arm ratio</a:t>
            </a:r>
            <a:r>
              <a:rPr b="0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e length of the longer arm of the chromosome divided by the length of the shorter arm. It is always greater than 1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t is an alternative method to centromeric index for describing the position of the centromere and the relative lengths of two arms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1" name="Picture 10" descr="dna-big"/>
          <p:cNvPicPr/>
          <p:nvPr/>
        </p:nvPicPr>
        <p:blipFill>
          <a:blip r:embed="rId2"/>
          <a:stretch/>
        </p:blipFill>
        <p:spPr>
          <a:xfrm>
            <a:off x="0" y="0"/>
            <a:ext cx="1214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4" descr="00102604"/>
          <p:cNvPicPr/>
          <p:nvPr/>
        </p:nvPicPr>
        <p:blipFill>
          <a:blip r:embed="rId1"/>
          <a:srcRect l="7015" t="2781" r="6138" b="5553"/>
          <a:stretch/>
        </p:blipFill>
        <p:spPr>
          <a:xfrm>
            <a:off x="1071720" y="0"/>
            <a:ext cx="807228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Relative length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length of the whole chromosome multiplied by 100 and divided by the total length of all the chromosomes in the haploid set including one being measured and expressed as a percentag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5" name="Picture 10" descr="dna-big"/>
          <p:cNvPicPr/>
          <p:nvPr/>
        </p:nvPicPr>
        <p:blipFill>
          <a:blip r:embed="rId2"/>
          <a:stretch/>
        </p:blipFill>
        <p:spPr>
          <a:xfrm>
            <a:off x="0" y="0"/>
            <a:ext cx="1214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4" descr="00102604"/>
          <p:cNvPicPr/>
          <p:nvPr/>
        </p:nvPicPr>
        <p:blipFill>
          <a:blip r:embed="rId1"/>
          <a:srcRect l="7015" t="2781" r="6138" b="5553"/>
          <a:stretch/>
        </p:blipFill>
        <p:spPr>
          <a:xfrm>
            <a:off x="1071720" y="0"/>
            <a:ext cx="8072280" cy="685800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00120" y="260280"/>
            <a:ext cx="71978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Karyotyp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complete set of chromosomes arranged according to their siz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aryotype of different species differ in size, shape, and number of chromosom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thin a species, the males and females may have minor dissimilarity in the karyotyp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ir of chromosomes which are very much similar are called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utos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9" name="Picture 10" descr="dna-big"/>
          <p:cNvPicPr/>
          <p:nvPr/>
        </p:nvPicPr>
        <p:blipFill>
          <a:blip r:embed="rId2"/>
          <a:stretch/>
        </p:blipFill>
        <p:spPr>
          <a:xfrm>
            <a:off x="0" y="0"/>
            <a:ext cx="1214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4" descr="00102604"/>
          <p:cNvPicPr/>
          <p:nvPr/>
        </p:nvPicPr>
        <p:blipFill>
          <a:blip r:embed="rId1"/>
          <a:srcRect l="7015" t="2781" r="6138" b="5553"/>
          <a:stretch/>
        </p:blipFill>
        <p:spPr>
          <a:xfrm>
            <a:off x="1071720" y="71280"/>
            <a:ext cx="807228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572314"/>
                </a:solidFill>
                <a:latin typeface="Arial"/>
                <a:ea typeface="Arial"/>
              </a:rPr>
              <a:t>Fish chromosomes</a:t>
            </a:r>
            <a:r>
              <a:rPr b="0" lang="en-US" sz="2900" spc="-1" strike="noStrike">
                <a:solidFill>
                  <a:srgbClr val="572314"/>
                </a:solidFill>
                <a:latin typeface="Arial"/>
                <a:ea typeface="Arial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work on fish chromosomes began with the studies 1890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revolution in the fish chromosome cytology took place when pre-treatment with  colchicine coupled with squashing (Roberts, 1964) and the flame–drying method (Denton and Howell, 1969) were mad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23" name="Picture 10" descr="dna-big"/>
          <p:cNvPicPr/>
          <p:nvPr/>
        </p:nvPicPr>
        <p:blipFill>
          <a:blip r:embed="rId2"/>
          <a:stretch/>
        </p:blipFill>
        <p:spPr>
          <a:xfrm>
            <a:off x="0" y="71280"/>
            <a:ext cx="1214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4" descr="00102604"/>
          <p:cNvPicPr/>
          <p:nvPr/>
        </p:nvPicPr>
        <p:blipFill>
          <a:blip r:embed="rId1"/>
          <a:srcRect l="7015" t="2781" r="6138" b="5553"/>
          <a:stretch/>
        </p:blipFill>
        <p:spPr>
          <a:xfrm>
            <a:off x="1071720" y="0"/>
            <a:ext cx="80722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5" name=""/>
          <p:cNvGraphicFramePr/>
          <p:nvPr/>
        </p:nvGraphicFramePr>
        <p:xfrm>
          <a:off x="1474920" y="368280"/>
          <a:ext cx="7240320" cy="5556240"/>
        </p:xfrm>
        <a:graphic>
          <a:graphicData uri="http://schemas.openxmlformats.org/drawingml/2006/table">
            <a:tbl>
              <a:tblPr/>
              <a:tblGrid>
                <a:gridCol w="4406760"/>
                <a:gridCol w="283356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Spe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chromosome numb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Catla, Rohu, Mrigal,Mag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Grass carp, Silver car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Common carp, gold f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H.fossil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O.mossambicus, O.nilotic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C. Stria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C.gachu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C.puncta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M. rosenberg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Penaeus monod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6" name="Picture 10" descr="dna-big"/>
          <p:cNvPicPr/>
          <p:nvPr/>
        </p:nvPicPr>
        <p:blipFill>
          <a:blip r:embed="rId2"/>
          <a:stretch/>
        </p:blipFill>
        <p:spPr>
          <a:xfrm>
            <a:off x="0" y="0"/>
            <a:ext cx="1214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4" descr="00102604"/>
          <p:cNvPicPr/>
          <p:nvPr/>
        </p:nvPicPr>
        <p:blipFill>
          <a:blip r:embed="rId1"/>
          <a:srcRect l="7015" t="2781" r="6138" b="5553"/>
          <a:stretch/>
        </p:blipFill>
        <p:spPr>
          <a:xfrm>
            <a:off x="1071720" y="0"/>
            <a:ext cx="8072280" cy="685800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28480" y="188640"/>
            <a:ext cx="71038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Karyotyping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356840" y="1197000"/>
            <a:ext cx="7572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iring of the chromosomes according to their size and morphology, then became feasibl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ent development of new differential staining techniques has allowed the characteristic banding of chromosomes that have led to a better understanding of the fine characterization of individual chromosom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0" name="Picture 10" descr="dna-big"/>
          <p:cNvPicPr/>
          <p:nvPr/>
        </p:nvPicPr>
        <p:blipFill>
          <a:blip r:embed="rId2"/>
          <a:stretch/>
        </p:blipFill>
        <p:spPr>
          <a:xfrm>
            <a:off x="0" y="0"/>
            <a:ext cx="1214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1" descr="tilapia-chromosome"/>
          <p:cNvPicPr/>
          <p:nvPr/>
        </p:nvPicPr>
        <p:blipFill>
          <a:blip r:embed="rId1"/>
          <a:stretch/>
        </p:blipFill>
        <p:spPr>
          <a:xfrm>
            <a:off x="2143080" y="928800"/>
            <a:ext cx="6500880" cy="550044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2"/>
          <p:cNvSpPr/>
          <p:nvPr/>
        </p:nvSpPr>
        <p:spPr>
          <a:xfrm>
            <a:off x="1951560" y="357120"/>
            <a:ext cx="549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romosomes of female Tilap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10" descr="dna-big"/>
          <p:cNvPicPr/>
          <p:nvPr/>
        </p:nvPicPr>
        <p:blipFill>
          <a:blip r:embed="rId2"/>
          <a:stretch/>
        </p:blipFill>
        <p:spPr>
          <a:xfrm>
            <a:off x="0" y="0"/>
            <a:ext cx="1214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4" descr="00102604"/>
          <p:cNvPicPr/>
          <p:nvPr/>
        </p:nvPicPr>
        <p:blipFill>
          <a:blip r:embed="rId1"/>
          <a:srcRect l="7015" t="2781" r="6138" b="5553"/>
          <a:stretch/>
        </p:blipFill>
        <p:spPr>
          <a:xfrm>
            <a:off x="1071720" y="0"/>
            <a:ext cx="807228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1430280" y="620640"/>
            <a:ext cx="7499520" cy="39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99160" indent="-231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2020"/>
                </a:solidFill>
                <a:latin typeface="Roboto"/>
              </a:rPr>
              <a:t>Every person has two copies of each gene, one inherited from each paren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99160" indent="-231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99160" indent="-231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2020"/>
                </a:solidFill>
                <a:latin typeface="Roboto"/>
              </a:rPr>
              <a:t>Alleles are forms of the same gene with small differences in their sequence of DNA bas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99160" indent="-231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99160" indent="-231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2020"/>
                </a:solidFill>
                <a:latin typeface="Roboto"/>
              </a:rPr>
              <a:t>These small differences contribute to each person’s unique physical featur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99160" indent="-231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6" name="Picture 10" descr="dna-big"/>
          <p:cNvPicPr/>
          <p:nvPr/>
        </p:nvPicPr>
        <p:blipFill>
          <a:blip r:embed="rId2"/>
          <a:stretch/>
        </p:blipFill>
        <p:spPr>
          <a:xfrm>
            <a:off x="0" y="0"/>
            <a:ext cx="1214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c"/>
          <p:cNvPicPr/>
          <p:nvPr/>
        </p:nvPicPr>
        <p:blipFill>
          <a:blip r:embed="rId1"/>
          <a:srcRect l="24416" t="9584" r="19766" b="28777"/>
          <a:stretch/>
        </p:blipFill>
        <p:spPr>
          <a:xfrm>
            <a:off x="2143080" y="1000080"/>
            <a:ext cx="5786640" cy="542448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2"/>
          <p:cNvSpPr/>
          <p:nvPr/>
        </p:nvSpPr>
        <p:spPr>
          <a:xfrm>
            <a:off x="826920" y="500040"/>
            <a:ext cx="73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romosome of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C. batrach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10" descr="dna-big"/>
          <p:cNvPicPr/>
          <p:nvPr/>
        </p:nvPicPr>
        <p:blipFill>
          <a:blip r:embed="rId2"/>
          <a:stretch/>
        </p:blipFill>
        <p:spPr>
          <a:xfrm>
            <a:off x="0" y="0"/>
            <a:ext cx="1214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4" descr="00102604"/>
          <p:cNvPicPr/>
          <p:nvPr/>
        </p:nvPicPr>
        <p:blipFill>
          <a:blip r:embed="rId1"/>
          <a:srcRect l="7015" t="2781" r="6138" b="5553"/>
          <a:stretch/>
        </p:blipFill>
        <p:spPr>
          <a:xfrm>
            <a:off x="1071720" y="71280"/>
            <a:ext cx="807228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Sex chromosomes in fishes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428480" y="1268280"/>
            <a:ext cx="7257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romosomes that usually determine an individual’s sex and the pairs are often morphologically different in the two sex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utosomes are the other pairs of chromosomes and are morphologically the same in males and femal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0" name="Picture 10" descr="dna-big"/>
          <p:cNvPicPr/>
          <p:nvPr/>
        </p:nvPicPr>
        <p:blipFill>
          <a:blip r:embed="rId2"/>
          <a:stretch/>
        </p:blipFill>
        <p:spPr>
          <a:xfrm>
            <a:off x="0" y="0"/>
            <a:ext cx="1214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4" descr="00102604"/>
          <p:cNvPicPr/>
          <p:nvPr/>
        </p:nvPicPr>
        <p:blipFill>
          <a:blip r:embed="rId1"/>
          <a:srcRect l="7015" t="2781" r="6138" b="5553"/>
          <a:stretch/>
        </p:blipFill>
        <p:spPr>
          <a:xfrm>
            <a:off x="1071720" y="0"/>
            <a:ext cx="8072280" cy="68580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1499760" y="907560"/>
            <a:ext cx="71866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le heterogamety, that is XX♀-XY♂ sex chromosomes, is more prevalent among fishes than the female heterogamety (ZZ♂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ZW♀)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le heterogamety, is found in some deepwater fishes and female heterogamety in several species of catfish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3" name="Picture 10" descr="dna-big"/>
          <p:cNvPicPr/>
          <p:nvPr/>
        </p:nvPicPr>
        <p:blipFill>
          <a:blip r:embed="rId2"/>
          <a:stretch/>
        </p:blipFill>
        <p:spPr>
          <a:xfrm>
            <a:off x="0" y="0"/>
            <a:ext cx="1214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4" descr="00102604"/>
          <p:cNvPicPr/>
          <p:nvPr/>
        </p:nvPicPr>
        <p:blipFill>
          <a:blip r:embed="rId1"/>
          <a:srcRect l="7015" t="2781" r="6138" b="5553"/>
          <a:stretch/>
        </p:blipFill>
        <p:spPr>
          <a:xfrm>
            <a:off x="1071720" y="0"/>
            <a:ext cx="8072280" cy="685800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99760" y="274320"/>
            <a:ext cx="7186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572314"/>
                </a:solidFill>
                <a:latin typeface="Arial"/>
                <a:ea typeface="Arial"/>
              </a:rPr>
              <a:t>Polyploidy in fishes</a:t>
            </a:r>
            <a:br>
              <a:rPr sz="2900"/>
            </a:b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357200" y="1125000"/>
            <a:ext cx="73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lyploid forms are found naturally in six different orders of fishe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ipenseriformes, Salmoniformes, Cypriniformes, Siluriformes, Poecillofor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in one specie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erciform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etraploid fishes are the most common among the polyploid form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7" name="Picture 10" descr="dna-big"/>
          <p:cNvPicPr/>
          <p:nvPr/>
        </p:nvPicPr>
        <p:blipFill>
          <a:blip r:embed="rId2"/>
          <a:stretch/>
        </p:blipFill>
        <p:spPr>
          <a:xfrm>
            <a:off x="0" y="0"/>
            <a:ext cx="1214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4" descr="00102604"/>
          <p:cNvPicPr/>
          <p:nvPr/>
        </p:nvPicPr>
        <p:blipFill>
          <a:blip r:embed="rId1"/>
          <a:srcRect l="7015" t="2781" r="6138" b="5553"/>
          <a:stretch/>
        </p:blipFill>
        <p:spPr>
          <a:xfrm>
            <a:off x="1071720" y="0"/>
            <a:ext cx="8072280" cy="685800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Contd…..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ree species of cyprinids, the barb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rbus barb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, the carp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yprinus carp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, and the goldfish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rassius aurat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appear to be tetraploi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yellow fish species of the genu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rbu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yprinida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are hexaploid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1" name="Picture 10" descr="dna-big"/>
          <p:cNvPicPr/>
          <p:nvPr/>
        </p:nvPicPr>
        <p:blipFill>
          <a:blip r:embed="rId2"/>
          <a:stretch/>
        </p:blipFill>
        <p:spPr>
          <a:xfrm>
            <a:off x="0" y="0"/>
            <a:ext cx="1214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4" descr="00102604"/>
          <p:cNvPicPr/>
          <p:nvPr/>
        </p:nvPicPr>
        <p:blipFill>
          <a:blip r:embed="rId1"/>
          <a:srcRect l="7015" t="2781" r="6138" b="5553"/>
          <a:stretch/>
        </p:blipFill>
        <p:spPr>
          <a:xfrm>
            <a:off x="1071720" y="0"/>
            <a:ext cx="8072280" cy="68580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572314"/>
                </a:solidFill>
                <a:latin typeface="Arial"/>
                <a:ea typeface="Arial"/>
              </a:rPr>
              <a:t>Genetic significance of chromosomes</a:t>
            </a:r>
            <a:br>
              <a:rPr sz="2900"/>
            </a:b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e chromosomes are considered as the organs of heredity because of the following reason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ey form the only link between two generation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 diploid chromosome set consists of two morphologically similar (except the X  and Y sex chromosomes) sets, one is derived from the mother and another from  the father at fertilization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5" name="Picture 10" descr="dna-big"/>
          <p:cNvPicPr/>
          <p:nvPr/>
        </p:nvPicPr>
        <p:blipFill>
          <a:blip r:embed="rId2"/>
          <a:stretch/>
        </p:blipFill>
        <p:spPr>
          <a:xfrm>
            <a:off x="0" y="0"/>
            <a:ext cx="1214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4" descr="00102604"/>
          <p:cNvPicPr/>
          <p:nvPr/>
        </p:nvPicPr>
        <p:blipFill>
          <a:blip r:embed="rId1"/>
          <a:srcRect l="7015" t="2781" r="6138" b="5553"/>
          <a:stretch/>
        </p:blipFill>
        <p:spPr>
          <a:xfrm>
            <a:off x="1071720" y="0"/>
            <a:ext cx="8072280" cy="685800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1428480" y="692280"/>
            <a:ext cx="725796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genetic material, DNA or RNA is localized in the chromosome and its contents  are relatively constant from one generation to the nex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chromosomes maintain and replicate the genetic informations contained in their DNA molecul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8" name="Picture 10" descr="dna-big"/>
          <p:cNvPicPr/>
          <p:nvPr/>
        </p:nvPicPr>
        <p:blipFill>
          <a:blip r:embed="rId2"/>
          <a:stretch/>
        </p:blipFill>
        <p:spPr>
          <a:xfrm>
            <a:off x="0" y="0"/>
            <a:ext cx="1214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4" descr="00102604"/>
          <p:cNvPicPr/>
          <p:nvPr/>
        </p:nvPicPr>
        <p:blipFill>
          <a:blip r:embed="rId1"/>
          <a:srcRect l="7015" t="2781" r="6138" b="5553"/>
          <a:stretch/>
        </p:blipFill>
        <p:spPr>
          <a:xfrm>
            <a:off x="1071720" y="0"/>
            <a:ext cx="8072280" cy="685800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MEIOTIC DIVISION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iosis is the process during which the primary gametocytes develop into eggs or sper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iosis consists of two cell division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first meiotic division is called the “reduction division” and the second is called the “equational division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62" name="Picture 10" descr="dna-big"/>
          <p:cNvPicPr/>
          <p:nvPr/>
        </p:nvPicPr>
        <p:blipFill>
          <a:blip r:embed="rId2"/>
          <a:stretch/>
        </p:blipFill>
        <p:spPr>
          <a:xfrm>
            <a:off x="0" y="0"/>
            <a:ext cx="1214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4" descr="00102604"/>
          <p:cNvPicPr/>
          <p:nvPr/>
        </p:nvPicPr>
        <p:blipFill>
          <a:blip r:embed="rId1"/>
          <a:srcRect l="7015" t="2781" r="6138" b="5553"/>
          <a:stretch/>
        </p:blipFill>
        <p:spPr>
          <a:xfrm>
            <a:off x="1071720" y="0"/>
            <a:ext cx="8072280" cy="685800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Crossing over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rossing over is one of the most important biological processes, because it greatly increases genetic variabilit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rossing over tends to occur at particular locations along each chromosom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nes located near the centromere cross over less frequently than those further awa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66" name="Picture 10" descr="dna-big"/>
          <p:cNvPicPr/>
          <p:nvPr/>
        </p:nvPicPr>
        <p:blipFill>
          <a:blip r:embed="rId2"/>
          <a:stretch/>
        </p:blipFill>
        <p:spPr>
          <a:xfrm>
            <a:off x="0" y="0"/>
            <a:ext cx="1214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4" descr="00102604"/>
          <p:cNvPicPr/>
          <p:nvPr/>
        </p:nvPicPr>
        <p:blipFill>
          <a:blip r:embed="rId1"/>
          <a:srcRect l="7015" t="2781" r="6138" b="5553"/>
          <a:stretch/>
        </p:blipFill>
        <p:spPr>
          <a:xfrm>
            <a:off x="1071720" y="0"/>
            <a:ext cx="8072280" cy="685800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Equational divisio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second meiotic division is called the “equational division”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replicated homologues (sister chromatids) in each secondary gametocyte separate and are parceled into either two sperm cells or into the egg and second polar bod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70" name="Picture 10" descr="dna-big"/>
          <p:cNvPicPr/>
          <p:nvPr/>
        </p:nvPicPr>
        <p:blipFill>
          <a:blip r:embed="rId2"/>
          <a:stretch/>
        </p:blipFill>
        <p:spPr>
          <a:xfrm>
            <a:off x="0" y="0"/>
            <a:ext cx="1214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" descr="00102604"/>
          <p:cNvPicPr/>
          <p:nvPr/>
        </p:nvPicPr>
        <p:blipFill>
          <a:blip r:embed="rId1"/>
          <a:srcRect l="7015" t="2781" r="6138" b="5553"/>
          <a:stretch/>
        </p:blipFill>
        <p:spPr>
          <a:xfrm>
            <a:off x="1071720" y="0"/>
            <a:ext cx="807228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DNA consist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itrogenous bases,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hosphoric acid, an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sugar deoxyribos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0" name="Picture 10" descr="dna-big"/>
          <p:cNvPicPr/>
          <p:nvPr/>
        </p:nvPicPr>
        <p:blipFill>
          <a:blip r:embed="rId2"/>
          <a:stretch/>
        </p:blipFill>
        <p:spPr>
          <a:xfrm>
            <a:off x="0" y="0"/>
            <a:ext cx="1214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4" descr="00102604"/>
          <p:cNvPicPr/>
          <p:nvPr/>
        </p:nvPicPr>
        <p:blipFill>
          <a:blip r:embed="rId1"/>
          <a:srcRect l="7015" t="2781" r="6138" b="5553"/>
          <a:stretch/>
        </p:blipFill>
        <p:spPr>
          <a:xfrm>
            <a:off x="1071720" y="0"/>
            <a:ext cx="8072280" cy="685800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56840" y="713880"/>
            <a:ext cx="730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72314"/>
                </a:solidFill>
                <a:latin typeface="Arial"/>
                <a:ea typeface="Arial"/>
              </a:rPr>
              <a:t>Development of gene mapping methods and their application to fish species</a:t>
            </a:r>
            <a:br>
              <a:rPr sz="2600"/>
            </a:br>
            <a:endParaRPr b="0" lang="en-US" sz="2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285560" y="1857240"/>
            <a:ext cx="737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vast majority of mapped genes can be assigned to one of four classe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nes producing inherited diseases or defect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nes producing “mutant” phenotypes, though not necessarily affecting viabili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74" name="Picture 10" descr="dna-big"/>
          <p:cNvPicPr/>
          <p:nvPr/>
        </p:nvPicPr>
        <p:blipFill>
          <a:blip r:embed="rId2"/>
          <a:stretch/>
        </p:blipFill>
        <p:spPr>
          <a:xfrm>
            <a:off x="0" y="0"/>
            <a:ext cx="1214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4" descr="00102604"/>
          <p:cNvPicPr/>
          <p:nvPr/>
        </p:nvPicPr>
        <p:blipFill>
          <a:blip r:embed="rId1"/>
          <a:srcRect l="7015" t="2781" r="6138" b="5553"/>
          <a:stretch/>
        </p:blipFill>
        <p:spPr>
          <a:xfrm>
            <a:off x="1071720" y="0"/>
            <a:ext cx="8072280" cy="685800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Contd…..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nes producing distinctive colour patterns, an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iochemical loci, coding for enzyme and other protein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the  first three classes, establishment of homology between species is usually difficul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78" name="Picture 10" descr="dna-big"/>
          <p:cNvPicPr/>
          <p:nvPr/>
        </p:nvPicPr>
        <p:blipFill>
          <a:blip r:embed="rId2"/>
          <a:stretch/>
        </p:blipFill>
        <p:spPr>
          <a:xfrm>
            <a:off x="0" y="0"/>
            <a:ext cx="1214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4" descr="00102604"/>
          <p:cNvPicPr/>
          <p:nvPr/>
        </p:nvPicPr>
        <p:blipFill>
          <a:blip r:embed="rId1"/>
          <a:srcRect l="7015" t="2781" r="6138" b="5553"/>
          <a:stretch/>
        </p:blipFill>
        <p:spPr>
          <a:xfrm>
            <a:off x="1071720" y="0"/>
            <a:ext cx="8072280" cy="685800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In situ</a:t>
            </a: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 hybridization method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most recently developed method of gene mapping with general utility is the mapping of genes to chromosomes by hybridizing DN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luorescent in situ hybridiz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(FISH) has been used to physically localise some repeated non-coding DNA sequences like telomeric sequences, microsatellites and minisatellites on chromosom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82" name="Picture 10" descr="dna-big"/>
          <p:cNvPicPr/>
          <p:nvPr/>
        </p:nvPicPr>
        <p:blipFill>
          <a:blip r:embed="rId2"/>
          <a:stretch/>
        </p:blipFill>
        <p:spPr>
          <a:xfrm>
            <a:off x="0" y="0"/>
            <a:ext cx="1214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4" descr="00102604"/>
          <p:cNvPicPr/>
          <p:nvPr/>
        </p:nvPicPr>
        <p:blipFill>
          <a:blip r:embed="rId1"/>
          <a:srcRect l="7015" t="2781" r="6138" b="5553"/>
          <a:stretch/>
        </p:blipFill>
        <p:spPr>
          <a:xfrm>
            <a:off x="1071720" y="0"/>
            <a:ext cx="8072280" cy="68580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Uses of linkage maps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1357200" y="1125000"/>
            <a:ext cx="73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tailed  linkage maps allow the identification of the types of chromosomal rearrangem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n be used to detect the number and location of other gen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nes involved in the inheritance of polygenic characters could be  possibly identified by linkage to mapped marker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86" name="Picture 10" descr="dna-big"/>
          <p:cNvPicPr/>
          <p:nvPr/>
        </p:nvPicPr>
        <p:blipFill>
          <a:blip r:embed="rId2"/>
          <a:stretch/>
        </p:blipFill>
        <p:spPr>
          <a:xfrm>
            <a:off x="0" y="0"/>
            <a:ext cx="1214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3" descr="00102604"/>
          <p:cNvPicPr/>
          <p:nvPr/>
        </p:nvPicPr>
        <p:blipFill>
          <a:blip r:embed="rId1"/>
          <a:srcRect l="7015" t="2781" r="6138" b="5553"/>
          <a:stretch/>
        </p:blipFill>
        <p:spPr>
          <a:xfrm>
            <a:off x="1071720" y="0"/>
            <a:ext cx="8072280" cy="685800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499840" y="2143080"/>
            <a:ext cx="6186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572314"/>
                </a:solidFill>
                <a:latin typeface="Gill Sans MT"/>
              </a:rPr>
              <a:t>Thank you</a:t>
            </a:r>
            <a:endParaRPr b="0" lang="en-US" sz="8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89" name="Picture 10" descr="dna-big"/>
          <p:cNvPicPr/>
          <p:nvPr/>
        </p:nvPicPr>
        <p:blipFill>
          <a:blip r:embed="rId2"/>
          <a:stretch/>
        </p:blipFill>
        <p:spPr>
          <a:xfrm>
            <a:off x="0" y="0"/>
            <a:ext cx="1214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4" descr="00102604"/>
          <p:cNvPicPr/>
          <p:nvPr/>
        </p:nvPicPr>
        <p:blipFill>
          <a:blip r:embed="rId1"/>
          <a:srcRect l="7015" t="2781" r="6138" b="5553"/>
          <a:stretch/>
        </p:blipFill>
        <p:spPr>
          <a:xfrm>
            <a:off x="1071720" y="0"/>
            <a:ext cx="807228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Four bases in nucleic acid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214280" y="17380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enine (A),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ytosine (C)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uanine (G) an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ymine (T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NA contains the same bases, except that Uracil (U) replaces thymi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4" name="Picture 10" descr="dna-big"/>
          <p:cNvPicPr/>
          <p:nvPr/>
        </p:nvPicPr>
        <p:blipFill>
          <a:blip r:embed="rId2"/>
          <a:stretch/>
        </p:blipFill>
        <p:spPr>
          <a:xfrm>
            <a:off x="0" y="0"/>
            <a:ext cx="1214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Nucleosides and nucleotid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bases and sugars in RNA and DNA are joined together into units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ucleosid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ucleosides with a phosphate group attached through a phosphodiester bond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ucleotid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ucleotides are the subunits of DNA and RN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7" name="Picture 10" descr="dna-big"/>
          <p:cNvPicPr/>
          <p:nvPr/>
        </p:nvPicPr>
        <p:blipFill>
          <a:blip r:embed="rId1"/>
          <a:stretch/>
        </p:blipFill>
        <p:spPr>
          <a:xfrm>
            <a:off x="0" y="0"/>
            <a:ext cx="1214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2050920" y="2133720"/>
            <a:ext cx="2449800" cy="79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886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3" descr="00102604"/>
          <p:cNvPicPr/>
          <p:nvPr/>
        </p:nvPicPr>
        <p:blipFill>
          <a:blip r:embed="rId1"/>
          <a:srcRect l="7015" t="2781" r="6138" b="5553"/>
          <a:stretch/>
        </p:blipFill>
        <p:spPr>
          <a:xfrm>
            <a:off x="1071720" y="0"/>
            <a:ext cx="8072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0" name="Picture 7" descr="dna_picture"/>
          <p:cNvPicPr/>
          <p:nvPr/>
        </p:nvPicPr>
        <p:blipFill>
          <a:blip r:embed="rId2"/>
          <a:stretch/>
        </p:blipFill>
        <p:spPr>
          <a:xfrm>
            <a:off x="1285920" y="500040"/>
            <a:ext cx="6599160" cy="63579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0" descr="dna-big"/>
          <p:cNvPicPr/>
          <p:nvPr/>
        </p:nvPicPr>
        <p:blipFill>
          <a:blip r:embed="rId3"/>
          <a:stretch/>
        </p:blipFill>
        <p:spPr>
          <a:xfrm>
            <a:off x="0" y="0"/>
            <a:ext cx="146052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2" name="TextBox 1"/>
          <p:cNvSpPr/>
          <p:nvPr/>
        </p:nvSpPr>
        <p:spPr>
          <a:xfrm>
            <a:off x="5506920" y="2133720"/>
            <a:ext cx="28828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series of three base pairs forms a co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11617"/>
                </a:solidFill>
                <a:latin typeface="Arial"/>
              </a:rPr>
              <a:t>The codon is like a word in the sentence that make a ge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ight Brace 3"/>
          <p:cNvSpPr/>
          <p:nvPr/>
        </p:nvSpPr>
        <p:spPr>
          <a:xfrm>
            <a:off x="3708360" y="1773360"/>
            <a:ext cx="1584360" cy="863640"/>
          </a:xfrm>
          <a:custGeom>
            <a:avLst/>
            <a:gdLst>
              <a:gd name="textAreaLeft" fmla="*/ 0 w 1584360"/>
              <a:gd name="textAreaRight" fmla="*/ 572040 w 158436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381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Features of watson and crick model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wo strands of double helix are antiparall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uble helix comprises of two complementary polynucleotide chani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hosphate groups give the molecule a negative charg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nitrogenous bases lie almost perpendicular to the long axis of the molecu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6" name="Picture 10" descr="dna-big"/>
          <p:cNvPicPr/>
          <p:nvPr/>
        </p:nvPicPr>
        <p:blipFill>
          <a:blip r:embed="rId1"/>
          <a:stretch/>
        </p:blipFill>
        <p:spPr>
          <a:xfrm>
            <a:off x="0" y="0"/>
            <a:ext cx="1214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MITOCHONDRIAL DNA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99.99% of mitochondrial DNA (mtDNA) is inherited from the moth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s sperm carry mitochondria in their tail and have only ~ 100 mitochondria compared to 100 000 in an eg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ver cells have ~1000 mitochondri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9" name="Picture 10" descr="dna-big"/>
          <p:cNvPicPr/>
          <p:nvPr/>
        </p:nvPicPr>
        <p:blipFill>
          <a:blip r:embed="rId1"/>
          <a:stretch/>
        </p:blipFill>
        <p:spPr>
          <a:xfrm>
            <a:off x="0" y="0"/>
            <a:ext cx="1214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03:07:13Z</dcterms:created>
  <dc:creator>GOWTHAMAN</dc:creator>
  <dc:description/>
  <dc:language>en-US</dc:language>
  <cp:lastModifiedBy>HP</cp:lastModifiedBy>
  <cp:lastPrinted>2017-01-19T09:36:26Z</cp:lastPrinted>
  <dcterms:modified xsi:type="dcterms:W3CDTF">2020-03-27T06:30:04Z</dcterms:modified>
  <cp:revision>43</cp:revision>
  <dc:subject/>
  <dc:title>Slide 1</dc:title>
</cp:coreProperties>
</file>