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8.wmf" ContentType="image/x-wmf"/>
  <Override PartName="/ppt/media/image30.wmf" ContentType="image/x-wmf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2.wmf" ContentType="image/x-wmf"/>
  <Override PartName="/ppt/media/image9.png" ContentType="image/png"/>
  <Override PartName="/ppt/media/image29.wmf" ContentType="image/x-wmf"/>
  <Override PartName="/ppt/media/image11.png" ContentType="image/png"/>
  <Override PartName="/ppt/media/image31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6409-0644-4C4F-939F-49B6666D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DE2-4F0E-4B16-97F9-5EA727B0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1DB1D-1F40-445E-87D3-75FE2A21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7D704-9F30-41D4-B3C1-D3E02B9E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955AD-6B31-478D-878E-4A1708C6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689DF-3B97-4EC8-9163-3FCA571A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6D9D8-B163-4977-8CDC-C5FABCAC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A0236-41E9-483C-84BA-DDB3F53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88BBF-4C65-4AD0-8B1E-5D485A05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51E29-5B03-43D7-A810-921EA5FF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13B85-D702-473C-AF9A-7BF640F1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A7A-B7BD-44AD-98DA-D836ECE0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941-1A30-465D-BF14-CDEB1998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8100-F94A-403E-9DAE-14FBB962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B584-8A1B-40AA-95A0-7B0D1FFB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AAAB-7F78-4BBD-BA93-A77FC7DD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35C1-1559-4E35-953B-5033379F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B9A2-12B4-4321-B930-4C031B44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E3B2-ED31-4A18-A2D7-DD7977FE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52CE-EA5F-41DC-9315-1A3B203B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2CA-E7C6-48C6-A87A-23A02595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FB5E-E551-4C7E-8202-296FCBE0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130F-0B68-45D7-8CA4-6C7F7860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200A-7AEC-492E-94DC-D61FE238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3E1E-879D-4FAC-8ED0-FD1D952D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0D26-E8BC-4751-A06A-63BBACFC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D3488-B136-4DF3-A52B-71823F76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39897-E969-4720-9038-13905BE6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A0A0D-F195-4985-BC7E-2FE0C272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53EF4-16DA-4573-B7B8-23836848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A55CB-8662-4DFF-9B80-2ED6D70A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9BE-CFCA-48E3-AC32-20CF65BB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A8138-D77B-46D6-B899-E988F06E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8C9A-F858-40C9-A793-B449413A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3FD41-92AC-478C-BD8F-8B31BBDF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25F52-10BE-4176-92AD-C3AB3A43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908D0-D672-47F6-A41E-76D03944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CF276-5CE6-48CF-B676-B6463A7A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7D7B-2841-43A7-8553-59814C15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97A8B-ABB1-4293-972B-252E142E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64950-55AF-4B75-B47F-DC5BBEB2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9EF5B-43CE-4B88-A2C1-EEAE42AE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5F3-8599-46F1-8A7F-7C69B6A0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F8CE9-AA1A-42E4-95E0-17270760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C6289-FDB3-4537-892D-1E055656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F5444-9CF7-4A00-93FB-7018A930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C4906-210A-4B18-9CB7-F62049F7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10AB-8B8B-47DC-9759-FE6619B6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2224F-9136-40A9-9FA1-ACD0D8C0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CE27C-BE0C-49EA-AFFD-EE0B3173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4BFE4-22F6-44BA-AB36-DB800736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4FD1E-AAE9-4EB5-9C2D-961E014C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7B303-78E1-47E6-BD4D-E56A0588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078E-4D79-482D-AF45-DA81C7B7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01FCD-D5CC-4969-923B-4E7ADF7D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2B98-D20A-4D91-A24C-657D50B9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A8B94-6B12-404C-8F3F-E90290F8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C8BBC-E383-46D6-85BA-93F88DEA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5FD4C-2D48-4135-AC88-E1AA0693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F8847-DB10-4647-9511-C9676B74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A47D3-9D9D-41E4-BD53-B2A14397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AEAA3-0848-47B1-A49E-CCA330A8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C1992-5ADF-48C6-979C-3CD52195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858B8-E2DD-4B3E-8CB4-4E010DB1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B58-8540-4896-AE88-6C6D2D89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44314-FA7B-4644-968D-CB579DE1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65C85-2A1E-4D8D-BBDD-9712E614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6BE3F-CF11-410A-8C3C-8AC357D5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BB652-83EA-45A7-B0DE-96FCEC20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E1969-168C-43E6-9EDB-0DD694DD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4F2F8-78B1-47DB-8E54-8EBB79E3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D135C-27D3-4E5F-AFB8-A61B36BA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6B061-831A-45D3-8C84-324A3A20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4D640-DD31-40E3-9B31-2AEEC956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7EE52-9076-4228-916A-409FA9A6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AF07-8CEC-4B1C-B650-3F42AE8A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6DC88-F879-42A9-8B6E-1A1F097C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03F48-44DA-4AB4-9B34-A170CC7B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3078F-DFCA-43AC-B24F-54898BFE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F5FC4-DC19-40EF-B615-16341541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95DA2-2F5B-4C15-98FC-7D9C9617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A39FB-7778-49CE-9934-21A15169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5A9CB-E0D3-4C1E-AC85-F5F5A160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0EC8A-FCC1-46A4-9013-BE3EAD05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2A511-FDFA-42B4-A848-D4277CAE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1BD56-66D9-4054-922F-EC199583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5C8D-E49B-4AC3-83A0-857E4347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ED178-8ED1-4DC2-8B42-E836454B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808BB-9471-465D-A64E-56BDC83D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B175E-5578-40ED-8018-592EE65B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B6E64-C074-404B-B948-0FE8509C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99041-F465-4048-8A49-C1A0C75C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9898F-4CA1-4778-96DE-CD9ED4B8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FF267-B928-4A0A-823F-1E500612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D7F5F-D071-466C-BBDA-B8AB1800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65B31-7B29-43F2-ACF4-4AE641BA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D4F1F-69F2-4D5F-B887-758A0561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145-6CAA-4210-89F7-2A9DBFF3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EE932-A990-416F-B636-B5678CC5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EB2BD-65FC-484B-83F0-786501F0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8E8B7-B43E-4196-BD2D-D4533955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CA178-C4DE-49E2-B6F0-E0034971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81F0C-F176-4297-BE4A-1B9BB392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3AD52-59F7-47CB-899D-4AC44D7F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37DDD-88E4-466A-A405-AD5E46CA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4E16E-863C-4932-8B92-B2340413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C4174-1A2A-431F-A6B5-B9D41881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0278B-94B3-4011-8F7B-19E61FF8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3205-2A34-49C0-9325-C4ED46EC9766}" type="slidenum">
              <a:rPr b="0" lang="en-I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DCA5-BC94-46AD-AEED-A82980F9EED1}" type="slidenum">
              <a:rPr b="0" lang="en-I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0358-758F-4ECE-B2E6-76F360B637AB}" type="slidenum">
              <a:rPr b="0" lang="en-I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9627-4F70-435F-9B21-4B95BC20F024}" type="slidenum">
              <a:rPr b="0" lang="en-I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0DE8-1093-4DFC-A6F4-7FC5049908D1}" type="slidenum">
              <a:rPr b="0" lang="en-I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A86D-F0D4-4F8A-BB49-24D21714E473}" type="slidenum">
              <a:rPr b="0" lang="en-I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0917-D170-49C2-BB8E-ED70CC15A5CC}" type="slidenum">
              <a:rPr b="0" lang="en-I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52C7-5E10-4D02-8792-D60AD4713E15}" type="slidenum">
              <a:rPr b="0" lang="en-I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78BE-FB1E-44DA-9808-4F5104FF4DB9}" type="slidenum">
              <a:rPr b="0" lang="en-IN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523800" y="871560"/>
            <a:ext cx="8040600" cy="160344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3"/>
          <p:cNvGrpSpPr/>
          <p:nvPr/>
        </p:nvGrpSpPr>
        <p:grpSpPr>
          <a:xfrm>
            <a:off x="1036800" y="2443320"/>
            <a:ext cx="7070400" cy="2166120"/>
            <a:chOff x="1036800" y="2443320"/>
            <a:chExt cx="7070400" cy="2166120"/>
          </a:xfrm>
        </p:grpSpPr>
        <p:sp>
          <p:nvSpPr>
            <p:cNvPr id="401" name="Rectangle 4"/>
            <p:cNvSpPr/>
            <p:nvPr/>
          </p:nvSpPr>
          <p:spPr>
            <a:xfrm>
              <a:off x="1036800" y="2443320"/>
              <a:ext cx="7070400" cy="21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Arial"/>
                </a:rPr>
                <a:t>Dr V.P.Sain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Arial"/>
                </a:rPr>
                <a:t>Prof. &amp; De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b050"/>
                  </a:solidFill>
                  <a:latin typeface="Arial"/>
                </a:rPr>
                <a:t>College of Fisheries, Kishangan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" name="Picture 5" descr="C:\Users\HP\Desktop\Seal.jpg"/>
            <p:cNvPicPr/>
            <p:nvPr/>
          </p:nvPicPr>
          <p:blipFill>
            <a:blip r:embed="rId2"/>
            <a:srcRect l="7862" t="6853" r="7862" b="5557"/>
            <a:stretch/>
          </p:blipFill>
          <p:spPr>
            <a:xfrm>
              <a:off x="6786000" y="3143160"/>
              <a:ext cx="947520" cy="92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176040" y="133200"/>
            <a:ext cx="8382240" cy="13543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Morphological or numerical charact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Karyological charact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It becomes difficult if the parentals express similar morphologies o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if there is a substantial difference between the parentals in terms of dominance/ recessiveness of the morphological trait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It can be used in one of several ways to improve productiv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the fishes are selected in two lines that have been shown to produce good hybrids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after the selection programmes, the selected lines are hybridiz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1" descr=""/>
          <p:cNvPicPr/>
          <p:nvPr/>
        </p:nvPicPr>
        <p:blipFill>
          <a:blip r:embed="rId1"/>
          <a:stretch/>
        </p:blipFill>
        <p:spPr>
          <a:xfrm>
            <a:off x="158760" y="450720"/>
            <a:ext cx="8839080" cy="10130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Viability of hybri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Growth potential of hybri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Reproduc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285840" y="571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Heterosis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oth the parental lines and the F1’s are genetically uniform.  However, the parental lines are relatively small and weak, a phenomenon called “inbreeding depression”: Too much homozygosity leads to small, sickly and weak organisms, at least among organisms that usually breed with others instead of self-pollinating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 contrast, the F1 hybrids are large, healthy and strong.  This phenomenon is called “heterosis” or “hybrid vigor”.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85840" y="357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4e3b30"/>
                </a:solidFill>
                <a:uFillTx/>
                <a:latin typeface="Comic Sans MS"/>
              </a:rPr>
              <a:t>Hybrid vigou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…..describes the possibility of obtaining a "better" individual by combining the virtues of its parents.</a:t>
            </a:r>
            <a:r>
              <a:rPr b="0" lang="en-GB" sz="3200" spc="-1" strike="noStrike">
                <a:solidFill>
                  <a:srgbClr val="4e3b3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omic Sans MS"/>
              </a:rPr>
              <a:t>These parents are of different breed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omic Sans MS"/>
              </a:rPr>
              <a:t>This is because </a:t>
            </a:r>
            <a:r>
              <a:rPr b="1" lang="en-GB" sz="3200" spc="-1" strike="noStrike">
                <a:solidFill>
                  <a:srgbClr val="4e3b30"/>
                </a:solidFill>
                <a:latin typeface="Comic Sans MS"/>
              </a:rPr>
              <a:t>HYBRIDS </a:t>
            </a:r>
            <a:r>
              <a:rPr b="0" lang="en-GB" sz="3200" spc="-1" strike="noStrike">
                <a:solidFill>
                  <a:srgbClr val="4e3b30"/>
                </a:solidFill>
                <a:latin typeface="Comic Sans MS"/>
              </a:rPr>
              <a:t>are generally </a:t>
            </a:r>
            <a:r>
              <a:rPr b="1" lang="en-GB" sz="3200" spc="-1" strike="noStrike">
                <a:solidFill>
                  <a:srgbClr val="4e3b30"/>
                </a:solidFill>
                <a:latin typeface="Comic Sans MS"/>
              </a:rPr>
              <a:t>HETEROZYGOUS</a:t>
            </a:r>
            <a:r>
              <a:rPr b="0" lang="en-GB" sz="3200" spc="-1" strike="noStrike">
                <a:solidFill>
                  <a:srgbClr val="4e3b30"/>
                </a:solidFill>
                <a:latin typeface="Comic Sans MS"/>
              </a:rPr>
              <a:t>, that is they will have two different genes for each quality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e3b30"/>
                </a:solidFill>
                <a:latin typeface="Comic Sans MS"/>
              </a:rPr>
              <a:t>It doesn't always work and sometimes HYBRIDS don’t inherit enough of the parents good qualiti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785880" y="577800"/>
            <a:ext cx="288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3" descr="BD07916_"/>
          <p:cNvPicPr/>
          <p:nvPr/>
        </p:nvPicPr>
        <p:blipFill>
          <a:blip r:embed="rId1"/>
          <a:stretch/>
        </p:blipFill>
        <p:spPr>
          <a:xfrm>
            <a:off x="6705720" y="5105520"/>
            <a:ext cx="1809720" cy="1331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BD08902_"/>
          <p:cNvPicPr/>
          <p:nvPr/>
        </p:nvPicPr>
        <p:blipFill>
          <a:blip r:embed="rId2"/>
          <a:stretch/>
        </p:blipFill>
        <p:spPr>
          <a:xfrm>
            <a:off x="304920" y="411480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j0120765"/>
          <p:cNvPicPr/>
          <p:nvPr/>
        </p:nvPicPr>
        <p:blipFill>
          <a:blip r:embed="rId3"/>
          <a:stretch/>
        </p:blipFill>
        <p:spPr>
          <a:xfrm>
            <a:off x="2819520" y="5181480"/>
            <a:ext cx="2743200" cy="1363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j0264298"/>
          <p:cNvPicPr/>
          <p:nvPr/>
        </p:nvPicPr>
        <p:blipFill>
          <a:blip r:embed="rId4"/>
          <a:stretch/>
        </p:blipFill>
        <p:spPr>
          <a:xfrm>
            <a:off x="5105520" y="228600"/>
            <a:ext cx="1904760" cy="1766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j0226394"/>
          <p:cNvPicPr/>
          <p:nvPr/>
        </p:nvPicPr>
        <p:blipFill>
          <a:blip r:embed="rId5"/>
          <a:stretch/>
        </p:blipFill>
        <p:spPr>
          <a:xfrm>
            <a:off x="3124080" y="1905120"/>
            <a:ext cx="1679760" cy="17780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j0120683"/>
          <p:cNvPicPr/>
          <p:nvPr/>
        </p:nvPicPr>
        <p:blipFill>
          <a:blip r:embed="rId6"/>
          <a:stretch/>
        </p:blipFill>
        <p:spPr>
          <a:xfrm>
            <a:off x="6248520" y="1905120"/>
            <a:ext cx="2466720" cy="1315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9" descr="j0278068"/>
          <p:cNvPicPr/>
          <p:nvPr/>
        </p:nvPicPr>
        <p:blipFill>
          <a:blip r:embed="rId7"/>
          <a:stretch/>
        </p:blipFill>
        <p:spPr>
          <a:xfrm>
            <a:off x="533520" y="2286000"/>
            <a:ext cx="1795320" cy="13143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0" descr="j0120717"/>
          <p:cNvPicPr/>
          <p:nvPr/>
        </p:nvPicPr>
        <p:blipFill>
          <a:blip r:embed="rId8"/>
          <a:stretch/>
        </p:blipFill>
        <p:spPr>
          <a:xfrm>
            <a:off x="5029200" y="3276720"/>
            <a:ext cx="259560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285840" y="1125000"/>
            <a:ext cx="8400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  <a:ea typeface="Arial"/>
              </a:rPr>
              <a:t>Hybrids are defined as the products of crossing distinct specie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  <a:ea typeface="Arial"/>
              </a:rPr>
              <a:t>Considered as a “heterospecific inseminati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  <a:ea typeface="Arial"/>
              </a:rPr>
              <a:t>Hybridization among species of freshwater fishes is not uncomm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  <a:ea typeface="Arial"/>
              </a:rPr>
              <a:t>Numerous hybrid combinations have been described for cyprinds, cichlids, etc.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158760" y="324000"/>
            <a:ext cx="8839080" cy="13586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Combining traits of different speci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Steril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Producing monosex fish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Heterosis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Disease Resista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42f"/>
                </a:solidFill>
                <a:latin typeface="Arial"/>
                <a:ea typeface="Arial"/>
              </a:rPr>
              <a:t>Interspecific hybrids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Hybrids produced by crossing between different species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42f"/>
                </a:solidFill>
                <a:latin typeface="Arial"/>
                <a:ea typeface="Arial"/>
              </a:rPr>
              <a:t>Intergeneric hybrids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Hybrids produced by crossing between different gener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33200" y="262080"/>
            <a:ext cx="8864640" cy="15062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Such a hybrid could not be reared beyond 14 months and did not show signs of maturity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Mrigal matures in 12 months and common carp  in 6 months in ponds in Indi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The mrigal–common carp hybrid is sterile and to be a triploi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1260720" y="62064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IMC HYB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"/>
          <p:cNvSpPr/>
          <p:nvPr/>
        </p:nvSpPr>
        <p:spPr>
          <a:xfrm>
            <a:off x="1035000" y="1266840"/>
            <a:ext cx="7785000" cy="58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ybrids of IMC are even reported from the natural waters. Following  hybrid are reported as  successful for IM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tla x Rohu 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hu x Catla 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17"/>
          <p:cNvGrpSpPr/>
          <p:nvPr/>
        </p:nvGrpSpPr>
        <p:grpSpPr>
          <a:xfrm>
            <a:off x="1371600" y="3726000"/>
            <a:ext cx="360360" cy="309600"/>
            <a:chOff x="1371600" y="3726000"/>
            <a:chExt cx="360360" cy="309600"/>
          </a:xfrm>
        </p:grpSpPr>
        <p:sp>
          <p:nvSpPr>
            <p:cNvPr id="413" name="Oval 3"/>
            <p:cNvSpPr/>
            <p:nvPr/>
          </p:nvSpPr>
          <p:spPr>
            <a:xfrm>
              <a:off x="1447560" y="3726000"/>
              <a:ext cx="208080" cy="147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16"/>
            <p:cNvGrpSpPr/>
            <p:nvPr/>
          </p:nvGrpSpPr>
          <p:grpSpPr>
            <a:xfrm>
              <a:off x="1371600" y="3873600"/>
              <a:ext cx="360360" cy="162000"/>
              <a:chOff x="1371600" y="3873600"/>
              <a:chExt cx="360360" cy="162000"/>
            </a:xfrm>
          </p:grpSpPr>
          <p:pic>
            <p:nvPicPr>
              <p:cNvPr id="415" name="Straight Connector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407600" y="3873600"/>
                <a:ext cx="1479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Straight Connector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1600" y="3876480"/>
                <a:ext cx="360360" cy="104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17" name="Group 18"/>
          <p:cNvGrpSpPr/>
          <p:nvPr/>
        </p:nvGrpSpPr>
        <p:grpSpPr>
          <a:xfrm>
            <a:off x="1476360" y="4365720"/>
            <a:ext cx="358920" cy="309600"/>
            <a:chOff x="1476360" y="4365720"/>
            <a:chExt cx="358920" cy="309600"/>
          </a:xfrm>
        </p:grpSpPr>
        <p:sp>
          <p:nvSpPr>
            <p:cNvPr id="418" name="Oval 19"/>
            <p:cNvSpPr/>
            <p:nvPr/>
          </p:nvSpPr>
          <p:spPr>
            <a:xfrm>
              <a:off x="1552320" y="4365720"/>
              <a:ext cx="206640" cy="147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20"/>
            <p:cNvGrpSpPr/>
            <p:nvPr/>
          </p:nvGrpSpPr>
          <p:grpSpPr>
            <a:xfrm>
              <a:off x="1476360" y="4513320"/>
              <a:ext cx="358920" cy="162000"/>
              <a:chOff x="1476360" y="4513320"/>
              <a:chExt cx="358920" cy="162000"/>
            </a:xfrm>
          </p:grpSpPr>
          <p:pic>
            <p:nvPicPr>
              <p:cNvPr id="420" name="Straight Connector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360" y="4513320"/>
                <a:ext cx="1490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Straight Connector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1476360" y="4516200"/>
                <a:ext cx="358920" cy="104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These hybrids were reported in natural waters als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Grass carp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x ♂ Silver carp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                   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(Grass carp - silver carp)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Silver carp X   ♂ Grass carp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                            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(Silver carp - Grass carp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647640" y="2708280"/>
            <a:ext cx="360360" cy="309600"/>
            <a:chOff x="647640" y="2708280"/>
            <a:chExt cx="360360" cy="309600"/>
          </a:xfrm>
        </p:grpSpPr>
        <p:sp>
          <p:nvSpPr>
            <p:cNvPr id="425" name="Oval 4"/>
            <p:cNvSpPr/>
            <p:nvPr/>
          </p:nvSpPr>
          <p:spPr>
            <a:xfrm>
              <a:off x="723600" y="2708280"/>
              <a:ext cx="208080" cy="147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647640" y="2855880"/>
              <a:ext cx="360360" cy="162000"/>
              <a:chOff x="647640" y="2855880"/>
              <a:chExt cx="360360" cy="162000"/>
            </a:xfrm>
          </p:grpSpPr>
          <p:pic>
            <p:nvPicPr>
              <p:cNvPr id="427" name="Straight Connector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83640" y="2855880"/>
                <a:ext cx="1479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Straight Connector 7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40" y="2858760"/>
                <a:ext cx="360360" cy="104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29" name="Group 8"/>
          <p:cNvGrpSpPr/>
          <p:nvPr/>
        </p:nvGrpSpPr>
        <p:grpSpPr>
          <a:xfrm>
            <a:off x="571680" y="4083120"/>
            <a:ext cx="360360" cy="309600"/>
            <a:chOff x="571680" y="4083120"/>
            <a:chExt cx="360360" cy="309600"/>
          </a:xfrm>
        </p:grpSpPr>
        <p:sp>
          <p:nvSpPr>
            <p:cNvPr id="430" name="Oval 9"/>
            <p:cNvSpPr/>
            <p:nvPr/>
          </p:nvSpPr>
          <p:spPr>
            <a:xfrm>
              <a:off x="647640" y="4083120"/>
              <a:ext cx="208080" cy="147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Group 10"/>
            <p:cNvGrpSpPr/>
            <p:nvPr/>
          </p:nvGrpSpPr>
          <p:grpSpPr>
            <a:xfrm>
              <a:off x="571680" y="4230720"/>
              <a:ext cx="360360" cy="162000"/>
              <a:chOff x="571680" y="4230720"/>
              <a:chExt cx="360360" cy="162000"/>
            </a:xfrm>
          </p:grpSpPr>
          <p:pic>
            <p:nvPicPr>
              <p:cNvPr id="432" name="Straight Connector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03720" y="4230720"/>
                <a:ext cx="1479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3" name="Straight Connector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680" y="4230720"/>
                <a:ext cx="360360" cy="104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731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Arial"/>
                <a:ea typeface="Arial"/>
              </a:rPr>
              <a:t>Viable reciprocal hybrids of the catfishes,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Arial"/>
              </a:rPr>
              <a:t>Heteropneustes fossilis</a:t>
            </a:r>
            <a:r>
              <a:rPr b="0" lang="en-US" sz="2800" spc="-1" strike="noStrike">
                <a:solidFill>
                  <a:srgbClr val="4e3b30"/>
                </a:solidFill>
                <a:latin typeface="Arial"/>
                <a:ea typeface="Arial"/>
              </a:rPr>
              <a:t> and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Arial"/>
              </a:rPr>
              <a:t>Clarias batrachus </a:t>
            </a:r>
            <a:r>
              <a:rPr b="0" lang="en-US" sz="2800" spc="-1" strike="noStrike">
                <a:solidFill>
                  <a:srgbClr val="4e3b30"/>
                </a:solidFill>
                <a:latin typeface="Arial"/>
                <a:ea typeface="Arial"/>
              </a:rPr>
              <a:t>were produced by induced breeding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Arial"/>
                <a:ea typeface="Arial"/>
              </a:rPr>
              <a:t>The hybrid of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Arial"/>
              </a:rPr>
              <a:t>Clarias macrocephalus</a:t>
            </a:r>
            <a:r>
              <a:rPr b="0" lang="en-US" sz="2800" spc="-1" strike="noStrike">
                <a:solidFill>
                  <a:srgbClr val="4e3b30"/>
                </a:solidFill>
                <a:latin typeface="Arial"/>
                <a:ea typeface="Arial"/>
              </a:rPr>
              <a:t> and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Arial"/>
              </a:rPr>
              <a:t>C. gariepinus</a:t>
            </a:r>
            <a:r>
              <a:rPr b="0" lang="en-US" sz="2800" spc="-1" strike="noStrike">
                <a:solidFill>
                  <a:srgbClr val="4e3b30"/>
                </a:solidFill>
                <a:latin typeface="Arial"/>
                <a:ea typeface="Arial"/>
              </a:rPr>
              <a:t> is cultured in Thailand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Arial"/>
                <a:ea typeface="Arial"/>
              </a:rPr>
              <a:t>The hybrid grows larger than </a:t>
            </a:r>
            <a:r>
              <a:rPr b="0" i="1" lang="en-US" sz="2800" spc="-1" strike="noStrike">
                <a:solidFill>
                  <a:srgbClr val="4e3b30"/>
                </a:solidFill>
                <a:latin typeface="Arial"/>
                <a:ea typeface="Arial"/>
              </a:rPr>
              <a:t>C. macrocephalus</a:t>
            </a:r>
            <a:r>
              <a:rPr b="0" lang="en-US" sz="2800" spc="-1" strike="noStrike">
                <a:solidFill>
                  <a:srgbClr val="4e3b30"/>
                </a:solidFill>
                <a:latin typeface="Arial"/>
                <a:ea typeface="Arial"/>
              </a:rPr>
              <a:t> but possess yellow colour flesh and thus, is commercially successful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158760" y="324000"/>
            <a:ext cx="9021600" cy="13586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Penaeus monodon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P. esculentus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It  can increase productivity through hybrid vigour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Arial"/>
                <a:ea typeface="Arial"/>
              </a:rPr>
              <a:t>produce animals that are sterile, or combine desirable characteristics found in one species with those of another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09:41:02Z</dcterms:created>
  <dc:creator>GOWTHAMAN</dc:creator>
  <dc:description/>
  <dc:language>en-US</dc:language>
  <cp:lastModifiedBy>HP</cp:lastModifiedBy>
  <dcterms:modified xsi:type="dcterms:W3CDTF">2020-03-27T06:32:56Z</dcterms:modified>
  <cp:revision>28</cp:revision>
  <dc:subject/>
  <dc:title>Hybridization in fishes</dc:title>
</cp:coreProperties>
</file>