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3C1-E268-4705-A373-1771C919A9E3}" type="slidenum">
              <a:rPr b="0" lang="en-IN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BAD7-3340-4F20-902F-2635CE55A5BE}" type="slidenum">
              <a:rPr b="0" lang="en-IN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D8BA-2F4A-4193-8FFB-54DFF082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3F8-6E60-4DD0-B7A0-7356CCC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C19-993D-401F-97F5-AB1B292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DB3-DE81-45C7-803F-02F05CB9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B6F4-04E8-4C0A-B712-8A7584CF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C632-AE9A-4EEB-9EC1-85BDBE5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42DE-34B9-4712-A94B-71C1407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02A6-668E-44B8-A27C-55994732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017-ED6B-425C-A49D-9E6F2D7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13FC-0C62-4C3A-9D44-A66DD19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DB9E-14EA-46A7-A309-A4281EF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9F2-1890-4C8B-B2C0-63B43FE0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8D39-732B-4355-86F0-F438995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6FB-C2DF-4B05-A234-4D441A5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668F-A359-4A6E-A804-89CA07CD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6A66-272E-496A-83B4-C18068CB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CDF3-8531-479E-8E7D-01532364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3756-9741-4461-B849-406340F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3F90-9E9D-47DB-B348-DC95A28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098B-DA24-44BE-BEA3-60BC1654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642D4-0FC8-4A7F-9BE9-813CCC99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C719-7BE5-4C4E-B8D7-9BB85C6E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83A-DC41-4F7F-8DAC-9F104CD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A369-D683-4F57-921C-3B4F7FA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2D47A-B1EB-49B5-A322-2BA4C814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B3A1-FDAA-4D5F-9B72-44A6C48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3A03-7EB2-47DE-AECD-01A08A2D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9968-3C56-4903-BCD7-8EB4D27F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23F16-C991-4C6F-9562-6EA2CB19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7C92-DA2D-4600-857D-6FC294CA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85A4-4559-4E5F-AF31-8AA15A58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091BC-BAE2-4D62-AEF4-187C4923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25D9-1304-471B-B0DB-CE142AFB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667-BFF7-4CA4-A7C6-D177614B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E3B18-8D40-4B04-B23D-FDAD9A08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7B04-7234-4202-BE15-1E417597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81AB-7EBE-4506-92EC-481AF3A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38DA-9D64-4670-9D02-0E4B8BF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383C-6AE1-4D5E-B527-7BA729A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4CE2-6DA8-41D7-9F89-43DF72CB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D04B-33A8-43A0-A411-AE0364B9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E651-C82E-4A84-B873-11905E455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AC7E7-B140-4123-94B3-DCC5575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1C5F-4165-4065-9D79-EE511967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5CB-7C7D-4AA1-A35A-607ED86C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2241-F6AD-422C-9D3A-A1E0E77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1714B-D9CA-4C71-8473-B7AE450F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C09D5-2F1A-4A74-88C5-BD94DDF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865A2-B979-48EA-8DE9-48C1067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35B7F-7A47-4BF4-90A7-5D221D7D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46316-550A-449B-AD47-FA806CE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A8D3-9900-4D7C-A460-D38E9E3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9C14-7E38-4288-ABFA-7D0A8C8D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1D9C9-F1BF-4399-B855-D8099FF1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A3E6D-392F-4395-8868-6B1A1AFE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FCC-9F19-4C2F-A575-233964A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17866-07B7-46CC-A8A8-F1610099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CBA53-4703-45E6-B718-9CE5471D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7E23-9B1B-4347-A625-E2C14737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E4ABC-43B5-4AA6-953A-E3B9E7DC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95D7-CA87-4DEA-9523-DCBD470C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1C27-7BEF-4463-BF77-9FAD5F0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14E2-214A-4FCC-9869-6F369B7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8B02-898B-47CB-8958-9B17001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EA978-FD8A-4556-9FCD-56F5D69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63CD-746E-4270-845A-E847D56E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A29-D264-4D2E-865A-F63475C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8862A-3A0E-4A79-B66B-43699843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9A285-B751-4852-9839-DF3B8E27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5B85A-7791-4E59-87B4-F8B75BB4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C62FB-D5A7-41C3-8C1F-42B0ABBA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F5590-007E-4107-B1EC-BCA98D8E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2955A-233F-4370-80F9-3C6B5C59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1750-D470-4C3E-9D5F-C501F006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4D3F4-0351-4B94-8362-BC58E930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B4E9E-61C4-4596-90B8-E9A948C5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5D8A0-E93E-4145-BB72-186646C5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0D0B-C4A3-4F97-86A0-81C71B8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EED8-E5DB-4C95-9A0E-2013B8D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38C7-8BAF-48B1-8860-A268F240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224B4-FF8B-4B3C-B036-6DD13EA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F2828-F9A5-45B5-9395-899CE18A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4286-CC6B-4974-9C4B-061EEB36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C1A2-8014-4F33-A4B9-39D9EA0B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CC3B6-6754-4760-8EE3-EA97FEB7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21FFE-8993-4E33-9291-11A9D572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5E53F-0A29-40F7-A696-53B91730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B67DF-6A02-404C-9DEC-4EFBF4F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BEE-5852-4303-9E38-A444FA40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7460-32D9-49AD-A795-76EFFA0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17A8D-950E-410E-94D5-FA24E35F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FA7A-EB85-4E2A-A5AB-A7D7DE00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1A80F-67B3-4185-854B-FF17F9C2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9333E-E298-403D-9DB8-F81C79F9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0445-4DB6-4408-BFC6-4C52C447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93DD5-2A0D-433A-B61E-821CC10F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079-EA02-459C-AD02-F9D3610DFA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C190-4FBC-4A18-9E18-FB6A7A27FE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3FB9-A472-41E1-9943-D46F1FA270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4791-D0D4-4618-A791-530F6B065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AC33-82BC-4C39-94B4-977A539EAA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94C-B359-4502-AD24-5060826F82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24ED-01EC-4C4A-966F-EA0EE6E04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A47A-BFAC-45FE-9C45-48DB449E5A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060560" y="231840"/>
            <a:ext cx="656568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78" name="Group 4"/>
          <p:cNvGrpSpPr/>
          <p:nvPr/>
        </p:nvGrpSpPr>
        <p:grpSpPr>
          <a:xfrm>
            <a:off x="1036800" y="2443320"/>
            <a:ext cx="7070400" cy="2166120"/>
            <a:chOff x="1036800" y="2443320"/>
            <a:chExt cx="7070400" cy="2166120"/>
          </a:xfrm>
        </p:grpSpPr>
        <p:sp>
          <p:nvSpPr>
            <p:cNvPr id="379" name="Rectangle 5"/>
            <p:cNvSpPr/>
            <p:nvPr/>
          </p:nvSpPr>
          <p:spPr>
            <a:xfrm>
              <a:off x="1036800" y="2443320"/>
              <a:ext cx="707040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00000"/>
                  </a:solidFill>
                  <a:latin typeface="Arial"/>
                  <a:ea typeface="Arial"/>
                </a:rPr>
                <a:t>Dr V.P.Sain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2060"/>
                  </a:solidFill>
                  <a:latin typeface="Arial"/>
                  <a:ea typeface="Arial"/>
                </a:rPr>
                <a:t>Prof. &amp; De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College of Fisheries, Kishangan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0" name="Picture 6" descr="C:\Users\HP\Desktop\Seal.jpg"/>
            <p:cNvPicPr/>
            <p:nvPr/>
          </p:nvPicPr>
          <p:blipFill>
            <a:blip r:embed="rId2"/>
            <a:srcRect l="7862" t="6853" r="7862" b="5557"/>
            <a:stretch/>
          </p:blipFill>
          <p:spPr>
            <a:xfrm>
              <a:off x="6781320" y="3048120"/>
              <a:ext cx="947520" cy="924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5235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The brood stocks in a hatchery should be particularly replaced periodically. Exchange  of brood stocks between the local hatcheries can be don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)Brood stocks of different age groups should be bred together. This help in reducing the  chance  of loss of some valuable alleles due to genetic drif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36360" y="-6480"/>
            <a:ext cx="8656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i)Natural stocks may be inducted in to the hatchery periodically to increase the heterozygos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v)The pedigree record  of brood stock should be maintained  to avoid the mating of close relativ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)Cultured populations should be identified using a proper marking system. Females and males have to be originated from two different lin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304560"/>
            <a:ext cx="822960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v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 fish with poor constitutional conditions or anatomical abnormalities should be culle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i) Gene flow is an important factor to counteract the effects of inbreeding and also to reduce the genetic divergence among populations; since populations interconnected by even small rates of gene flow are less likely to go extinct than isolated populations of similar siz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breeding is simply the mating of related individuals; nothing more, nothing les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breeding does not imply anything about viability, growth, or productivity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breeding increases homozygosity in the offspring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is increase in homozygosity is called “inbreeding”, and the coefficient of inbreeding (F) is a measure of how much more homozygous a fish is than  the population average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breeding is estimated from the following equ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ΔF =   2 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ΔF = rate of inbreeding per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 (♂) (♀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=  ───────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♂)  +  (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ffective breeding nu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♂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= number of males contributing offspring to the next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♀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= number of females contributing offspring to the next gene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31840" y="158760"/>
            <a:ext cx="8461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extremely useful in fish sele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usefulness stems primarily from the stabilization of selection traits due to increased homozygosity and the augmented expression of several of the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used to produce superior animal and plant brood stock, to produce genetically improved animals and plants for grow-out, to create new breeds or varieties that breed true for “type”; i.e., a particular body conformation or set of qualitative phenotyp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341280" y="-6480"/>
            <a:ext cx="8352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295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breeding occurs when an outstanding individual (usually male) is brought back into the line to mate with a descenda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ne because the animals is so outstanding that his contribution to each descendant is increased in the gene pool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 breeding is the way of developing breeding lines from outstanding female and male pare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inbreeding increases, it causes a decrease in productivity which is termed “inbreeding depression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breeding depression is a decrease in growth rate, fecundity, etc. that is observed in the inbred group when it is compared to a control population where three is no inbreeding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verity of inbreeding depression depends on the level of inbreeding, the phenotype in question, and the popul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44600" y="-6480"/>
            <a:ext cx="82486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533520" y="3808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breeding depression occurs because of the pairing  and expression of  detrimental recessive alle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decreasing heterozygosity, inbreeding reduces what is called “over dominance”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 dominance occurs when the heterozygous genotype produces a phenotype that is superior to the two homozygous loc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breeding increases homozygosity, decreases heterozygosity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218960"/>
            <a:ext cx="8229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w inbreeding studies in fish have been  done in rainbow trout, Atlantic salmon, brook trout, brown trout, common carp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samb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channel catfish, zebra danio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breeding depressed production phenotypes such as growth, viability and survival, and increased the number of abnormaliti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68200" y="298440"/>
            <a:ext cx="84250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53352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incaid (1977) estimated that the critical level of inbreeding in rainbow trout is about 18%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ow 18%, inbreeding produced few problems, but above 18%, productivity was depressed significant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generation of brother-sister mating in rainbow trout resulted in increased fry deformity (37.6%), decreased FCE (15.6%) and fry survival (19%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2:54:46Z</dcterms:created>
  <dc:creator>welcome</dc:creator>
  <dc:description/>
  <dc:language>en-US</dc:language>
  <cp:lastModifiedBy>HP</cp:lastModifiedBy>
  <cp:lastPrinted>2018-04-29T07:09:43Z</cp:lastPrinted>
  <dcterms:modified xsi:type="dcterms:W3CDTF">2020-03-27T06:33:13Z</dcterms:modified>
  <cp:revision>17</cp:revision>
  <dc:subject/>
  <dc:title>Slide 1</dc:title>
</cp:coreProperties>
</file>