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58.png" ContentType="image/png"/>
  <Override PartName="/ppt/media/image46.jpeg" ContentType="image/jpeg"/>
  <Override PartName="/ppt/media/image55.jpeg" ContentType="image/jpeg"/>
  <Override PartName="/ppt/media/image43.png" ContentType="image/png"/>
  <Override PartName="/ppt/media/image54.jpeg" ContentType="image/jpeg"/>
  <Override PartName="/ppt/media/image41.png" ContentType="image/png"/>
  <Override PartName="/ppt/media/image9.wmf" ContentType="image/x-wmf"/>
  <Override PartName="/ppt/media/image36.jpeg" ContentType="image/jpeg"/>
  <Override PartName="/ppt/media/image2.jpeg" ContentType="image/jpeg"/>
  <Override PartName="/ppt/media/image31.png" ContentType="image/png"/>
  <Override PartName="/ppt/media/image42.png" ContentType="image/png"/>
  <Override PartName="/ppt/media/image26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64.jpeg" ContentType="image/jpeg"/>
  <Override PartName="/ppt/media/image7.jpeg" ContentType="image/jpeg"/>
  <Override PartName="/ppt/media/image28.png" ContentType="image/png"/>
  <Override PartName="/ppt/media/image38.jpeg" ContentType="image/jpeg"/>
  <Override PartName="/ppt/media/image20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62.png" ContentType="image/png"/>
  <Override PartName="/ppt/media/image51.jpeg" ContentType="image/jpeg"/>
  <Override PartName="/ppt/media/image3.png" ContentType="image/png"/>
  <Override PartName="/ppt/media/image56.jpeg" ContentType="image/jpeg"/>
  <Override PartName="/ppt/media/image16.jpeg" ContentType="image/jpeg"/>
  <Override PartName="/ppt/media/image60.jpeg" ContentType="image/jpeg"/>
  <Override PartName="/ppt/media/image37.jpeg" ContentType="image/jpeg"/>
  <Override PartName="/ppt/media/image24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22.jpeg" ContentType="image/jpeg"/>
  <Override PartName="/ppt/media/image65.png" ContentType="image/png"/>
  <Override PartName="/ppt/media/image21.jpeg" ContentType="image/jpeg"/>
  <Override PartName="/ppt/media/image5.jpeg" ContentType="image/jpeg"/>
  <Override PartName="/ppt/media/image32.jpeg" ContentType="image/jpeg"/>
  <Override PartName="/ppt/media/image18.jpeg" ContentType="image/jpeg"/>
  <Override PartName="/ppt/media/image50.jpeg" ContentType="image/jpeg"/>
  <Override PartName="/ppt/media/image11.jpeg" ContentType="image/jpeg"/>
  <Override PartName="/ppt/media/image34.png" ContentType="image/png"/>
  <Override PartName="/ppt/media/image12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17.png" ContentType="image/png"/>
  <Override PartName="/ppt/media/image39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3.jpeg" ContentType="image/jpeg"/>
  <Override PartName="/ppt/media/image35.jpeg" ContentType="image/jpeg"/>
  <Override PartName="/ppt/media/image57.jpeg" ContentType="image/jpeg"/>
  <Override PartName="/ppt/media/image44.jpeg" ContentType="image/jpeg"/>
  <Override PartName="/ppt/media/image45.png" ContentType="image/png"/>
  <Override PartName="/ppt/media/image47.jpeg" ContentType="image/jpeg"/>
  <Override PartName="/ppt/media/image48.png" ContentType="image/png"/>
  <Override PartName="/ppt/media/image49.jpeg" ContentType="image/jpeg"/>
  <Override PartName="/ppt/media/image5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1F1F-E24C-4C59-BAA8-9D74CC6C4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FCD1-4672-486A-B20B-AE2D50B00E41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B697-525E-4196-8BBD-E9E27EE8A34F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2DE3-D298-4E34-9D01-0E16D777F34B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of the mushroom-forming fungi (basidiomycota) form mycorrhizas with 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eople think that the spongy tissue in roots evolved as a place where fungi could invade to form early links with plants that helped them survive the harsh life on early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4389-34D5-46A3-A00A-65495C613EBF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of the regions where mycorrhizas are found are circl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“ecto” because the hyphae remain outside the root cells (though they extend inside the roo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7B08-7B2E-43B0-98A1-0BC024352168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llus is a plant-like body that doesn’t have roots, stems or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llus doesn’t look like either part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 nature of thalli was not fully understood until early 1900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gus gives the name to the lichen (by agree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gus usually, but not always, an Ascomycote (in 8+ independent ord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 green.  If bluegreen bacteria present, lichens fix nitrogen (turn atmospheric nitrogen into amino acid nitrogen in protei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3957-5A9D-46B6-9345-C88D96163468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ture of lichen symbiosis is may also be described as mutual exploitation instead of mutual benef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chens live in environments where neither fungi nor algae could live al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the fungi do not not grow alone in the wild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but not all) lichen algae occur as free-living organis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cultured separately, the fungi do not produce lichen compounds and the algae do not “leak” carbohydrate from their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ome lichens, the fungus invades algal cells with haustoria and kills some of them, but not as fast as the algae replenish its numbers by re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obaria oregan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refers old-growth conifer canopies in forests with clean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E95B-E0CA-4B8D-8B50-9AC8A7A52ABC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CEBF-D208-4616-A91D-F2F2CD2AB771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CBAD-5F52-4A52-BFDF-9DDDEAD4F2D0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gi reproduce by releasing spores that are produced either sexually or asexu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utput of spores from one reproductive structure is enormous, with the number reaching into the trill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ersed widely by wind or water, spores germinate to produce mycelia if they land in a moist place where there is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555E9-2980-4D7C-9CF3-FE53D3B5C3C9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gal mycelia can be huge, but they usually escape notice because they are subterrane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giant individual of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rmillari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stoya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 Oregon is 3.4 miles in diameter and covers 2,200 acres of forest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t least 2,400 years old, and weighs hundreds of 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ctually noone has seen this of this extent – but cultures have been taken from soil over that area and all isolates have been found to be the same individu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 cubic centimeters of rich organic soil may have fungal hyphae with a surface area of over 300 c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4B3B-9AE6-4E00-9EC8-029ACC2BC7F9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0E01-9A7C-41F7-88F9-9EA3D7257EB4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B165-B002-4C22-AB06-7D50D118BF19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5C4A-69A2-43C1-8040-DE4A9B57D17F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87F0-B274-41C9-894F-1BB7FD0256FC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ar studies indicate that animals, not plants, are the closest relatives of fung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Animals and Fungi are related most closely to a group of Protists known as the choanoflagellates (collar flagella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dom began in ocean during Precambrian (Late Proterozoic er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100,000 species of fungi are known and mycologists estimate that there are actually about 1.5 million species worldw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9BE7-661C-4770-AE2C-4A5B577F7171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yla of fungi are determin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motility of sp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nature of sexua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gi moved onto land with the plants in the Early Paleozo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ch of the evolution of fungi was in conjunction with the evolution of plants and plant p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when roots evolved, fungi were there and helped (mycorrhiza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ood evolved, fungi evolved to take advantage of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evolutionary changes related to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E3E9-05B4-4EB2-8422-3C6AE76C66A2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ed in CMR as true fungi (because of their molecular relationship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der of the phyla are almost exclusively terrestrial (a  few molds on wet plant materi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8FCF-430A-4CE6-A223-B3A09582D566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600 zygomycote, or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ygote fung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are terrestrial, living in soil or on decaying plant and animal mater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exual reproduction in sporan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zygomycote group form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ycorrhiz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mutualistic associations with the roots of pl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5754-650C-4538-8D32-8818E48C4B78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940D-D72D-4F2A-9F24-C6D19F8A4887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cologists have described over 60,000 species of ascomycetes, or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ac fung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comycota tend to grow from spore to spore in one year and relate well to living plant 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diverse form in the growth and fruiting structures – yeasts to morels, many intermediate (and sma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exual reproduction by conidia (externally produced, not in sporang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of the Ascomycota form lichens (evolved 8 or more times in different orders) but not all lichens are Ascomyc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17C0-05E6-4031-9F25-9A0230D600A6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egins the first of several photographic reviews of fungal diversity.  Enjoy the pictures and try and get a feeling of some of the different forms these fungi take and their roles in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271E-619F-42D6-BA8C-71B51478839D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exual spores coni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logically important on wood as decomposers and para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the mushrooms form mycorrhiz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9B62-307C-49C3-A626-1A38F13F4BCC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E805-FFA9-4FCC-99F0-15873C7112A9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A55B-FECE-469C-A14E-28F6C0314C65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5FD1-CCF0-44AF-B0D8-2BFEBB2583C1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DE292-50A3-4AD2-B89E-BB28E8614391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D91D9-428B-4BD9-88EE-90AB77CA75D2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d and wine yeast, the budding yeast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accharomy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ily cultured.  For a time, this was the most important organism for studying the molecular genetics of eukary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accharomy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arguably the most important organism known to hum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andid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auses diseases of humans, usually experiencing chemical imbalance or immune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0C81-E302-4E26-8104-222B78CDCDDF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l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a rapidly growing, asexually reproducing fung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lia of these fungi grow as saprobes or parasites on a variety of substr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used in foods (Blue cheese, Tempeh) and in industrial production of dru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in life, a mold, a term that applies properly only to the asexual stage, produces asexual sp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r, the same fungus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ma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produce sexually, producing zygosporangia, ascocarps, or basidioca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olds go through a “fake sex” 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77B6-D134-41A3-BA97-996A048284F7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8CC7D-684F-437D-B17C-29D1495F6736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FC10-E898-441A-A99E-DD455614868D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enzyme release (and absorption) at t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s and other materials synthesized by the entire mycelium are channeled by cytoplasmic streaming to the tips of the extending hypha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FBC2-0751-4FE2-AAFA-799F3EBE0E46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tin is the same material used by Arthropods (Insects, crabs, etc.) in their exoskeleton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i of fungi are hard to see without s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D241-8E2B-4D8A-A232-9EF2743FA679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A6CB-140A-4BA9-9531-4DD543CEEB81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880F-0600-4907-B927-6680CC27E2F1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dd4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pn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487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Kingdom Fungi</a:t>
            </a: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-360" y="4190760"/>
            <a:ext cx="30481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characteristics of fungi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evolution of the fungi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ungal classification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ungal life cycle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Fungi as Symbionts (Mutualism)</a:t>
            </a:r>
            <a:endParaRPr b="1" lang="en-US" sz="40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113" name="Picture 12" descr="lichen on tombstone"/>
          <p:cNvPicPr/>
          <p:nvPr/>
        </p:nvPicPr>
        <p:blipFill>
          <a:blip r:embed="rId1"/>
          <a:stretch/>
        </p:blipFill>
        <p:spPr>
          <a:xfrm>
            <a:off x="2514600" y="4094280"/>
            <a:ext cx="3591000" cy="2363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40580b2a21"/>
          <p:cNvPicPr/>
          <p:nvPr/>
        </p:nvPicPr>
        <p:blipFill>
          <a:blip r:embed="rId2"/>
          <a:stretch/>
        </p:blipFill>
        <p:spPr>
          <a:xfrm>
            <a:off x="609480" y="1676520"/>
            <a:ext cx="3124440" cy="2233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mycorrhiza012706"/>
          <p:cNvPicPr/>
          <p:nvPr/>
        </p:nvPicPr>
        <p:blipFill>
          <a:blip r:embed="rId3"/>
          <a:stretch/>
        </p:blipFill>
        <p:spPr>
          <a:xfrm>
            <a:off x="3886200" y="1295280"/>
            <a:ext cx="2421000" cy="2114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5" descr="oldman082606a"/>
          <p:cNvPicPr/>
          <p:nvPr/>
        </p:nvPicPr>
        <p:blipFill>
          <a:blip r:embed="rId4"/>
          <a:stretch/>
        </p:blipFill>
        <p:spPr>
          <a:xfrm>
            <a:off x="6553080" y="1676520"/>
            <a:ext cx="22622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Mycorrhizae</a:t>
            </a: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Fungus roots”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Mutualism between: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Fungus (nutrient &amp; water uptake for plant)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Plant (carbohydrate for fungus)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Several kind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Zygomycota – hyphae invade root cell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Ascomycota &amp; Basidiomycota – hyphae invade root but don’t penetrate cell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</a:rPr>
              <a:t>Extremely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 important ecological role of fungi!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Ecto”mycorrhizae</a:t>
            </a: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120" name="Picture 19" descr="Russula brevipes Hemlock Mycorrhizas OC78B-13"/>
          <p:cNvPicPr/>
          <p:nvPr/>
        </p:nvPicPr>
        <p:blipFill>
          <a:blip r:embed="rId1"/>
          <a:stretch/>
        </p:blipFill>
        <p:spPr>
          <a:xfrm>
            <a:off x="0" y="1066680"/>
            <a:ext cx="3997440" cy="5791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1" descr="Tshe mycorrhiza XS 100X Kodach Apr84-26"/>
          <p:cNvPicPr/>
          <p:nvPr/>
        </p:nvPicPr>
        <p:blipFill>
          <a:blip r:embed="rId2"/>
          <a:stretch/>
        </p:blipFill>
        <p:spPr>
          <a:xfrm>
            <a:off x="5486400" y="838080"/>
            <a:ext cx="3657600" cy="28101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1"/>
          <p:cNvSpPr/>
          <p:nvPr/>
        </p:nvSpPr>
        <p:spPr>
          <a:xfrm>
            <a:off x="4114800" y="2209680"/>
            <a:ext cx="19051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Times New Roman"/>
              </a:rPr>
              <a:t>Russula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 mushroom mycorrhizas on Western Hemlock root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3" name="Oval 12"/>
          <p:cNvSpPr/>
          <p:nvPr/>
        </p:nvSpPr>
        <p:spPr>
          <a:xfrm>
            <a:off x="914400" y="4952880"/>
            <a:ext cx="1447920" cy="15242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24" name="Picture 23" descr="Tshe mycorrhiza XS 400X Kodach Apr84-30"/>
          <p:cNvPicPr/>
          <p:nvPr/>
        </p:nvPicPr>
        <p:blipFill>
          <a:blip r:embed="rId3"/>
          <a:stretch/>
        </p:blipFill>
        <p:spPr>
          <a:xfrm>
            <a:off x="5537160" y="4245120"/>
            <a:ext cx="3606840" cy="26128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3"/>
          <p:cNvSpPr/>
          <p:nvPr/>
        </p:nvSpPr>
        <p:spPr>
          <a:xfrm>
            <a:off x="3962520" y="560376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Fungal hyphae around root and between cell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6" name="Line 14"/>
          <p:cNvSpPr/>
          <p:nvPr/>
        </p:nvSpPr>
        <p:spPr>
          <a:xfrm flipV="1">
            <a:off x="5181480" y="4800600"/>
            <a:ext cx="990720" cy="1295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7" name="Line 15"/>
          <p:cNvSpPr/>
          <p:nvPr/>
        </p:nvSpPr>
        <p:spPr>
          <a:xfrm flipV="1">
            <a:off x="5791320" y="5790960"/>
            <a:ext cx="1523880" cy="685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8" name="Text Box 25"/>
          <p:cNvSpPr/>
          <p:nvPr/>
        </p:nvSpPr>
        <p:spPr>
          <a:xfrm>
            <a:off x="5938200" y="3672000"/>
            <a:ext cx="284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Mycorrhiza cross sections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9" name="Oval 26"/>
          <p:cNvSpPr/>
          <p:nvPr/>
        </p:nvSpPr>
        <p:spPr>
          <a:xfrm>
            <a:off x="2438280" y="2666880"/>
            <a:ext cx="1219320" cy="12193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0" name="Oval 27"/>
          <p:cNvSpPr/>
          <p:nvPr/>
        </p:nvSpPr>
        <p:spPr>
          <a:xfrm>
            <a:off x="2743200" y="4419720"/>
            <a:ext cx="1371600" cy="13716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1" name="Oval 28"/>
          <p:cNvSpPr/>
          <p:nvPr/>
        </p:nvSpPr>
        <p:spPr>
          <a:xfrm>
            <a:off x="76320" y="2971800"/>
            <a:ext cx="914400" cy="9144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4191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Lichens</a:t>
            </a: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267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Mutualism” between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Fungus – structure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Alga or cyanobacterium – provides food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Three main types of lichens: 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Crustose lichens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 form flat crusty plates.  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Foliose lichens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 are leafy in appearance, although lobed or branched structures are not true leaves. 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Fruticose lichens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 are even more finely branched and may hang down like beards from branches or grow up from the ground like tiny shrubs.  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1" descr="Lobaria oregana"/>
          <p:cNvPicPr/>
          <p:nvPr/>
        </p:nvPicPr>
        <p:blipFill>
          <a:blip r:embed="rId1"/>
          <a:stretch/>
        </p:blipFill>
        <p:spPr>
          <a:xfrm>
            <a:off x="3886200" y="3355920"/>
            <a:ext cx="5257800" cy="35020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Lichen internal structure</a:t>
            </a:r>
            <a:endParaRPr b="1" lang="en-US" sz="40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137" name="Picture 23" descr="31-17-LichenAnatomy-NL"/>
          <p:cNvPicPr/>
          <p:nvPr/>
        </p:nvPicPr>
        <p:blipFill>
          <a:blip r:embed="rId2"/>
          <a:stretch/>
        </p:blipFill>
        <p:spPr>
          <a:xfrm>
            <a:off x="0" y="860400"/>
            <a:ext cx="6629400" cy="28908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6"/>
          <p:cNvSpPr/>
          <p:nvPr/>
        </p:nvSpPr>
        <p:spPr>
          <a:xfrm>
            <a:off x="7392960" y="56386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Lobaria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9" name="Rectangle 33"/>
          <p:cNvSpPr/>
          <p:nvPr/>
        </p:nvSpPr>
        <p:spPr>
          <a:xfrm>
            <a:off x="0" y="3782880"/>
            <a:ext cx="3886200" cy="31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99"/>
                </a:solidFill>
                <a:latin typeface="Times New Roman"/>
              </a:rPr>
              <a:t>Lichens are nature’s biological monitors of pollution and air quality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Thalli act like sponges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Some species more sensitive to pollution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Which species are present can indicate air quality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Most resistant species can also be analyzed for pollutants, including bioaccumulation of heavy metals and radioactive isotopes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Fungi as Parasites &amp; Pathogens</a:t>
            </a:r>
            <a:endParaRPr b="1" lang="en-US" sz="40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141" name="Picture 8" descr="ringworm"/>
          <p:cNvPicPr/>
          <p:nvPr/>
        </p:nvPicPr>
        <p:blipFill>
          <a:blip r:embed="rId1"/>
          <a:stretch/>
        </p:blipFill>
        <p:spPr>
          <a:xfrm>
            <a:off x="2743200" y="4267080"/>
            <a:ext cx="1600200" cy="2133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Cordyceps melolo"/>
          <p:cNvPicPr/>
          <p:nvPr/>
        </p:nvPicPr>
        <p:blipFill>
          <a:blip r:embed="rId2"/>
          <a:stretch/>
        </p:blipFill>
        <p:spPr>
          <a:xfrm>
            <a:off x="4419720" y="4114800"/>
            <a:ext cx="1625400" cy="2438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PMildew"/>
          <p:cNvPicPr/>
          <p:nvPr/>
        </p:nvPicPr>
        <p:blipFill>
          <a:blip r:embed="rId3"/>
          <a:stretch/>
        </p:blipFill>
        <p:spPr>
          <a:xfrm>
            <a:off x="6400800" y="1066680"/>
            <a:ext cx="2209680" cy="1760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23049092"/>
          <p:cNvPicPr/>
          <p:nvPr/>
        </p:nvPicPr>
        <p:blipFill>
          <a:blip r:embed="rId4"/>
          <a:stretch/>
        </p:blipFill>
        <p:spPr>
          <a:xfrm>
            <a:off x="6248520" y="3048120"/>
            <a:ext cx="2522520" cy="3124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2" descr="coccidioidomycosis_face"/>
          <p:cNvPicPr/>
          <p:nvPr/>
        </p:nvPicPr>
        <p:blipFill>
          <a:blip r:embed="rId5"/>
          <a:stretch/>
        </p:blipFill>
        <p:spPr>
          <a:xfrm>
            <a:off x="4648320" y="1676520"/>
            <a:ext cx="1476360" cy="2286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3" descr="cedar_applerust"/>
          <p:cNvPicPr/>
          <p:nvPr/>
        </p:nvPicPr>
        <p:blipFill>
          <a:blip r:embed="rId6"/>
          <a:stretch/>
        </p:blipFill>
        <p:spPr>
          <a:xfrm>
            <a:off x="304920" y="1066680"/>
            <a:ext cx="4241520" cy="2878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4" descr="eiffel_tower"/>
          <p:cNvPicPr/>
          <p:nvPr/>
        </p:nvPicPr>
        <p:blipFill>
          <a:blip r:embed="rId7"/>
          <a:stretch/>
        </p:blipFill>
        <p:spPr>
          <a:xfrm>
            <a:off x="8381880" y="22860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5" descr="entomophthora_m1"/>
          <p:cNvPicPr/>
          <p:nvPr/>
        </p:nvPicPr>
        <p:blipFill>
          <a:blip r:embed="rId8"/>
          <a:stretch/>
        </p:blipFill>
        <p:spPr>
          <a:xfrm>
            <a:off x="380880" y="4648320"/>
            <a:ext cx="221004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Arial"/>
              </a:rPr>
              <a:t>Fungi are Spore-ific!!!</a:t>
            </a: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495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Spores - asexual (product of mitosis) or sexual (product of meiosis) in origin. 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Purpose of Spores 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Allows the fungus to move to new food source. 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Resistant stage - allows fungus to survive periods of adversity.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Means of introducing new genetic combinations into a population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51" name="Picture 6" descr="Fusarium"/>
          <p:cNvPicPr/>
          <p:nvPr/>
        </p:nvPicPr>
        <p:blipFill>
          <a:blip r:embed="rId1"/>
          <a:stretch/>
        </p:blipFill>
        <p:spPr>
          <a:xfrm>
            <a:off x="4419720" y="1447920"/>
            <a:ext cx="1879560" cy="1676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Aspergillus_on_bread"/>
          <p:cNvPicPr/>
          <p:nvPr/>
        </p:nvPicPr>
        <p:blipFill>
          <a:blip r:embed="rId2"/>
          <a:stretch/>
        </p:blipFill>
        <p:spPr>
          <a:xfrm>
            <a:off x="4954680" y="3352680"/>
            <a:ext cx="3305160" cy="3353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Alternaria"/>
          <p:cNvPicPr/>
          <p:nvPr/>
        </p:nvPicPr>
        <p:blipFill>
          <a:blip r:embed="rId3"/>
          <a:stretch/>
        </p:blipFill>
        <p:spPr>
          <a:xfrm>
            <a:off x="6553080" y="1371600"/>
            <a:ext cx="2390760" cy="16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Reproduce by spores</a:t>
            </a: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60958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Spores are reproductive cell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Sexual (meiotic in origin)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Asexual (mitotic in origin)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Formed: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Directly on hyphae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Inside sporangia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Fruiting bodies 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56" name="Picture 4" descr="31-14b-Penicillium"/>
          <p:cNvPicPr/>
          <p:nvPr/>
        </p:nvPicPr>
        <p:blipFill>
          <a:blip r:embed="rId1"/>
          <a:stretch/>
        </p:blipFill>
        <p:spPr>
          <a:xfrm>
            <a:off x="6248520" y="1828800"/>
            <a:ext cx="2732040" cy="3505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31-11x5-Amanita"/>
          <p:cNvPicPr/>
          <p:nvPr/>
        </p:nvPicPr>
        <p:blipFill>
          <a:blip r:embed="rId2"/>
          <a:stretch/>
        </p:blipFill>
        <p:spPr>
          <a:xfrm>
            <a:off x="0" y="3855960"/>
            <a:ext cx="3657600" cy="25988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31-08-Pilobolus"/>
          <p:cNvPicPr/>
          <p:nvPr/>
        </p:nvPicPr>
        <p:blipFill>
          <a:blip r:embed="rId3"/>
          <a:stretch/>
        </p:blipFill>
        <p:spPr>
          <a:xfrm>
            <a:off x="3733920" y="2514600"/>
            <a:ext cx="2438280" cy="33526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9"/>
          <p:cNvSpPr/>
          <p:nvPr/>
        </p:nvSpPr>
        <p:spPr>
          <a:xfrm>
            <a:off x="832680" y="6461280"/>
            <a:ext cx="24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Times New Roman"/>
              </a:rPr>
              <a:t>Amanita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 fruiting body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958200" y="6019920"/>
            <a:ext cx="22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Times New Roman"/>
              </a:rPr>
              <a:t>Pilobolus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 sporangia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6629400" y="541008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Times New Roman"/>
              </a:rPr>
              <a:t>Penicillium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 hyphae with conidia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Hyphal growth from spore</a:t>
            </a: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163" name="Picture 4" descr="myceliumg"/>
          <p:cNvPicPr/>
          <p:nvPr/>
        </p:nvPicPr>
        <p:blipFill>
          <a:blip r:embed="rId1"/>
          <a:stretch/>
        </p:blipFill>
        <p:spPr>
          <a:xfrm>
            <a:off x="685800" y="1905120"/>
            <a:ext cx="8124840" cy="30844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7"/>
          <p:cNvSpPr/>
          <p:nvPr/>
        </p:nvSpPr>
        <p:spPr>
          <a:xfrm>
            <a:off x="6552000" y="502920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mycelium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303480" y="4114800"/>
            <a:ext cx="165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germinating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spore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18960" y="5638680"/>
            <a:ext cx="6172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Mycelia have a huge surface area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Arial"/>
              </a:rPr>
              <a:t>The Characteristics of Fungi</a:t>
            </a: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ungus is often hidden from view. It grows through its food source (substratum), excretes extracellular digestive enzymes, and absorbs dissolved food. 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Indeterminate clonal growth. 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Vegetative phase of fungus is generally sedentary. 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Arial"/>
              </a:rPr>
              <a:t>The Characteristics of Fungi</a:t>
            </a: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3809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Body form 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unicellular 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filamentous (tube-like strands called hypha (singular) or hyphae (plural) 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mycelium = aggregate of hyphae 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sclerotium = hardened mass of mycelium that generally serves as an overwintering stage. 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multicellular, such as mycelial cords, rhizomorphs, and fruit bodies (mushrooms) 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50" name="Picture 4" descr="2KSD62CAJMITU7CAUTIY51CAQG1YFDCAWF4FGRCA1OHEYMCACUSM0FCA39X20TCAJU3HGMCAIP9321CANKWJCUCAC2PBYUCA4SJTSXCA3E7VS2CAFD2ERZCA6MHXDDCAOQ03QBCA7HVIKO"/>
          <p:cNvPicPr/>
          <p:nvPr/>
        </p:nvPicPr>
        <p:blipFill>
          <a:blip r:embed="rId1"/>
          <a:stretch/>
        </p:blipFill>
        <p:spPr>
          <a:xfrm>
            <a:off x="6095880" y="480060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tuckahoe"/>
          <p:cNvPicPr/>
          <p:nvPr/>
        </p:nvPicPr>
        <p:blipFill>
          <a:blip r:embed="rId2"/>
          <a:stretch/>
        </p:blipFill>
        <p:spPr>
          <a:xfrm>
            <a:off x="6095880" y="2590920"/>
            <a:ext cx="2819520" cy="2114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Anastomosis_md"/>
          <p:cNvPicPr/>
          <p:nvPr/>
        </p:nvPicPr>
        <p:blipFill>
          <a:blip r:embed="rId3"/>
          <a:stretch/>
        </p:blipFill>
        <p:spPr>
          <a:xfrm>
            <a:off x="6705720" y="1066680"/>
            <a:ext cx="1981080" cy="1409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yeastFormFungi"/>
          <p:cNvPicPr/>
          <p:nvPr/>
        </p:nvPicPr>
        <p:blipFill>
          <a:blip r:embed="rId4"/>
          <a:stretch/>
        </p:blipFill>
        <p:spPr>
          <a:xfrm>
            <a:off x="4267080" y="1066680"/>
            <a:ext cx="2230560" cy="1387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800px-Armillariella_mellea_rhizomorph_bialowieza_forest_1_beentree"/>
          <p:cNvPicPr/>
          <p:nvPr/>
        </p:nvPicPr>
        <p:blipFill>
          <a:blip r:embed="rId5"/>
          <a:stretch/>
        </p:blipFill>
        <p:spPr>
          <a:xfrm>
            <a:off x="4229280" y="4419720"/>
            <a:ext cx="1712880" cy="2286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2891"/>
          <p:cNvPicPr/>
          <p:nvPr/>
        </p:nvPicPr>
        <p:blipFill>
          <a:blip r:embed="rId6"/>
          <a:stretch/>
        </p:blipFill>
        <p:spPr>
          <a:xfrm>
            <a:off x="4267080" y="2590920"/>
            <a:ext cx="175284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Arial"/>
              </a:rPr>
              <a:t>The Characteristics of Fungi</a:t>
            </a: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Cell wall present, composed of cellulose and/or chitin. 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Food storage - generally in the form of lipids and glycogen. 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Eukaryotes - true nucleus and other organelles present. 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All fungi require water and oxygen (no obligate anaerobes). 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Fungi grow in almost every habitat imaginable, as long as there is some type of organic matter present and the environment is not too extreme. 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Diverse group, number of described species is somewhere between 69,000 to 100,000 (estimated 1.5 million species total).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Generalized Life Cycle of a Fungus</a:t>
            </a:r>
            <a:endParaRPr b="1" lang="en-US" sz="40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172" name="Picture 10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800100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Choanoflagellate Sphaeroeca"/>
          <p:cNvPicPr/>
          <p:nvPr/>
        </p:nvPicPr>
        <p:blipFill>
          <a:blip r:embed="rId2"/>
          <a:stretch/>
        </p:blipFill>
        <p:spPr>
          <a:xfrm>
            <a:off x="7620120" y="3657600"/>
            <a:ext cx="1247760" cy="14479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8"/>
          <p:cNvSpPr/>
          <p:nvPr/>
        </p:nvSpPr>
        <p:spPr>
          <a:xfrm>
            <a:off x="1066680" y="4724280"/>
            <a:ext cx="64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99"/>
                </a:solidFill>
                <a:latin typeface="Times New Roman"/>
              </a:rPr>
              <a:t>Evolution of the fungi</a:t>
            </a:r>
            <a:endParaRPr b="0" lang="en-US" sz="4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5" name="AutoShape 9"/>
          <p:cNvSpPr/>
          <p:nvPr/>
        </p:nvSpPr>
        <p:spPr>
          <a:xfrm>
            <a:off x="7620120" y="0"/>
            <a:ext cx="533160" cy="533520"/>
          </a:xfrm>
          <a:prstGeom prst="pie">
            <a:avLst/>
          </a:prstGeom>
          <a:solidFill>
            <a:srgbClr val="ff0000"/>
          </a:solidFill>
          <a:ln w="3492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4"/>
          <p:cNvSpPr/>
          <p:nvPr/>
        </p:nvSpPr>
        <p:spPr>
          <a:xfrm>
            <a:off x="6019920" y="5105520"/>
            <a:ext cx="28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Times New Roman"/>
              </a:rPr>
              <a:t>Classification &amp; Phylogeny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609480" y="5181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motile spore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2133720" y="43434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zygosporangia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5105520" y="3809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asci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6477120" y="40384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basidia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Chytridiomycota – “chytrids”</a:t>
            </a:r>
            <a:endParaRPr b="1" lang="en-US" sz="40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Simple fungi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Produce motile spores - zoospore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Mostly saprobes and parasites in aquatic habitat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Could just as well be Protist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83" name="Picture 7" descr="31-05A-CHYTRID Rot"/>
          <p:cNvPicPr/>
          <p:nvPr/>
        </p:nvPicPr>
        <p:blipFill>
          <a:blip r:embed="rId1"/>
          <a:stretch/>
        </p:blipFill>
        <p:spPr>
          <a:xfrm>
            <a:off x="5029200" y="1143000"/>
            <a:ext cx="3505320" cy="26002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9"/>
          <p:cNvSpPr/>
          <p:nvPr/>
        </p:nvSpPr>
        <p:spPr>
          <a:xfrm>
            <a:off x="5174280" y="3809880"/>
            <a:ext cx="329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Times New Roman"/>
              </a:rPr>
              <a:t>Chytridium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 growing on spores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85" name="Picture 11" descr="4-4"/>
          <p:cNvPicPr/>
          <p:nvPr/>
        </p:nvPicPr>
        <p:blipFill>
          <a:blip r:embed="rId2"/>
          <a:stretch/>
        </p:blipFill>
        <p:spPr>
          <a:xfrm>
            <a:off x="5257800" y="4419720"/>
            <a:ext cx="2895480" cy="186372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2"/>
          <p:cNvSpPr/>
          <p:nvPr/>
        </p:nvSpPr>
        <p:spPr>
          <a:xfrm>
            <a:off x="4716360" y="6248520"/>
            <a:ext cx="40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Times New Roman"/>
              </a:rPr>
              <a:t>Chytriomyces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 growing on pine pollen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87" name="Picture 13" descr="chytrid"/>
          <p:cNvPicPr/>
          <p:nvPr/>
        </p:nvPicPr>
        <p:blipFill>
          <a:blip r:embed="rId3"/>
          <a:stretch/>
        </p:blipFill>
        <p:spPr>
          <a:xfrm>
            <a:off x="1523880" y="4327560"/>
            <a:ext cx="320040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Zygomycota – “zygote fungi”</a:t>
            </a:r>
            <a:endParaRPr b="1" lang="en-US" sz="40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449604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Sexual Reproduction - zygosporangia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Asexual reprod. – common (sporangia – bags of asexual spores)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Hyphae have no cross wall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Grow rapidly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Decomposers, pathogens, and some form mycorrhizal associations with plant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90" name="Picture 4" descr="31-06-Rhizophus"/>
          <p:cNvPicPr/>
          <p:nvPr/>
        </p:nvPicPr>
        <p:blipFill>
          <a:blip r:embed="rId1"/>
          <a:stretch/>
        </p:blipFill>
        <p:spPr>
          <a:xfrm>
            <a:off x="5181480" y="1295280"/>
            <a:ext cx="3353040" cy="22212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6"/>
          <p:cNvSpPr/>
          <p:nvPr/>
        </p:nvSpPr>
        <p:spPr>
          <a:xfrm>
            <a:off x="2356560" y="1295280"/>
            <a:ext cx="27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Times New Roman"/>
              </a:rPr>
              <a:t>Rhizopus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 on strawberries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92" name="Picture 7" descr="23-21_rhinocerebral_mucormycosis"/>
          <p:cNvPicPr/>
          <p:nvPr/>
        </p:nvPicPr>
        <p:blipFill>
          <a:blip r:embed="rId2"/>
          <a:stretch/>
        </p:blipFill>
        <p:spPr>
          <a:xfrm>
            <a:off x="4952880" y="3962520"/>
            <a:ext cx="3962520" cy="23940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8"/>
          <p:cNvSpPr/>
          <p:nvPr/>
        </p:nvSpPr>
        <p:spPr>
          <a:xfrm>
            <a:off x="5480640" y="6461280"/>
            <a:ext cx="302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Rhinocerebral zygomycosis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4"/>
          <p:cNvSpPr/>
          <p:nvPr/>
        </p:nvSpPr>
        <p:spPr>
          <a:xfrm>
            <a:off x="5334120" y="5334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Life cycle of </a:t>
            </a:r>
            <a:r>
              <a:rPr b="0" i="1" lang="en-US" sz="2400" spc="-1" strike="noStrike">
                <a:solidFill>
                  <a:srgbClr val="990099"/>
                </a:solidFill>
                <a:latin typeface="Times New Roman"/>
              </a:rPr>
              <a:t>Rhizopu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228600" y="350532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Asexual sporangium with spores inside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6" name="Line 6"/>
          <p:cNvSpPr/>
          <p:nvPr/>
        </p:nvSpPr>
        <p:spPr>
          <a:xfrm flipH="1">
            <a:off x="1447920" y="4114800"/>
            <a:ext cx="914400" cy="685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6172200" y="205740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Sexual zygsporangium with one zygospore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8" name="Line 8"/>
          <p:cNvSpPr/>
          <p:nvPr/>
        </p:nvSpPr>
        <p:spPr>
          <a:xfrm flipV="1">
            <a:off x="7467480" y="1294920"/>
            <a:ext cx="304920" cy="838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Ascomycota – “sac fungi”</a:t>
            </a: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Sexual Reproduction – asci (sing. = ascus)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Asex. Reprod. – common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Cup fungi, morels, truffle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Important plant parasites &amp; saprobe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Yeast -</a:t>
            </a:r>
            <a:r>
              <a:rPr b="0" i="1" lang="en-US" sz="2400" spc="-1" strike="noStrike">
                <a:solidFill>
                  <a:srgbClr val="0000cc"/>
                </a:solidFill>
                <a:latin typeface="Times New Roman"/>
              </a:rPr>
              <a:t> Saccharomyce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Decomposers, pathogens, and found in most lichen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01" name="Picture 4" descr="31-10x1b-DevelopingAsci"/>
          <p:cNvPicPr/>
          <p:nvPr/>
        </p:nvPicPr>
        <p:blipFill>
          <a:blip r:embed="rId1"/>
          <a:stretch/>
        </p:blipFill>
        <p:spPr>
          <a:xfrm>
            <a:off x="4648320" y="144792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6"/>
          <p:cNvSpPr/>
          <p:nvPr/>
        </p:nvSpPr>
        <p:spPr>
          <a:xfrm>
            <a:off x="4339800" y="5638680"/>
            <a:ext cx="44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A cluster of asci with spores inside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Sac fungi diversity</a:t>
            </a:r>
            <a:endParaRPr b="1" lang="en-US" sz="40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204" name="Picture 8" descr="Morel wanted poster Kodach Sep86-36"/>
          <p:cNvPicPr/>
          <p:nvPr/>
        </p:nvPicPr>
        <p:blipFill>
          <a:blip r:embed="rId1"/>
          <a:stretch/>
        </p:blipFill>
        <p:spPr>
          <a:xfrm>
            <a:off x="5867280" y="1295280"/>
            <a:ext cx="3067200" cy="49532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2" descr="zvonecek-poharkovity-037"/>
          <p:cNvPicPr/>
          <p:nvPr/>
        </p:nvPicPr>
        <p:blipFill>
          <a:blip r:embed="rId2"/>
          <a:stretch/>
        </p:blipFill>
        <p:spPr>
          <a:xfrm>
            <a:off x="304920" y="1523880"/>
            <a:ext cx="3504960" cy="24368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Sarcoscypha_coccinea1"/>
          <p:cNvPicPr/>
          <p:nvPr/>
        </p:nvPicPr>
        <p:blipFill>
          <a:blip r:embed="rId3"/>
          <a:stretch/>
        </p:blipFill>
        <p:spPr>
          <a:xfrm>
            <a:off x="228600" y="4191120"/>
            <a:ext cx="2819520" cy="2466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4" descr="perithecium%20releases%20asci"/>
          <p:cNvPicPr/>
          <p:nvPr/>
        </p:nvPicPr>
        <p:blipFill>
          <a:blip r:embed="rId4"/>
          <a:stretch/>
        </p:blipFill>
        <p:spPr>
          <a:xfrm>
            <a:off x="3200400" y="449568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5" descr="yeastAscus"/>
          <p:cNvPicPr/>
          <p:nvPr/>
        </p:nvPicPr>
        <p:blipFill>
          <a:blip r:embed="rId5"/>
          <a:stretch/>
        </p:blipFill>
        <p:spPr>
          <a:xfrm>
            <a:off x="3992400" y="1752480"/>
            <a:ext cx="1521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Basidiomycota – “club fungi”</a:t>
            </a:r>
            <a:endParaRPr b="1" lang="en-US" sz="40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4495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Sexual Reproduction – basidia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Asexual reprod – not so common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Long-lived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dikaryotic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mycelia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Rusts &amp; smuts –plant parasite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Mushrooms, polypores, puffballs, boletes, bird’s nest fungi 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Enzymes decompose wood, leaves, and other organic material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Decomposers, pathogens, and some form mycorrhizal associations with plant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11" name="Picture 4" descr="hymenium7"/>
          <p:cNvPicPr/>
          <p:nvPr/>
        </p:nvPicPr>
        <p:blipFill>
          <a:blip r:embed="rId1"/>
          <a:stretch/>
        </p:blipFill>
        <p:spPr>
          <a:xfrm>
            <a:off x="5419800" y="1295280"/>
            <a:ext cx="3724200" cy="419112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6"/>
          <p:cNvSpPr/>
          <p:nvPr/>
        </p:nvSpPr>
        <p:spPr>
          <a:xfrm>
            <a:off x="5257080" y="5638680"/>
            <a:ext cx="34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SEM of basidia and spore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2895480" y="59436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ycelium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2057400" y="6094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ruiting bodie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2971800" y="2971800"/>
            <a:ext cx="153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both are composed of hyphae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971440" y="251424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Mushroom Life Cycle</a:t>
            </a:r>
            <a:endParaRPr b="1" lang="en-US" sz="40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5562720" y="4800600"/>
            <a:ext cx="207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uclear fusion in basidium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2743200" y="4572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eiosi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3962520" y="0"/>
            <a:ext cx="207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yphal fusion of haploid mycelia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441360" y="574560"/>
            <a:ext cx="153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haploid mycelium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3809880" y="603576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young basidia - the only diploid cell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6095880" y="11736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mycelium and fruiting body ar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karyotic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3356640" y="3886200"/>
            <a:ext cx="29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N          2N          N+N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Bioluminescence in </a:t>
            </a:r>
            <a:r>
              <a:rPr b="0" i="1" lang="en-US" sz="4400" spc="-1" strike="noStrike">
                <a:solidFill>
                  <a:srgbClr val="990099"/>
                </a:solidFill>
                <a:latin typeface="Arial"/>
              </a:rPr>
              <a:t>Mycena</a:t>
            </a: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222" name="Picture 8" descr="mycena_lux_coeli_1"/>
          <p:cNvPicPr/>
          <p:nvPr/>
        </p:nvPicPr>
        <p:blipFill>
          <a:blip r:embed="rId1"/>
          <a:stretch/>
        </p:blipFill>
        <p:spPr>
          <a:xfrm>
            <a:off x="1600200" y="1106640"/>
            <a:ext cx="5791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Some fungi have more than one scientific name – Why?</a:t>
            </a:r>
            <a:endParaRPr b="1" lang="en-US" sz="40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Teleomorph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: the sexual reproductive stage (morph), typically a fruiting body (e.g., 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Morchella esculenta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Agaricus brunescens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Anamorph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: an asexual reproductive stage (morph), often mold-like (e.g. 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Aspergillus flavus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Fusarium solani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).  When a single fungus produces multiple morphologically distinct anamorphs, they are called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synanamorphs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Holomorph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: the whole fungus, including all anamorphs and the teleomorph. 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Deuteromycota – Form Phylum “Imperfect Fungi”</a:t>
            </a:r>
            <a:endParaRPr b="1" lang="en-US" sz="40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ungi that seldom or never reproduce sexually.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Asexual reproduction by vegetative growth and production of asexual spores common.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4267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Yeasts</a:t>
            </a: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1024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Single celled fungi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Adapted to liquid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Plant sap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Water film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Moist animal tissue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29" name="Picture 4" descr="Candida Albicans"/>
          <p:cNvPicPr/>
          <p:nvPr/>
        </p:nvPicPr>
        <p:blipFill>
          <a:blip r:embed="rId1"/>
          <a:stretch/>
        </p:blipFill>
        <p:spPr>
          <a:xfrm>
            <a:off x="5638680" y="1143000"/>
            <a:ext cx="3011760" cy="48769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YEASTSEM"/>
          <p:cNvPicPr/>
          <p:nvPr/>
        </p:nvPicPr>
        <p:blipFill>
          <a:blip r:embed="rId2"/>
          <a:stretch/>
        </p:blipFill>
        <p:spPr>
          <a:xfrm>
            <a:off x="838080" y="4038480"/>
            <a:ext cx="3505320" cy="21337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8"/>
          <p:cNvSpPr/>
          <p:nvPr/>
        </p:nvSpPr>
        <p:spPr>
          <a:xfrm>
            <a:off x="6630480" y="60199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Times New Roman"/>
              </a:rPr>
              <a:t>Candida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203480" y="6213600"/>
            <a:ext cx="20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Times New Roman"/>
              </a:rPr>
              <a:t>Saccharomyce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3809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Molds</a:t>
            </a:r>
            <a:endParaRPr b="1" lang="en-US" sz="40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8098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Rapidly growth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Asexual spore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Many human importance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Food spoilage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Food products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Antibiotics, etc.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35" name="Picture 6" descr="31-20x1-Botrytis"/>
          <p:cNvPicPr/>
          <p:nvPr/>
        </p:nvPicPr>
        <p:blipFill>
          <a:blip r:embed="rId1"/>
          <a:stretch/>
        </p:blipFill>
        <p:spPr>
          <a:xfrm>
            <a:off x="609480" y="3657600"/>
            <a:ext cx="3581640" cy="23954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8" descr="31-21-FungalAntibiotic"/>
          <p:cNvPicPr/>
          <p:nvPr/>
        </p:nvPicPr>
        <p:blipFill>
          <a:blip r:embed="rId2"/>
          <a:stretch/>
        </p:blipFill>
        <p:spPr>
          <a:xfrm>
            <a:off x="5105520" y="4038480"/>
            <a:ext cx="3657600" cy="24368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0" descr="Mold images"/>
          <p:cNvPicPr/>
          <p:nvPr/>
        </p:nvPicPr>
        <p:blipFill>
          <a:blip r:embed="rId3"/>
          <a:stretch/>
        </p:blipFill>
        <p:spPr>
          <a:xfrm>
            <a:off x="5105520" y="228600"/>
            <a:ext cx="3598920" cy="38862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2"/>
          <p:cNvSpPr/>
          <p:nvPr/>
        </p:nvSpPr>
        <p:spPr>
          <a:xfrm>
            <a:off x="5403960" y="6461280"/>
            <a:ext cx="314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Fig  31.21 Antibiotic activity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9" name="Text Box 13"/>
          <p:cNvSpPr/>
          <p:nvPr/>
        </p:nvSpPr>
        <p:spPr>
          <a:xfrm>
            <a:off x="1445400" y="6248520"/>
            <a:ext cx="225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Noble Rot - </a:t>
            </a:r>
            <a:r>
              <a:rPr b="0" i="1" lang="en-US" sz="2000" spc="-1" strike="noStrike">
                <a:solidFill>
                  <a:srgbClr val="0000cc"/>
                </a:solidFill>
                <a:latin typeface="Times New Roman"/>
              </a:rPr>
              <a:t>Botrytis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HUMAN-FUNGUS INTERACTIONS</a:t>
            </a:r>
            <a:endParaRPr b="1" lang="en-US" sz="36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Beneficial Effects of Fungi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Decomposition - nutrient and carbon recycling. 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Biosynthetic factories. Can be used to produce drugs, antibiotics, alcohol, acids, food (e.g., fermented products, mushrooms). 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Model organisms for biochemical and genetic studies. 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Harmful Effects of Fungi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Destruction of food, lumber, paper, and cloth. 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Animal and human diseases, including allergies. 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Toxins produced by poisonous mushrooms and within food (e.g., grain, cheese, etc.). 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Plant diseases. 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Arial"/>
              </a:rPr>
              <a:t>The Characteristics of Fungi</a:t>
            </a: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Heterotrophy - 'other food' 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aprophytes or saprobes - feed on dead tissues or organic waste (decomposers)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ymbionts - mutually beneficial relationship between a fungus and another organism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Parasites - feeding on living tissue of a host.  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Parasites that cause disease are called pathogens. 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8" descr="j0298897"/>
          <p:cNvPicPr/>
          <p:nvPr/>
        </p:nvPicPr>
        <p:blipFill>
          <a:blip r:embed="rId1"/>
          <a:stretch/>
        </p:blipFill>
        <p:spPr>
          <a:xfrm>
            <a:off x="6324480" y="4419720"/>
            <a:ext cx="1806840" cy="15778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Heterotrophic by Absorption</a:t>
            </a:r>
            <a:endParaRPr b="1" lang="en-US" sz="40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0102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Fungi get carbon from organic source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Hyphal tips release enzyme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Enzymatic breakdown of substrate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Products diffuse back into hyphae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4" name="AutoShape 4"/>
          <p:cNvSpPr/>
          <p:nvPr/>
        </p:nvSpPr>
        <p:spPr>
          <a:xfrm>
            <a:off x="0" y="5181480"/>
            <a:ext cx="5029200" cy="609840"/>
          </a:xfrm>
          <a:prstGeom prst="flowChartDelay">
            <a:avLst/>
          </a:prstGeom>
          <a:solidFill>
            <a:srgbClr val="c0c0c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5" name="Line 10"/>
          <p:cNvSpPr/>
          <p:nvPr/>
        </p:nvSpPr>
        <p:spPr>
          <a:xfrm flipV="1">
            <a:off x="4648320" y="4495320"/>
            <a:ext cx="609480" cy="838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6" name="Line 11"/>
          <p:cNvSpPr/>
          <p:nvPr/>
        </p:nvSpPr>
        <p:spPr>
          <a:xfrm flipV="1">
            <a:off x="4800600" y="4876560"/>
            <a:ext cx="990720" cy="533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7" name="Line 12"/>
          <p:cNvSpPr/>
          <p:nvPr/>
        </p:nvSpPr>
        <p:spPr>
          <a:xfrm flipV="1">
            <a:off x="4952880" y="5257440"/>
            <a:ext cx="106704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8" name="Line 13"/>
          <p:cNvSpPr/>
          <p:nvPr/>
        </p:nvSpPr>
        <p:spPr>
          <a:xfrm>
            <a:off x="4876920" y="5562720"/>
            <a:ext cx="106668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9" name="Line 14"/>
          <p:cNvSpPr/>
          <p:nvPr/>
        </p:nvSpPr>
        <p:spPr>
          <a:xfrm>
            <a:off x="4648320" y="5638680"/>
            <a:ext cx="91440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0" name="WordArt 15"/>
          <p:cNvSpPr txBox="1"/>
          <p:nvPr/>
        </p:nvSpPr>
        <p:spPr>
          <a:xfrm rot="4890600">
            <a:off x="4614840" y="5138640"/>
            <a:ext cx="1447560" cy="466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Enzyme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71" name="Line 16"/>
          <p:cNvSpPr/>
          <p:nvPr/>
        </p:nvSpPr>
        <p:spPr>
          <a:xfrm flipV="1">
            <a:off x="5105520" y="3733560"/>
            <a:ext cx="685800" cy="99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2" name="Line 17"/>
          <p:cNvSpPr/>
          <p:nvPr/>
        </p:nvSpPr>
        <p:spPr>
          <a:xfrm flipV="1">
            <a:off x="5638680" y="4419360"/>
            <a:ext cx="990720" cy="533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3" name="Line 18"/>
          <p:cNvSpPr/>
          <p:nvPr/>
        </p:nvSpPr>
        <p:spPr>
          <a:xfrm flipV="1">
            <a:off x="5715000" y="5105160"/>
            <a:ext cx="121932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4" name="Line 19"/>
          <p:cNvSpPr/>
          <p:nvPr/>
        </p:nvSpPr>
        <p:spPr>
          <a:xfrm>
            <a:off x="5638680" y="5791320"/>
            <a:ext cx="121932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5" name="Line 20"/>
          <p:cNvSpPr/>
          <p:nvPr/>
        </p:nvSpPr>
        <p:spPr>
          <a:xfrm>
            <a:off x="5257800" y="6095880"/>
            <a:ext cx="106668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6" name="AutoShape 21"/>
          <p:cNvSpPr/>
          <p:nvPr/>
        </p:nvSpPr>
        <p:spPr>
          <a:xfrm>
            <a:off x="6553080" y="4648320"/>
            <a:ext cx="914400" cy="914400"/>
          </a:xfrm>
          <a:prstGeom prst="irregularSeal1">
            <a:avLst/>
          </a:prstGeom>
          <a:noFill/>
          <a:ln w="414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7" name="WordArt 22"/>
          <p:cNvSpPr txBox="1"/>
          <p:nvPr/>
        </p:nvSpPr>
        <p:spPr>
          <a:xfrm rot="5128800">
            <a:off x="6036840" y="4000320"/>
            <a:ext cx="3085920" cy="2057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4518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Enzymatic breakdown</a:t>
            </a:r>
            <a:endParaRPr b="0" lang="en-US" sz="3200" spc="1" strike="noStrike">
              <a:ln w="9360">
                <a:solidFill>
                  <a:srgbClr val="ff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78" name="Line 25"/>
          <p:cNvSpPr/>
          <p:nvPr/>
        </p:nvSpPr>
        <p:spPr>
          <a:xfrm flipH="1" flipV="1">
            <a:off x="6933960" y="3885840"/>
            <a:ext cx="75960" cy="1143000"/>
          </a:xfrm>
          <a:prstGeom prst="line">
            <a:avLst/>
          </a:prstGeom>
          <a:ln w="28440">
            <a:solidFill>
              <a:srgbClr val="0000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9" name="Line 26"/>
          <p:cNvSpPr/>
          <p:nvPr/>
        </p:nvSpPr>
        <p:spPr>
          <a:xfrm>
            <a:off x="7162920" y="5181480"/>
            <a:ext cx="990360" cy="685800"/>
          </a:xfrm>
          <a:prstGeom prst="line">
            <a:avLst/>
          </a:prstGeom>
          <a:ln w="28440">
            <a:solidFill>
              <a:srgbClr val="0000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0" name="Line 27"/>
          <p:cNvSpPr/>
          <p:nvPr/>
        </p:nvSpPr>
        <p:spPr>
          <a:xfrm flipH="1" flipV="1">
            <a:off x="6019920" y="4495680"/>
            <a:ext cx="761760" cy="457200"/>
          </a:xfrm>
          <a:prstGeom prst="line">
            <a:avLst/>
          </a:prstGeom>
          <a:ln w="28440">
            <a:solidFill>
              <a:srgbClr val="0000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1" name="Line 28"/>
          <p:cNvSpPr/>
          <p:nvPr/>
        </p:nvSpPr>
        <p:spPr>
          <a:xfrm flipH="1">
            <a:off x="5715000" y="5181480"/>
            <a:ext cx="990720" cy="152640"/>
          </a:xfrm>
          <a:prstGeom prst="line">
            <a:avLst/>
          </a:prstGeom>
          <a:ln w="28440">
            <a:solidFill>
              <a:srgbClr val="0000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2" name="Line 29"/>
          <p:cNvSpPr/>
          <p:nvPr/>
        </p:nvSpPr>
        <p:spPr>
          <a:xfrm flipH="1">
            <a:off x="6171840" y="5257800"/>
            <a:ext cx="762120" cy="762120"/>
          </a:xfrm>
          <a:prstGeom prst="line">
            <a:avLst/>
          </a:prstGeom>
          <a:ln w="28440">
            <a:solidFill>
              <a:srgbClr val="0000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3" name="Line 30"/>
          <p:cNvSpPr/>
          <p:nvPr/>
        </p:nvSpPr>
        <p:spPr>
          <a:xfrm flipV="1">
            <a:off x="7086600" y="4114800"/>
            <a:ext cx="533520" cy="990720"/>
          </a:xfrm>
          <a:prstGeom prst="line">
            <a:avLst/>
          </a:prstGeom>
          <a:ln w="28440">
            <a:solidFill>
              <a:srgbClr val="0000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4" name="Line 31"/>
          <p:cNvSpPr/>
          <p:nvPr/>
        </p:nvSpPr>
        <p:spPr>
          <a:xfrm>
            <a:off x="7086600" y="5181480"/>
            <a:ext cx="152280" cy="1219320"/>
          </a:xfrm>
          <a:prstGeom prst="line">
            <a:avLst/>
          </a:prstGeom>
          <a:ln w="28440">
            <a:solidFill>
              <a:srgbClr val="0000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5" name="Line 32"/>
          <p:cNvSpPr/>
          <p:nvPr/>
        </p:nvSpPr>
        <p:spPr>
          <a:xfrm>
            <a:off x="7315200" y="5105520"/>
            <a:ext cx="914400" cy="0"/>
          </a:xfrm>
          <a:prstGeom prst="line">
            <a:avLst/>
          </a:prstGeom>
          <a:ln w="28440">
            <a:solidFill>
              <a:srgbClr val="0000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6" name="WordArt 33"/>
          <p:cNvSpPr txBox="1"/>
          <p:nvPr/>
        </p:nvSpPr>
        <p:spPr>
          <a:xfrm rot="18453600">
            <a:off x="5624280" y="4509720"/>
            <a:ext cx="1409760" cy="466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Times New Roman"/>
              </a:rPr>
              <a:t>Product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Times New Roman"/>
              <a:ea typeface="Times New Roman"/>
            </a:endParaRPr>
          </a:p>
        </p:txBody>
      </p:sp>
      <p:sp>
        <p:nvSpPr>
          <p:cNvPr id="87" name="Line 34"/>
          <p:cNvSpPr/>
          <p:nvPr/>
        </p:nvSpPr>
        <p:spPr>
          <a:xfrm flipH="1">
            <a:off x="4800600" y="5257800"/>
            <a:ext cx="1295280" cy="228600"/>
          </a:xfrm>
          <a:prstGeom prst="line">
            <a:avLst/>
          </a:prstGeom>
          <a:ln w="28440">
            <a:solidFill>
              <a:srgbClr val="0000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8" name="Text Box 35"/>
          <p:cNvSpPr/>
          <p:nvPr/>
        </p:nvSpPr>
        <p:spPr>
          <a:xfrm>
            <a:off x="2132640" y="5867280"/>
            <a:ext cx="29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Product diffuses back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into hypha and is used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9" name="Oval 36"/>
          <p:cNvSpPr/>
          <p:nvPr/>
        </p:nvSpPr>
        <p:spPr>
          <a:xfrm>
            <a:off x="1600200" y="5334120"/>
            <a:ext cx="380880" cy="2286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0" name="Text Box 37"/>
          <p:cNvSpPr/>
          <p:nvPr/>
        </p:nvSpPr>
        <p:spPr>
          <a:xfrm>
            <a:off x="1123920" y="4433760"/>
            <a:ext cx="222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Nucleus hangs back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and “directs”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Hyphae</a:t>
            </a: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92" name="Picture 4" descr="hyphae"/>
          <p:cNvPicPr/>
          <p:nvPr/>
        </p:nvPicPr>
        <p:blipFill>
          <a:blip r:embed="rId1"/>
          <a:stretch/>
        </p:blipFill>
        <p:spPr>
          <a:xfrm>
            <a:off x="4800600" y="609480"/>
            <a:ext cx="3917880" cy="54928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ubular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Hard wall of chitin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rosswalls may form compartments (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±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ells)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Multinucleate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Grow at tips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Hyphal growth</a:t>
            </a: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Hyphae grow from their tips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Mycelium = extensive, feeding web of hyphae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Mycelia are the ecologically active bodies of fungi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6" name="AutoShape 4"/>
          <p:cNvSpPr/>
          <p:nvPr/>
        </p:nvSpPr>
        <p:spPr>
          <a:xfrm>
            <a:off x="0" y="5181480"/>
            <a:ext cx="4495680" cy="685800"/>
          </a:xfrm>
          <a:prstGeom prst="flowChartDelay">
            <a:avLst/>
          </a:prstGeom>
          <a:solidFill>
            <a:srgbClr val="c0c0c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0" y="5181480"/>
            <a:ext cx="5029200" cy="685800"/>
          </a:xfrm>
          <a:prstGeom prst="flowChartDelay">
            <a:avLst/>
          </a:prstGeom>
          <a:solidFill>
            <a:srgbClr val="c0c0c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0" y="5181480"/>
            <a:ext cx="6019920" cy="685800"/>
          </a:xfrm>
          <a:prstGeom prst="flowChartDelay">
            <a:avLst/>
          </a:prstGeom>
          <a:solidFill>
            <a:srgbClr val="c0c0c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0" y="5181480"/>
            <a:ext cx="7010280" cy="685800"/>
          </a:xfrm>
          <a:prstGeom prst="flowChartDelay">
            <a:avLst/>
          </a:prstGeom>
          <a:solidFill>
            <a:srgbClr val="c0c0c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911880" y="449568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This wall is rigid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3878280" y="4495680"/>
            <a:ext cx="42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Only the tip wall is plastic and stretches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2" name="Line 11"/>
          <p:cNvSpPr/>
          <p:nvPr/>
        </p:nvSpPr>
        <p:spPr>
          <a:xfrm flipH="1">
            <a:off x="1371600" y="4800600"/>
            <a:ext cx="380880" cy="304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3" name="Line 12"/>
          <p:cNvSpPr/>
          <p:nvPr/>
        </p:nvSpPr>
        <p:spPr>
          <a:xfrm flipH="1">
            <a:off x="4800600" y="4876920"/>
            <a:ext cx="457200" cy="30456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1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72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31-02-CharacFungalHyphae-L"/>
          <p:cNvPicPr/>
          <p:nvPr/>
        </p:nvPicPr>
        <p:blipFill>
          <a:blip r:embed="rId1"/>
          <a:stretch/>
        </p:blipFill>
        <p:spPr>
          <a:xfrm>
            <a:off x="457200" y="1143000"/>
            <a:ext cx="8229600" cy="54864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Modifications of hyphae</a:t>
            </a:r>
            <a:endParaRPr b="1" lang="en-US" sz="4000" spc="-1" strike="noStrike">
              <a:solidFill>
                <a:srgbClr val="99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Fungi as Saprobes and Decomposers</a:t>
            </a:r>
            <a:endParaRPr b="1" lang="en-US" sz="40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107" name="Picture 8" descr="fs132020"/>
          <p:cNvPicPr/>
          <p:nvPr/>
        </p:nvPicPr>
        <p:blipFill>
          <a:blip r:embed="rId1"/>
          <a:stretch/>
        </p:blipFill>
        <p:spPr>
          <a:xfrm>
            <a:off x="2895480" y="1498680"/>
            <a:ext cx="2971800" cy="1963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200px-Moldy_nectarines"/>
          <p:cNvPicPr/>
          <p:nvPr/>
        </p:nvPicPr>
        <p:blipFill>
          <a:blip r:embed="rId2"/>
          <a:stretch/>
        </p:blipFill>
        <p:spPr>
          <a:xfrm>
            <a:off x="228600" y="1447920"/>
            <a:ext cx="2590920" cy="1942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ceilingmold"/>
          <p:cNvPicPr/>
          <p:nvPr/>
        </p:nvPicPr>
        <p:blipFill>
          <a:blip r:embed="rId3"/>
          <a:stretch/>
        </p:blipFill>
        <p:spPr>
          <a:xfrm>
            <a:off x="1905120" y="35812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e3452-lrg"/>
          <p:cNvPicPr/>
          <p:nvPr/>
        </p:nvPicPr>
        <p:blipFill>
          <a:blip r:embed="rId4"/>
          <a:stretch/>
        </p:blipFill>
        <p:spPr>
          <a:xfrm>
            <a:off x="5943600" y="1600200"/>
            <a:ext cx="3002040" cy="4495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99_Oyster-log-1"/>
          <p:cNvPicPr/>
          <p:nvPr/>
        </p:nvPicPr>
        <p:blipFill>
          <a:blip r:embed="rId5"/>
          <a:stretch/>
        </p:blipFill>
        <p:spPr>
          <a:xfrm>
            <a:off x="233280" y="3657600"/>
            <a:ext cx="14004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5T19:19:01Z</dcterms:created>
  <dc:creator>HP</dc:creator>
  <dc:description/>
  <dc:language>en-US</dc:language>
  <cp:lastModifiedBy>HP</cp:lastModifiedBy>
  <cp:lastPrinted>2001-01-06T03:20:03Z</cp:lastPrinted>
  <dcterms:modified xsi:type="dcterms:W3CDTF">2016-12-07T07:37:35Z</dcterms:modified>
  <cp:revision>32</cp:revision>
  <dc:subject/>
  <dc:title>Intro. to the Fungi  (PowerPoint Presentation)</dc:title>
</cp:coreProperties>
</file>