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4.png" ContentType="image/png"/>
  <Override PartName="/ppt/media/image8.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Lst>
  <p:sldSz cx="9144000" cy="6858000"/>
  <p:notesSz cx="9309100" cy="6954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59D3F-E790-41E6-B924-3FB6B95D3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42740-B705-438B-96FC-F2E13108A7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B56B4-B149-4619-84CD-61346FBCC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0B25C-7F08-404A-A8D3-7F9A7B1E6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12C7A-B569-4AE0-B55F-11C13C9CE3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9D1E77-7903-46B1-A54F-A0135BD88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1C632-015E-4FBA-9733-73BC0C6DC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47EB0-61A5-4FA5-A8DF-160EAAE39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6F1067-38CB-4E7C-BB3C-7BD8D74EFE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616408-FCA5-4ACF-A097-2EAAC8E99B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A576B-9A95-43D6-8116-B7D1A9C50E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03F77-DA26-483E-9204-F00D86A49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92172-AC82-41EF-8DD7-7F1C508283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9FBAC-D50B-4FB5-80A3-23CBB86AD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9CD09E-5C90-4488-95EA-4280ACDB1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71211-D4CE-4206-B3FF-8EE80D242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3F71D6-2162-4E04-BBBC-A6423A145A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D1619D9-372F-4B5E-A946-FEC3C17D74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411381-0204-479D-BE3C-77C40D3185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FFE850-A1CC-458D-BBCA-9BA414E13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C185F7-354B-4C93-95AC-14AE4B67B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3F5E3-C7E1-428E-944E-829742BE9E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3C1CC-75F6-4F70-AE8A-6C30E53A7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7661A0-A2C4-4132-AED8-C18AF4A7C4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AB3387-4B55-4B50-AEC2-C646E7BAA7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35FBFD-0BA4-47C2-912E-31DD71295C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F30158-60EA-4016-B8B6-1DB190F761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B431D-0A01-4708-8873-1CBD4AFD40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64541C0-AA5E-456E-A260-93432D44B6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AD5C8-8D24-443A-820E-A1133F80608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ED0F40-0862-4FCD-8A25-70DD2E3A40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94C0BA-B7E9-47A3-A722-3F314B0CF9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DF385-CD6D-4C17-B4FF-B1A9E30723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BB91BE-9C2F-4437-B237-95A4233E4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44F25-1220-4FE7-8AA3-7F652310B7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440B78-B681-4D83-A4A0-2E1C04A5F6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E37079-8697-47E5-B5FA-BBEAA9298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F204C1-6C03-49FA-88C7-37CF13D75A4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5FF1F2-5503-4DC4-8013-51473C756B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EFE03-350F-4024-8825-D0340742F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FD2614-786F-4EB1-B4C1-75801ED1E0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A24A4F-4D5B-4E6A-B7E4-FF140080E2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BDCE52-0BA4-42A5-A93D-1688BED6F9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27ECE63-01CE-4B00-8C8C-149CE394C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02847-76E8-4589-8ABB-1852B1F227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F4302E-7F16-42E2-91CF-7C43917F9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A1F9C6-0B94-4AAE-927C-017D9339A3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7301DB-E02B-4DB9-8638-4ADD08D5FC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18FD56-C0B3-490C-BA0B-38B84A7A06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1B3DEC-1DB1-44A4-9762-E4F6231947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C9733C-4D97-43CB-BAC9-2402F9BDB9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830C9-C280-4B5A-92FC-BE2D5F6353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EB4815-2FA1-45A0-A3DB-16F6486419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A5EBF3-5DD0-43EF-93C0-3166440F27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165F3E-748D-4B2E-92D9-B405672975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8EFA0-6922-424C-BDFA-84103FD8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F42C194-F025-4249-B320-CADCA8DF13F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282863-D2FF-48C8-AFF3-9045308158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62BAF1-EFC9-48EE-97C0-CAA9A65ED1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728AF8-0F11-464B-82C1-1EB7BC551F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EAED12-E3E1-4264-9AD5-2554B2653C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F76ADD-FC79-43B0-830E-1C52BF5F03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63C2E2-3DCB-4902-8C02-AE1153BAE7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F12B88-75C9-41B8-A503-EC2FB9D0B4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D40F9AF-9E4B-487A-8D66-73E9AC3573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5C49C-C1DC-483C-A1B8-99890FC9D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1AAE8-2916-41AE-AC24-2F054CC197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BE1D35-8A46-42DB-B5CB-D9E9E3B58A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09FB12-B10F-4DF0-9981-F8FE1CE4B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3E03A3-A7CF-43DC-97B2-D085A34D0E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084324-D7FF-4A79-9993-7F02929A26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93F452-6A72-43B0-BC0F-B7F83AA1B7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2D47B9-DD89-47C3-9298-9AA23B8C77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3AD952-DBEC-43F7-9DB7-1949866CA8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CE460A-B5B9-47EF-9779-424D1E3DC5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28F7CE-6CE4-467F-B9D3-B9D8FB2458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982D62-69BD-41AD-87C8-529951CC7E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EB212-47B9-471B-A1D8-91D50C198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4C851A-4E19-4E6F-9C97-4BF781BB8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DE9A15-294A-4E5E-B0E1-DC0C652DB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A72E26-ED3D-47B5-A6EA-FB9A4F7467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1847DBF-C6CF-406F-8AA0-A7B52C4EAC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D8F02F-640B-4A0C-861A-03F85B4745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74BEC3-8107-44D3-B605-1544C5ED24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506A67-3B75-45AC-BAAA-1D25F9B280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D13B1D-AD88-4D79-BB5F-A701E8D4F1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CE0E32-FF9E-4D36-A535-D5BD652573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6DE312-AF49-469C-BA8B-873DA0B87B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E28F46-0D41-4F74-898F-1937321EF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AB1BD4-D118-4C4D-BF4C-25FFBE7D5E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B7648E-98BB-4EF7-B8BC-94966646E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D101137-9CDB-442A-AE46-8B7D7CE33A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A18FCE-3A1F-4E04-B47D-2F56B2E679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C88C1C-56EB-455A-9333-ECE6EDBE3A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A2468D-A501-4A4F-A1DC-4FEBD37D18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1099A2-EA37-4B72-99E0-CDE1CAC2230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B73A7-E4A9-484B-B142-0A33C850D5CA}"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600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8"/>
            <p:cNvSpPr/>
            <p:nvPr/>
          </p:nvSpPr>
          <p:spPr>
            <a:xfrm>
              <a:off x="45360" y="5236200"/>
              <a:ext cx="9092880" cy="7866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8"/>
            <p:cNvGrpSpPr/>
            <p:nvPr/>
          </p:nvGrpSpPr>
          <p:grpSpPr>
            <a:xfrm>
              <a:off x="2520" y="4992120"/>
              <a:ext cx="9141480" cy="1872360"/>
              <a:chOff x="2520" y="4992120"/>
              <a:chExt cx="9141480" cy="1872360"/>
            </a:xfrm>
          </p:grpSpPr>
          <p:pic>
            <p:nvPicPr>
              <p:cNvPr id="52" name="Freeform 18"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9"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7C3FF-04A7-42EA-8D88-7D7FE25222DD}" type="slidenum">
              <a:rPr b="0" lang="en-IN"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2FD52-D2D0-477F-9A38-AA6A134560EF}"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D0BCC-2CB4-4575-A31D-13351787E2F4}"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693A-2F81-4FD8-A05B-FC66B459E4EB}"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E9020-97A6-4406-8DD6-E7C041C3DF99}"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FD9F-ACE9-4836-B567-668DAE32A742}" type="slidenum">
              <a:rPr b="0" lang="en-I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5"/>
          <p:cNvGrpSpPr/>
          <p:nvPr/>
        </p:nvGrpSpPr>
        <p:grpSpPr>
          <a:xfrm>
            <a:off x="-12600" y="5784840"/>
            <a:ext cx="3414600" cy="1092240"/>
            <a:chOff x="-12600" y="5784840"/>
            <a:chExt cx="3414600" cy="1092240"/>
          </a:xfrm>
        </p:grpSpPr>
        <p:pic>
          <p:nvPicPr>
            <p:cNvPr id="324" name="Right Triangle 15"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6" descr=""/>
          <p:cNvPicPr/>
          <p:nvPr/>
        </p:nvPicPr>
        <p:blipFill>
          <a:blip r:embed="rId4"/>
          <a:stretch/>
        </p:blipFill>
        <p:spPr>
          <a:xfrm>
            <a:off x="-19080" y="5772240"/>
            <a:ext cx="3421080" cy="11095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7EE8C-5C00-4BFA-977E-4059441F5142}" type="slidenum">
              <a:rPr b="0" lang="en-IN"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44600" y="133200"/>
            <a:ext cx="4182840" cy="2129040"/>
          </a:xfrm>
          <a:prstGeom prst="rect">
            <a:avLst/>
          </a:prstGeom>
          <a:ln w="0">
            <a:noFill/>
          </a:ln>
        </p:spPr>
      </p:pic>
      <p:grpSp>
        <p:nvGrpSpPr>
          <p:cNvPr id="371" name="Group 3"/>
          <p:cNvGrpSpPr/>
          <p:nvPr/>
        </p:nvGrpSpPr>
        <p:grpSpPr>
          <a:xfrm>
            <a:off x="1036800" y="2443320"/>
            <a:ext cx="7070400" cy="2166120"/>
            <a:chOff x="1036800" y="2443320"/>
            <a:chExt cx="7070400" cy="2166120"/>
          </a:xfrm>
        </p:grpSpPr>
        <p:sp>
          <p:nvSpPr>
            <p:cNvPr id="372" name="Rectangle 4"/>
            <p:cNvSpPr/>
            <p:nvPr/>
          </p:nvSpPr>
          <p:spPr>
            <a:xfrm>
              <a:off x="1036800" y="2443320"/>
              <a:ext cx="707040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Arial"/>
                </a:rPr>
                <a:t>Dr V.P.Saini</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rof. &amp; Dean</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b050"/>
                  </a:solidFill>
                  <a:latin typeface="Arial"/>
                </a:rPr>
                <a:t>College of Fisheries, Kishanganj</a:t>
              </a:r>
              <a:endParaRPr b="0" lang="en-US" sz="3200" spc="-1" strike="noStrike">
                <a:solidFill>
                  <a:srgbClr val="000000"/>
                </a:solidFill>
                <a:latin typeface="Arial"/>
              </a:endParaRPr>
            </a:p>
          </p:txBody>
        </p:sp>
        <p:pic>
          <p:nvPicPr>
            <p:cNvPr id="373" name="Picture 5" descr="C:\Users\HP\Desktop\Seal.jpg"/>
            <p:cNvPicPr/>
            <p:nvPr/>
          </p:nvPicPr>
          <p:blipFill>
            <a:blip r:embed="rId2"/>
            <a:srcRect l="7862" t="6853" r="7862" b="5557"/>
            <a:stretch/>
          </p:blipFill>
          <p:spPr>
            <a:xfrm>
              <a:off x="6786000" y="3214800"/>
              <a:ext cx="947520" cy="92412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Content Placeholder 3" descr=""/>
          <p:cNvPicPr/>
          <p:nvPr/>
        </p:nvPicPr>
        <p:blipFill>
          <a:blip r:embed="rId1"/>
          <a:srcRect l="2460" t="6669" r="2460" b="3998"/>
          <a:stretch/>
        </p:blipFill>
        <p:spPr>
          <a:xfrm>
            <a:off x="857160" y="0"/>
            <a:ext cx="7286760" cy="6572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357120" y="285480"/>
            <a:ext cx="8329680" cy="5840280"/>
          </a:xfrm>
          <a:prstGeom prst="rect">
            <a:avLst/>
          </a:prstGeom>
          <a:noFill/>
          <a:ln w="0">
            <a:noFill/>
          </a:ln>
        </p:spPr>
        <p:txBody>
          <a:bodyPr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119"/>
                </a:solidFill>
                <a:latin typeface="Arial"/>
                <a:ea typeface="Arial"/>
              </a:rPr>
              <a:t>Gene Mutations</a:t>
            </a:r>
            <a:br>
              <a:rPr sz="2400"/>
            </a:br>
            <a:r>
              <a:rPr b="0" lang="en-US" sz="2400" spc="-1" strike="noStrike">
                <a:solidFill>
                  <a:srgbClr val="000000"/>
                </a:solidFill>
                <a:latin typeface="Arial"/>
                <a:ea typeface="Arial"/>
              </a:rPr>
              <a:t>Gene mutations are broadly of the following  type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ubstitution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automerism</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 </a:t>
            </a:r>
            <a:r>
              <a:rPr b="1" i="1" lang="en-US" sz="2400" spc="-1" strike="noStrike">
                <a:solidFill>
                  <a:srgbClr val="44b9e8"/>
                </a:solidFill>
                <a:latin typeface="Arial"/>
                <a:ea typeface="Arial"/>
              </a:rPr>
              <a:t>transition</a:t>
            </a:r>
            <a:r>
              <a:rPr b="0" i="1" lang="en-US" sz="2400" spc="-1" strike="noStrike">
                <a:solidFill>
                  <a:srgbClr val="000000"/>
                </a:solidFill>
                <a:latin typeface="Arial"/>
                <a:ea typeface="Arial"/>
              </a:rPr>
              <a:t> is an exchange of a purine with another purine or a  pyrimidine with another pyrimidine</a:t>
            </a:r>
            <a:r>
              <a:rPr b="0" lang="en-US" sz="2400" spc="-1" strike="noStrike">
                <a:solidFill>
                  <a:srgbClr val="000000"/>
                </a:solidFill>
                <a:latin typeface="Arial"/>
                <a:ea typeface="Arial"/>
              </a:rPr>
              <a:t>.</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Arial"/>
              </a:rPr>
              <a:t>A </a:t>
            </a:r>
            <a:r>
              <a:rPr b="1" i="1" lang="en-US" sz="2400" spc="-1" strike="noStrike">
                <a:solidFill>
                  <a:srgbClr val="44b9e8"/>
                </a:solidFill>
                <a:latin typeface="Arial"/>
                <a:ea typeface="Arial"/>
              </a:rPr>
              <a:t>transversion</a:t>
            </a:r>
            <a:r>
              <a:rPr b="0" i="1" lang="en-US" sz="2400" spc="-1" strike="noStrike">
                <a:solidFill>
                  <a:srgbClr val="000000"/>
                </a:solidFill>
                <a:latin typeface="Arial"/>
                <a:ea typeface="Arial"/>
              </a:rPr>
              <a:t> refers to the substitution of a pyrimidine with a purine or vice versa.</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4b9e8"/>
                </a:solidFill>
                <a:latin typeface="Arial"/>
                <a:ea typeface="Arial"/>
              </a:rPr>
              <a:t>Tautomerism</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Like many organic molecules, the bases may change their shape (isomerism).</a:t>
            </a: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9" name="Picture 2" descr="C:\Users\Saini\Desktop\f1_carlin_ksm.jpg"/>
          <p:cNvPicPr/>
          <p:nvPr/>
        </p:nvPicPr>
        <p:blipFill>
          <a:blip r:embed="rId1"/>
          <a:stretch/>
        </p:blipFill>
        <p:spPr>
          <a:xfrm>
            <a:off x="212760" y="566640"/>
            <a:ext cx="8802720" cy="4426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68000" y="1628280"/>
            <a:ext cx="8218440" cy="449748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actors which cause mutations are called mutagenic agents or mutagens. A mutagen, by definition, is an agent which increases the frequency of mutation.</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Mutation which occur at a frequency above the base (spontaneous rate) are described as induced.</a:t>
            </a:r>
            <a:endParaRPr b="0" lang="en-US" sz="2800" spc="-1" strike="noStrike">
              <a:solidFill>
                <a:srgbClr val="000000"/>
              </a:solidFill>
              <a:latin typeface="Lucida Sans Unicode"/>
            </a:endParaRPr>
          </a:p>
        </p:txBody>
      </p:sp>
      <p:pic>
        <p:nvPicPr>
          <p:cNvPr id="391" name="Title 1" descr=""/>
          <p:cNvPicPr/>
          <p:nvPr/>
        </p:nvPicPr>
        <p:blipFill>
          <a:blip r:embed="rId1"/>
          <a:stretch/>
        </p:blipFill>
        <p:spPr>
          <a:xfrm>
            <a:off x="268200" y="219240"/>
            <a:ext cx="8425080" cy="1207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ea typeface="Arial"/>
              </a:rPr>
              <a:t> </a:t>
            </a:r>
            <a:r>
              <a:rPr b="0" lang="en-US" sz="2400" spc="-1" strike="noStrike">
                <a:solidFill>
                  <a:srgbClr val="000000"/>
                </a:solidFill>
                <a:latin typeface="Arial"/>
                <a:ea typeface="Arial"/>
              </a:rPr>
              <a:t>high energy irradiations, and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chemicals.</a:t>
            </a: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High energy irradiations</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the most frequent cause of mutation.</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Most of the natural mutations are caused by cosmic rays from outer space and irradiations from radioactive elements. </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utations may be artificially induced in organisms by exposing them to X-rays, protons, neutrons and alpha, beta and gamma rays from radioactive sources such as radium, cobalt-60, etc.</a:t>
            </a: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3" name="Title 1" descr=""/>
          <p:cNvPicPr/>
          <p:nvPr/>
        </p:nvPicPr>
        <p:blipFill>
          <a:blip r:embed="rId1"/>
          <a:stretch/>
        </p:blipFill>
        <p:spPr>
          <a:xfrm>
            <a:off x="23760" y="268200"/>
            <a:ext cx="8669520" cy="1158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A variety of chemicals are known which are mutagenic, and these may be classified according to their modes of action. </a:t>
            </a: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Mutagens which affect nonreplicating DNA.</a:t>
            </a:r>
            <a:endParaRPr b="0" lang="en-US" sz="30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 </a:t>
            </a:r>
            <a:r>
              <a:rPr b="0" lang="en-US" sz="3000" spc="-1" strike="noStrike">
                <a:solidFill>
                  <a:srgbClr val="000000"/>
                </a:solidFill>
                <a:latin typeface="Arial"/>
                <a:ea typeface="Arial"/>
              </a:rPr>
              <a:t>Base analogs, which are incorporated into replicating DNA due to their structural similarity with one of the naturally occurring bases.</a:t>
            </a:r>
            <a:endParaRPr b="0" lang="en-US" sz="3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Sans Unicode"/>
            </a:endParaRPr>
          </a:p>
        </p:txBody>
      </p:sp>
      <p:pic>
        <p:nvPicPr>
          <p:cNvPr id="395" name="Title 1"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frequency of mutations in fishes can be markedly increased by X-rays and chemical treatment</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X-irradiation of fish gametes results in the appearance of various genic and chromosomal mutations</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Chemical mutagens, particularly nitrosoethylurea (NEU) are highly effective in inducing mutations in fishes.</a:t>
            </a:r>
            <a:endParaRPr b="0" lang="en-US" sz="2800" spc="-1" strike="noStrike">
              <a:solidFill>
                <a:srgbClr val="000000"/>
              </a:solidFill>
              <a:latin typeface="Lucida Sans Unicode"/>
            </a:endParaRPr>
          </a:p>
        </p:txBody>
      </p:sp>
      <p:pic>
        <p:nvPicPr>
          <p:cNvPr id="397" name="Title 1" descr=""/>
          <p:cNvPicPr/>
          <p:nvPr/>
        </p:nvPicPr>
        <p:blipFill>
          <a:blip r:embed="rId1"/>
          <a:stretch/>
        </p:blipFill>
        <p:spPr>
          <a:xfrm>
            <a:off x="208080" y="201600"/>
            <a:ext cx="8423280" cy="1206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500040" y="285840"/>
            <a:ext cx="8229600" cy="4525920"/>
          </a:xfrm>
          <a:prstGeom prst="rect">
            <a:avLst/>
          </a:prstGeom>
          <a:noFill/>
          <a:ln w="0">
            <a:noFill/>
          </a:ln>
        </p:spPr>
        <p:txBody>
          <a:bodyPr anchor="t">
            <a:normAutofit fontScale="89000"/>
          </a:bodyPr>
          <a:p>
            <a:pPr marL="324720" indent="-22716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n inheritable spontaneous deviation from the “wild type” is called “mutation” and the organism in which it occurs is called a “mutant”.</a:t>
            </a:r>
            <a:endParaRPr b="0" lang="en-US" sz="2800" spc="-1" strike="noStrike">
              <a:solidFill>
                <a:srgbClr val="000000"/>
              </a:solidFill>
              <a:latin typeface="Lucida Sans Unicode"/>
            </a:endParaRPr>
          </a:p>
          <a:p>
            <a:pPr marL="324720" indent="-22716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24720" indent="-22716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Genetic recombination cannot create new alleles in the first instance: the ultimate source of all genetic variation is </a:t>
            </a:r>
            <a:r>
              <a:rPr b="1" lang="en-US" sz="2800" spc="-1" strike="noStrike">
                <a:solidFill>
                  <a:srgbClr val="ff8119"/>
                </a:solidFill>
                <a:latin typeface="Arial"/>
                <a:ea typeface="Arial"/>
              </a:rPr>
              <a:t>mutation</a:t>
            </a:r>
            <a:r>
              <a:rPr b="0" lang="en-US" sz="2800" spc="-1" strike="noStrike">
                <a:solidFill>
                  <a:srgbClr val="000000"/>
                </a:solidFill>
                <a:latin typeface="Arial"/>
                <a:ea typeface="Arial"/>
              </a:rPr>
              <a:t>.</a:t>
            </a:r>
            <a:endParaRPr b="0" lang="en-US" sz="2800" spc="-1" strike="noStrike">
              <a:solidFill>
                <a:srgbClr val="000000"/>
              </a:solidFill>
              <a:latin typeface="Lucida Sans Unicode"/>
            </a:endParaRPr>
          </a:p>
          <a:p>
            <a:pPr marL="324720" indent="-22716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24720" indent="-22716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tations are caused by alterations in the structure, arrangement or quantity of DNA. Characteristically they are random (almost), rare, recessive, and harmful.</a:t>
            </a:r>
            <a:endParaRPr b="0" lang="en-US" sz="2800" spc="-1" strike="noStrike">
              <a:solidFill>
                <a:srgbClr val="000000"/>
              </a:solidFill>
              <a:latin typeface="Lucida Sans Unicode"/>
            </a:endParaRPr>
          </a:p>
          <a:p>
            <a:pPr marL="324720" indent="-22716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24000" y="2276640"/>
            <a:ext cx="8424720" cy="2952720"/>
          </a:xfrm>
          <a:prstGeom prst="rect">
            <a:avLst/>
          </a:prstGeom>
          <a:noFill/>
          <a:ln w="0">
            <a:noFill/>
          </a:ln>
        </p:spPr>
        <p:txBody>
          <a:bodyPr anchor="t">
            <a:normAutofit/>
          </a:bodyPr>
          <a:p>
            <a:pPr marL="365040" indent="-255600" algn="just">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romosome mutation may change the order of the genes within the chromosome, e.g., by deficiency, deletion, inversion, duplication, or translocation. Gene or point mutations may result from changes in the base sequence in a gene.</a:t>
            </a:r>
            <a:endParaRPr b="0" lang="en-US" sz="32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76" name="Title 1" descr=""/>
          <p:cNvPicPr/>
          <p:nvPr/>
        </p:nvPicPr>
        <p:blipFill>
          <a:blip r:embed="rId1"/>
          <a:stretch/>
        </p:blipFill>
        <p:spPr>
          <a:xfrm>
            <a:off x="281160" y="676440"/>
            <a:ext cx="8412120" cy="1176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642600" y="1285920"/>
            <a:ext cx="8002440" cy="4572000"/>
          </a:xfrm>
          <a:prstGeom prst="rect">
            <a:avLst/>
          </a:prstGeom>
          <a:noFill/>
          <a:ln w="0">
            <a:noFill/>
          </a:ln>
        </p:spPr>
        <p:txBody>
          <a:bodyPr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Changes in the number of chromosomes can also cause mutation.</a:t>
            </a:r>
            <a:endParaRPr b="0" lang="en-US" sz="3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8119"/>
                </a:solidFill>
                <a:latin typeface="Arial"/>
                <a:ea typeface="Arial"/>
              </a:rPr>
              <a:t>Aneuploidy</a:t>
            </a:r>
            <a:endParaRPr b="0" lang="en-US" sz="3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Gain/loss of individual chromosome, from a set. There are several reports of aneuploids in salmonids.</a:t>
            </a:r>
            <a:endParaRPr b="0" lang="en-US" sz="3300" spc="-1" strike="noStrike">
              <a:solidFill>
                <a:srgbClr val="000000"/>
              </a:solidFill>
              <a:latin typeface="Lucida Sans Unicode"/>
            </a:endParaRPr>
          </a:p>
          <a:p>
            <a:pPr marL="365040" indent="-255600" algn="just">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ea typeface="Arial"/>
              </a:rPr>
              <a:t> </a:t>
            </a:r>
            <a:r>
              <a:rPr b="0" lang="en-US" sz="3300" spc="-1" strike="noStrike">
                <a:solidFill>
                  <a:srgbClr val="000000"/>
                </a:solidFill>
                <a:latin typeface="Arial"/>
                <a:ea typeface="Arial"/>
              </a:rPr>
              <a:t>E.g., a male brook trout that was trisomic for a chromosome carrying a LDH-B enzyme locus was reported.</a:t>
            </a:r>
            <a:endParaRPr b="0" lang="en-US" sz="3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378" name="Title 1" descr=""/>
          <p:cNvPicPr/>
          <p:nvPr/>
        </p:nvPicPr>
        <p:blipFill>
          <a:blip r:embed="rId1"/>
          <a:stretch/>
        </p:blipFill>
        <p:spPr>
          <a:xfrm>
            <a:off x="298440" y="268200"/>
            <a:ext cx="839484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9" name=""/>
          <p:cNvGraphicFramePr/>
          <p:nvPr/>
        </p:nvGraphicFramePr>
        <p:xfrm>
          <a:off x="357120" y="357120"/>
          <a:ext cx="8286840" cy="5075280"/>
        </p:xfrm>
        <a:graphic>
          <a:graphicData uri="http://schemas.openxmlformats.org/drawingml/2006/table">
            <a:tbl>
              <a:tblPr/>
              <a:tblGrid>
                <a:gridCol w="2643120"/>
                <a:gridCol w="236520"/>
                <a:gridCol w="5407200"/>
              </a:tblGrid>
              <a:tr h="1789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1.Nullisomics  (2n-2)</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both of a pair of homologous missing from a diploid set </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496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2.Monosomics  (2n-1)</a:t>
                      </a:r>
                      <a:endParaRPr b="0" lang="en-US" sz="28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chromosome from a diploid set missing.</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r h="1789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3.Trisomics (2n+1)</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one extra chromosome.</a:t>
                      </a:r>
                      <a:endParaRPr b="0" lang="en-US" sz="3200" spc="-1" strike="noStrike">
                        <a:solidFill>
                          <a:srgbClr val="000000"/>
                        </a:solidFill>
                        <a:latin typeface="Arial"/>
                      </a:endParaRPr>
                    </a:p>
                  </a:txBody>
                  <a:tcPr anchor="t"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071360"/>
            <a:ext cx="8229600" cy="4786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Four main types of chromosome aberrations are known.</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eletion– Fragment of chromosome is missing</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uplication     – Fragment of chromosome becomes duplicated.</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Inversion     – Fragment detaches and reinserts in the reverse order</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ranslocation  – A segment from one chromosome becomes connected to a non  homologous  chromosome.</a:t>
            </a: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Title 1" descr=""/>
          <p:cNvPicPr/>
          <p:nvPr/>
        </p:nvPicPr>
        <p:blipFill>
          <a:blip r:embed="rId1"/>
          <a:stretch/>
        </p:blipFill>
        <p:spPr>
          <a:xfrm>
            <a:off x="268200" y="219240"/>
            <a:ext cx="8425080" cy="1207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590400" y="219240"/>
            <a:ext cx="8188560" cy="6394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600200"/>
            <a:ext cx="8229600" cy="31860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aracentric</a:t>
            </a:r>
            <a:r>
              <a:rPr b="0" lang="en-US" sz="2800" spc="-1" strike="noStrike">
                <a:solidFill>
                  <a:srgbClr val="000000"/>
                </a:solidFill>
                <a:latin typeface="Arial"/>
                <a:ea typeface="Arial"/>
              </a:rPr>
              <a:t> inversions which do not involve the centromeric regions are difficult to detect.</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y do apparently occur in fishes quite frequently, but their presence can only be established by analyzing the inheritance of the linked genes.</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4" name="Title 1" descr=""/>
          <p:cNvPicPr/>
          <p:nvPr/>
        </p:nvPicPr>
        <p:blipFill>
          <a:blip r:embed="rId1"/>
          <a:stretch/>
        </p:blipFill>
        <p:spPr>
          <a:xfrm>
            <a:off x="291960" y="60480"/>
            <a:ext cx="8401320" cy="13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28400" y="1214280"/>
            <a:ext cx="8258040" cy="491184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ericentric</a:t>
            </a:r>
            <a:r>
              <a:rPr b="0" lang="en-US" sz="2800" spc="-1" strike="noStrike">
                <a:solidFill>
                  <a:srgbClr val="000000"/>
                </a:solidFill>
                <a:latin typeface="Arial"/>
                <a:ea typeface="Arial"/>
              </a:rPr>
              <a:t> inversions involving the centromere are quite frequent.  If the two breakage events take place at equal distances from the centromere one cannot detect the inversion without the analysis of marker genes.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en the sites of breakage are located asymmetrically, the relative length or even the absolute number of chromosomal arms will be changed.</a:t>
            </a:r>
            <a:endParaRPr b="0" lang="en-US" sz="28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386" name="Title 1" descr=""/>
          <p:cNvPicPr/>
          <p:nvPr/>
        </p:nvPicPr>
        <p:blipFill>
          <a:blip r:embed="rId1"/>
          <a:stretch/>
        </p:blipFill>
        <p:spPr>
          <a:xfrm>
            <a:off x="231840" y="268200"/>
            <a:ext cx="846144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1T03:50:05Z</dcterms:created>
  <dc:creator>GOWTHAMAN</dc:creator>
  <dc:description/>
  <dc:language>en-US</dc:language>
  <cp:lastModifiedBy>HP</cp:lastModifiedBy>
  <cp:lastPrinted>2015-03-20T04:15:45Z</cp:lastPrinted>
  <dcterms:modified xsi:type="dcterms:W3CDTF">2020-03-27T06:34:20Z</dcterms:modified>
  <cp:revision>17</cp:revision>
  <dc:subject/>
  <dc:title>Mutation</dc:title>
</cp:coreProperties>
</file>