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820-32B3-4B1C-B499-81132E53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66D-DE7D-4ED7-B84F-61A74733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74E-4524-48CE-B5F8-59E3B06D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37C-BE76-4D94-BEBF-4E3E0FD4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D0D-6AD8-4463-82AF-3FD96417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EB1-6671-443B-8AFB-D134AE4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7B7-FBE5-413F-AC34-A2C8DFEF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CC5-04B3-466D-8046-99CE135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228-EF91-4EE2-99A6-912AA42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7F2-EF27-4DB9-BFB1-DF8B3B9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BB6-25DD-45B2-9855-76026CF0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E48-B2C4-472D-80B5-BE910A5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7204-1681-4EAE-A534-D77FD8AA5E1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dem.nig.ac.jp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er Culture and Fermented Milk Produc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IN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DR. Sonia Kum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tt .Prof Cum Jr. Scient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iry Microb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GIDT, BA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en-IN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tna-800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ps of Starter Propa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7151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ection of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14200" y="812880"/>
            <a:ext cx="878688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of first grade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of abnormal quality i.e. mastitis milk or colostrums milk or late lactation milk should not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should be free from antibiotic resid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should be free from bacterioph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should not contain residues of detergents and sanitiz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s should have a low bacterial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should have high SNF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Milk should have clean flavor and od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Milk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inactivate harmful organisms and bacteriophage in milk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inactivate the natural germicidal properties of milk such as immunoglobulin, LP system, lactoferrin and lysozy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reduce the oxidation reduction potential of milk by driving out the dissolved oxygen </a:t>
            </a:r>
            <a:r>
              <a:rPr b="0" lang="en-IN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denature the proteins to make available which in small concentration act as stimulants for the growth of start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improve the viscosity of the finished culture due to denaturation of whey proteins by improving their water retention properties to minimize wheying off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ods of heat treat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ating milk at 9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for 1 hour or boiling/steaming for 30 min is usually desir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utoclaving of Milk  at 121</a:t>
            </a:r>
            <a:r>
              <a:rPr b="0" lang="en-US" sz="32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for 15 min may be followed but this may result in the scorch flavor of cur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ndalization of reconstituted skim milk is the best practice to be follo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ndalizatio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ay the reconstituted skim milk is autoclave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pore germination may checked by curdling of milk. </a:t>
            </a:r>
            <a:br>
              <a:rPr sz="2400"/>
            </a:b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second day the samples are examined for any curdling. The curdled samples are discarded and the other samples re steamed for 30 minutes.</a:t>
            </a:r>
            <a:br>
              <a:rPr sz="2400"/>
            </a:b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teaming the milk samples are kept at room temperature.</a:t>
            </a:r>
            <a:br>
              <a:rPr sz="2400"/>
            </a:b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third day the samples are again examined for any curdling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e curdled samples are discarded and the other samples are again steamed for 30 minutes.</a:t>
            </a:r>
            <a:br>
              <a:rPr sz="2400"/>
            </a:b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ples so sterilized are either kept at room temperature or in refrigerator till they are used.</a:t>
            </a:r>
            <a:br>
              <a:rPr sz="2400"/>
            </a:br>
            <a:r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al Step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oculation.: With maximum safety in a separate Laminar chamb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cubation .: Mesophillic-20-25℃for 12-14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mophillic-40-45 for 3-4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oling: Immediate cooling in Refrigeration to avoid any further contam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awbacks: Traditional metho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ime consuming</a:t>
            </a: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quires skilled operators</a:t>
            </a:r>
            <a:r>
              <a:rPr b="0" lang="en-IN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y lead to contamination by bacterioph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14997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</a:t>
            </a:r>
            <a:r>
              <a:rPr b="0" lang="en-I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71720" y="928800"/>
            <a:ext cx="72151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rpose of Propagation, Traditional Methods-Advantage And Limitation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urpose of Propagation, Traditional Methods-Advantage And Limitatio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"/>
              </a:rPr>
              <a:t>Aim of propagation is to maintain pure cultures and activate cultures without any loss of v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"/>
              </a:rPr>
              <a:t>The culture organisms are preserved in small qualities known as stock cul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"/>
              </a:rPr>
              <a:t>Fermentation process of any cultured dairy product relies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 "/>
              </a:rPr>
              <a:t>'purity'</a:t>
            </a:r>
            <a:r>
              <a:rPr b="0" lang="en-US" sz="2800" spc="-1" strike="noStrike">
                <a:solidFill>
                  <a:srgbClr val="000000"/>
                </a:solidFill>
                <a:latin typeface="Times New Roman 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 "/>
              </a:rPr>
              <a:t>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 "/>
              </a:rPr>
              <a:t> of the starter cul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Start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ve starter must have the following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active</a:t>
            </a: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ntain maximum number of viable organism</a:t>
            </a: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free from contamin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obtain the above qu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oculums (inoculation) is carried out under aseptic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is initiated in a steril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DITION METHODS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nown as simple microbiological techniqu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r are propagated in the laboratory itself taking the stock cultures which are in in-active state or dormant sta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 manufactures provide starter cultures in lyophilized (freeze-dried). Frozen or spray-dried form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ultures cannot be added directly in the milk to initiate fermentation process because they are in an in-active stat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need to be brought in to active form and also scale upto prepare bulk quantit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ercially available Stock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214280"/>
            <a:ext cx="8543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 culture : can be obtained 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CM- The World Directory of collection of cultures of microorganisms. National Institute of Genetics, Shizuoka, Japan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dem.nig.ac.j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DC- National Collection of dairy Culture-NDRI, Ka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CC – American Type Culture Collection</a:t>
            </a: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1549, Manassa, VA 20108, USA</a:t>
            </a: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: http//www.atcc.or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CO- European Culture Collections Organiz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FB – National Collection of Food Bacteria-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M – National Collection of Industrial Microoganisms – Pu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ZO- Netherlands Dairy Research Instit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ducational Colle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al stock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mercial manufa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. Hansen laboratoriam-Harsholm, Denmark, Specialized in DVS (Direct vat Set) cultures and ready set cultures. In India- ESDEE chemocrats, 46 white Hall, 143 A, Kranti Marg, Mumbai-400 03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by laboratoriam – Tonder, Denmark-Specialized in DIP (Direct- in product) cultures for direct inoculation of milk In India- Food &amp; Pharma specialities D-22. Nizamuddin East, New Delh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eps in Propa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7176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ther culture _ (First inoculation) : All cultures will originate from this prepar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rmediate culture  (feeder) – is used in preparation of larger volumes of prepared star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ulk starter culture – this stage is used in dairy product produ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aleup: Stock and mother cultures are propagated in laboratory and feeder and bulk cultures in the starter room of the dairy pl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fferent Stages of Starter Propag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lection of milk</a:t>
            </a:r>
            <a:r>
              <a:rPr b="0" lang="en-I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eatment of milk</a:t>
            </a:r>
            <a:r>
              <a:rPr b="0" lang="en-I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oculation</a:t>
            </a:r>
            <a:r>
              <a:rPr b="0" lang="en-I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cubation</a:t>
            </a:r>
            <a:r>
              <a:rPr b="0" lang="en-IN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oling of star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7T14:35:55Z</dcterms:created>
  <dc:creator>HP</dc:creator>
  <dc:description/>
  <dc:language>en-US</dc:language>
  <cp:lastModifiedBy>HP</cp:lastModifiedBy>
  <dcterms:modified xsi:type="dcterms:W3CDTF">2020-03-29T14:22:30Z</dcterms:modified>
  <cp:revision>3</cp:revision>
  <dc:subject/>
  <dc:title>Slide 1</dc:title>
</cp:coreProperties>
</file>