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86868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3355920"/>
            <a:ext cx="86868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440" y="113508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335592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440" y="335592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279684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280" y="1135080"/>
            <a:ext cx="279684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1160" y="1135080"/>
            <a:ext cx="279684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3355920"/>
            <a:ext cx="279684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280" y="3355920"/>
            <a:ext cx="279684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1160" y="3355920"/>
            <a:ext cx="279684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7040" y="1135080"/>
            <a:ext cx="8686800" cy="42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8686800" cy="42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4239000" cy="42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8440" y="1135080"/>
            <a:ext cx="4239000" cy="42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560" y="240840"/>
            <a:ext cx="9144000" cy="25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8440" y="1135080"/>
            <a:ext cx="4239000" cy="42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7040" y="335592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1135080"/>
            <a:ext cx="8686800" cy="42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4239000" cy="42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8440" y="113508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440" y="335592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8440" y="113508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7040" y="3355920"/>
            <a:ext cx="86868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86868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7040" y="3355920"/>
            <a:ext cx="86868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8440" y="113508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7040" y="335592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8440" y="335592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279684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4280" y="1135080"/>
            <a:ext cx="279684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31160" y="1135080"/>
            <a:ext cx="279684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7040" y="3355920"/>
            <a:ext cx="279684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4280" y="3355920"/>
            <a:ext cx="279684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31160" y="3355920"/>
            <a:ext cx="279684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8686800" cy="42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4239000" cy="42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440" y="1135080"/>
            <a:ext cx="4239000" cy="42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560" y="240840"/>
            <a:ext cx="9144000" cy="25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440" y="1135080"/>
            <a:ext cx="4239000" cy="42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335592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4239000" cy="42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440" y="113508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440" y="335592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440" y="1135080"/>
            <a:ext cx="42390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3355920"/>
            <a:ext cx="8686800" cy="20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otated-cover-art"/>
          <p:cNvPicPr/>
          <p:nvPr/>
        </p:nvPicPr>
        <p:blipFill>
          <a:blip r:embed="rId2"/>
          <a:srcRect l="27653" t="45099" r="-1650" b="49158"/>
          <a:stretch/>
        </p:blipFill>
        <p:spPr>
          <a:xfrm>
            <a:off x="0" y="0"/>
            <a:ext cx="9144000" cy="103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7040" y="1135080"/>
            <a:ext cx="8686800" cy="42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31480" y="6535800"/>
            <a:ext cx="454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Pearson Education, Inc., publishing as Benjamin Cumming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1009800"/>
            <a:ext cx="9144000" cy="0"/>
          </a:xfrm>
          <a:prstGeom prst="line">
            <a:avLst/>
          </a:prstGeom>
          <a:ln w="28440">
            <a:solidFill>
              <a:srgbClr val="ec5b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otated-cover-art"/>
          <p:cNvPicPr/>
          <p:nvPr/>
        </p:nvPicPr>
        <p:blipFill>
          <a:blip r:embed="rId2"/>
          <a:srcRect l="39962" t="26639" r="23976" b="22542"/>
          <a:stretch/>
        </p:blipFill>
        <p:spPr>
          <a:xfrm>
            <a:off x="0" y="0"/>
            <a:ext cx="4456080" cy="6122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6116760"/>
            <a:ext cx="9144000" cy="74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b600"/>
                </a:solidFill>
                <a:latin typeface="Times New Roman"/>
              </a:rPr>
              <a:t>Copyright © 2006 Pearson Education, Inc., publishing as Benjamin Cumming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0" y="613044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c6c9"/>
                </a:solidFill>
                <a:latin typeface="Geneva"/>
              </a:rPr>
              <a:t>PowerPoint</a:t>
            </a:r>
            <a:r>
              <a:rPr b="0" lang="en-US" sz="2000" spc="-1" strike="noStrike" baseline="30000">
                <a:solidFill>
                  <a:srgbClr val="49c6c9"/>
                </a:solidFill>
                <a:latin typeface="Geneva"/>
              </a:rPr>
              <a:t>®</a:t>
            </a:r>
            <a:r>
              <a:rPr b="0" lang="en-US" sz="2000" spc="-1" strike="noStrike">
                <a:solidFill>
                  <a:srgbClr val="49c6c9"/>
                </a:solidFill>
                <a:latin typeface="Geneva"/>
              </a:rPr>
              <a:t> Lecture Slide Presentation prepared by Christine L. Cas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1143000"/>
            <a:ext cx="9144000" cy="69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imes New Roman"/>
              </a:rPr>
              <a:t>M I C R O B I O L O G Y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663880" y="1928880"/>
            <a:ext cx="29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5b12"/>
                </a:solidFill>
                <a:latin typeface="Arial"/>
              </a:rPr>
              <a:t>a n  i n t r o d u c t i o 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92960" y="62064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9c6c9"/>
                </a:solidFill>
                <a:latin typeface="Arial"/>
              </a:rPr>
              <a:t>ninth edi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741920" y="57096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TO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c5b12"/>
                </a:solidFill>
                <a:latin typeface="Symbol"/>
                <a:ea typeface="Symbol"/>
              </a:rPr>
              <a:t>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K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c5b12"/>
                </a:solidFill>
                <a:latin typeface="Symbol"/>
                <a:ea typeface="Symbol"/>
              </a:rPr>
              <a:t>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881240" y="3260880"/>
            <a:ext cx="8863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5b12"/>
                </a:solidFill>
                <a:latin typeface="Arial"/>
              </a:rPr>
              <a:t>Part 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57040" y="1135080"/>
            <a:ext cx="8686800" cy="42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0" y="241200"/>
            <a:ext cx="9169560" cy="54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c5b12"/>
                </a:solidFill>
                <a:latin typeface="Arial"/>
              </a:rPr>
              <a:t>Taxonomy</a:t>
            </a:r>
            <a:endParaRPr b="0" i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7040" y="1134720"/>
            <a:ext cx="86868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xonomy: the Science of Classifi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cience of classifying organis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s universal names for organis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s a reference for identifying organis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ings of organis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Classif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 criteria for 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range related organisms into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information about evolution of organis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326280" y="6477120"/>
            <a:ext cx="25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s 10.2, 10.3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1" descr=""/>
          <p:cNvPicPr/>
          <p:nvPr/>
        </p:nvPicPr>
        <p:blipFill>
          <a:blip r:embed="rId1"/>
          <a:srcRect l="7779" t="1367" r="8067" b="5703"/>
          <a:stretch/>
        </p:blipFill>
        <p:spPr>
          <a:xfrm>
            <a:off x="639720" y="1182600"/>
            <a:ext cx="3132360" cy="506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"/>
          <p:cNvPicPr/>
          <p:nvPr/>
        </p:nvPicPr>
        <p:blipFill>
          <a:blip r:embed="rId2"/>
          <a:srcRect l="1503" t="1367" r="1689" b="5107"/>
          <a:stretch/>
        </p:blipFill>
        <p:spPr>
          <a:xfrm>
            <a:off x="4572000" y="1884240"/>
            <a:ext cx="42908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04640" y="1120680"/>
          <a:ext cx="8239320" cy="4818240"/>
        </p:xfrm>
        <a:graphic>
          <a:graphicData uri="http://schemas.openxmlformats.org/drawingml/2006/table">
            <a:tbl>
              <a:tblPr/>
              <a:tblGrid>
                <a:gridCol w="2921040"/>
                <a:gridCol w="2749680"/>
                <a:gridCol w="2568600"/>
              </a:tblGrid>
              <a:tr h="67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tific Binomial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of Genus Name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of 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Epithet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bsiella pneumoniae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ors Edwin Klebs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sease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iesteria piscicida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ors Lois Pfiester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 in fish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monella typhimurium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ors Daniel Salmon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por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) in mice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r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ptococcus pyogenes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ns of cells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p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s pus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icillium chrysogenum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ftlike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ici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es a yellow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y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) pigment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ypanosoma cruzi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kscrew-like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ypa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borer;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body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ors Oswaldo Cruz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cientific Nam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pecies Defini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8686800" cy="543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ukaryotic species: A group of closely related organisms that breed among themsel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karyotic species: A population of cells with similar character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ne: Population of cells derived from a single c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in: Genetically different cells within a cl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al species: Population of viruses with similar characteristics that occupies a particular ecological ni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omain Eukary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8686800" cy="543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ia: Multicellular; no cell walls; chemoheterotroph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tae: Multicellular; cellulose cell walls; usually photoautotroph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gi: Chemoheterotrophic; unicellular or multicellular; cell walls of chitin; develop from spores or hyphal fra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ista: A catchall for eukaryotic organisms that do not fit other kingdo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0.6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rcRect l="1190" t="2040" r="1173" b="6608"/>
          <a:stretch/>
        </p:blipFill>
        <p:spPr>
          <a:xfrm>
            <a:off x="404640" y="1306440"/>
            <a:ext cx="83347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Tree of Life is replaced by a Shrub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7040" y="1134720"/>
            <a:ext cx="86868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versal ancestor- unlike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ke into 2 lines –Bacteria and Archa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 not correct, both share similar g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organisms have genes from all 3 Doma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rub of Life” theory - lateral gene sw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chae made of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Methanogens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Extreme halophiles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eme thermoacidophiles- have extremozymes at 80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assification of Virus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7040" y="1134720"/>
            <a:ext cx="86868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ellular infectious ag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A and protein co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fied by chemical and physical character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pe,   Symmetry of protein co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ce of envelope, Enzymes and/or  tail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ology- study of viruses is important becau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recognized branch of Microb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Concern to health scientists.  Many cause diseases in humans, animals, plants and other microb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5760" y="1108080"/>
          <a:ext cx="8238960" cy="4653000"/>
        </p:xfrm>
        <a:graphic>
          <a:graphicData uri="http://schemas.openxmlformats.org/drawingml/2006/table">
            <a:tbl>
              <a:tblPr/>
              <a:tblGrid>
                <a:gridCol w="4468680"/>
                <a:gridCol w="3770280"/>
              </a:tblGrid>
              <a:tr h="18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gey’s Manual of Determinative Bacteriology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identification schemes for identifying bacteria and archaea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phology, differential staining, biochemical tests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gey’s Manual of Systematic Bacteriology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phylogenetic information on bacteria and archaea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rRNA sequencing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122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Lists of Bacterial Names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s species of known prokaryotes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published articles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dentification Method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7040" y="919080"/>
            <a:ext cx="385776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phological characteristics: Useful for identifying eukaryo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ial staining: Gram staining, acid-fast st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ochemical tests: Determines presence of bacterial enzy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0.8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1"/>
          <a:srcRect l="1316" t="1564" r="1481" b="5703"/>
          <a:stretch/>
        </p:blipFill>
        <p:spPr>
          <a:xfrm>
            <a:off x="4224240" y="1417680"/>
            <a:ext cx="468000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rcRect l="3164" t="1760" r="3164" b="5900"/>
          <a:stretch/>
        </p:blipFill>
        <p:spPr>
          <a:xfrm>
            <a:off x="2554200" y="932040"/>
            <a:ext cx="389916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241200"/>
            <a:ext cx="9169560" cy="54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c5b12"/>
                </a:solidFill>
                <a:latin typeface="Arial"/>
              </a:rPr>
              <a:t>Taxonomy</a:t>
            </a:r>
            <a:endParaRPr b="0" i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7040" y="1134720"/>
            <a:ext cx="86868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atics or phylogeny: The study of the evolutionary history of organis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Species Inventory is underway (2001-202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identify all species of life on Eart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naeus – (1707-1778)Father of modern taxono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d Binomial nomencl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names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Genus-spe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hage Typ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rcRect l="2063" t="1957" r="2244" b="6097"/>
          <a:stretch/>
        </p:blipFill>
        <p:spPr>
          <a:xfrm>
            <a:off x="1492200" y="1000080"/>
            <a:ext cx="54468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862" t="1564" r="1576" b="6299"/>
          <a:stretch/>
        </p:blipFill>
        <p:spPr>
          <a:xfrm>
            <a:off x="741240" y="1135080"/>
            <a:ext cx="627408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rolog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1074" t="1760" r="1226" b="5107"/>
          <a:stretch/>
        </p:blipFill>
        <p:spPr>
          <a:xfrm>
            <a:off x="2486160" y="1008000"/>
            <a:ext cx="6657840" cy="51465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12760" y="2470320"/>
            <a:ext cx="2438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known antiserum plus unknown bacteriu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agglutin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S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ern blo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evels of Classific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7040" y="1134720"/>
            <a:ext cx="86868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g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vision/Phyta/Phyl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Phyl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es/Specific Epith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pecies/St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chotomous Key- to Identify Bacteri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1513" t="1957" r="1513" b="5703"/>
          <a:stretch/>
        </p:blipFill>
        <p:spPr>
          <a:xfrm>
            <a:off x="1506600" y="998640"/>
            <a:ext cx="598968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60" y="241200"/>
            <a:ext cx="9144000" cy="10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axonomy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7040" y="1135080"/>
            <a:ext cx="86868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73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t and Animal Kingd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5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teria and fungi put in the Plant King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6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ngdom Protista proposed for bacteria, protozo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ae, and fun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3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okaryo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troduced for cells "without a nucleu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okaryo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fined as cells in which nucleoplasm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rrounded by a nuclear 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59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ngdom Fun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8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ngdom Prokaryotae propo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types of prokaryotic cells f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5 Kingdom System or 6 Kingdom Syst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7040" y="1134720"/>
            <a:ext cx="86868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gdom Monera -       Eubacteria   - new bacteria -Prokarya   -                  Archaebacteria – old 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gdom Protista- 1 celled organisms- Eukar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gdom Fungi- multicellular fungi/yeast- Eukar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gdom Plantae- photosynthetic plants-  Eukar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ec5b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gdom Animalia- animals from zygote-  Eukar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Three-Domain Syst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10.1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219" t="1760" r="1525" b="5703"/>
          <a:stretch/>
        </p:blipFill>
        <p:spPr>
          <a:xfrm>
            <a:off x="939960" y="1143000"/>
            <a:ext cx="72626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560" y="2408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Three-Domain Syst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0.1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1"/>
          <a:srcRect l="0" t="1490" r="1190" b="6115"/>
          <a:stretch/>
        </p:blipFill>
        <p:spPr>
          <a:xfrm>
            <a:off x="574560" y="1198440"/>
            <a:ext cx="799308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10.2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rcRect l="1320" t="2697" r="1468" b="7748"/>
          <a:stretch/>
        </p:blipFill>
        <p:spPr>
          <a:xfrm>
            <a:off x="422280" y="1438200"/>
            <a:ext cx="829800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2:35:13Z</dcterms:created>
  <dc:creator>karlm</dc:creator>
  <dc:description/>
  <dc:language>en-US</dc:language>
  <cp:lastModifiedBy>SGAC</cp:lastModifiedBy>
  <dcterms:modified xsi:type="dcterms:W3CDTF">2018-12-17T05:41:22Z</dcterms:modified>
  <cp:revision>137</cp:revision>
  <dc:subject/>
  <dc:title>PowerPoint Presentation</dc:title>
</cp:coreProperties>
</file>