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33E-55CC-4EAF-8901-98CCDB73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295-F711-4818-A156-BB347DF3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3D6-8987-4A65-8E2D-520085B9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7D1-D81D-4E03-A586-AE458AB7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840-FC17-47DD-92F0-CCB51D4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841-F75D-449A-A4D8-C825E75A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07F-CAAE-4FFA-A71F-281E4EC2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B81-812F-491D-B6CD-23EC677F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172-5CB1-4AAD-A263-63BA6641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2B0-2FD6-4729-857E-1882C10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D51-36F5-48DD-A460-42153515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8C0-96B5-4586-A84D-96F76B0C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791C-B8B5-405D-BACB-5EE53FEAD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nfrared" TargetMode="External"/><Relationship Id="rId2" Type="http://schemas.openxmlformats.org/officeDocument/2006/relationships/hyperlink" Target="http://en.wikipedia.org/wiki/Electromagnetic_radiation" TargetMode="External"/><Relationship Id="rId3" Type="http://schemas.openxmlformats.org/officeDocument/2006/relationships/hyperlink" Target="http://en.wikipedia.org/wiki/Infrared" TargetMode="External"/><Relationship Id="rId4" Type="http://schemas.openxmlformats.org/officeDocument/2006/relationships/hyperlink" Target="http://en.wikipedia.org/wiki/Electromagnetic_spectrum" TargetMode="External"/><Relationship Id="rId5" Type="http://schemas.openxmlformats.org/officeDocument/2006/relationships/hyperlink" Target="http://en.wikipedia.org/wiki/Nanometer" TargetMode="External"/><Relationship Id="rId6" Type="http://schemas.openxmlformats.org/officeDocument/2006/relationships/hyperlink" Target="http://en.wikipedia.org/wiki/&#924;m" TargetMode="External"/><Relationship Id="rId7" Type="http://schemas.openxmlformats.org/officeDocument/2006/relationships/hyperlink" Target="http://en.wikipedia.org/wiki/Image:Infrared_dog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dicine" TargetMode="External"/><Relationship Id="rId2" Type="http://schemas.openxmlformats.org/officeDocument/2006/relationships/hyperlink" Target="http://en.wikipedia.org/wiki/Infrared" TargetMode="External"/><Relationship Id="rId3" Type="http://schemas.openxmlformats.org/officeDocument/2006/relationships/hyperlink" Target="http://en.wikipedia.org/wiki/Human_anatomy" TargetMode="External"/><Relationship Id="rId4" Type="http://schemas.openxmlformats.org/officeDocument/2006/relationships/hyperlink" Target="http://en.wikipedia.org/wiki/Oncology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ology of thermoregulati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Ravindra Ku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har Animal Science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onshiver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thermogen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chronic cold exposure induces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ncrease in metabolic rate (heat production) that i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due to increased muscle activity and is termed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nonshivering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thermogene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ts causes are an increa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drenal secretion of epinephrine and increased sympathe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ctivity to adipose tissue, with some contrib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by thyroid hormone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hivering therm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200" y="1398240"/>
            <a:ext cx="8823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Changes in muscle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constitute the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major control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of heat production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general </a:t>
            </a:r>
            <a:r>
              <a:rPr b="0" lang="en-IN" sz="2400" spc="-1" strike="noStrike">
                <a:solidFill>
                  <a:srgbClr val="ff0000"/>
                </a:solidFill>
                <a:latin typeface="Arial"/>
              </a:rPr>
              <a:t> &amp; Gradual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increase in skeletal-muscle contraction</a:t>
            </a:r>
            <a:r>
              <a:rPr b="0" lang="en-IN" sz="2400" spc="-1" strike="noStrike">
                <a:solidFill>
                  <a:srgbClr val="ff0000"/>
                </a:solidFill>
                <a:latin typeface="Arial"/>
              </a:rPr>
              <a:t> leading to shiv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hivering</a:t>
            </a: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consist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oscillating rhythmical muscle contractions and relax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occurring at a rapid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0000"/>
                </a:solidFill>
                <a:latin typeface="Arial"/>
              </a:rPr>
              <a:t>In process since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 almost no extern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work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s performed by shivering, virtually all the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liberated by the metabolic machinery appears as inter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heat and is known as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hivering thermogene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Peo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also use their muscles for voluntary heat-producin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activities such as foot stamping and hand clap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e of reflex 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The skin’s effectiveness as an insul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08000" y="1700280"/>
            <a:ext cx="8928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he more blood reaching the skin from the cor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he more closely the skin’s temperature approach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hat of the 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In effect, the blood vessels dimin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he insulating capacity of the skin by carrying heat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he surface to be lost to the extern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These vessels are controlled largely by vasoconstricto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sympathetic nerves, the firing rate of which is reflex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increased in response to cold and decreased in respons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to 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osing heat by p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881532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ting 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, shallow breathing greatly increases the amount of water vaporized in the mou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breathing is shallow, it produces relatively little change in the composition of alveolar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contribution of each of the processes that transfer heat away from the body varies with the environmental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21 °C, vaporization is a minor component in humans at rest.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s the environmental temperature approaches body 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adiation losses decline and vaporization losses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fect of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It is essential to recognize that sweat must evapo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in order to exert its cooling effect. The most 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factor determining evaporation rate is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water-vapor concentration of the air—that is, the </a:t>
            </a:r>
            <a:r>
              <a:rPr b="0" i="1" lang="uk-UA" sz="2800" spc="-1" strike="noStrike">
                <a:solidFill>
                  <a:srgbClr val="000099"/>
                </a:solidFill>
                <a:latin typeface="Arial"/>
              </a:rPr>
              <a:t>relative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99"/>
                </a:solidFill>
                <a:latin typeface="Arial"/>
              </a:rPr>
              <a:t>humidity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he discomfort suffered on humid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is due to the failure of evaporation;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the sweat gland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continue to secrete, but the sweat simply remains on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the skin or drips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rmal im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24360" y="1844280"/>
            <a:ext cx="31989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mograph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mal imag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s a type of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frar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maging. Thermographic cameras detect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adi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frar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ange of th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lectromagnetic spectr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roughly 900–14,000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anomet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0.9–14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µ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and produce images of that radi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 thermographic image of a do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042920" y="2492280"/>
            <a:ext cx="4680000" cy="2808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rm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dical 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derives diagnostic indications from highly detailed and sensitiv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fra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s of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uman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rmology is sometimes referred to as medical infrared imaging or tele-thermology and utilizes highly resolute and sensitive infrared (thermographic) cameras. Thermology is completely non-contact and involves no form of energy imparted onto or into the body. Thermology has recognized applications in breas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nc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iropractic, dentistry, neurology, orthopedics, occupational medicine, pain management, vascular medicine/cardiology and veterinary medi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mography in medical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39840" y="1600200"/>
            <a:ext cx="358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breast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Right breast cancer"/>
          <p:cNvPicPr/>
          <p:nvPr/>
        </p:nvPicPr>
        <p:blipFill>
          <a:blip r:embed="rId1"/>
          <a:stretch/>
        </p:blipFill>
        <p:spPr>
          <a:xfrm>
            <a:off x="111600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ehavioral</a:t>
            </a: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here are three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behavioral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mechanisms 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altering heat loss by radiation and conduction: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in surface area, changes in clothing, and choice of surrou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Curling up into a ball, </a:t>
            </a: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Huddling behaviour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and similar maneuvers in response to cold redu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surface area expos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o the environment, there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decreasing heat loss by radiation and cond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ond-ecran-noel6-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The third behavioral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The third behavioral mechanism for altering h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loss is to seek out warmer or colder surroundings,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for example by moving from a shady spot into the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Raising or lowering the thermostat of a house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turning on an air conditioner also fits this categ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Integration of Effector Mechanism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By altering heat loss, changes in skin blood flow </a:t>
            </a:r>
            <a:r>
              <a:rPr b="1" lang="en-IN" sz="2800" spc="-1" strike="noStrike">
                <a:solidFill>
                  <a:srgbClr val="000099"/>
                </a:solidFill>
                <a:latin typeface="Arial"/>
              </a:rPr>
              <a:t>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regulate body temperature over a range of environmental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temperatures (approximately 25 to 30°C or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75 to 86°F for a nude individual) known as the thermoneutral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z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Summary of Effector Mechanisms in Temperature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8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2643480" cy="287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Temperatur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00160" y="38718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75661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of the hypothala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88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ypothalamus serves as the pri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overall integrator of the reflexes, but other brain cen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also exert some control over specific 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of the refle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ympathetic nerves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he sweat glands, skin arterioles, and the ad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medul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2) motor neurons to the skeletal mus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Control of Heat Loss by Evap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Even in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bsence of sweating, there is loss of water by dif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rough the skin, which is not waterproo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xpirat</a:t>
            </a: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ory lo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ese two losses are known as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insensible wat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loss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nd amount to approximately 600 ml/day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human be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passive water los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sweating requires the active secre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of fluid by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sweat glands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nd its extrusion i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ducts that carry it to the skin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Control of Heat Loss by Radiation and Con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central core </a:t>
            </a:r>
            <a:r>
              <a:rPr b="0" lang="en-IN" sz="2800" spc="-1" strike="noStrike">
                <a:solidFill>
                  <a:srgbClr val="ff0000"/>
                </a:solidFill>
                <a:latin typeface="Arial"/>
              </a:rPr>
              <a:t>:F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or purposes of temperature control, it is 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o view the body as a surrounded by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shell consisting of skin and subcutaneous tissue; 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shall refer to this complex outer shell simply as sk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It is the temperature of the central core that is be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regulated at approximately 37°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As we shall see,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temperature of the outer surface of the skin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marked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Heat Exchange in the S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2:14:25Z</dcterms:created>
  <dc:creator>user</dc:creator>
  <dc:description/>
  <dc:language>en-US</dc:language>
  <cp:lastModifiedBy>BASU</cp:lastModifiedBy>
  <dcterms:modified xsi:type="dcterms:W3CDTF">2020-03-26T11:27:31Z</dcterms:modified>
  <cp:revision>6</cp:revision>
  <dc:subject/>
  <dc:title>Physiology of thermoregulation</dc:title>
</cp:coreProperties>
</file>