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drumroll.wav" ContentType="audio/x-wav"/>
  <Override PartName="/ppt/media/image3.jpeg" ContentType="image/jpeg"/>
  <Override PartName="/ppt/media/image14.png" ContentType="image/png"/>
  <Override PartName="/ppt/media/image9.jpeg" ContentType="image/jpeg"/>
  <Override PartName="/ppt/media/image11.jpeg" ContentType="image/jpeg"/>
  <Override PartName="/ppt/media/image13.png" ContentType="image/png"/>
  <Override PartName="/ppt/media/image12.jpeg" ContentType="image/jpeg"/>
  <Override PartName="/ppt/media/image7.jpeg" ContentType="image/jpeg"/>
  <Override PartName="/ppt/media/image1.jpeg" ContentType="image/jpeg"/>
  <Override PartName="/ppt/media/image6.jpeg" ContentType="image/jpeg"/>
  <Override PartName="/ppt/media/image10.png" ContentType="image/png"/>
  <Override PartName="/ppt/media/image2.jpeg" ContentType="image/jpeg"/>
  <Override PartName="/ppt/media/image4.jpeg" ContentType="image/jpeg"/>
  <Override PartName="/ppt/media/laser.wav" ContentType="audio/x-wav"/>
  <Override PartName="/ppt/media/image5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A80D-AC42-4A7F-8DDC-E0A8348D0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DF13-77EB-4247-8E39-81F73E66A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7D8B-305A-445F-914B-4612A368E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E3BF-45AA-4FC3-8367-D3C5C5F50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5B1F9-C3B0-45A5-9430-6732C0D0A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AC1BF-F1A7-42D5-AA4A-558A53B13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6CF28-5D8D-4428-A47C-BA95AED9E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58115-DEBB-4080-90DF-36CC4C403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67285-575E-48DC-ABFC-022BBC74C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D410D-598D-421D-BAF8-FAA89149C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3693B-118E-4314-9E31-C26A12F38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594A-9AA3-4CF8-B81B-EB20DEC8C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1BECE-0B89-4695-AB20-02CA19CC0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CC852-4689-4756-94FE-1B3D2847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8B205-A5D1-4DB1-8B09-241B320F4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230F5-EA03-4BC2-A559-F321FD4AA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42DA0-82D3-4F4C-B8BB-70E0B55D0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BADD-17A2-49A6-84CD-C4C0BCAD0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CB4E-DA8E-435C-80AC-83A4961B5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6B84-FDEF-44CC-98E8-FFFDE334E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E70C-948A-4E64-9A40-FDBED093B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D03E-4FDD-438D-9494-000A8DC42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B1DE-FA65-4796-897F-21AD3A3E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5961-38E6-4B80-B1BC-CC537471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9AB1C-020B-4E5A-8FF0-3BCB16A4CE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270F6-A712-4C64-95A7-52B379CAD4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2.jpeg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file:///tmp/home/.config/libreoffice/4/user/gallery/j0074722.wav" TargetMode="External"/><Relationship Id="rId3" Type="http://schemas.microsoft.com/office/2007/relationships/media" Target="file:///tmp/home/.config/libreoffice/4/user/gallery/j0074722.wav" TargetMode="External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66"/>
                </a:solidFill>
                <a:latin typeface="Arial"/>
              </a:rPr>
              <a:t>Virusus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Non-living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infectious agent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Require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host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(parasites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Found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everywhere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Infect organisms in every kingdom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Edward Jenner-first vaccine for smallpox 1796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solidFill>
            <a:srgbClr val="ff0033"/>
          </a:solidFill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IV Replic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507600" cy="53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. 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Binds to specific cell-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Helper T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cell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white blood cell)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Virus attaches,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&amp; viral RNA enter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Production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-uses host materials to make DN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. DNA enters nucleus; RNA made via transcriptio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5. RNA leaves nucleus, translation occur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Assembly of new viruses.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7. Exit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by budding and/or lysis of cell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500"/>
                            </p:stCondLst>
                            <p:childTnLst>
                              <p:par>
                                <p:cTn id="9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800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7543800" y="6261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20.11, p. 31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723960" y="76320"/>
            <a:ext cx="1154160" cy="29210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"/>
          <p:cNvPicPr/>
          <p:nvPr/>
        </p:nvPicPr>
        <p:blipFill>
          <a:blip r:embed="rId2"/>
          <a:stretch/>
        </p:blipFill>
        <p:spPr>
          <a:xfrm>
            <a:off x="590400" y="3454560"/>
            <a:ext cx="2305080" cy="2997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3"/>
          <a:stretch/>
        </p:blipFill>
        <p:spPr>
          <a:xfrm>
            <a:off x="4572000" y="3429000"/>
            <a:ext cx="2608200" cy="25970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4"/>
          <a:stretch/>
        </p:blipFill>
        <p:spPr>
          <a:xfrm>
            <a:off x="4876920" y="0"/>
            <a:ext cx="2544480" cy="316224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7"/>
          <p:cNvSpPr/>
          <p:nvPr/>
        </p:nvSpPr>
        <p:spPr>
          <a:xfrm>
            <a:off x="2112120" y="49320"/>
            <a:ext cx="109368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iral RN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113560" y="906480"/>
            <a:ext cx="1080000" cy="7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tei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ubunit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f coa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2109960" y="2022480"/>
            <a:ext cx="1015920" cy="9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8 nm diameter,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50 nm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engt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2044080" y="6121440"/>
            <a:ext cx="142884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0-nm diame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4572000" y="6105600"/>
            <a:ext cx="3213000" cy="7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ipid envelope; proteins span the envelope, line its inner surface, spike out above i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4231800" y="5541840"/>
            <a:ext cx="65484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iral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N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6653880" y="3255840"/>
            <a:ext cx="223200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verse transcript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14"/>
          <p:cNvSpPr/>
          <p:nvPr/>
        </p:nvSpPr>
        <p:spPr>
          <a:xfrm>
            <a:off x="4282200" y="2906640"/>
            <a:ext cx="112716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iral coat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protein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6756120" y="5508720"/>
            <a:ext cx="118188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0-120 nm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ame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16"/>
          <p:cNvSpPr/>
          <p:nvPr/>
        </p:nvSpPr>
        <p:spPr>
          <a:xfrm>
            <a:off x="7594200" y="339840"/>
            <a:ext cx="61956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N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17"/>
          <p:cNvSpPr/>
          <p:nvPr/>
        </p:nvSpPr>
        <p:spPr>
          <a:xfrm>
            <a:off x="7597440" y="746280"/>
            <a:ext cx="133884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tein coa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 Box 18"/>
          <p:cNvSpPr/>
          <p:nvPr/>
        </p:nvSpPr>
        <p:spPr>
          <a:xfrm>
            <a:off x="7595640" y="1190520"/>
            <a:ext cx="83304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heat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19"/>
          <p:cNvSpPr/>
          <p:nvPr/>
        </p:nvSpPr>
        <p:spPr>
          <a:xfrm>
            <a:off x="7596360" y="1724040"/>
            <a:ext cx="117144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ase pla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20"/>
          <p:cNvSpPr/>
          <p:nvPr/>
        </p:nvSpPr>
        <p:spPr>
          <a:xfrm>
            <a:off x="7597440" y="2054160"/>
            <a:ext cx="96876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ail fib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21"/>
          <p:cNvSpPr/>
          <p:nvPr/>
        </p:nvSpPr>
        <p:spPr>
          <a:xfrm>
            <a:off x="7075440" y="2689200"/>
            <a:ext cx="1917720" cy="7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65-nm diameter head, 225-nm total lengt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Line 22"/>
          <p:cNvSpPr/>
          <p:nvPr/>
        </p:nvSpPr>
        <p:spPr>
          <a:xfrm>
            <a:off x="1562040" y="203040"/>
            <a:ext cx="571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Line 23"/>
          <p:cNvSpPr/>
          <p:nvPr/>
        </p:nvSpPr>
        <p:spPr>
          <a:xfrm>
            <a:off x="1574640" y="1079640"/>
            <a:ext cx="559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Line 24"/>
          <p:cNvSpPr/>
          <p:nvPr/>
        </p:nvSpPr>
        <p:spPr>
          <a:xfrm flipH="1">
            <a:off x="5956200" y="3416400"/>
            <a:ext cx="749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Line 25"/>
          <p:cNvSpPr/>
          <p:nvPr/>
        </p:nvSpPr>
        <p:spPr>
          <a:xfrm>
            <a:off x="4559400" y="5105520"/>
            <a:ext cx="1181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Line 26"/>
          <p:cNvSpPr/>
          <p:nvPr/>
        </p:nvSpPr>
        <p:spPr>
          <a:xfrm>
            <a:off x="5423040" y="57913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Line 27"/>
          <p:cNvSpPr/>
          <p:nvPr/>
        </p:nvSpPr>
        <p:spPr>
          <a:xfrm>
            <a:off x="5181480" y="3378240"/>
            <a:ext cx="0" cy="787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Line 28"/>
          <p:cNvSpPr/>
          <p:nvPr/>
        </p:nvSpPr>
        <p:spPr>
          <a:xfrm>
            <a:off x="6248520" y="1359000"/>
            <a:ext cx="1346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Line 29"/>
          <p:cNvSpPr/>
          <p:nvPr/>
        </p:nvSpPr>
        <p:spPr>
          <a:xfrm flipH="1">
            <a:off x="6273360" y="914400"/>
            <a:ext cx="1320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Line 30"/>
          <p:cNvSpPr/>
          <p:nvPr/>
        </p:nvSpPr>
        <p:spPr>
          <a:xfrm flipH="1">
            <a:off x="6261120" y="482760"/>
            <a:ext cx="1333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Line 31"/>
          <p:cNvSpPr/>
          <p:nvPr/>
        </p:nvSpPr>
        <p:spPr>
          <a:xfrm flipH="1">
            <a:off x="6184800" y="1879560"/>
            <a:ext cx="1409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Line 32"/>
          <p:cNvSpPr/>
          <p:nvPr/>
        </p:nvSpPr>
        <p:spPr>
          <a:xfrm flipH="1">
            <a:off x="7340400" y="2209680"/>
            <a:ext cx="253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Line 33"/>
          <p:cNvSpPr/>
          <p:nvPr/>
        </p:nvSpPr>
        <p:spPr>
          <a:xfrm flipV="1">
            <a:off x="5956200" y="3416400"/>
            <a:ext cx="0" cy="1358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Line 34"/>
          <p:cNvSpPr/>
          <p:nvPr/>
        </p:nvSpPr>
        <p:spPr>
          <a:xfrm>
            <a:off x="4559400" y="51181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solidFill>
            <a:srgbClr val="ff0033"/>
          </a:solidFill>
          <a:ln w="572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Virus Reproduction-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880" y="1752120"/>
            <a:ext cx="91407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akes ~20 min to make hundreds-to-thousands of new viruse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Various methods---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but 5 basic steps—as follows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866080" cy="1143000"/>
          </a:xfrm>
          <a:prstGeom prst="rect">
            <a:avLst/>
          </a:prstGeom>
          <a:solidFill>
            <a:srgbClr val="ff0033"/>
          </a:solidFill>
          <a:ln w="572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Virus Reproduction-5 basic steps.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Lytic Cycle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-228600" y="1066320"/>
            <a:ext cx="7129440" cy="52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. 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Attac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to host cell surfac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.  </a:t>
            </a: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Entry: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whole virus OR just DN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Replication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akes over &amp; direct replication of  viral DNA &amp; Protei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. 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Assembly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-new viru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Release.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By  either Budding or Lysis   which results in  cell  death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rcRect l="0" t="0" r="0" b="14837"/>
          <a:stretch/>
        </p:blipFill>
        <p:spPr>
          <a:xfrm>
            <a:off x="6356520" y="1066680"/>
            <a:ext cx="2787480" cy="564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500"/>
                            </p:stCondLst>
                            <p:childTnLst>
                              <p:par>
                                <p:cTn id="19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500"/>
                            </p:stCondLst>
                            <p:childTnLst>
                              <p:par>
                                <p:cTn id="20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7000"/>
                            </p:stCondLst>
                            <p:childTnLst>
                              <p:par>
                                <p:cTn id="20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33"/>
          </a:solidFill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fense Against Virus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 ??Antibiotics—INEFFECTIVE—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cause they target cellular processes (viruses are not alive—no cell/process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2. Vaccination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—Made of viruses which have been treated so they are harml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eate our own self-defense-build internal antibodies against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pecifi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virus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2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Picture 4" descr="HivReplication2"/>
          <p:cNvPicPr/>
          <p:nvPr/>
        </p:nvPicPr>
        <p:blipFill>
          <a:blip r:embed="rId1"/>
          <a:stretch/>
        </p:blipFill>
        <p:spPr>
          <a:xfrm>
            <a:off x="1081080" y="65160"/>
            <a:ext cx="8062920" cy="67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fense Against Virus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3. Virus-Destroying Drugs. They destroy the virus BUT ALSO DESTROY HOST CEL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xample:  AZT-slows down AID’s; it’s toxic therefore side effec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y Don’t Vaccines Always Protect?      Mutations –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850104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ecome Unrecognizable          </a:t>
            </a:r>
            <a:r>
              <a:rPr b="0" lang="en-US" sz="40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ЖФξ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IV, Cold Virus, Influenza </a:t>
            </a:r>
            <a:r>
              <a:rPr b="0" i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change ofte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Viral surface proteins mutate; some VERY OFTE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f all the changeable viruses,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HIV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changes the most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!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3733920" y="1295280"/>
            <a:ext cx="976320" cy="486000"/>
          </a:xfrm>
          <a:prstGeom prst="pi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AutoShape 7"/>
          <p:cNvSpPr/>
          <p:nvPr/>
        </p:nvSpPr>
        <p:spPr>
          <a:xfrm>
            <a:off x="5715000" y="19810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solidFill>
            <a:srgbClr val="ff0033"/>
          </a:solidFill>
          <a:ln w="572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merging Viral Diseas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77920" y="1294920"/>
            <a:ext cx="8866080" cy="48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Filovirus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: A virus harbored in animals without harming them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; then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passed on to another animal who is harme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OR EXAMPLE: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bola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:30-90% mortalit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emorrhagic fever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7543800" y="6261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20.6, p. 3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228600" y="0"/>
            <a:ext cx="9972720" cy="6854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ionDise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7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6934320" y="2743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0" dur="2313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72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Arial"/>
              </a:rPr>
              <a:t>Viral Diseases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iral diseases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1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mallpox,  Polio, Measles, Influenza, AIDS, Common Col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ther Infectious Agent--Pr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36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mall  abnormal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orms of protein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necessary for operation of neuronsprotei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oteins coagulate as large deposits in brain-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inked to human disea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564480" indent="-217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Kuru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564480" indent="-217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utzfeldt-Jakob disease (CJ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imal disea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564480" indent="-217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crapie in shee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564480" indent="-217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ovine spongiform encephalopathy(mad cow disease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564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7543800" y="6261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20.6, p. 3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Picture 3" descr=""/>
          <p:cNvPicPr/>
          <p:nvPr/>
        </p:nvPicPr>
        <p:blipFill>
          <a:blip r:embed="rId1"/>
          <a:stretch/>
        </p:blipFill>
        <p:spPr>
          <a:xfrm>
            <a:off x="228600" y="0"/>
            <a:ext cx="9972720" cy="6854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ionDise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78" name="Picture 8" descr=""/>
          <p:cNvPicPr/>
          <p:nvPr/>
        </p:nvPicPr>
        <p:blipFill>
          <a:blip r:embed="rId2"/>
          <a:stretch/>
        </p:blipFill>
        <p:spPr>
          <a:xfrm>
            <a:off x="6934320" y="2743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8" dur="2313" fill="hold"/>
                                        <p:tgtEl>
                                          <p:spTgt spid="1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33"/>
          </a:solidFill>
          <a:ln w="572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Viruses are Infectious Ag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ut are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ost Specific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nd tissue specific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or Example: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ld Virus only infects the cells of the human upper respiratory trac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500"/>
                            </p:stCondLst>
                            <p:childTnLst>
                              <p:par>
                                <p:cTn id="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6000"/>
                            </p:stCondLst>
                            <p:childTnLst>
                              <p:par>
                                <p:cTn id="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500"/>
                            </p:stCondLst>
                            <p:childTnLst>
                              <p:par>
                                <p:cTn id="2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1523880" y="-360"/>
            <a:ext cx="7772400" cy="1143000"/>
          </a:xfrm>
          <a:prstGeom prst="rect">
            <a:avLst/>
          </a:prstGeom>
          <a:gradFill rotWithShape="0">
            <a:gsLst>
              <a:gs pos="0">
                <a:srgbClr val="ff0033"/>
              </a:gs>
              <a:gs pos="50000">
                <a:srgbClr val="760018"/>
              </a:gs>
              <a:gs pos="100000">
                <a:srgbClr val="ff0033"/>
              </a:gs>
            </a:gsLst>
            <a:lin ang="18900000"/>
          </a:gradFill>
          <a:ln w="57240">
            <a:solidFill>
              <a:srgbClr val="ff66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Virus Structure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8866080" cy="51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ll contain these 2 structures :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Times New Roman"/>
              </a:rPr>
              <a:t>Nucleic Acid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(either RNA or DNA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Times New Roman"/>
              </a:rPr>
              <a:t> Protein Coat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(capsid)-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1100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ade of protein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1100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closes Genetic materi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Picture 4" descr="Virus_diagram"/>
          <p:cNvPicPr/>
          <p:nvPr/>
        </p:nvPicPr>
        <p:blipFill>
          <a:blip r:embed="rId1"/>
          <a:stretch/>
        </p:blipFill>
        <p:spPr>
          <a:xfrm>
            <a:off x="5257800" y="0"/>
            <a:ext cx="322884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Viral Body Pla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4952880" y="-217440"/>
            <a:ext cx="2934000" cy="364644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4876920" y="3429000"/>
            <a:ext cx="324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ex vir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acteriophag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2"/>
          <a:stretch/>
        </p:blipFill>
        <p:spPr>
          <a:xfrm>
            <a:off x="1828800" y="2895480"/>
            <a:ext cx="1992240" cy="25909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7"/>
          <p:cNvSpPr/>
          <p:nvPr/>
        </p:nvSpPr>
        <p:spPr>
          <a:xfrm>
            <a:off x="1981080" y="6019920"/>
            <a:ext cx="288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ylhedral vir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Picture 8" descr=""/>
          <p:cNvPicPr/>
          <p:nvPr/>
        </p:nvPicPr>
        <p:blipFill>
          <a:blip r:embed="rId3"/>
          <a:stretch/>
        </p:blipFill>
        <p:spPr>
          <a:xfrm>
            <a:off x="380880" y="2895480"/>
            <a:ext cx="1024200" cy="25909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9"/>
          <p:cNvSpPr/>
          <p:nvPr/>
        </p:nvSpPr>
        <p:spPr>
          <a:xfrm>
            <a:off x="228600" y="6095880"/>
            <a:ext cx="19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ical vir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10" descr=""/>
          <p:cNvPicPr/>
          <p:nvPr/>
        </p:nvPicPr>
        <p:blipFill>
          <a:blip r:embed="rId4"/>
          <a:stretch/>
        </p:blipFill>
        <p:spPr>
          <a:xfrm>
            <a:off x="6535800" y="4260960"/>
            <a:ext cx="2608200" cy="25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6" name="Picture 4" descr="virus2"/>
          <p:cNvPicPr/>
          <p:nvPr/>
        </p:nvPicPr>
        <p:blipFill>
          <a:blip r:embed="rId1"/>
          <a:stretch/>
        </p:blipFill>
        <p:spPr>
          <a:xfrm>
            <a:off x="1219320" y="1447920"/>
            <a:ext cx="4419360" cy="42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2819520" y="685800"/>
            <a:ext cx="6672240" cy="585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Times New Roman"/>
              </a:rPr>
              <a:t>Some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re  </a:t>
            </a:r>
            <a:r>
              <a:rPr b="0" i="1" lang="en-US" sz="4800" spc="-1" strike="noStrike" u="sng">
                <a:solidFill>
                  <a:srgbClr val="ffffff"/>
                </a:solidFill>
                <a:uFillTx/>
                <a:latin typeface="Times New Roman"/>
              </a:rPr>
              <a:t>Enveloped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:  have an added  phospholipid membrane on outside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Examples: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IV,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hinoviruses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onoviru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fluenz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Picture 4" descr="coronavirus-150Cold"/>
          <p:cNvPicPr/>
          <p:nvPr/>
        </p:nvPicPr>
        <p:blipFill>
          <a:blip r:embed="rId1"/>
          <a:stretch/>
        </p:blipFill>
        <p:spPr>
          <a:xfrm>
            <a:off x="0" y="-304920"/>
            <a:ext cx="312408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1295280" y="-36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IV is an Enveloped Retroviru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3581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as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RN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Retrovirus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=RNA—to DNA---To RNA---To prote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utates quickly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Picture 4" descr="HIV-virus2611"/>
          <p:cNvPicPr/>
          <p:nvPr/>
        </p:nvPicPr>
        <p:blipFill>
          <a:blip r:embed="rId1"/>
          <a:stretch/>
        </p:blipFill>
        <p:spPr>
          <a:xfrm>
            <a:off x="5334120" y="0"/>
            <a:ext cx="3263760" cy="41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0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50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IV replication. 1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Picture 4" descr="HIVReplication"/>
          <p:cNvPicPr/>
          <p:nvPr/>
        </p:nvPicPr>
        <p:blipFill>
          <a:blip r:embed="rId1"/>
          <a:stretch/>
        </p:blipFill>
        <p:spPr>
          <a:xfrm>
            <a:off x="262080" y="1752480"/>
            <a:ext cx="8619840" cy="48452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"/>
          <p:cNvPicPr/>
          <p:nvPr/>
        </p:nvPicPr>
        <p:blipFill>
          <a:blip r:embed="rId2"/>
          <a:stretch/>
        </p:blipFill>
        <p:spPr>
          <a:xfrm>
            <a:off x="6019920" y="0"/>
            <a:ext cx="2697120" cy="26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3T23:52:39Z</dcterms:created>
  <dc:creator>Rauch</dc:creator>
  <dc:description/>
  <dc:language>en-US</dc:language>
  <cp:lastModifiedBy>HP</cp:lastModifiedBy>
  <dcterms:modified xsi:type="dcterms:W3CDTF">2020-03-20T01:15:45Z</dcterms:modified>
  <cp:revision>24</cp:revision>
  <dc:subject/>
  <dc:title>Virus Structure &amp; Function</dc:title>
</cp:coreProperties>
</file>