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WHOOSH.WAV" ContentType="audio/x-wav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gel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Motility - movement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warming occurs with some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pread across Petri Dish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roteus species most evident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rrangement basis for classific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Monotrichous; 1 flagell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Lophotrichous; tuft at one end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mphitrichous; both end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eritrichous; all around bacteri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Observe Picture in Micro Lab.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69" name="Picture 2" descr="C:\My Documents\Gerald_T\flagella.jpg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71" name="Picture 5" descr="D:\BLACK\CHAP04\FIGURES\FG04_055.PCT"/>
          <p:cNvPicPr/>
          <p:nvPr/>
        </p:nvPicPr>
        <p:blipFill>
          <a:blip r:embed="rId1"/>
          <a:stretch/>
        </p:blipFill>
        <p:spPr>
          <a:xfrm>
            <a:off x="2209680" y="203040"/>
            <a:ext cx="4419720" cy="2946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BLACK\CHAP04\FIGURES\FG04_061.PCT"/>
          <p:cNvPicPr/>
          <p:nvPr/>
        </p:nvPicPr>
        <p:blipFill>
          <a:blip r:embed="rId2"/>
          <a:stretch/>
        </p:blipFill>
        <p:spPr>
          <a:xfrm>
            <a:off x="2286000" y="358128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345760" y="354636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Mono- or Lophotrichorus 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75" name="Picture 2" descr="E:\BLACK\CHAP04\FIGURES\FG04_019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hort protein appendag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maller than flagell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dhere bacteria to surfac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E. coli has numerous type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K88, K99, F41, etc.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ntibodies to will block adheranc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-pilus; used in conjug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Exchange of genetic information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lotation; increase boyanc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ellicle (scum on water)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More oxygen on surfac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2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Pilus for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A:\f-pili.jpg"/>
          <p:cNvPicPr/>
          <p:nvPr/>
        </p:nvPicPr>
        <p:blipFill>
          <a:blip r:embed="rId1"/>
          <a:stretch/>
        </p:blipFill>
        <p:spPr>
          <a:xfrm>
            <a:off x="2379600" y="838080"/>
            <a:ext cx="4381560" cy="5181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sule or Slime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lycocalyx - Polysaccharide on external surfac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dhere bacteria to surfac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. mutans and enamel of teeth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Prevents Phagocytosi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omplement can’t penetrate sugar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80% Water {20% Salts-Proteins)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Osmotic Shock important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DNA is circular, Haploid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dvantages of 1N DNA over 2N DN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More efficient; grows quicker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Mutations allow adaptation to environment quicker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Plasmids; extra circular DN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ntibiotic Resistanc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No organelles (Mitochondria, Golgi, etc.)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Bilayer Phospholipid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Water can penetrat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lexibl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Not strong, ruptures easil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Osmotic Pressure created by cytoplasm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92" name="Picture 2" descr="D:\BLACK\CHAP04\FIGURES\FG04_042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verage bacteria 0.5 - 2.0 um in diam.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RBC is 7.5 um in diam.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urface Area ~12 um^2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Volume is ~4 um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urface Area to Volume is 3:1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Typical Eukaryote Cell SA/Vol is 0.3:1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ood enters through SA, quickly reaches all parts of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Eukaroytes need structures &amp; organell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94" name="Picture 2" descr="D:\BLACK\CHAP04\FIGURES\FG04_043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96" name="Picture 2" descr="E:\BLACK\CHAP04\FIGURES\FG04_018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Peptido-glycan Polymer (amino acids + sugars)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Unique to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ugars; NAG &amp; NAM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N-acetylglucosamin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N-acetymuramic acid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D form of Amino acids used not L form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Hard to break down D form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mino acids cross link NAG &amp; NAM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01" name="Picture 2" descr="D:\BLACK\CHAP04\FIGURES\FG04_012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03" name="Picture 2" descr="D:\BLACK\CHAP04\FIGURES\FG04_048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05" name="Picture 2" descr="D:\BLACK\CHAP04\FIGURES\FG04_051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07" name="Picture 2" descr="D:\BLACK\CHAP04\FIGURES\FG04_059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09" name="Picture 2" descr="D:\BLACK\CHAP04\FIGURES\FG04_006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11" name="Picture 2" descr="D:\BLACK\CHAP04\FIGURES\FG04_056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Determine shape of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trength prevents osmotic ruptur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20-40% of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Unique to bacteri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ome antibiotics effect directl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enicillin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pes of Bac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648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occu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Chain = Streptoccus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Cluster = Staphylococcus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Bacillu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Chain = Streptobacillus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occobacillu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Vibrio = curved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pirillum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pirochet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quar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tar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5421240" y="990720"/>
          <a:ext cx="22622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1240" y="990720"/>
                    <a:ext cx="22622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icho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ram + onl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lycerol, Phosphates, &amp; Ribito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ttachment for Phag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7960" y="990360"/>
            <a:ext cx="3809880" cy="510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:\BLACK\CHAP04\FIGURES\FG04_053.PCT"/>
          <p:cNvPicPr/>
          <p:nvPr/>
        </p:nvPicPr>
        <p:blipFill>
          <a:blip r:embed="rId2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popolysaccharide (LP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Endotoxin or Pyroge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Fever causing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Toxin nomenclatur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Endo- part of bacteria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Exo- excreted into environment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Structur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Lipid 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olysaccharid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O Antigen of E. coli, Salmonella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- bacteria only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lcohol/Acetone remove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27" name="Picture 2" descr="E:\BLACK\CHAP04\FIGURES\FG04_013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29" name="Picture 2" descr="E:\BLACK\CHAP04\FIGURES\FG04_015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Toxic; kills mice, pigs, human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G- septicemia; death due to LPS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yrogen; causes fever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DPT vaccination always causes fevers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Adjuvant; stimulates immunity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Heat Resistant; hard to remov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Detection (all topical &amp; IV products)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Rabbits (measure fever)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Horse shoe crab (Amoebocytes Lyse in presence of LPS)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ppearance of Coloni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Mucoid = Smooth (lots of LPS or capsule)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Dry = Rough (little LPS or capsule)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O Antigen of Salmonella and E. coli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2,000 different O Ags of Salmonella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100’s different O Ags of E. coli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E. coli O157</a:t>
            </a:r>
            <a:endParaRPr b="0" lang="en-US" sz="24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O Ags differ in Sugars, not Lipid 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sp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Resistant structur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Heat, irradiation, cold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Boiling &gt;1 hr still viabl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Takes time and energy to make spor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Location important in classification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entral, Subterminal, Terminal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Bacillus stearothermophilus -spor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Used for quality control of heat sterilization equipment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Bacillus anthracis - spores 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Used in biological warfar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42" name="Picture 5" descr="A:\spore.jpg"/>
          <p:cNvPicPr/>
          <p:nvPr/>
        </p:nvPicPr>
        <p:blipFill>
          <a:blip r:embed="rId1"/>
          <a:stretch/>
        </p:blipFill>
        <p:spPr>
          <a:xfrm>
            <a:off x="533520" y="773280"/>
            <a:ext cx="7619760" cy="531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44" name="Picture 2" descr="A:\sporelocation.jpg"/>
          <p:cNvPicPr/>
          <p:nvPr/>
        </p:nvPicPr>
        <p:blipFill>
          <a:blip r:embed="rId1"/>
          <a:stretch/>
        </p:blipFill>
        <p:spPr>
          <a:xfrm>
            <a:off x="2496960" y="228600"/>
            <a:ext cx="415008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49" name="Picture 2" descr="D:\BLACK\CHAP04\FIGURES\FG04_001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+ vs. G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+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Thicker cell wall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Teichoic Acid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G-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Endotoxin - LP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Which are more sensitive to Penicllin?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Alcohol/Acetone affects which more?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karyotes vs. Eukary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ell Wall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Teichoic Acid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LP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Endospore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ircular DNA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Plasmids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152" name="Picture 2" descr="D:\BLACK\CHAP04\FIGURES\FG04_022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666880" y="228600"/>
            <a:ext cx="422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Eukaryote Cell Structure</a:t>
            </a: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51" name="Picture 2" descr="D:\BLACK\CHAP04\FIGURES\FG04_002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53" name="Picture 2" descr="D:\BLACK\CHAP04\FIGURES\FG04_004.PCT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7960" y="990360"/>
            <a:ext cx="3809880" cy="510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BLACK\CHAP04\FIGURES\FG04_035.PCT"/>
          <p:cNvPicPr/>
          <p:nvPr/>
        </p:nvPicPr>
        <p:blipFill>
          <a:blip r:embed="rId2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1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60" name="Picture 2" descr="D:\BLACK\CHAP04\FIGURES\FG04_036.PCT"/>
          <p:cNvPicPr/>
          <p:nvPr/>
        </p:nvPicPr>
        <p:blipFill>
          <a:blip r:embed="rId1"/>
          <a:srcRect l="29997" t="-992" r="30016" b="0"/>
          <a:stretch/>
        </p:blipFill>
        <p:spPr>
          <a:xfrm>
            <a:off x="2819520" y="635040"/>
            <a:ext cx="3047760" cy="513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Chapter 4</a:t>
            </a:r>
            <a:endParaRPr b="0" lang="en-US" sz="1400" spc="-1" strike="noStrike">
              <a:solidFill>
                <a:srgbClr val="99ff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teria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Flagella  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ili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apsul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Plasma Membrane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ytoplasm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ell Wall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Lipopolysaccharide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Teichoic Acid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Inclusion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Spores</a:t>
            </a:r>
            <a:endParaRPr b="0" lang="en-US" sz="2800" spc="-1" strike="noStrike">
              <a:solidFill>
                <a:srgbClr val="99ff99"/>
              </a:solidFill>
              <a:latin typeface="Times New Roman"/>
            </a:endParaRPr>
          </a:p>
        </p:txBody>
      </p:sp>
      <p:pic>
        <p:nvPicPr>
          <p:cNvPr id="64" name="Picture 10" descr="D:\BLACK\CHAP04\FIGURES\FG04_010.PCT"/>
          <p:cNvPicPr/>
          <p:nvPr/>
        </p:nvPicPr>
        <p:blipFill>
          <a:blip r:embed="rId1"/>
          <a:stretch/>
        </p:blipFill>
        <p:spPr>
          <a:xfrm>
            <a:off x="3962520" y="1066680"/>
            <a:ext cx="449568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02:33:43Z</dcterms:created>
  <dc:creator>Gerald T. Schlink</dc:creator>
  <dc:description/>
  <dc:language>en-US</dc:language>
  <cp:lastModifiedBy>SGAC</cp:lastModifiedBy>
  <dcterms:modified xsi:type="dcterms:W3CDTF">2018-11-16T05:39:37Z</dcterms:modified>
  <cp:revision>14</cp:revision>
  <dc:subject/>
  <dc:title>PowerPoint Presentation  -  Structure of Bacteria</dc:title>
</cp:coreProperties>
</file>