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9DE-68AA-4F94-8ABA-56798606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5DC9-4056-4122-AD27-15D3455C1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94B-7D40-412F-9527-D595499E8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5D9A-F23E-4A02-A7CA-893B8B4B3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9E45-93EE-4C69-ADD8-BC55C6B0C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C6A0-5E6F-406D-9E0B-1FC68CD41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36AE-73D0-4A02-B33B-D3A32F60C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61CA-58EA-4EBB-B0C9-47657A406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4E2C-9ECE-4BE4-AC38-F10623CFE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5E9F-0BDE-4A10-821C-84699EA83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693A-7FCC-4EF6-90DA-4831667C0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B2EC-0DB3-4F10-BC3A-80427A238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DA28-3316-463A-BE8C-2326F6F89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E1A9-2A41-4BE0-B7BD-6D90603B1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B847-78DD-488F-8D90-935913E93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151920"/>
            <a:ext cx="7696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" y="64004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88E8-13D5-4366-8D40-B4EB25B3E788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2C36-8ABB-4C68-B67B-57272E3610ED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udy of Microbial Structure: Microscopy and Specimen Prepa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56B1-2D07-4527-ACAD-91A7225CC46C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C:\My Documents\My Pictures\fig2.4.jpg"/>
          <p:cNvPicPr/>
          <p:nvPr/>
        </p:nvPicPr>
        <p:blipFill>
          <a:blip r:embed="rId1"/>
          <a:stretch/>
        </p:blipFill>
        <p:spPr>
          <a:xfrm>
            <a:off x="2438280" y="457200"/>
            <a:ext cx="5726160" cy="5627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762120" y="5715000"/>
            <a:ext cx="15238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2AE-CBF5-470F-A759-D23868D7C51D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Microscope Resolu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ility of a lens to separate or distinguish small objects that are close togeth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length of light used is major factor in re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er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eat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74F2-1657-49A2-8133-EB08ADB1106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C:\My Documents\My Pictures\table2.2.jpg"/>
          <p:cNvPicPr/>
          <p:nvPr/>
        </p:nvPicPr>
        <p:blipFill>
          <a:blip r:embed="rId1"/>
          <a:stretch/>
        </p:blipFill>
        <p:spPr>
          <a:xfrm>
            <a:off x="533520" y="1523880"/>
            <a:ext cx="8126280" cy="2219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69960" y="4613400"/>
            <a:ext cx="786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front surface of lens and surface of cover glass or speci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7C6-0260-46B4-93AB-D5540E5D2449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C:\My Documents\My Pictures\fig2.5.jpg"/>
          <p:cNvPicPr/>
          <p:nvPr/>
        </p:nvPicPr>
        <p:blipFill>
          <a:blip r:embed="rId1"/>
          <a:stretch/>
        </p:blipFill>
        <p:spPr>
          <a:xfrm>
            <a:off x="533520" y="1468440"/>
            <a:ext cx="8126280" cy="356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534600" y="576576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8472-96A0-4690-9D27-6F924F18390F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C:\My Documents\My Pictures\fig2.6.jpg"/>
          <p:cNvPicPr/>
          <p:nvPr/>
        </p:nvPicPr>
        <p:blipFill>
          <a:blip r:embed="rId1"/>
          <a:stretch/>
        </p:blipFill>
        <p:spPr>
          <a:xfrm>
            <a:off x="507960" y="1325520"/>
            <a:ext cx="8126280" cy="4206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34600" y="561348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5775-3CF9-4842-AC78-D5A54257B54D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ark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bright image of the object against a dark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to observe living, unstained prepar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4A5F-D2D2-418C-9061-2511DBB03242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My Documents\My Pictures\fig2.7b.jpg"/>
          <p:cNvPicPr/>
          <p:nvPr/>
        </p:nvPicPr>
        <p:blipFill>
          <a:blip r:embed="rId1"/>
          <a:stretch/>
        </p:blipFill>
        <p:spPr>
          <a:xfrm>
            <a:off x="2971800" y="457200"/>
            <a:ext cx="5165640" cy="5943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83880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7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1081-ABD4-4AEA-B05C-B27EE473A910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Phase-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hances the contrast between intracellular structures having slight differences in refractive inde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C114-1C26-4539-A89F-F263EB3A5A62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63200" y="591804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C:\My Documents\My Pictures\fig2.9.jpg"/>
          <p:cNvPicPr/>
          <p:nvPr/>
        </p:nvPicPr>
        <p:blipFill>
          <a:blip r:embed="rId1"/>
          <a:stretch/>
        </p:blipFill>
        <p:spPr>
          <a:xfrm>
            <a:off x="2362320" y="533520"/>
            <a:ext cx="4535280" cy="5668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DD35-70CB-4F7B-81B7-0C0B95C675E0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C:\My Documents\My Pictures\fig2.10.jpg"/>
          <p:cNvPicPr/>
          <p:nvPr/>
        </p:nvPicPr>
        <p:blipFill>
          <a:blip r:embed="rId1"/>
          <a:stretch/>
        </p:blipFill>
        <p:spPr>
          <a:xfrm>
            <a:off x="507960" y="1216080"/>
            <a:ext cx="8126280" cy="4425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34240" y="5689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9519-272F-4A77-99FE-3DE04360BE78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l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E:\foundations\micrscopy\0102.JPG"/>
          <p:cNvPicPr/>
          <p:nvPr/>
        </p:nvPicPr>
        <p:blipFill>
          <a:blip r:embed="rId1"/>
          <a:stretch/>
        </p:blipFill>
        <p:spPr>
          <a:xfrm>
            <a:off x="2614680" y="-361800"/>
            <a:ext cx="3914640" cy="7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4BED-6DAC-407B-8BB5-53FA54BA179F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ifferential Interference 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s image by detecting differences in refractive indices and thickness of different parts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374E-D0B8-4C92-8DDA-5EAAC9F6A6E0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Fluorescence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oses specimen to ultraviolet, violet, or blue ligh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usually stained wi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uorochr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ws a bright image of the object resulting from the fluorescent light emitted by the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CFA-6BB7-43C4-89FD-F8ACF0A09A8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C:\My Documents\My Pictures\fig2.12.jpg"/>
          <p:cNvPicPr/>
          <p:nvPr/>
        </p:nvPicPr>
        <p:blipFill>
          <a:blip r:embed="rId1"/>
          <a:stretch/>
        </p:blipFill>
        <p:spPr>
          <a:xfrm>
            <a:off x="2971800" y="533520"/>
            <a:ext cx="5099040" cy="5867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296000" y="591804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8D10-48E4-4EC5-A7C9-F77C77C255AC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C:\My Documents\My Pictures\fig2.13cd.jpg"/>
          <p:cNvPicPr/>
          <p:nvPr/>
        </p:nvPicPr>
        <p:blipFill>
          <a:blip r:embed="rId1"/>
          <a:stretch/>
        </p:blipFill>
        <p:spPr>
          <a:xfrm>
            <a:off x="609480" y="914400"/>
            <a:ext cx="8248680" cy="4417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69960" y="547524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3c and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9B2C-4562-4B47-B963-9EE9C05EAD80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Preparation and Staining of Specimen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s visibility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ntuates specific morphological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serves specime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0668-6A37-464B-B3CC-3E8C607326CB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ixation 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internal and external structures are preserved and fixed in pos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organism is killed and firmly attached to microscop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rves overall morphology but not internal struct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s fine cellular substructure and morphology of larger, more delicate organis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A1B-71DD-4E55-9D0D-FD0560A18359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y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e internal and external structures of cell more visible by increasing contrast with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two common featur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mophore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groups with conjugated double bon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dye its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lity to bind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732B-1A7F-4B85-806F-E5F75A2BA45E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mpl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ngle staining agent is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ic dy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re frequently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yes with positive char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crystal viol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4C7E-1999-49FC-A51C-DB0E561C4E5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fferential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microorganisms into groups based on their staining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Gram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acid-fast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AA33-7C56-43D2-AF1E-34070AFDC54C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Gram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st widely used differential staining proced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Bacteria into two groups based on differences in cell wall 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79F-351F-40D0-89B0-25ED1480842B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scovery of Microorganism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ony van Leeuwenhoek (1632-1723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person to observe and describe micro-organisms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C:\My Documents\My Pictures\fig1.1.jpg"/>
          <p:cNvPicPr/>
          <p:nvPr/>
        </p:nvPicPr>
        <p:blipFill>
          <a:blip r:embed="rId1"/>
          <a:stretch/>
        </p:blipFill>
        <p:spPr>
          <a:xfrm>
            <a:off x="3962520" y="213516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099680" y="52466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1.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508-4C8E-4C33-9AA4-A5DBE2F2E3D1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" descr="C:\My Documents\My Pictures\fig2.14.jpg"/>
          <p:cNvPicPr/>
          <p:nvPr/>
        </p:nvPicPr>
        <p:blipFill>
          <a:blip r:embed="rId1"/>
          <a:stretch/>
        </p:blipFill>
        <p:spPr>
          <a:xfrm>
            <a:off x="2809800" y="457200"/>
            <a:ext cx="5218200" cy="6019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76284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858000" y="1371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    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705720" y="2700360"/>
            <a:ext cx="119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323400" y="4986360"/>
            <a:ext cx="167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925240" y="4232160"/>
            <a:ext cx="192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lo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698800" y="5527800"/>
            <a:ext cx="1215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 flipH="1" flipV="1">
            <a:off x="4952520" y="5715000"/>
            <a:ext cx="68580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CEF7-D147-46D7-AE66-E64B829DE483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C:\My Documents\My Pictures\fig2.15c.jpg"/>
          <p:cNvPicPr/>
          <p:nvPr/>
        </p:nvPicPr>
        <p:blipFill>
          <a:blip r:embed="rId1"/>
          <a:stretch/>
        </p:blipFill>
        <p:spPr>
          <a:xfrm>
            <a:off x="609480" y="1023840"/>
            <a:ext cx="8132760" cy="4462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34240" y="576576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5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6600" y="5791320"/>
            <a:ext cx="453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scherichia col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a gram-negative r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840E-C5EB-4BB2-968B-CBFDF1921DCC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cid-fast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ularly useful for staining members of the genu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cobacteriu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tubercul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tubercul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lepra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lepros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lipid content in cell walls is responsible for their staining 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BC10-7571-459F-8814-6D0ED7AE157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gativ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used to visualize capsules surrounding bacteri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sules are colorless against a stained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1320-103C-42B1-A030-94EBBEB3C5C5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or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uble staining techniqu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endospore is one color and vegetative cell is a different col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agella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dant applied to increase thickness of flagell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EA6-C52D-49FF-8909-06CB091973E2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lectro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ams of electrons are used to produce imag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velength of electron beam is much shorter than light, resulting in much high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9" descr="C:\My Documents\My Pictures\fig2.20b.jpg"/>
          <p:cNvPicPr/>
          <p:nvPr/>
        </p:nvPicPr>
        <p:blipFill>
          <a:blip r:embed="rId1"/>
          <a:stretch/>
        </p:blipFill>
        <p:spPr>
          <a:xfrm>
            <a:off x="4724280" y="152388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1"/>
          <p:cNvSpPr/>
          <p:nvPr/>
        </p:nvSpPr>
        <p:spPr>
          <a:xfrm>
            <a:off x="4556880" y="600876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5AA5-703C-43B0-A112-09995F52D15E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Transmission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rons scatter when they pass through thin sections of a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mitted electrons (those that do not scatter) are used to produc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ser regions in specimen, scatter more electrons and appear dark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282-0010-4DD7-B119-F7DED4B0C1B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C:\My Documents\My Pictures\fig2.23b.jpg"/>
          <p:cNvPicPr/>
          <p:nvPr/>
        </p:nvPicPr>
        <p:blipFill>
          <a:blip r:embed="rId1"/>
          <a:stretch/>
        </p:blipFill>
        <p:spPr>
          <a:xfrm>
            <a:off x="2962440" y="457200"/>
            <a:ext cx="518148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143000" y="58672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M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C3A-4681-4397-8277-6D2FCEB0B6F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pecimen Prepara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ogous to procedures used for light microscop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transmission electron microscopy, specimens must be cut very th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are chemically fixed and stained with electron dense materi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F19F-0F2A-4E05-BEE1-A92CE99780B3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Other preparation method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dow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ating specimen with a thin film of a heavy met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ze-etch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ze specimen then fracture along lines of greatest weakness (e.g., membra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A3D7-8325-410D-9BA8-4A0FC641F5BB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 and the Bending of Ligh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 is refracted (bent) when passing from one medium to anoth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ractive inde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easure of how greatly a substance slows the velocity of ligh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ion and magnitude of bending is determined by the refractive indexes of the two media forming the interfa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D9C-64ED-46F8-AC4F-9ED3E9D424EE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2" descr="C:\My Documents\My Pictures\fig2.25.jpg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600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1067400" y="607068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7705-5952-42A5-A7C0-FC779F82F9BE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E:\foundations\micrscopy\18-x05-ebolavirus.jpg"/>
          <p:cNvPicPr/>
          <p:nvPr/>
        </p:nvPicPr>
        <p:blipFill>
          <a:blip r:embed="rId1"/>
          <a:stretch/>
        </p:blipFill>
        <p:spPr>
          <a:xfrm>
            <a:off x="127080" y="507960"/>
            <a:ext cx="8889840" cy="5842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bola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B87-0B89-4195-BE02-DDB61C8F6869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3" descr="E:\foundations\micrscopy\21-13b-mutantfruitfly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ly head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B38-2562-4BCB-91D2-023FFB2DF3B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Scanning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electrons reflected from the surface of a specimen to creat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3-dimensional image of specimen’s surface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120C-C6F8-443E-A1F8-769E72BE80C4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C:\My Documents\My Pictures\fig2.27.jpg"/>
          <p:cNvPicPr/>
          <p:nvPr/>
        </p:nvPicPr>
        <p:blipFill>
          <a:blip r:embed="rId1"/>
          <a:stretch/>
        </p:blipFill>
        <p:spPr>
          <a:xfrm>
            <a:off x="2819520" y="380880"/>
            <a:ext cx="5236920" cy="6096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14372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77EF-1DCF-4DA8-B819-F740DDD24232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Newer Techniques i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focal microscop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canning probe microscop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extremely high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used to observe individual ato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6" descr="C:\My Documents\My Pictures\fig2.20b.jpg"/>
          <p:cNvPicPr/>
          <p:nvPr/>
        </p:nvPicPr>
        <p:blipFill>
          <a:blip r:embed="rId1"/>
          <a:stretch/>
        </p:blipFill>
        <p:spPr>
          <a:xfrm>
            <a:off x="4876920" y="1828800"/>
            <a:ext cx="3493800" cy="40384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4709160" y="5932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607-BD9D-4E94-A7FD-3C7F3D79CB1D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onfocal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ocal scanning laser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ser beam used to illuminate spots on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uter compiles images created from each point to generate a 3-dimensional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D21C-5E1A-48A7-B7CE-28B9B5FB9BCA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2" descr="C:\My Documents\My Pictures\fig2.29.jpg"/>
          <p:cNvPicPr/>
          <p:nvPr/>
        </p:nvPicPr>
        <p:blipFill>
          <a:blip r:embed="rId1"/>
          <a:stretch/>
        </p:blipFill>
        <p:spPr>
          <a:xfrm>
            <a:off x="533520" y="457200"/>
            <a:ext cx="7873920" cy="5386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609480" y="5943600"/>
            <a:ext cx="167652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93B0-6AE9-4884-96EA-0CA76C439690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3" descr="C:\My Documents\My Pictures\fig2.30.jpg"/>
          <p:cNvPicPr/>
          <p:nvPr/>
        </p:nvPicPr>
        <p:blipFill>
          <a:blip r:embed="rId1"/>
          <a:stretch/>
        </p:blipFill>
        <p:spPr>
          <a:xfrm>
            <a:off x="838080" y="609480"/>
            <a:ext cx="7291440" cy="5048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91512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BD0-FF99-4C69-8F4D-416E18F59AFB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nning tunneling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dy current (tunneling current) maintained between microscope probe and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urrent is detected and used to create image of surface of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0C2-416F-471F-9425-83F95B83A843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light rays at a specific place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poi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tance between center of lens and focal point is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ength of lens related to 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 focal 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magn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A59D-DAE1-40B2-A7AD-71428DE2D2B1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tomic force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rp probe moves over surface of specimen at constant distan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onstant distance is detected and used to create im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02E-FE7E-4210-954E-34B9AFC2684D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3" descr="C:\My Documents\My Pictures\fig2.2.jpg"/>
          <p:cNvPicPr/>
          <p:nvPr/>
        </p:nvPicPr>
        <p:blipFill>
          <a:blip r:embed="rId1"/>
          <a:stretch/>
        </p:blipFill>
        <p:spPr>
          <a:xfrm>
            <a:off x="1447920" y="582480"/>
            <a:ext cx="6248160" cy="5742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523880" y="586728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77D-0A5B-4553-AC94-78A5DBF32FC4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Ligh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rk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-contrast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escence microsco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compound microsco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formed by action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len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1553-D429-4273-9B20-7DD6EB7FE106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Bright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dark image against a brighter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several objective lens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fo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icroscopes remain in focus when objectives are chang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magn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of the magnifications of the ocular lens and the objective le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685800" y="15228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85800" y="640080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E60D-C183-4D49-A285-1602172BA9E3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3" descr="C:\My Documents\My Pictures\fig2.3.jpg"/>
          <p:cNvPicPr/>
          <p:nvPr/>
        </p:nvPicPr>
        <p:blipFill>
          <a:blip r:embed="rId1"/>
          <a:stretch/>
        </p:blipFill>
        <p:spPr>
          <a:xfrm>
            <a:off x="457200" y="380880"/>
            <a:ext cx="8026560" cy="5491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533520" y="5943600"/>
            <a:ext cx="17524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9:58:44Z</dcterms:created>
  <dc:creator>John Sherwood</dc:creator>
  <dc:description/>
  <dc:language>en-US</dc:language>
  <cp:lastModifiedBy>HP</cp:lastModifiedBy>
  <dcterms:modified xsi:type="dcterms:W3CDTF">2016-07-19T11:37:54Z</dcterms:modified>
  <cp:revision>19</cp:revision>
  <dc:subject/>
  <dc:title>PowerPoint Presentation  -  Chapter 2</dc:title>
</cp:coreProperties>
</file>