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6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2A9-9164-4A2B-8D80-DBEE9E29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564-BA57-4F13-9A17-D7F68F57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08ABD-6A75-4190-8261-E755772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4AB48-F550-4999-BB00-72440BE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5CFFD-49FD-41F4-8396-F22D9B0D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4B46D-1006-48FD-BD97-19E5EBE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9927C-F432-490C-BC72-25DC634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7816F-B4B3-4D75-84E5-D1952D4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7B6A-4CA2-40EC-95F0-C33B09E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CB69A-0603-43C0-B72B-3336C6CA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16002-43EA-4898-93C6-A38FF3A8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3196F-D99D-4F33-8EC8-3C65F860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09B-C948-4FD7-B13D-7254A630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C9C6B-2670-4BE4-A8E3-C461E33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FE914-5328-4D27-8C2D-43A40097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1F774-8012-4036-BA04-B22FCEFE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796D9-6087-4CFA-82DE-8AB2EFA6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D7764-6354-46D2-A615-854B0C1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0190-D3E5-4195-BD3A-D229A04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236B3-9AB8-4ED3-83FE-FB62B09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CC8EF-CA2D-4AF7-8728-3518F979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96A1E-A611-4FA8-AE6F-FF6AB74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1D4AE-78EB-4383-89FC-0951FD5C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E46-F89F-4166-8D73-74F0DAAB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587B5-CE49-4D10-AA23-3E061508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12BE-700A-4658-BB72-CD6E1C3D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33C9-2AC8-4C89-B8F5-303E40F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E13E5-8AFE-428D-B776-F9E87B6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BB75C-C7BF-4353-9A77-259E2AA9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CA98-5930-44CA-80E8-FE1BCA4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C08FF-87FB-431C-8956-137F969D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67C34-4A4C-4989-8029-E491D76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FD6E-E5C7-4ABA-9A78-1DBB617C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A517E-B775-4445-BEE9-F1E62EB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7490-AAC9-4BA9-B3D4-6D0B0046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3FCB-B6C7-4924-82E1-1E64EEF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1C709-5995-474A-93EC-419F3B08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2D2E-3FF5-4329-9D7F-5ADC1076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A40BA-3945-4558-983B-6211C64E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70CEE-839C-42C4-AA22-3EC5827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C8C7E-D2C7-4FBE-9579-4154A9B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9D881-D686-4818-992D-4537BDF7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BBE16-5187-4ADB-AEE8-2614BC7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7D887-F0AF-4C2C-B9FD-1C2C1DE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6EF0D-3812-4BF8-B803-C38080C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A06-F550-4489-9113-EBAD7865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2D4C3-97F1-4727-9B4B-56461B9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4D4CB-F95E-43BA-B9F3-0EB7039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32AC-6F71-407F-87BC-2BFB1ECF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40175-86F2-4DC1-B240-C9484B8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CEB82-F318-441C-9880-78742C70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D4F2E-FECF-49B8-91ED-E774957A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BC7AB-5BF1-4F1D-8AD2-AEE8A6A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5AF66-2223-4362-BC16-BDA6409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AFC25-12F2-443E-B751-DA55B2B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34ED5-15A4-40DB-9D84-A2D7565A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C18C-EAC1-44F0-A6DB-3DF8C35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80A54-FA49-462F-A7A6-B8E01251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67407-3DB7-4718-9F1F-3025705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4C719-3C8F-4235-9817-D83DFDD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29D34-6FE6-41F4-991F-B910A8A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FB7CB-8AB1-471E-9E69-29D7ABF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3F7E8-0322-4B9A-B616-B54E476E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8BFCD-F1D0-4725-AF28-7011F0BA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34567-9B1C-4B03-867F-4C2117B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75647-4022-4F12-92D1-F91D9899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D9F61-CB21-400A-A873-744E6CA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DC78-49CB-4425-AE66-512613E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2A6F4-27D2-4A91-84FD-33A8CC88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5BF8F-20A9-469C-B247-DB256234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C8487-7B7D-48CA-9327-C017671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77A8A-5EA4-4CBE-8ECA-580879EA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FFCE1-BB64-4F6E-9F7C-FADD670F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63E1B-BC6A-4AB2-A319-FD24EC0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1EFCD-5461-4921-8A4C-34E8EAC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16969-5414-4F71-81AA-E689B096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6EA24-9AA5-43A5-BF36-22B1F78A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07479-D965-43D4-A4EE-05A96974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B72-D766-4CD8-A0BF-A6A8BAE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6A488-DB18-4250-80AE-11473F3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71CB5-8595-444C-BCFC-781DB63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36E4E-3345-4B3E-8D67-5E87163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86A69-0B0C-4D0F-83A6-337922E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A2A89-ABA3-4D4A-9CE3-38B1485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B1192-2A8C-4BF3-BFB9-29EB26A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C892C-A74D-47FE-9D91-8B187F3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0F015-16DF-41B6-B652-1BD28BE5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3D934-04D7-4F50-B667-E5E516A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C5378-1A4C-4144-B6FF-1AF844AA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B74B-F345-4066-9645-AF02D14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7FEC3-9D74-419B-AB5B-344AA5E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3A3CF-4BDF-418D-8215-52E02C82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2DD80-2341-4AF2-A6A1-564D345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866AA-8D9E-4D86-84C6-96E793E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790B6-33DD-488A-B6BC-1D43E5B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AC1A4-E7EF-4B67-AF38-ECF6B00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3B886-EB0D-4B71-8863-30BFD8D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DF3AC-05F7-419D-9A2A-B8E18E5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E51A1-AD72-46BB-9D31-3E8217CD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63065-BCF6-4CAC-9111-5F06E2B6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B866-435F-48F9-A19E-E97A77C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BC6A3-06DC-40E7-8D10-D2655609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21D38-91C2-419D-B85D-9D990CC4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D81E5-19EB-4746-8518-7A41DAE0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C5133-A3EE-455C-BB10-EF047924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93D74-9B3B-45ED-99B0-D1C1B3D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4A973-5092-4BDE-BEF5-1E39E79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0393D-9457-4192-BCBC-239813E1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075E8-7BB4-4FA6-8429-149FB665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5CB7F-02EA-481F-BDC2-DF74EE3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7EE33-202C-43BD-9640-3386291E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E43-32BE-49CA-976C-3CA98055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2EF2-6B1D-45CF-A139-834656D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E3CCD9-EF88-4736-88A2-3DBCB84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E2641-E5A3-45BD-83E1-16A98689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82A05-15D3-4BA5-B4AC-B0C8404C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3F321-51B7-496C-AD98-63A6C61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800A5-999B-4382-B790-CB32438A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ECDA8-2BED-4959-9E44-965FDB27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C06D1F-DCFF-4948-9713-988E8A70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369C9-7E81-4ADF-B8E6-D481D24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93E92-8DB7-47C1-89B5-0A9F60F3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2645C-3538-45DB-B852-6545A0B6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49CD-442E-415B-ADE1-3EA8A35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1E953-3F93-4575-8663-CE05C93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91643-1B9F-4C88-9E79-401CD41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20761-94D5-4FF3-9ADD-6A00189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66707-5035-40AB-9C36-618CFDE1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C7275-9E66-4703-A0B3-4722C39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F02E6-CF9D-4E99-B3EA-225689A5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14B484-089B-427B-9AD7-6B4934AF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8632-D857-4CFC-9A6C-245E571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C18-027C-4245-9F40-A5647D93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3B64-8E57-45BB-8BEE-EF579A7D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EFD9-F891-406F-AB5E-6FA866B9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FACB-0C92-451E-83C8-0FE35F2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B571-0B93-4901-849E-72CB4E88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7BED-92AE-47B1-AE94-C0F5FC0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B741-AA6E-4605-9E12-ECC77BFB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9F6-C24E-4B63-A723-6647E3C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A91E-E39B-4E3D-8515-62DA1D60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A3FB-9992-44DB-B2A8-535877C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83A5-624C-4DBF-B164-DEF31CC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40C4-582D-4C33-9041-164E199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0CD7-C133-48EF-989B-B612D9DD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EB074-F43E-4BFC-88D4-00BBC415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EE54-13F5-4D34-8CBA-2DF12066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F7AA-2DD2-49C1-90F7-C4E4ECCE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C24B-F139-44E5-B75A-90BE090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60C6-406A-44A6-A036-927847FE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AFD-89BE-4BEE-85FE-B61B610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4D60-214B-4C22-87C0-DE002751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0F8A-6C34-4513-BB3F-72AAAE6B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83AD-8617-4CE7-BC0C-87C8DDB2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55FE0-253F-474A-8F6D-3FCC054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7EB9-C3CE-45D4-9196-899600D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F723-1647-46C8-A00F-F8D6D63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E00B-DE0C-4160-AE78-EC35DE8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635B-185F-4E85-847D-FF64D877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DE68C-3360-4D00-864E-0576D3E4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82C28-CD99-4142-9115-B5B35B46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140-B96A-4CF3-82B4-D9C9ED85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76D7-00A3-4802-9294-AD77D978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338B-2784-4969-8E3E-7B6E016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A5AD4-D41A-4F8A-B891-A008165D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2973-D4D1-4FE4-B742-5A64626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08DD-CA9D-4067-BD77-8D323628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E340-FE46-47EE-9A9D-E1DDE44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4F69-E870-4BCC-B5C8-09EB26A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9164-8402-45C5-9B53-B5CB388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0EE89-484C-4FB9-8643-6446FB85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7F76-DDE4-49A0-AE35-8C35FCE8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DFC-624E-4EE3-AF48-A81E31E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3376-D767-40A6-A3A3-9410400F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96E8-9D94-444B-AB3F-49BFB251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2104-0909-488B-83A3-5C490395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A3F9-0832-4FBE-8DBC-FDB9C8C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71F1-84C6-4203-918B-8331AF4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F25A-EF2E-4BCA-A464-E1D71CE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5461-A78A-461A-BA41-33FD7688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DCA0-29CB-4002-92AB-C878981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7FEE-3B97-4427-BB35-B8C5487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C2B7-918E-4546-97A9-38F60BB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CBC-F235-4B5F-B169-ECE8E34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74343-9483-4315-86AA-8084BFC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7CCEF-A47F-4E69-A6D4-E2ABE63C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C7FC1-BCDE-4C71-9338-D24E91DC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FA5D-6715-4AD3-8330-68B79AD5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340B-2397-477C-A6BD-BF2DECCF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C377A-762F-4573-A820-A3AD6C3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F4675-7F28-4A28-B559-634110D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3BFA-BE59-4D8A-8DC5-3493288E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E375-5CDB-4770-A958-B4CB85D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4782-F4F1-4CDA-816E-195FC07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065-95DF-44AC-8B82-491488B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9AD1-39B8-4C1D-B2ED-DE95338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25DDF-CE86-4596-A3E1-665FB03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D2DC2-B006-4A4A-AEAF-1F5DF442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BBE1-A94A-4A0E-9C97-D89F88B7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EDF9-268B-4112-B534-59873ECE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4B46-D766-44E5-B4C3-25140E90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A88A1-19AD-4D93-9807-BFC6C0E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F8498-6EB2-48FB-87AB-6F07716D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17471-7876-4034-B2D8-30AC831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BADF-24FA-4AC1-BD2A-5573ED9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45D-0915-4489-8525-9ACF669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B2F2-9DFB-4D7B-A4D2-FCD43A7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64EF0-C49C-41A5-81B5-0CF7DAC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91E4C-C662-4A8E-A401-5E3446A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13FA-B694-417D-AB71-DB2E3B2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3F13C-210C-484F-A5D2-C2286AF5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CE3A-FEF7-43FF-B6E1-54A94C4F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057D-2F72-4F11-B8C3-5227453E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DBB1D-CF37-46A6-97AC-1F36390C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5FC5-CEDC-44DC-AA1C-FCFBC5AE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CB704-889F-49C0-A479-20B0E05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6FD8-849E-4F09-803D-0BECCFF99CA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167-9482-4598-9D5D-E095A6B5251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A96-CCA0-41BF-BC35-6A2E875923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4CAB-7CE8-4BF2-8852-1A7107FA023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B3C-EE09-4F1C-B7D4-985C871BD7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8D4-C178-4B16-B7DE-219DEA2713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D796-8BFF-440D-89E8-E176BC86A0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15A9-3A5D-434D-A199-4D01BFF40E3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860C-0AC1-48BE-84ED-2A817C3F48F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B91-9FEC-4DC6-9456-739EFDD813E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5B6-A1E5-481D-8372-6FAD36B65B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C70A-F3C3-40A1-AB34-20E784B108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6903-0439-4A9D-8456-75A0B25425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CE5-3571-4108-9CF9-905368F03DF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CA0-1133-4214-88D1-BD6804A09B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803-60B3-4F9B-86A3-61672D1FA1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1CB2-1E16-4F66-B8F8-BD51D8815E5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536-3274-42FC-AEF5-98862DE542E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Title 1" descr=""/>
          <p:cNvPicPr/>
          <p:nvPr/>
        </p:nvPicPr>
        <p:blipFill>
          <a:blip r:embed="rId1"/>
          <a:stretch/>
        </p:blipFill>
        <p:spPr>
          <a:xfrm>
            <a:off x="1182600" y="1139760"/>
            <a:ext cx="7766280" cy="326088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516720" y="3500280"/>
            <a:ext cx="25192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By : Dr </a:t>
            </a:r>
            <a:r>
              <a:rPr b="0" i="1" lang="en-IN" sz="1400" spc="-1" strike="noStrike">
                <a:solidFill>
                  <a:srgbClr val="595959"/>
                </a:solidFill>
                <a:latin typeface="Arial"/>
                <a:ea typeface="Arial"/>
              </a:rPr>
              <a:t>Pallav Shekhar</a:t>
            </a: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Asstt Professor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Veterinary Medicine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6" name="TextBox 3"/>
          <p:cNvSpPr/>
          <p:nvPr/>
        </p:nvSpPr>
        <p:spPr>
          <a:xfrm>
            <a:off x="1752480" y="4267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7" name="Picture 4" descr="subjtlic[1]"/>
          <p:cNvPicPr/>
          <p:nvPr/>
        </p:nvPicPr>
        <p:blipFill>
          <a:blip r:embed="rId2"/>
          <a:stretch/>
        </p:blipFill>
        <p:spPr>
          <a:xfrm>
            <a:off x="3276720" y="4649760"/>
            <a:ext cx="3333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Hemolysi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8" name="Content Placeholder 3" descr=""/>
          <p:cNvPicPr/>
          <p:nvPr/>
        </p:nvPicPr>
        <p:blipFill>
          <a:blip r:embed="rId1"/>
          <a:stretch/>
        </p:blipFill>
        <p:spPr>
          <a:xfrm>
            <a:off x="1944720" y="2133720"/>
            <a:ext cx="67356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oxic Cause of hemolysi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457200" y="1447920"/>
          <a:ext cx="8229600" cy="4659120"/>
        </p:xfrm>
        <a:graphic>
          <a:graphicData uri="http://schemas.openxmlformats.org/drawingml/2006/table">
            <a:tbl>
              <a:tblPr/>
              <a:tblGrid>
                <a:gridCol w="2200320"/>
                <a:gridCol w="3014640"/>
                <a:gridCol w="30146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lant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hemic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etaminophen, benzocaine, dapsone, nitrofurans, primaquine, propofol, quinacr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acken fer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weet clo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spirin, naprox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nions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len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N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photericin, cephalosporins, chloramphenicol, estrogen, fenbendazole, griseofulvin, meclofenamic acid, phenobarbital, phenothiazine, phenylbutazone, , quinidine, sulfonamides, thiacetarsam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pp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in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Infectious caus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457200" y="1600200"/>
          <a:ext cx="8229600" cy="2133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c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cketts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toz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5760">
                      <a:solidFill>
                        <a:srgbClr val="92aa4c"/>
                      </a:solidFill>
                    </a:lnT>
                    <a:lnB w="12240">
                      <a:solidFill>
                        <a:srgbClr val="92aa4c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lostri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ptosp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quine infectious anaem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line leukemia vi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ycopl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plas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hrlich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ba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eil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rypanos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2aa4c"/>
                      </a:solidFill>
                    </a:lnL>
                    <a:lnR w="5760">
                      <a:solidFill>
                        <a:srgbClr val="92aa4c"/>
                      </a:solidFill>
                    </a:lnR>
                    <a:lnT w="12240">
                      <a:solidFill>
                        <a:srgbClr val="92aa4c"/>
                      </a:solidFill>
                    </a:lnT>
                    <a:lnB w="5760">
                      <a:solidFill>
                        <a:srgbClr val="92aa4c"/>
                      </a:solidFill>
                    </a:lnB>
                    <a:solidFill>
                      <a:srgbClr val="92aa4c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828440" y="623520"/>
            <a:ext cx="670572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Non-regenerative anaem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4" name="Content Placeholder 3" descr=""/>
          <p:cNvPicPr/>
          <p:nvPr/>
        </p:nvPicPr>
        <p:blipFill>
          <a:blip r:embed="rId1"/>
          <a:stretch/>
        </p:blipFill>
        <p:spPr>
          <a:xfrm>
            <a:off x="1219320" y="1603440"/>
            <a:ext cx="73213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1629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Clinical signs :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Lethargy and exercise intolerance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Mucous membrane pallor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Tachycardia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Low grade haemic murmur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Prominent femoral pulse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Tachypnoea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Episodic collapse (excitement or stress-induced 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Jaundice (in haemolytic anemia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716292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Pathogenesis of anemia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duced oxygen carrying capacity of the blood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Inadequate tissue oxygenat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Development of clinical sig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mpensatory mechanis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Diagnosis: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Hb and PCV value measure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Complete Blood Cou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d Blood Cell morpholog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Reticulocyte count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rythrocytic Indices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latelet count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         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Packed Cell Volume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CV - 30 to 37 – mild anemia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CV - 20-29- moderate ane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CV - &lt; 20 – severe ane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PCV - &lt; 12 poor prognosi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        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Red cell morphology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284" name="Group 36"/>
          <p:cNvGrpSpPr/>
          <p:nvPr/>
        </p:nvGrpSpPr>
        <p:grpSpPr>
          <a:xfrm>
            <a:off x="762120" y="1981080"/>
            <a:ext cx="7924320" cy="3885840"/>
            <a:chOff x="762120" y="1981080"/>
            <a:chExt cx="7924320" cy="3885840"/>
          </a:xfrm>
        </p:grpSpPr>
        <p:grpSp>
          <p:nvGrpSpPr>
            <p:cNvPr id="1285" name="Group 34"/>
            <p:cNvGrpSpPr/>
            <p:nvPr/>
          </p:nvGrpSpPr>
          <p:grpSpPr>
            <a:xfrm>
              <a:off x="768240" y="1986120"/>
              <a:ext cx="7911000" cy="3874320"/>
              <a:chOff x="768240" y="1986120"/>
              <a:chExt cx="7911000" cy="3874320"/>
            </a:xfrm>
          </p:grpSpPr>
          <p:grpSp>
            <p:nvGrpSpPr>
              <p:cNvPr id="1286" name="Group 15"/>
              <p:cNvGrpSpPr/>
              <p:nvPr/>
            </p:nvGrpSpPr>
            <p:grpSpPr>
              <a:xfrm>
                <a:off x="768240" y="1986120"/>
                <a:ext cx="3955320" cy="611640"/>
                <a:chOff x="768240" y="1986120"/>
                <a:chExt cx="3955320" cy="611640"/>
              </a:xfrm>
            </p:grpSpPr>
            <p:sp>
              <p:nvSpPr>
                <p:cNvPr id="1287" name="Rectangle 4"/>
                <p:cNvSpPr/>
                <p:nvPr/>
              </p:nvSpPr>
              <p:spPr>
                <a:xfrm>
                  <a:off x="859680" y="1986120"/>
                  <a:ext cx="37717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 of anemia 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Rectangle 14"/>
                <p:cNvSpPr/>
                <p:nvPr/>
              </p:nvSpPr>
              <p:spPr>
                <a:xfrm>
                  <a:off x="768240" y="1986120"/>
                  <a:ext cx="395532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89" name="Group 17"/>
              <p:cNvGrpSpPr/>
              <p:nvPr/>
            </p:nvGrpSpPr>
            <p:grpSpPr>
              <a:xfrm>
                <a:off x="4723920" y="1986120"/>
                <a:ext cx="3955320" cy="611640"/>
                <a:chOff x="4723920" y="1986120"/>
                <a:chExt cx="3955320" cy="611640"/>
              </a:xfrm>
            </p:grpSpPr>
            <p:sp>
              <p:nvSpPr>
                <p:cNvPr id="1290" name="Rectangle 5"/>
                <p:cNvSpPr/>
                <p:nvPr/>
              </p:nvSpPr>
              <p:spPr>
                <a:xfrm>
                  <a:off x="4815000" y="1986120"/>
                  <a:ext cx="37724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d cell morph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1" name="Rectangle 16"/>
                <p:cNvSpPr/>
                <p:nvPr/>
              </p:nvSpPr>
              <p:spPr>
                <a:xfrm>
                  <a:off x="4723920" y="1986120"/>
                  <a:ext cx="395532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2" name="Group 19"/>
              <p:cNvGrpSpPr/>
              <p:nvPr/>
            </p:nvGrpSpPr>
            <p:grpSpPr>
              <a:xfrm>
                <a:off x="768240" y="2598120"/>
                <a:ext cx="3955320" cy="1018800"/>
                <a:chOff x="768240" y="2598120"/>
                <a:chExt cx="3955320" cy="1018800"/>
              </a:xfrm>
            </p:grpSpPr>
            <p:sp>
              <p:nvSpPr>
                <p:cNvPr id="1293" name="Rectangle 6"/>
                <p:cNvSpPr/>
                <p:nvPr/>
              </p:nvSpPr>
              <p:spPr>
                <a:xfrm>
                  <a:off x="859680" y="2598120"/>
                  <a:ext cx="3771720" cy="10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ute blood los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Rectangle 18"/>
                <p:cNvSpPr/>
                <p:nvPr/>
              </p:nvSpPr>
              <p:spPr>
                <a:xfrm>
                  <a:off x="768240" y="2598120"/>
                  <a:ext cx="3955320" cy="101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5" name="Group 21"/>
              <p:cNvGrpSpPr/>
              <p:nvPr/>
            </p:nvGrpSpPr>
            <p:grpSpPr>
              <a:xfrm>
                <a:off x="4723920" y="2598120"/>
                <a:ext cx="3955320" cy="1018800"/>
                <a:chOff x="4723920" y="2598120"/>
                <a:chExt cx="3955320" cy="1018800"/>
              </a:xfrm>
            </p:grpSpPr>
            <p:sp>
              <p:nvSpPr>
                <p:cNvPr id="1296" name="Rectangle 7"/>
                <p:cNvSpPr/>
                <p:nvPr/>
              </p:nvSpPr>
              <p:spPr>
                <a:xfrm>
                  <a:off x="4815000" y="2598120"/>
                  <a:ext cx="3772440" cy="10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mocytic , normochromic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evidence of regeneration for 3-4 days.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Rectangle 20"/>
                <p:cNvSpPr/>
                <p:nvPr/>
              </p:nvSpPr>
              <p:spPr>
                <a:xfrm>
                  <a:off x="4723920" y="2598120"/>
                  <a:ext cx="3955320" cy="101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98" name="Group 23"/>
              <p:cNvGrpSpPr/>
              <p:nvPr/>
            </p:nvGrpSpPr>
            <p:grpSpPr>
              <a:xfrm>
                <a:off x="768240" y="3617640"/>
                <a:ext cx="3955320" cy="815400"/>
                <a:chOff x="768240" y="3617640"/>
                <a:chExt cx="3955320" cy="815400"/>
              </a:xfrm>
            </p:grpSpPr>
            <p:sp>
              <p:nvSpPr>
                <p:cNvPr id="1299" name="Rectangle 8"/>
                <p:cNvSpPr/>
                <p:nvPr/>
              </p:nvSpPr>
              <p:spPr>
                <a:xfrm>
                  <a:off x="859680" y="3617640"/>
                  <a:ext cx="377172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ronic blood los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Rectangle 22"/>
                <p:cNvSpPr/>
                <p:nvPr/>
              </p:nvSpPr>
              <p:spPr>
                <a:xfrm>
                  <a:off x="768240" y="3617640"/>
                  <a:ext cx="395532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01" name="Group 25"/>
              <p:cNvGrpSpPr/>
              <p:nvPr/>
            </p:nvGrpSpPr>
            <p:grpSpPr>
              <a:xfrm>
                <a:off x="4723920" y="3617640"/>
                <a:ext cx="3955320" cy="815400"/>
                <a:chOff x="4723920" y="3617640"/>
                <a:chExt cx="3955320" cy="815400"/>
              </a:xfrm>
            </p:grpSpPr>
            <p:sp>
              <p:nvSpPr>
                <p:cNvPr id="1302" name="Rectangle 9"/>
                <p:cNvSpPr/>
                <p:nvPr/>
              </p:nvSpPr>
              <p:spPr>
                <a:xfrm>
                  <a:off x="4815000" y="3617640"/>
                  <a:ext cx="377244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ypochromasia, microcytic if iron deficiency pres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Rectangle 24"/>
                <p:cNvSpPr/>
                <p:nvPr/>
              </p:nvSpPr>
              <p:spPr>
                <a:xfrm>
                  <a:off x="4723920" y="3617640"/>
                  <a:ext cx="395532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04" name="Group 27"/>
              <p:cNvGrpSpPr/>
              <p:nvPr/>
            </p:nvGrpSpPr>
            <p:grpSpPr>
              <a:xfrm>
                <a:off x="768240" y="4433400"/>
                <a:ext cx="3955320" cy="815400"/>
                <a:chOff x="768240" y="4433400"/>
                <a:chExt cx="3955320" cy="815400"/>
              </a:xfrm>
            </p:grpSpPr>
            <p:sp>
              <p:nvSpPr>
                <p:cNvPr id="1305" name="Rectangle 10"/>
                <p:cNvSpPr/>
                <p:nvPr/>
              </p:nvSpPr>
              <p:spPr>
                <a:xfrm>
                  <a:off x="859680" y="4433400"/>
                  <a:ext cx="377172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emolytic 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Rectangle 26"/>
                <p:cNvSpPr/>
                <p:nvPr/>
              </p:nvSpPr>
              <p:spPr>
                <a:xfrm>
                  <a:off x="768240" y="4433400"/>
                  <a:ext cx="395532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07" name="Group 29"/>
              <p:cNvGrpSpPr/>
              <p:nvPr/>
            </p:nvGrpSpPr>
            <p:grpSpPr>
              <a:xfrm>
                <a:off x="4723920" y="4433400"/>
                <a:ext cx="3955320" cy="815400"/>
                <a:chOff x="4723920" y="4433400"/>
                <a:chExt cx="3955320" cy="815400"/>
              </a:xfrm>
            </p:grpSpPr>
            <p:sp>
              <p:nvSpPr>
                <p:cNvPr id="1308" name="Rectangle 11"/>
                <p:cNvSpPr/>
                <p:nvPr/>
              </p:nvSpPr>
              <p:spPr>
                <a:xfrm>
                  <a:off x="4815000" y="4433400"/>
                  <a:ext cx="3772440" cy="81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pherocytosi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9" name="Rectangle 28"/>
                <p:cNvSpPr/>
                <p:nvPr/>
              </p:nvSpPr>
              <p:spPr>
                <a:xfrm>
                  <a:off x="4723920" y="4433400"/>
                  <a:ext cx="3955320" cy="81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0" name="Group 31"/>
              <p:cNvGrpSpPr/>
              <p:nvPr/>
            </p:nvGrpSpPr>
            <p:grpSpPr>
              <a:xfrm>
                <a:off x="768240" y="5249160"/>
                <a:ext cx="3955320" cy="611280"/>
                <a:chOff x="768240" y="5249160"/>
                <a:chExt cx="3955320" cy="611280"/>
              </a:xfrm>
            </p:grpSpPr>
            <p:sp>
              <p:nvSpPr>
                <p:cNvPr id="1311" name="Rectangle 12"/>
                <p:cNvSpPr/>
                <p:nvPr/>
              </p:nvSpPr>
              <p:spPr>
                <a:xfrm>
                  <a:off x="859680" y="5249160"/>
                  <a:ext cx="3771720" cy="6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n-regenerativ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2" name="Rectangle 30"/>
                <p:cNvSpPr/>
                <p:nvPr/>
              </p:nvSpPr>
              <p:spPr>
                <a:xfrm>
                  <a:off x="768240" y="5249160"/>
                  <a:ext cx="3955320" cy="61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3" name="Group 33"/>
              <p:cNvGrpSpPr/>
              <p:nvPr/>
            </p:nvGrpSpPr>
            <p:grpSpPr>
              <a:xfrm>
                <a:off x="4723920" y="5249160"/>
                <a:ext cx="3955320" cy="611280"/>
                <a:chOff x="4723920" y="5249160"/>
                <a:chExt cx="3955320" cy="611280"/>
              </a:xfrm>
            </p:grpSpPr>
            <p:sp>
              <p:nvSpPr>
                <p:cNvPr id="1314" name="Rectangle 13"/>
                <p:cNvSpPr/>
                <p:nvPr/>
              </p:nvSpPr>
              <p:spPr>
                <a:xfrm>
                  <a:off x="4815000" y="5249160"/>
                  <a:ext cx="3772440" cy="6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mocytic, normochromic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5" name="Rectangle 32"/>
                <p:cNvSpPr/>
                <p:nvPr/>
              </p:nvSpPr>
              <p:spPr>
                <a:xfrm>
                  <a:off x="4723920" y="5249160"/>
                  <a:ext cx="3955320" cy="61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16" name="Rectangle 35"/>
            <p:cNvSpPr/>
            <p:nvPr/>
          </p:nvSpPr>
          <p:spPr>
            <a:xfrm>
              <a:off x="762120" y="1981080"/>
              <a:ext cx="7924320" cy="3885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Reticulocyte count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b4a18"/>
                </a:solidFill>
                <a:latin typeface="Century Gothic"/>
              </a:rPr>
              <a:t>Indicates degree of regeneration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904760" y="205704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Century Gothic"/>
                <a:ea typeface="Times New Roman"/>
              </a:rPr>
              <a:t>Erythrocytic Indice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Mean Corpuscular Volume (MCV)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Mean Corpuscular Hemoglobin Concentration (MCHC)</a:t>
            </a:r>
            <a:r>
              <a:rPr b="1" lang="en-US" sz="1400" spc="-1" strike="noStrike">
                <a:solidFill>
                  <a:srgbClr val="ff0000"/>
                </a:solidFill>
                <a:latin typeface="Century Gothic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9" name="TextBox 2"/>
          <p:cNvSpPr/>
          <p:nvPr/>
        </p:nvSpPr>
        <p:spPr>
          <a:xfrm>
            <a:off x="1828800" y="3505320"/>
            <a:ext cx="5715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latelet count &lt; 20,000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µ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Thrombocytopen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Intramedullary or extramedullary suppression of platelet production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Definition and Etiolog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9" name="Content Placeholder 3" descr=""/>
          <p:cNvPicPr/>
          <p:nvPr/>
        </p:nvPicPr>
        <p:blipFill>
          <a:blip r:embed="rId1"/>
          <a:stretch/>
        </p:blipFill>
        <p:spPr>
          <a:xfrm>
            <a:off x="1938240" y="2133720"/>
            <a:ext cx="660888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834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Faecal examination/ faecal occult blood test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262626"/>
                </a:solidFill>
                <a:latin typeface="Century Gothic"/>
                <a:ea typeface="Times New Roman"/>
              </a:rPr>
              <a:t>Severe upper gastrointestinal bleeding -  black, tarry feces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47560" y="213336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one marrow Evalu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Nonregenerative anem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Leukopeni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Unexplained thrombocytopenia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Arial"/>
              </a:rPr>
              <a:t>Pancytopen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Treatment of anem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2949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mergency stabilization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lood transfus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pecific treatment of underlying caus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Blood transfusion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Selection of donors animal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Major and minor cros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Blood collectio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Blood transfusio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6" name="Content Placeholder 5" descr="D:\desktop\Pictures\2014-11-24 TVCC nov 14\TVCC nov 14 058.JPG"/>
          <p:cNvPicPr/>
          <p:nvPr/>
        </p:nvPicPr>
        <p:blipFill>
          <a:blip r:embed="rId1"/>
          <a:stretch/>
        </p:blipFill>
        <p:spPr>
          <a:xfrm>
            <a:off x="5475240" y="3276720"/>
            <a:ext cx="3211560" cy="34290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6" descr="G:\Pictures\2014-11-24 TVCC nov 14\TVCC nov 14 057.JPG"/>
          <p:cNvPicPr/>
          <p:nvPr/>
        </p:nvPicPr>
        <p:blipFill>
          <a:blip r:embed="rId2"/>
          <a:stretch/>
        </p:blipFill>
        <p:spPr>
          <a:xfrm>
            <a:off x="5475240" y="152280"/>
            <a:ext cx="3135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30" name="Picture 4" descr="Image148"/>
          <p:cNvPicPr/>
          <p:nvPr/>
        </p:nvPicPr>
        <p:blipFill>
          <a:blip r:embed="rId1"/>
          <a:stretch/>
        </p:blipFill>
        <p:spPr>
          <a:xfrm>
            <a:off x="457200" y="1627200"/>
            <a:ext cx="4038480" cy="4503600"/>
          </a:xfrm>
          <a:prstGeom prst="rect">
            <a:avLst/>
          </a:prstGeom>
          <a:ln w="0">
            <a:noFill/>
          </a:ln>
        </p:spPr>
      </p:pic>
      <p:pic>
        <p:nvPicPr>
          <p:cNvPr id="1331" name="Content Placeholder 5" descr="G:\Pictures\2014-11-25 micromax 26.11.14\micromax 26.11.14 058.jpg"/>
          <p:cNvPicPr/>
          <p:nvPr/>
        </p:nvPicPr>
        <p:blipFill>
          <a:blip r:embed="rId2"/>
          <a:stretch/>
        </p:blipFill>
        <p:spPr>
          <a:xfrm>
            <a:off x="5029200" y="1676520"/>
            <a:ext cx="34290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IN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34" name="Content Placeholder 4" descr="C:\Users\acer\Pictures\2014-10-10 phone\phone 320.jpg"/>
          <p:cNvPicPr/>
          <p:nvPr/>
        </p:nvPicPr>
        <p:blipFill>
          <a:blip r:embed="rId1"/>
          <a:stretch/>
        </p:blipFill>
        <p:spPr>
          <a:xfrm>
            <a:off x="4800600" y="1601640"/>
            <a:ext cx="3733920" cy="464688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5" descr="C:\Users\acer\Pictures\2014-08-04 4.8.14\4.8.14 119.JPG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Other treatments-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1" lang="en-US" sz="2200" spc="-1" strike="noStrike">
                <a:solidFill>
                  <a:srgbClr val="262626"/>
                </a:solidFill>
                <a:latin typeface="Century Gothic"/>
              </a:rPr>
              <a:t>Anabolic Steroids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androlone decanoate ( 1 to 2 mg/kg/week, im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Oxymetholone – 1-5 mg/kg, PO, every 18-24 h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Century Gothic"/>
              </a:rPr>
              <a:t>Stanozolol (dogs: 1-4 mg, PO, bid)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Hemostatic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stringent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Epinephrin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and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norepinephrin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Vitamin 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alcium therap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esmopressi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mponent therapy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resh Frozen Plasma and Platelet therap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Anaemia- Classifica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Anemia is classified a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Regenerativ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Non regenerativ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000" spc="-1" strike="noStrike">
                <a:solidFill>
                  <a:srgbClr val="404040"/>
                </a:solidFill>
                <a:latin typeface="Century Gothic"/>
              </a:rPr>
              <a:t>            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Regenerative anaem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n a regenerative anemia, the bone marrow responds appropriately to the decreased red cell mass by increasing RBC production and releasing reticulocyt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naemias due to hemorrhage or hemolysis are usually regenerativ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200" spc="-1" strike="noStrike">
                <a:solidFill>
                  <a:srgbClr val="262626"/>
                </a:solidFill>
                <a:latin typeface="Century Gothic"/>
              </a:rPr>
              <a:t>Non – regenerative anaemia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In a non regenerative anaemia, the bone marrow responds inadequately to the increased need for RBC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800" spc="-1" strike="noStrike">
                <a:solidFill>
                  <a:srgbClr val="404040"/>
                </a:solidFill>
                <a:latin typeface="Century Gothic"/>
              </a:rPr>
              <a:t>Anaemias that are caused by decreased erythropoietin or an abnormality in the bone marrow are non regenerativ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                       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lassification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8" name="Picture 5" descr="classification_anemia.JPG (18119 bytes)"/>
          <p:cNvPicPr/>
          <p:nvPr/>
        </p:nvPicPr>
        <p:blipFill>
          <a:blip r:embed="rId1"/>
          <a:stretch/>
        </p:blipFill>
        <p:spPr>
          <a:xfrm>
            <a:off x="457200" y="1633680"/>
            <a:ext cx="76201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523880" y="623880"/>
            <a:ext cx="701064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200" spc="-1" strike="noStrike">
                <a:solidFill>
                  <a:srgbClr val="262626"/>
                </a:solidFill>
                <a:latin typeface="Century Gothic"/>
              </a:rPr>
              <a:t>Developmental process of RBC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0" name="Picture 2" descr="C:\Users\acer\Desktop\rbc.jpg"/>
          <p:cNvPicPr/>
          <p:nvPr/>
        </p:nvPicPr>
        <p:blipFill>
          <a:blip r:embed="rId1"/>
          <a:stretch/>
        </p:blipFill>
        <p:spPr>
          <a:xfrm>
            <a:off x="609480" y="1371600"/>
            <a:ext cx="81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Regenerative anaemi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2" name="Content Placeholder 3" descr=""/>
          <p:cNvPicPr/>
          <p:nvPr/>
        </p:nvPicPr>
        <p:blipFill>
          <a:blip r:embed="rId1"/>
          <a:stretch/>
        </p:blipFill>
        <p:spPr>
          <a:xfrm>
            <a:off x="1219320" y="15796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3600" spc="-1" strike="noStrike">
                <a:solidFill>
                  <a:srgbClr val="262626"/>
                </a:solidFill>
                <a:latin typeface="Century Gothic"/>
              </a:rPr>
              <a:t>Blood Los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64" name="Content Placeholder 4" descr=""/>
          <p:cNvPicPr/>
          <p:nvPr/>
        </p:nvPicPr>
        <p:blipFill>
          <a:blip r:embed="rId1"/>
          <a:stretch/>
        </p:blipFill>
        <p:spPr>
          <a:xfrm>
            <a:off x="993600" y="1371600"/>
            <a:ext cx="7540920" cy="5334120"/>
          </a:xfrm>
          <a:prstGeom prst="rect">
            <a:avLst/>
          </a:prstGeom>
          <a:ln w="0">
            <a:noFill/>
          </a:ln>
        </p:spPr>
      </p:pic>
      <p:sp>
        <p:nvSpPr>
          <p:cNvPr id="1265" name="TextBox 5"/>
          <p:cNvSpPr/>
          <p:nvPr/>
        </p:nvSpPr>
        <p:spPr>
          <a:xfrm>
            <a:off x="3918960" y="5943600"/>
            <a:ext cx="244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Verdana"/>
              </a:rPr>
              <a:t>Trauma, Surgery, External Tumor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N" sz="1100" spc="-1" strike="noStrike">
                <a:solidFill>
                  <a:srgbClr val="000000"/>
                </a:solidFill>
                <a:latin typeface="Verdana"/>
              </a:rPr>
              <a:t>External parasites.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TextBox 6"/>
          <p:cNvSpPr/>
          <p:nvPr/>
        </p:nvSpPr>
        <p:spPr>
          <a:xfrm>
            <a:off x="6629400" y="5943600"/>
            <a:ext cx="220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100" spc="-1" strike="noStrike">
                <a:solidFill>
                  <a:srgbClr val="000000"/>
                </a:solidFill>
                <a:latin typeface="Verdana"/>
              </a:rPr>
              <a:t>Trauma, Surgery, Coagulopathies, Gastric ulceration, Internal tumors Internal parasit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3:34:58Z</dcterms:created>
  <dc:creator>admin</dc:creator>
  <dc:description/>
  <dc:language>en-US</dc:language>
  <cp:lastModifiedBy>Windows User</cp:lastModifiedBy>
  <dcterms:modified xsi:type="dcterms:W3CDTF">2020-04-22T11:08:48Z</dcterms:modified>
  <cp:revision>72</cp:revision>
  <dc:subject/>
  <dc:title>Anemia and its management in dogs</dc:title>
</cp:coreProperties>
</file>