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24.jpeg" ContentType="image/jpeg"/>
  <Override PartName="/ppt/media/image19.png" ContentType="image/png"/>
  <Override PartName="/ppt/media/image20.jpeg" ContentType="image/jpeg"/>
  <Override PartName="/ppt/media/image18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7.png" ContentType="image/png"/>
  <Override PartName="/ppt/media/image10.jpeg" ContentType="image/jpeg"/>
  <Override PartName="/ppt/media/image30.png" ContentType="image/png"/>
  <Override PartName="/ppt/media/image37.jpeg" ContentType="image/jpeg"/>
  <Override PartName="/ppt/media/image36.jpeg" ContentType="image/jpeg"/>
  <Override PartName="/ppt/media/image11.jpeg" ContentType="image/jpeg"/>
  <Override PartName="/ppt/media/image42.jpeg" ContentType="image/jpeg"/>
  <Override PartName="/ppt/media/image44.jpeg" ContentType="image/jpeg"/>
  <Override PartName="/ppt/media/image28.png" ContentType="image/png"/>
  <Override PartName="/ppt/media/image38.jpeg" ContentType="image/jpeg"/>
  <Override PartName="/ppt/media/image5.png" ContentType="image/png"/>
  <Override PartName="/ppt/media/image35.png" ContentType="image/png"/>
  <Override PartName="/ppt/media/image45.jpeg" ContentType="image/jpeg"/>
  <Override PartName="/ppt/media/image46.jpeg" ContentType="image/jpeg"/>
  <Override PartName="/ppt/media/image43.png" ContentType="image/png"/>
  <Override PartName="/ppt/media/image47.jpeg" ContentType="image/jpeg"/>
  <Override PartName="/ppt/media/image4.png" ContentType="image/png"/>
  <Override PartName="/ppt/media/image48.jpeg" ContentType="image/jpeg"/>
  <Override PartName="/ppt/media/image12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39.png" ContentType="image/png"/>
  <Override PartName="/ppt/media/image8.png" ContentType="image/png"/>
  <Override PartName="/ppt/media/image41.jpeg" ContentType="image/jpeg"/>
  <Override PartName="/ppt/media/image14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9100-8D63-46B9-A493-A16B343490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EA39-7B8C-454A-9EBA-11FAAE98C0E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6CD8-BB37-473F-8AE8-4EE24E4A087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bivores (cattle, sheep, goat and buffalo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FAEA-6513-4FB3-ADE7-4E11B932865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 animals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In herbivor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gestion of contaminated fodder/improperly processed feed (meat meal, bone meal, meat scraps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inhalation of spores (particularly during wallowing) which may be dispersed in the environment by fomites or the win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In carnivores and omnivor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sease results from ingestion of infected carcass/contaminated mea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sease also spreads through direct contact of susceptible host with body secretions and tissues of a diseased/dead animal or with contaminated fomites like soil, water, organic fertilizers, hairs, wool, hide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direct contact occurs under various conditions like regular animal husbandry/agricultural operations, accidental inoculation of pathogen into skin, surgical operations (bleeding, dehorning, castration) and mechanical transmission by ve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tamination of fodder occurs by means of flooding of pasture land/hay with contaminated water, by body secretions of infected animals/carcasses or by mechanical vecto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5E88-5AA3-4765-9138-F524027A282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91E9-55DF-4103-830F-47D0C2BB3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7CC7-A31C-47A2-A8E7-C7B55D36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6E43-D0FA-43C2-BE00-3E551E9A1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2BFA-F8CC-4A56-BBCB-E6923458E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BE9B-8743-4751-B50E-078EE2F69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8A9E-F232-4487-B8DA-86A9800C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4D9C-068C-4862-8309-D836ADAA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23BC3-3D39-4A1D-8F3D-BF77BFC3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983B-7A1C-48F6-B0D5-C81EAC60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17B9E-2AA5-450E-8E8D-ED9A1260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9D3A-B6FB-45A0-8A38-1AFD6BF5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2305-DBAF-4675-BD44-A0FE950B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1E7FA-CD7A-4E6C-B7A8-85DCE85B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A2F7-5727-41C8-B6BE-4465DFAD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F3B8-E3CC-4E0E-AC79-53C57DC6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BEF2-4835-490C-AEA5-E0283B9B6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A026-497B-4EE9-B741-01B87A148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85500C-3ADD-4097-98C0-2BFC2E0AF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9B7991-CF03-473A-AC52-5D21FD45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F778CD-345C-4FEE-83BA-EC14CB11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A95117-28C2-40D7-BD8A-C396FAF2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D01B6E-EB84-43FE-ADD4-8F1F35B5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459D-86A7-4CB9-99D4-D2ABE7E6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14D7E7-60E0-4411-8695-FA241877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FA1BF9-05D6-42A2-83AB-6EEDDB18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72FB22-F3B0-487A-BC82-D1099567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3E0E11-2841-4FFB-8A42-8FAD40AE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42C5C6-761D-48F4-AC74-65A95C81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9A18D6-F518-400B-B4AA-948428DE3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85034E-3A17-4141-9DF6-3DF99E631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F8475-A257-4D45-8099-E2C80C6E8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344D2-8522-4EE5-AF4B-6D21DAB9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2C6DF-B476-4839-9DDA-26E8CC0E2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5E33-8CDC-49E8-9780-07FC53E5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F6693-F7AF-4F20-B58A-4303D2BE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60864-581B-4401-B835-FD646E09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90E0C-2ED9-455A-870A-DB98F960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0B4EF-45D1-4FCB-90F2-3D443869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D6F07-4123-4EB4-BC6A-40F4E06B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7944D-3BF5-4383-948A-41D9813D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77BA6-4F83-4F64-B647-7896B817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BFF33-97AA-4844-8559-3F0250128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4317F-BD13-40D5-A763-3FA8DA140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151996-7052-48E2-A6A7-EE465686F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595A-1FA4-4D23-B9B8-6220347A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92C460-3626-42EB-AE63-8CE2196A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5692FE-B5C1-41DF-AD80-6454E66F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CE7B18-89A0-4DE6-8E83-5EC8A5CC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2F6A24-1D18-44DC-B184-D439FEEA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1DA755-3B3D-46E0-8EF9-E98EC22B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2CCDAF-4884-4746-8D49-3BE2FAA6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125624-AA29-4C68-94B7-4629C2A2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AEB8A2-850D-44A4-8722-0C333511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933680-0DDE-467C-8970-A8E6A923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070EB2-246B-4C0A-B9EB-938D6F7A8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AB66-4D5C-4C15-BE02-203539BA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3B75B7-592D-418F-B043-BA930949E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D5BC95-0766-4004-AEA7-60A75F866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64A070-8874-40BD-9428-76F941E4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4995FD-CD0E-42AD-92DB-7EE925C3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622D2F-8C73-41E6-BED0-E1ED75D2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F77D4A-68BD-4A80-B2B5-FA384792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E9C090-0D3B-4212-B121-B187BD50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E7D135-8942-4726-9ED2-2016AA96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3795EE-3217-4A8D-ACE0-228B89DC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EDB859-1039-4970-ACCE-6E638714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015D-677B-4298-AD7C-CAC3F286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4F211F-29E5-4FA3-BED0-217465FF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EB8E35-F96B-469A-8F1F-4D04E7297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1C7FE0-0F41-4FAD-B69E-C4E053FDF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E7DBA5-499A-40D1-9731-6E22C2CC5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438F61-8D52-49CC-A1AF-6799ABFCC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2A1758-8C07-4C1A-A4DE-4DFC16DB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13530C-BAAE-49F6-B132-C254D934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AF0D6F-4AF6-4F8E-8F69-AECCBAEB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61A7BE-AFC6-4A39-AEB0-133F889B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0CA2C1-A919-4622-925C-21214D6C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111C-3C31-4826-9EB8-1401342A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CB6F9A-809F-4E97-AFBB-4B58B8D9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2DBA42-5B45-431D-B114-85951018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1F923A-2042-4559-B66D-7E5D7399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AB7240-14A1-407E-BD24-933EA5C7B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A06316-290C-46AB-AC37-5F589E7EC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F922-805B-40F8-83A0-9DEFEF0C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411A-275D-491F-816F-AB8AFAC87C1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D81F-D2E5-473A-83BA-2C26B04A44A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AD1B-AEEF-4F2A-BFF5-37097984D7C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53EF-E41F-4D27-B72F-0EA82132322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7032-FF34-460A-A9CD-7A47D273C5C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FB93-E427-4E0A-AC20-765467B632A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BC33-BA52-4E69-A5F7-4388B71D8AC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Content Placeholder 2"/>
          <p:cNvGrpSpPr/>
          <p:nvPr/>
        </p:nvGrpSpPr>
        <p:grpSpPr>
          <a:xfrm>
            <a:off x="1474920" y="2633760"/>
            <a:ext cx="6437160" cy="2792160"/>
            <a:chOff x="1474920" y="2633760"/>
            <a:chExt cx="6437160" cy="2792160"/>
          </a:xfrm>
        </p:grpSpPr>
        <p:pic>
          <p:nvPicPr>
            <p:cNvPr id="359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1474920" y="2633760"/>
              <a:ext cx="6437160" cy="27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1542960" y="2914560"/>
              <a:ext cx="6172200" cy="222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‘</a:t>
              </a:r>
              <a:r>
                <a:rPr b="0" lang="en-US" sz="4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eterinary Epidemiology &amp; Zoonoses’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PH-321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Credit Hours-2+1)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Picture 14" descr="Our Clients | Jivesna Tech"/>
          <p:cNvPicPr/>
          <p:nvPr/>
        </p:nvPicPr>
        <p:blipFill>
          <a:blip r:embed="rId2"/>
          <a:stretch/>
        </p:blipFill>
        <p:spPr>
          <a:xfrm>
            <a:off x="1295280" y="685800"/>
            <a:ext cx="1675080" cy="16876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6" descr="Bihar Veterinary College - Wikipedia"/>
          <p:cNvPicPr/>
          <p:nvPr/>
        </p:nvPicPr>
        <p:blipFill>
          <a:blip r:embed="rId3"/>
          <a:stretch/>
        </p:blipFill>
        <p:spPr>
          <a:xfrm>
            <a:off x="6613560" y="838080"/>
            <a:ext cx="12762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07800" y="1066680"/>
            <a:ext cx="8305920" cy="5438880"/>
          </a:xfrm>
          <a:prstGeom prst="rect">
            <a:avLst/>
          </a:prstGeom>
          <a:solidFill>
            <a:srgbClr val="e3eaf7"/>
          </a:solidFill>
          <a:ln w="12600">
            <a:solidFill>
              <a:srgbClr val="8c9bbe"/>
            </a:solidFill>
            <a:miter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In man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irectly/ indirectly from infected animal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rect exposur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to anthrax spore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6324480" cy="71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S AND TRANSMISSI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420840" y="2128680"/>
            <a:ext cx="5109840" cy="1812960"/>
          </a:xfrm>
          <a:prstGeom prst="rect">
            <a:avLst/>
          </a:prstGeom>
          <a:noFill/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contact: </a:t>
            </a:r>
            <a:r>
              <a:rPr b="0" lang="en-US" sz="16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Animal husbandry operations , Agricultural operations, PM examination , Rendering , Slaughtering, Dressing/removal/ handling of  Hides/ w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b0f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Lead to cutaneous anthr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420840" y="4030560"/>
            <a:ext cx="5109840" cy="1143000"/>
          </a:xfrm>
          <a:prstGeom prst="rect">
            <a:avLst/>
          </a:prstGeom>
          <a:noFill/>
          <a:ln w="12600">
            <a:solidFill>
              <a:srgbClr val="fe8637"/>
            </a:solidFill>
            <a:miter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ation of spor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6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Dust clouds handling of dry hides, skins, bone, blood meal, meat meal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b0f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Lead to Pulmonary anthra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438120" y="5257800"/>
            <a:ext cx="5092560" cy="1143000"/>
          </a:xfrm>
          <a:prstGeom prst="rect">
            <a:avLst/>
          </a:prstGeom>
          <a:noFill/>
          <a:ln w="12600">
            <a:solidFill>
              <a:srgbClr val="fe8637"/>
            </a:solidFill>
            <a:miter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gestion of meat </a:t>
            </a:r>
            <a:r>
              <a:rPr b="0" lang="en-US" sz="16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from animals that have died of anthr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575f6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Lead to intestinal anthr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9" descr=""/>
          <p:cNvPicPr/>
          <p:nvPr/>
        </p:nvPicPr>
        <p:blipFill>
          <a:blip r:embed="rId1"/>
          <a:stretch/>
        </p:blipFill>
        <p:spPr>
          <a:xfrm>
            <a:off x="5584680" y="2209680"/>
            <a:ext cx="3051360" cy="40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80880" y="1142640"/>
            <a:ext cx="7925040" cy="5483160"/>
          </a:xfrm>
          <a:prstGeom prst="rect">
            <a:avLst/>
          </a:prstGeom>
          <a:solidFill>
            <a:srgbClr val="e3eaf7"/>
          </a:solidFill>
          <a:ln w="12600">
            <a:solidFill>
              <a:srgbClr val="8c9bbe"/>
            </a:solidFill>
            <a:miter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-Direct exposur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to anthrax spor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6324480" cy="71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S AND TRANSMISSI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Rectangle 7"/>
          <p:cNvSpPr/>
          <p:nvPr/>
        </p:nvSpPr>
        <p:spPr>
          <a:xfrm>
            <a:off x="519120" y="1525680"/>
            <a:ext cx="4614840" cy="541080"/>
          </a:xfrm>
          <a:prstGeom prst="rect">
            <a:avLst/>
          </a:prstGeom>
          <a:noFill/>
          <a:ln w="12600">
            <a:solidFill>
              <a:srgbClr val="fe8637"/>
            </a:solidFill>
            <a:miter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Laboratory acquired inf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8"/>
          <p:cNvSpPr/>
          <p:nvPr/>
        </p:nvSpPr>
        <p:spPr>
          <a:xfrm>
            <a:off x="533520" y="2338560"/>
            <a:ext cx="4614840" cy="685800"/>
          </a:xfrm>
          <a:prstGeom prst="rect">
            <a:avLst/>
          </a:prstGeom>
          <a:noFill/>
          <a:ln w="12600">
            <a:solidFill>
              <a:srgbClr val="fe8637"/>
            </a:solidFill>
            <a:miter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 to person transmission: </a:t>
            </a:r>
            <a:r>
              <a:rPr b="0" lang="en-US" sz="16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extremely rare, but wound dressing &amp; communal loofa shar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5"/>
          <p:cNvSpPr/>
          <p:nvPr/>
        </p:nvSpPr>
        <p:spPr>
          <a:xfrm>
            <a:off x="519120" y="4379760"/>
            <a:ext cx="4614840" cy="685800"/>
          </a:xfrm>
          <a:prstGeom prst="rect">
            <a:avLst/>
          </a:prstGeom>
          <a:noFill/>
          <a:ln w="12600">
            <a:solidFill>
              <a:srgbClr val="fe8637"/>
            </a:solidFill>
            <a:miter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cal transmission by vectors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Stable fly, horse fly, mosquit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574560" y="5386320"/>
            <a:ext cx="4533840" cy="533520"/>
          </a:xfrm>
          <a:prstGeom prst="rect">
            <a:avLst/>
          </a:prstGeom>
          <a:noFill/>
          <a:ln w="12600">
            <a:solidFill>
              <a:srgbClr val="fe8637"/>
            </a:solidFill>
            <a:miter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of infected needle for trans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2" descr="Anthrax: Causes, Dangers, Symptoms, and Treatment"/>
          <p:cNvPicPr/>
          <p:nvPr/>
        </p:nvPicPr>
        <p:blipFill>
          <a:blip r:embed="rId1"/>
          <a:stretch/>
        </p:blipFill>
        <p:spPr>
          <a:xfrm>
            <a:off x="5315040" y="4114800"/>
            <a:ext cx="2620800" cy="22096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6" descr="Scientists working on vaccine, aim to begin trial in four months ..."/>
          <p:cNvPicPr/>
          <p:nvPr/>
        </p:nvPicPr>
        <p:blipFill>
          <a:blip r:embed="rId2"/>
          <a:stretch/>
        </p:blipFill>
        <p:spPr>
          <a:xfrm>
            <a:off x="5315040" y="1279440"/>
            <a:ext cx="262080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362320" y="228240"/>
            <a:ext cx="4419360" cy="65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EASE IN ANIMAL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228600" y="990360"/>
            <a:ext cx="7848720" cy="5483160"/>
          </a:xfrm>
          <a:prstGeom prst="rect">
            <a:avLst/>
          </a:prstGeom>
          <a:solidFill>
            <a:srgbClr val="e3eaf7"/>
          </a:solidFill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general symptoms of anthrax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Severe mucosal congestion leading to haemorrhages from mouth, anus &amp; nares </a:t>
            </a:r>
            <a:r>
              <a:rPr b="0" lang="en-US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pathognomic</a:t>
            </a:r>
            <a:r>
              <a:rPr b="0" lang="en-US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vated body temperature 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-41.6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cattle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spnoea,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ized  oedema ,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itement or depression,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rexia, convulsions,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ggering gait,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rrhoea/dysentery,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rtion,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stained milk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ence of rigor morti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9" name="Picture 3" descr=""/>
          <p:cNvPicPr/>
          <p:nvPr/>
        </p:nvPicPr>
        <p:blipFill>
          <a:blip r:embed="rId1"/>
          <a:srcRect l="0" t="0" r="64140" b="43484"/>
          <a:stretch/>
        </p:blipFill>
        <p:spPr>
          <a:xfrm>
            <a:off x="5181480" y="2590920"/>
            <a:ext cx="2590920" cy="185256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"/>
          <p:cNvPicPr/>
          <p:nvPr/>
        </p:nvPicPr>
        <p:blipFill>
          <a:blip r:embed="rId2"/>
          <a:srcRect l="35865" t="2177" r="31103" b="43566"/>
          <a:stretch/>
        </p:blipFill>
        <p:spPr>
          <a:xfrm>
            <a:off x="5205240" y="4537080"/>
            <a:ext cx="25909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04920" y="990360"/>
            <a:ext cx="7772400" cy="5638680"/>
          </a:xfrm>
          <a:prstGeom prst="rect">
            <a:avLst/>
          </a:prstGeom>
          <a:solidFill>
            <a:srgbClr val="e3eaf7"/>
          </a:solidFill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In Herbivores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acute (sudden death 10‑24 h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e to epticaemia &amp; toxiaemi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fatality rate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oplectic/fulminant/ per acute form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taneous anthrax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e of mechanical vectors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und contamination,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ath usually: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2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Before eschars/ carbuncles develop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tro‑intestinal form: Most comm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362320" y="228240"/>
            <a:ext cx="4419360" cy="65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EASE IN ANIMAL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3" name="Picture 2" descr="Anthrax"/>
          <p:cNvPicPr/>
          <p:nvPr/>
        </p:nvPicPr>
        <p:blipFill>
          <a:blip r:embed="rId1"/>
          <a:stretch/>
        </p:blipFill>
        <p:spPr>
          <a:xfrm>
            <a:off x="5410080" y="1600200"/>
            <a:ext cx="2494080" cy="1905120"/>
          </a:xfrm>
          <a:prstGeom prst="rect">
            <a:avLst/>
          </a:prstGeom>
          <a:ln w="0">
            <a:noFill/>
          </a:ln>
        </p:spPr>
      </p:pic>
      <p:sp>
        <p:nvSpPr>
          <p:cNvPr id="42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6" descr=""/>
          <p:cNvPicPr/>
          <p:nvPr/>
        </p:nvPicPr>
        <p:blipFill>
          <a:blip r:embed="rId2"/>
          <a:stretch/>
        </p:blipFill>
        <p:spPr>
          <a:xfrm>
            <a:off x="5410080" y="4114800"/>
            <a:ext cx="249408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228240" y="1066680"/>
            <a:ext cx="7924680" cy="5407200"/>
          </a:xfrm>
          <a:prstGeom prst="rect">
            <a:avLst/>
          </a:prstGeom>
          <a:solidFill>
            <a:srgbClr val="e3eaf7"/>
          </a:solidFill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In Carnivore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sease may be fatal or recovery takes place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stinal for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ccasional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gested pathogen: localized in pharyngeal lymph node Causing oedematous swelling (in dog, also in swine)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ath: Occlusion of air way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buncular lesions may develop on tongue or  oropharynx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362320" y="228240"/>
            <a:ext cx="4419360" cy="65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EASE IN ANIMAL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8" name="Picture 4" descr="C:\Users\user\Desktop\images (1).jpg"/>
          <p:cNvPicPr/>
          <p:nvPr/>
        </p:nvPicPr>
        <p:blipFill>
          <a:blip r:embed="rId1"/>
          <a:stretch/>
        </p:blipFill>
        <p:spPr>
          <a:xfrm>
            <a:off x="2666880" y="4724280"/>
            <a:ext cx="304812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04560" y="990360"/>
            <a:ext cx="7924680" cy="5715000"/>
          </a:xfrm>
          <a:prstGeom prst="rect">
            <a:avLst/>
          </a:prstGeom>
          <a:solidFill>
            <a:srgbClr val="e3eaf7"/>
          </a:solidFill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ease in ma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cubation period is variable (usually 2‑5 days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anthrax occurs in the following three form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taneous form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form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terointestinal form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362320" y="228240"/>
            <a:ext cx="4419360" cy="65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EASE IN MA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31" name="Picture 1" descr=""/>
          <p:cNvPicPr/>
          <p:nvPr/>
        </p:nvPicPr>
        <p:blipFill>
          <a:blip r:embed="rId1"/>
          <a:srcRect l="9144" t="0" r="18857" b="0"/>
          <a:stretch/>
        </p:blipFill>
        <p:spPr>
          <a:xfrm>
            <a:off x="3657600" y="2362320"/>
            <a:ext cx="4419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480600" y="990720"/>
            <a:ext cx="8001000" cy="5675040"/>
          </a:xfrm>
          <a:prstGeom prst="rect">
            <a:avLst/>
          </a:prstGeom>
          <a:solidFill>
            <a:srgbClr val="dfe3ee"/>
          </a:solidFill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Cutaneous form (malignant pustule/eschar) :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0% of cases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res entering the skin through cuts &amp; abrasion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self limiting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zed by the: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3" name="Picture 3" descr=""/>
          <p:cNvPicPr/>
          <p:nvPr/>
        </p:nvPicPr>
        <p:blipFill>
          <a:blip r:embed="rId1"/>
          <a:srcRect l="0" t="56527" r="0" b="0"/>
          <a:stretch/>
        </p:blipFill>
        <p:spPr>
          <a:xfrm>
            <a:off x="609480" y="5108400"/>
            <a:ext cx="7772400" cy="138924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362320" y="228240"/>
            <a:ext cx="4419360" cy="65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EASE IN MA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5" name="Right Arrow 5"/>
          <p:cNvSpPr/>
          <p:nvPr/>
        </p:nvSpPr>
        <p:spPr>
          <a:xfrm>
            <a:off x="1590840" y="2876400"/>
            <a:ext cx="468000" cy="268560"/>
          </a:xfrm>
          <a:prstGeom prst="rightArrow">
            <a:avLst>
              <a:gd name="adj1" fmla="val 50000"/>
              <a:gd name="adj2" fmla="val 49915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Rounded Rectangle 7"/>
          <p:cNvGrpSpPr/>
          <p:nvPr/>
        </p:nvGrpSpPr>
        <p:grpSpPr>
          <a:xfrm>
            <a:off x="695160" y="2567160"/>
            <a:ext cx="1078200" cy="938160"/>
            <a:chOff x="695160" y="2567160"/>
            <a:chExt cx="1078200" cy="938160"/>
          </a:xfrm>
        </p:grpSpPr>
        <p:pic>
          <p:nvPicPr>
            <p:cNvPr id="437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695160" y="2567160"/>
              <a:ext cx="107820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803160" y="2651040"/>
              <a:ext cx="86364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pu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ight Arrow 6"/>
          <p:cNvSpPr/>
          <p:nvPr/>
        </p:nvSpPr>
        <p:spPr>
          <a:xfrm>
            <a:off x="3346560" y="2908440"/>
            <a:ext cx="766800" cy="34596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Rounded Rectangle 8"/>
          <p:cNvGrpSpPr/>
          <p:nvPr/>
        </p:nvGrpSpPr>
        <p:grpSpPr>
          <a:xfrm>
            <a:off x="2000160" y="2548080"/>
            <a:ext cx="1676520" cy="1054080"/>
            <a:chOff x="2000160" y="2548080"/>
            <a:chExt cx="1676520" cy="1054080"/>
          </a:xfrm>
        </p:grpSpPr>
        <p:pic>
          <p:nvPicPr>
            <p:cNvPr id="441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2000160" y="2548080"/>
              <a:ext cx="1676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2192400" y="2716200"/>
              <a:ext cx="128916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ecome Increasingly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ecrotic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Right Arrow 10"/>
          <p:cNvSpPr/>
          <p:nvPr/>
        </p:nvSpPr>
        <p:spPr>
          <a:xfrm>
            <a:off x="6210360" y="2860560"/>
            <a:ext cx="765000" cy="41760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Rounded Rectangle 9"/>
          <p:cNvGrpSpPr/>
          <p:nvPr/>
        </p:nvGrpSpPr>
        <p:grpSpPr>
          <a:xfrm>
            <a:off x="4017960" y="2432160"/>
            <a:ext cx="2638440" cy="1268280"/>
            <a:chOff x="4017960" y="2432160"/>
            <a:chExt cx="2638440" cy="1268280"/>
          </a:xfrm>
        </p:grpSpPr>
        <p:pic>
          <p:nvPicPr>
            <p:cNvPr id="445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017960" y="2432160"/>
              <a:ext cx="263844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4127400" y="2530440"/>
              <a:ext cx="241308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ter ruptures to painles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lack eschar/ carbuncle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rrounded by an oedematous zo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Rounded Rectangle 11"/>
          <p:cNvGrpSpPr/>
          <p:nvPr/>
        </p:nvGrpSpPr>
        <p:grpSpPr>
          <a:xfrm>
            <a:off x="6881760" y="2468520"/>
            <a:ext cx="1629000" cy="1274760"/>
            <a:chOff x="6881760" y="2468520"/>
            <a:chExt cx="1629000" cy="1274760"/>
          </a:xfrm>
        </p:grpSpPr>
        <p:pic>
          <p:nvPicPr>
            <p:cNvPr id="448" name="Rounded Rectangle 11" descr=""/>
            <p:cNvPicPr/>
            <p:nvPr/>
          </p:nvPicPr>
          <p:blipFill>
            <a:blip r:embed="rId5"/>
            <a:stretch/>
          </p:blipFill>
          <p:spPr>
            <a:xfrm>
              <a:off x="6881760" y="2468520"/>
              <a:ext cx="162900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7015320" y="2575080"/>
              <a:ext cx="136368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secondarily infect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Rounded Rectangle 12"/>
          <p:cNvGrpSpPr/>
          <p:nvPr/>
        </p:nvGrpSpPr>
        <p:grpSpPr>
          <a:xfrm>
            <a:off x="3309840" y="3938760"/>
            <a:ext cx="5230800" cy="736560"/>
            <a:chOff x="3309840" y="3938760"/>
            <a:chExt cx="5230800" cy="736560"/>
          </a:xfrm>
        </p:grpSpPr>
        <p:pic>
          <p:nvPicPr>
            <p:cNvPr id="451" name="Rounded Rectangle 12" descr=""/>
            <p:cNvPicPr/>
            <p:nvPr/>
          </p:nvPicPr>
          <p:blipFill>
            <a:blip r:embed="rId6"/>
            <a:stretch/>
          </p:blipFill>
          <p:spPr>
            <a:xfrm>
              <a:off x="3309840" y="3938760"/>
              <a:ext cx="5230800" cy="7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3402000" y="4002120"/>
              <a:ext cx="50497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ever (40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), chills, headache, nausea &amp; anorexia quickly leads to dyspnoea, cyanosis, lymphangitis  &amp; collapse preceeding deat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Down Arrow 13"/>
          <p:cNvSpPr/>
          <p:nvPr/>
        </p:nvSpPr>
        <p:spPr>
          <a:xfrm>
            <a:off x="7499520" y="3629160"/>
            <a:ext cx="393480" cy="377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b687"/>
          </a:solidFill>
          <a:ln w="25560">
            <a:solidFill>
              <a:srgbClr val="8621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Rounded Rectangle 14"/>
          <p:cNvGrpSpPr/>
          <p:nvPr/>
        </p:nvGrpSpPr>
        <p:grpSpPr>
          <a:xfrm>
            <a:off x="444600" y="3651120"/>
            <a:ext cx="2963880" cy="1341720"/>
            <a:chOff x="444600" y="3651120"/>
            <a:chExt cx="2963880" cy="1341720"/>
          </a:xfrm>
        </p:grpSpPr>
        <p:pic>
          <p:nvPicPr>
            <p:cNvPr id="455" name="Rounded Rectangle 14" descr=""/>
            <p:cNvPicPr/>
            <p:nvPr/>
          </p:nvPicPr>
          <p:blipFill>
            <a:blip r:embed="rId7"/>
            <a:stretch/>
          </p:blipFill>
          <p:spPr>
            <a:xfrm>
              <a:off x="444600" y="3651120"/>
              <a:ext cx="2963880" cy="13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"/>
            <p:cNvSpPr/>
            <p:nvPr/>
          </p:nvSpPr>
          <p:spPr>
            <a:xfrm>
              <a:off x="566640" y="3749760"/>
              <a:ext cx="2721240" cy="11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Bacilli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Remain localized to the les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auses: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ningitis/cellulit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denitis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regional lymph no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Gangrene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occasional compl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Untreated cases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outcome is fa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362320" y="228240"/>
            <a:ext cx="4419360" cy="65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EASE IN MA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228240" y="990360"/>
            <a:ext cx="8077320" cy="5715000"/>
          </a:xfrm>
          <a:prstGeom prst="rect">
            <a:avLst/>
          </a:prstGeom>
          <a:solidFill>
            <a:srgbClr val="dfe3ee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Pulmonary form (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ool sorter’s disea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inhalation of airborne spores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(Handling raw wool, hides, bones, blood meal/ meat meal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rm is characterized by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ver,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spnoea,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eumonia,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hysema &amp; cardiac failur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icaemia: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just">
              <a:lnSpc>
                <a:spcPct val="10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ly fatal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just">
              <a:lnSpc>
                <a:spcPct val="10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ing death in few hour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59" name="Picture 2" descr="All about anthrax | Health24"/>
          <p:cNvPicPr/>
          <p:nvPr/>
        </p:nvPicPr>
        <p:blipFill>
          <a:blip r:embed="rId1"/>
          <a:stretch/>
        </p:blipFill>
        <p:spPr>
          <a:xfrm>
            <a:off x="5334120" y="4724280"/>
            <a:ext cx="2060280" cy="1725840"/>
          </a:xfrm>
          <a:prstGeom prst="rect">
            <a:avLst/>
          </a:prstGeom>
          <a:ln w="0">
            <a:noFill/>
          </a:ln>
        </p:spPr>
      </p:pic>
      <p:sp>
        <p:nvSpPr>
          <p:cNvPr id="46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6" descr="Inhalational Anthrax | HealthLink BC"/>
          <p:cNvPicPr/>
          <p:nvPr/>
        </p:nvPicPr>
        <p:blipFill>
          <a:blip r:embed="rId2"/>
          <a:stretch/>
        </p:blipFill>
        <p:spPr>
          <a:xfrm>
            <a:off x="4572000" y="2286000"/>
            <a:ext cx="35053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304560" y="1066680"/>
            <a:ext cx="8001000" cy="5562720"/>
          </a:xfrm>
          <a:prstGeom prst="rect">
            <a:avLst/>
          </a:prstGeom>
          <a:solidFill>
            <a:srgbClr val="dfe3ee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Intestinal form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ingestion of spores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(Infected meat, milk or other foodstuffs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zed by: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har or malignant carbuncle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st common symptoms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sea, vomiting,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rexia, fever,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ominal pain,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y to bloody diarrhe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derness in right upper &amp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 quadran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362320" y="228240"/>
            <a:ext cx="4419360" cy="65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EASE IN MA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64" name="Picture 2" descr="How Does it Spread? - How Anthrax Works | HowStuffWorks"/>
          <p:cNvPicPr/>
          <p:nvPr/>
        </p:nvPicPr>
        <p:blipFill>
          <a:blip r:embed="rId1"/>
          <a:stretch/>
        </p:blipFill>
        <p:spPr>
          <a:xfrm>
            <a:off x="4559400" y="1222200"/>
            <a:ext cx="3352680" cy="301176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4"/>
          <p:cNvSpPr/>
          <p:nvPr/>
        </p:nvSpPr>
        <p:spPr>
          <a:xfrm>
            <a:off x="838080" y="3184560"/>
            <a:ext cx="37339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(On the oropharynx, stomach, duodenum &amp; upper ileu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4" descr="Gastrointestinal Anthrax: A Case and Review of Literature"/>
          <p:cNvPicPr/>
          <p:nvPr/>
        </p:nvPicPr>
        <p:blipFill>
          <a:blip r:embed="rId2"/>
          <a:stretch/>
        </p:blipFill>
        <p:spPr>
          <a:xfrm>
            <a:off x="4160880" y="4441680"/>
            <a:ext cx="1981080" cy="210348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6" descr="Anthrax | The Windsor-Essex County Health Unit"/>
          <p:cNvPicPr/>
          <p:nvPr/>
        </p:nvPicPr>
        <p:blipFill>
          <a:blip r:embed="rId3"/>
          <a:stretch/>
        </p:blipFill>
        <p:spPr>
          <a:xfrm>
            <a:off x="6141960" y="4441680"/>
            <a:ext cx="198144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276360" y="228240"/>
            <a:ext cx="2514600" cy="71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I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228600" y="1066680"/>
            <a:ext cx="8153280" cy="5562720"/>
          </a:xfrm>
          <a:prstGeom prst="rect">
            <a:avLst/>
          </a:prstGeom>
          <a:solidFill>
            <a:srgbClr val="dfe3ee"/>
          </a:solidFill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nima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ased on history &amp; clinical sig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       </a:t>
            </a:r>
            <a:r>
              <a:rPr b="0" lang="en-US" sz="16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(Sudden death, Bleeding from natural orifices, the carcass is never opened to avoid)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copic examination of organis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Samples: </a:t>
            </a:r>
            <a:r>
              <a:rPr b="0" lang="en-US" sz="16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Blood smears prepared from ear clippings (in all animals including wild),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en-US" sz="16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laryngeal oedema (in dog and pig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en-US" sz="16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Mesentric lymph node (in sheep, goat, cattle and horse) are stained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0" name="Picture 2" descr="Anthrax"/>
          <p:cNvPicPr/>
          <p:nvPr/>
        </p:nvPicPr>
        <p:blipFill>
          <a:blip r:embed="rId1"/>
          <a:stretch/>
        </p:blipFill>
        <p:spPr>
          <a:xfrm>
            <a:off x="1523880" y="3581280"/>
            <a:ext cx="4900680" cy="281304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5"/>
          <p:cNvSpPr/>
          <p:nvPr/>
        </p:nvSpPr>
        <p:spPr>
          <a:xfrm>
            <a:off x="6248520" y="5029200"/>
            <a:ext cx="213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eat/immersion for 1 minute in  absolute alcoh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6"/>
          <p:cNvSpPr/>
          <p:nvPr/>
        </p:nvSpPr>
        <p:spPr>
          <a:xfrm>
            <a:off x="5791320" y="5638680"/>
            <a:ext cx="106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 seco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Rectangle 6"/>
          <p:cNvGrpSpPr/>
          <p:nvPr/>
        </p:nvGrpSpPr>
        <p:grpSpPr>
          <a:xfrm>
            <a:off x="324000" y="6267600"/>
            <a:ext cx="7813440" cy="596880"/>
            <a:chOff x="324000" y="6267600"/>
            <a:chExt cx="7813440" cy="596880"/>
          </a:xfrm>
        </p:grpSpPr>
        <p:pic>
          <p:nvPicPr>
            <p:cNvPr id="474" name="Rectangle 6" descr=""/>
            <p:cNvPicPr/>
            <p:nvPr/>
          </p:nvPicPr>
          <p:blipFill>
            <a:blip r:embed="rId2"/>
            <a:stretch/>
          </p:blipFill>
          <p:spPr>
            <a:xfrm>
              <a:off x="324000" y="6267600"/>
              <a:ext cx="781344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"/>
            <p:cNvSpPr/>
            <p:nvPr/>
          </p:nvSpPr>
          <p:spPr>
            <a:xfrm>
              <a:off x="380880" y="6324480"/>
              <a:ext cx="769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bacterial capsule appears reddish purple whereas bacilli takes deep blue colour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Title 1"/>
          <p:cNvGrpSpPr/>
          <p:nvPr/>
        </p:nvGrpSpPr>
        <p:grpSpPr>
          <a:xfrm>
            <a:off x="2182680" y="1030320"/>
            <a:ext cx="6828120" cy="1530360"/>
            <a:chOff x="2182680" y="1030320"/>
            <a:chExt cx="6828120" cy="1530360"/>
          </a:xfrm>
        </p:grpSpPr>
        <p:pic>
          <p:nvPicPr>
            <p:cNvPr id="364" name="Title 1" descr=""/>
            <p:cNvPicPr/>
            <p:nvPr/>
          </p:nvPicPr>
          <p:blipFill>
            <a:blip r:embed="rId1"/>
            <a:stretch/>
          </p:blipFill>
          <p:spPr>
            <a:xfrm>
              <a:off x="2182680" y="1030320"/>
              <a:ext cx="682812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2241720" y="1066680"/>
              <a:ext cx="670536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THRAX</a:t>
              </a:r>
              <a:endParaRPr b="0" lang="en-US" sz="5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Subtitle 2"/>
          <p:cNvGrpSpPr/>
          <p:nvPr/>
        </p:nvGrpSpPr>
        <p:grpSpPr>
          <a:xfrm>
            <a:off x="2182680" y="2120760"/>
            <a:ext cx="4662720" cy="4365720"/>
            <a:chOff x="2182680" y="2120760"/>
            <a:chExt cx="4662720" cy="4365720"/>
          </a:xfrm>
        </p:grpSpPr>
        <p:pic>
          <p:nvPicPr>
            <p:cNvPr id="367" name="Subtitle 2" descr=""/>
            <p:cNvPicPr/>
            <p:nvPr/>
          </p:nvPicPr>
          <p:blipFill>
            <a:blip r:embed="rId2"/>
            <a:stretch/>
          </p:blipFill>
          <p:spPr>
            <a:xfrm>
              <a:off x="2182680" y="2120760"/>
              <a:ext cx="4662720" cy="436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2241720" y="2209680"/>
              <a:ext cx="4539960" cy="419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Synonym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rb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lignant pustu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lignant carbunc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iltsiekteMilzbrand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agpicker’s disease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ang de rate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lenic fever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oolsorter’s disea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9" name="Picture 3" descr=""/>
          <p:cNvPicPr/>
          <p:nvPr/>
        </p:nvPicPr>
        <p:blipFill>
          <a:blip r:embed="rId3"/>
          <a:srcRect l="80838" t="0" r="0" b="0"/>
          <a:stretch/>
        </p:blipFill>
        <p:spPr>
          <a:xfrm>
            <a:off x="6781680" y="2209680"/>
            <a:ext cx="2133720" cy="41911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228240" y="1066680"/>
            <a:ext cx="8001000" cy="5407200"/>
          </a:xfrm>
          <a:prstGeom prst="rect">
            <a:avLst/>
          </a:prstGeom>
          <a:solidFill>
            <a:srgbClr val="dfe3ee"/>
          </a:solidFill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Isolation of the pathogen: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n blood agar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oculation of laboratory animals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276360" y="228240"/>
            <a:ext cx="2514600" cy="71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I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78" name="Picture 6" descr="untitled.bmp"/>
          <p:cNvPicPr/>
          <p:nvPr/>
        </p:nvPicPr>
        <p:blipFill>
          <a:blip r:embed="rId1"/>
          <a:stretch/>
        </p:blipFill>
        <p:spPr>
          <a:xfrm>
            <a:off x="1295280" y="2666880"/>
            <a:ext cx="2562480" cy="19814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479" name="Picture 8" descr="bacilli_P7060990.jpg"/>
          <p:cNvPicPr/>
          <p:nvPr/>
        </p:nvPicPr>
        <p:blipFill>
          <a:blip r:embed="rId2"/>
          <a:stretch/>
        </p:blipFill>
        <p:spPr>
          <a:xfrm>
            <a:off x="5105520" y="2666880"/>
            <a:ext cx="2361960" cy="19814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7" descr="rat"/>
          <p:cNvPicPr/>
          <p:nvPr/>
        </p:nvPicPr>
        <p:blipFill>
          <a:blip r:embed="rId3"/>
          <a:stretch/>
        </p:blipFill>
        <p:spPr>
          <a:xfrm>
            <a:off x="5791320" y="4800600"/>
            <a:ext cx="2133360" cy="1523880"/>
          </a:xfrm>
          <a:prstGeom prst="rect">
            <a:avLst/>
          </a:prstGeom>
          <a:ln w="0">
            <a:noFill/>
          </a:ln>
        </p:spPr>
      </p:pic>
      <p:sp>
        <p:nvSpPr>
          <p:cNvPr id="481" name="Rectangle 7"/>
          <p:cNvSpPr/>
          <p:nvPr/>
        </p:nvSpPr>
        <p:spPr>
          <a:xfrm>
            <a:off x="457200" y="5181480"/>
            <a:ext cx="5486400" cy="914400"/>
          </a:xfrm>
          <a:prstGeom prst="rect">
            <a:avLst/>
          </a:prstGeom>
          <a:noFill/>
          <a:ln w="0">
            <a:noFill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 algn="just">
              <a:lnSpc>
                <a:spcPct val="100000"/>
              </a:lnSpc>
              <a:buClr>
                <a:srgbClr val="e75c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Guinea pigs, s/c/ mice, i/p clinical material (0.5 m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e75c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Death occurs within 30‑40 h p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8"/>
          <p:cNvSpPr/>
          <p:nvPr/>
        </p:nvSpPr>
        <p:spPr>
          <a:xfrm>
            <a:off x="609480" y="1828800"/>
            <a:ext cx="5486400" cy="914400"/>
          </a:xfrm>
          <a:prstGeom prst="rect">
            <a:avLst/>
          </a:prstGeom>
          <a:noFill/>
          <a:ln w="0">
            <a:noFill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 algn="just">
              <a:lnSpc>
                <a:spcPct val="100000"/>
              </a:lnSpc>
              <a:buClr>
                <a:srgbClr val="e75c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Characteristic morphology of baci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ony morphology: </a:t>
            </a:r>
            <a:r>
              <a:rPr b="1" lang="en-US" sz="18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‘medusa head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3" name="Straight Arrow Connector 10"/>
          <p:cNvCxnSpPr/>
          <p:nvPr/>
        </p:nvCxnSpPr>
        <p:spPr>
          <a:xfrm flipH="1">
            <a:off x="2209320" y="2361960"/>
            <a:ext cx="1372320" cy="1143720"/>
          </a:xfrm>
          <a:prstGeom prst="straightConnector1">
            <a:avLst/>
          </a:prstGeom>
          <a:ln w="25560">
            <a:solidFill>
              <a:srgbClr val="f5cd2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228600" y="990360"/>
            <a:ext cx="8229600" cy="5406840"/>
          </a:xfrm>
          <a:prstGeom prst="rect">
            <a:avLst/>
          </a:prstGeom>
          <a:solidFill>
            <a:srgbClr val="dfe3ee"/>
          </a:solidFill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coli’s precipitation test: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6e5a"/>
                </a:solidFill>
                <a:latin typeface="Times New Roman"/>
                <a:ea typeface="Times New Roman"/>
              </a:rPr>
              <a:t>Using anthrax hyperimmune serum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6e5a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eb6e5a"/>
                </a:solidFill>
                <a:latin typeface="Times New Roman"/>
                <a:ea typeface="Times New Roman"/>
              </a:rPr>
              <a:t>Against attenuated anthrax spores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6e5a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eb6e5a"/>
                </a:solidFill>
                <a:latin typeface="Times New Roman"/>
                <a:ea typeface="Times New Roman"/>
              </a:rPr>
              <a:t>Detection of  anthrax antigens in tissues/hid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Serological test: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eb6e5a"/>
                </a:solidFill>
                <a:latin typeface="Times New Roman"/>
                <a:ea typeface="Times New Roman"/>
              </a:rPr>
              <a:t>Specific &amp; sensitive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6e5a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eb6e5a"/>
                </a:solidFill>
                <a:latin typeface="Times New Roman"/>
                <a:ea typeface="Times New Roman"/>
              </a:rPr>
              <a:t>Enzyme immunoassays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6e5a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eb6e5a"/>
                </a:solidFill>
                <a:latin typeface="Times New Roman"/>
                <a:ea typeface="Times New Roman"/>
              </a:rPr>
              <a:t>For detection of antigens in body fluid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Molecular test: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eb6e5a"/>
                </a:solidFill>
                <a:latin typeface="Times New Roman"/>
                <a:ea typeface="Times New Roman"/>
              </a:rPr>
              <a:t>Polymerase chain rection(PCR)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6e5a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eb6e5a"/>
                </a:solidFill>
                <a:latin typeface="Times New Roman"/>
                <a:ea typeface="Times New Roman"/>
              </a:rPr>
              <a:t>Specific &amp; sensitiv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If, mistakenly, the carcass has been opened, the dark unclotted blood &amp; strikingly large haemorrhagic spleen is seen)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428640" y="151920"/>
            <a:ext cx="2514600" cy="71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I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86" name="Picture 4" descr="ELISA plate"/>
          <p:cNvPicPr/>
          <p:nvPr/>
        </p:nvPicPr>
        <p:blipFill>
          <a:blip r:embed="rId1"/>
          <a:stretch/>
        </p:blipFill>
        <p:spPr>
          <a:xfrm>
            <a:off x="5867280" y="2895480"/>
            <a:ext cx="2362320" cy="12956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4" descr="C:\Users\user\Desktop\download.jpg"/>
          <p:cNvPicPr/>
          <p:nvPr/>
        </p:nvPicPr>
        <p:blipFill>
          <a:blip r:embed="rId2"/>
          <a:stretch/>
        </p:blipFill>
        <p:spPr>
          <a:xfrm>
            <a:off x="5867280" y="4114800"/>
            <a:ext cx="2362320" cy="12952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5" descr="C:\Users\user\Desktop\images.jpg"/>
          <p:cNvPicPr/>
          <p:nvPr/>
        </p:nvPicPr>
        <p:blipFill>
          <a:blip r:embed="rId3"/>
          <a:srcRect l="0" t="16501" r="0" b="0"/>
          <a:stretch/>
        </p:blipFill>
        <p:spPr>
          <a:xfrm>
            <a:off x="6019920" y="1143000"/>
            <a:ext cx="228600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380880" y="990360"/>
            <a:ext cx="7925040" cy="5483160"/>
          </a:xfrm>
          <a:prstGeom prst="rect">
            <a:avLst/>
          </a:prstGeom>
          <a:solidFill>
            <a:srgbClr val="dfe3ee"/>
          </a:solidFill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ma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5a00"/>
                </a:solidFill>
                <a:latin typeface="Times New Roman"/>
                <a:ea typeface="Times New Roman"/>
              </a:rPr>
              <a:t>Presumptive diagnosis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the basis of characteristic symptom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stic lesions (eschar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ry of case (particularly in high‑risk population from endemic areas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5a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675a00"/>
                </a:solidFill>
                <a:latin typeface="Times New Roman"/>
                <a:ea typeface="Times New Roman"/>
              </a:rPr>
              <a:t>Confirmatory diagnosi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different diagnostic aids described earli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428640" y="151920"/>
            <a:ext cx="2514600" cy="71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I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457200" y="990360"/>
            <a:ext cx="7696080" cy="5483160"/>
          </a:xfrm>
          <a:prstGeom prst="rect">
            <a:avLst/>
          </a:prstGeom>
          <a:solidFill>
            <a:srgbClr val="dfe3ee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 of choice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nicill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V or G): for 5‑7 day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oral, i/m or i/v rou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treptomyc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ynergistically with penicillin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drug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tracycline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tamicin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ythromycin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loramphenicol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2" name="Title 1"/>
          <p:cNvSpPr/>
          <p:nvPr/>
        </p:nvSpPr>
        <p:spPr>
          <a:xfrm>
            <a:off x="3429000" y="152280"/>
            <a:ext cx="2514600" cy="71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4" descr="C:\Users\user\Desktop\download (1).jpg"/>
          <p:cNvPicPr/>
          <p:nvPr/>
        </p:nvPicPr>
        <p:blipFill>
          <a:blip r:embed="rId1"/>
          <a:stretch/>
        </p:blipFill>
        <p:spPr>
          <a:xfrm>
            <a:off x="3581280" y="3200400"/>
            <a:ext cx="4114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228240" y="1066680"/>
            <a:ext cx="8077320" cy="5562720"/>
          </a:xfrm>
          <a:prstGeom prst="rect">
            <a:avLst/>
          </a:prstGeom>
          <a:solidFill>
            <a:srgbClr val="dfe3ee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nimal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Immunization 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4040" indent="-457200" algn="just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ccination of animals in endemic areas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4040" indent="-457200" algn="just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dose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rne vaccin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ttenuated live spore vaccine , s/c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4040" indent="-457200" algn="just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accine containing live spores and a toxoid prepared from a special strain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anthrac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lso used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4040" indent="-457200" algn="just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Proper carcass disposa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4040" indent="-457200" algn="just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nthrax carcass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hould no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opened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4040" indent="-457200" algn="just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The carcass should be destroyed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burning/ by deep burial </a:t>
            </a:r>
            <a:r>
              <a:rPr b="0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(Atleast 6 feet under thick cover of anhydrous calcium oxide i.e. quick ‑ lime following its chemical disinfection by formaline etc.)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4040" indent="-457200" algn="just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round/area where carcass was lying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hould be disinfected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4040" indent="-457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(3% peracetic acid (8 litres/meter2) or 3‑5% formaldehyde (40 litres/carcass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5" name="Title 1"/>
          <p:cNvSpPr/>
          <p:nvPr/>
        </p:nvSpPr>
        <p:spPr>
          <a:xfrm>
            <a:off x="1447920" y="228600"/>
            <a:ext cx="6172200" cy="71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ion and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2" descr="Anti-Anthrax Vaccine developed - Preventions from Anthrax"/>
          <p:cNvPicPr/>
          <p:nvPr/>
        </p:nvPicPr>
        <p:blipFill>
          <a:blip r:embed="rId1"/>
          <a:stretch/>
        </p:blipFill>
        <p:spPr>
          <a:xfrm>
            <a:off x="5791320" y="1143000"/>
            <a:ext cx="23907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7200" y="914040"/>
            <a:ext cx="7772400" cy="5715000"/>
          </a:xfrm>
          <a:prstGeom prst="rect">
            <a:avLst/>
          </a:prstGeom>
          <a:solidFill>
            <a:srgbClr val="dfe3ee"/>
          </a:solidFill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e in handling livestock (diseased/from endemic areas) :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Early diagnosis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prompt chemotherapy of sick animal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Slaughter of an suspected anim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hould not be allowed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Animals from endemic are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Quarantined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just">
              <a:lnSpc>
                <a:spcPct val="10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Before slaughter/ admixing with new animal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Wound dressin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sterilized equipments &amp; clean hand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Persons with cutaneous les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t allow to handle livestock and their feed/fodder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Management :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ify diseas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urveillance, monitoring &amp; controlling agenci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feeding contaminated fee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having livestock grazing on contaminated area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e. streams, low lying pasture land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ct control measure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bring down vector population in endemic area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8" name="Title 1"/>
          <p:cNvSpPr/>
          <p:nvPr/>
        </p:nvSpPr>
        <p:spPr>
          <a:xfrm>
            <a:off x="1447920" y="228600"/>
            <a:ext cx="61722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ion and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457200" y="990360"/>
            <a:ext cx="7696080" cy="5562360"/>
          </a:xfrm>
          <a:prstGeom prst="rect">
            <a:avLst/>
          </a:prstGeom>
          <a:solidFill>
            <a:srgbClr val="dfe3ee"/>
          </a:solidFill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n ma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unization 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4040" indent="-457200" algn="just">
              <a:lnSpc>
                <a:spcPct val="10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impracticable to vaccinate human beings in endemic area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4040" indent="-457200" algn="just">
              <a:lnSpc>
                <a:spcPct val="10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pational contact with livestock/ livestock products may be vaccinated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4040" indent="-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Sterne, Wright alum treated, cell free  or formaline treated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4040" indent="-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accines, or  purified toxoid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mal industry hygiene and manage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4040" indent="-457200" algn="just">
              <a:lnSpc>
                <a:spcPct val="10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the disease in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imal populatio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4040" indent="-457200" algn="just">
              <a:lnSpc>
                <a:spcPct val="10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eful handling of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imal product/byproduc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4040" indent="-457200" algn="just">
              <a:lnSpc>
                <a:spcPct val="10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infection of factory premises: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apourized formaldehyd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used for along with measures to control dus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al care and manage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0" name="Title 1"/>
          <p:cNvSpPr/>
          <p:nvPr/>
        </p:nvSpPr>
        <p:spPr>
          <a:xfrm>
            <a:off x="1447920" y="228600"/>
            <a:ext cx="61722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ion and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4" descr="Biohazard Management | Lab Manager"/>
          <p:cNvPicPr/>
          <p:nvPr/>
        </p:nvPicPr>
        <p:blipFill>
          <a:blip r:embed="rId1"/>
          <a:stretch/>
        </p:blipFill>
        <p:spPr>
          <a:xfrm>
            <a:off x="6705720" y="990720"/>
            <a:ext cx="1371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124080" y="228240"/>
            <a:ext cx="289584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IOLOGY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28600" y="990360"/>
            <a:ext cx="7848720" cy="5638680"/>
          </a:xfrm>
          <a:prstGeom prst="rect">
            <a:avLst/>
          </a:prstGeom>
          <a:solidFill>
            <a:srgbClr val="eff1f7"/>
          </a:solidFill>
          <a:ln w="25560">
            <a:solidFill>
              <a:srgbClr val="7f889c"/>
            </a:solidFill>
            <a:miter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ausal agent: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cillus anthraci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roup 18, Family ‑ Bacillaceae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f the largest (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‑5 x 1‑1.2 µ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of all bacterial pathogens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robic,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m‑positive,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d in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chain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‑motile sporeforming rods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-Endospore ( outside living body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2" name="Picture 2" descr="C:\Users\user\Desktop\download.jpg"/>
          <p:cNvPicPr/>
          <p:nvPr/>
        </p:nvPicPr>
        <p:blipFill>
          <a:blip r:embed="rId1"/>
          <a:stretch/>
        </p:blipFill>
        <p:spPr>
          <a:xfrm>
            <a:off x="1146240" y="4572000"/>
            <a:ext cx="2816280" cy="19144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C:\Users\user\Desktop\download (1).jpg"/>
          <p:cNvPicPr/>
          <p:nvPr/>
        </p:nvPicPr>
        <p:blipFill>
          <a:blip r:embed="rId2"/>
          <a:stretch/>
        </p:blipFill>
        <p:spPr>
          <a:xfrm>
            <a:off x="5029200" y="4498920"/>
            <a:ext cx="2676600" cy="19018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C:\Users\user\Desktop\images.jpg"/>
          <p:cNvPicPr/>
          <p:nvPr/>
        </p:nvPicPr>
        <p:blipFill>
          <a:blip r:embed="rId3"/>
          <a:stretch/>
        </p:blipFill>
        <p:spPr>
          <a:xfrm>
            <a:off x="5791320" y="2286000"/>
            <a:ext cx="19810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124080" y="228240"/>
            <a:ext cx="289584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IOLOGY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88640" y="1143000"/>
            <a:ext cx="8421480" cy="4495680"/>
          </a:xfrm>
          <a:prstGeom prst="rect">
            <a:avLst/>
          </a:prstGeom>
          <a:solidFill>
            <a:srgbClr val="eff1f7"/>
          </a:solidFill>
          <a:ln w="9360">
            <a:solidFill>
              <a:srgbClr val="00b0f0"/>
            </a:solidFill>
            <a:miter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res: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 algn="just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athogen present in the body fluid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 algn="just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es in contact of atmospheric air, forms highly resistant spor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 algn="just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ain viable for about 40‑60 years in contaminated soil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 algn="just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ut 200±50 years in the bones of dead host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apsu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ody of infected hos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obert Koch (1876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stablished the </a:t>
            </a:r>
            <a:r>
              <a:rPr b="1" lang="en-US" sz="20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Koch’s postulat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 algn="just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ltivated it in pure cult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vitr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 algn="just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oculated into animal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 algn="just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ced anthrax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Louis Pasteu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bacterial vaccin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gainst anthrax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7" name="Picture 2" descr="Overview of Anthrax - Generalized Conditions - Veterinary Manual"/>
          <p:cNvPicPr/>
          <p:nvPr/>
        </p:nvPicPr>
        <p:blipFill>
          <a:blip r:embed="rId1"/>
          <a:stretch/>
        </p:blipFill>
        <p:spPr>
          <a:xfrm>
            <a:off x="6477120" y="2743200"/>
            <a:ext cx="20174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819520" y="152280"/>
            <a:ext cx="3962160" cy="563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DEMIOLOGY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228240" y="837720"/>
            <a:ext cx="5791320" cy="5821560"/>
          </a:xfrm>
          <a:prstGeom prst="rect">
            <a:avLst/>
          </a:prstGeom>
          <a:solidFill>
            <a:srgbClr val="eff1f7"/>
          </a:solidFill>
          <a:ln w="9360">
            <a:solidFill>
              <a:srgbClr val="00b0f0"/>
            </a:solidFill>
            <a:miter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nimal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d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orld wid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9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ajority cas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800" spc="-1" strike="noStrike">
                <a:solidFill>
                  <a:srgbClr val="595d63"/>
                </a:solidFill>
                <a:latin typeface="Times New Roman"/>
                <a:ea typeface="Times New Roman"/>
              </a:rPr>
              <a:t>Africa, Asia &amp; the Middle East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9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9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ndemic</a:t>
            </a:r>
            <a:r>
              <a:rPr b="0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: </a:t>
            </a:r>
            <a:r>
              <a:rPr b="0" lang="en-US" sz="1800" spc="-1" strike="noStrike">
                <a:solidFill>
                  <a:srgbClr val="595d63"/>
                </a:solidFill>
                <a:latin typeface="Times New Roman"/>
                <a:ea typeface="Times New Roman"/>
              </a:rPr>
              <a:t>Russia, France &amp; Indi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9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9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trict legislations</a:t>
            </a:r>
            <a:r>
              <a:rPr b="0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: </a:t>
            </a:r>
            <a:r>
              <a:rPr b="0" lang="en-US" sz="1800" spc="-1" strike="noStrike">
                <a:solidFill>
                  <a:srgbClr val="595d63"/>
                </a:solidFill>
                <a:latin typeface="Times New Roman"/>
                <a:ea typeface="Times New Roman"/>
              </a:rPr>
              <a:t>Decreased the incidence in Western Europe, Australia &amp; North Americ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9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9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auses heavy economic loss: </a:t>
            </a:r>
            <a:r>
              <a:rPr b="0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595d63"/>
                </a:solidFill>
                <a:latin typeface="Times New Roman"/>
                <a:ea typeface="Times New Roman"/>
              </a:rPr>
              <a:t>Cattle, sheep &amp; goats till 1930s effective veterinary vaccine became available for us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 India: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orted from most of the state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9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espread: </a:t>
            </a:r>
            <a:r>
              <a:rPr b="0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amil Nadu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</a:t>
            </a:r>
            <a:r>
              <a:rPr b="0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Maharashtr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9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0" name="Picture 2" descr="Map of the world showing the sections where anthrax can be found in the agriculture regions."/>
          <p:cNvPicPr/>
          <p:nvPr/>
        </p:nvPicPr>
        <p:blipFill>
          <a:blip r:embed="rId1"/>
          <a:stretch/>
        </p:blipFill>
        <p:spPr>
          <a:xfrm>
            <a:off x="6095880" y="1752480"/>
            <a:ext cx="2743200" cy="3276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228240" y="1066680"/>
            <a:ext cx="5715000" cy="5639040"/>
          </a:xfrm>
          <a:prstGeom prst="rect">
            <a:avLst/>
          </a:prstGeom>
          <a:solidFill>
            <a:srgbClr val="eff1f7"/>
          </a:solidFill>
          <a:ln w="9360">
            <a:solidFill>
              <a:srgbClr val="00b0f0"/>
            </a:solidFill>
            <a:miter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m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The incidence 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</a:t>
            </a:r>
            <a:r>
              <a:rPr b="0" lang="en-US" sz="20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20,000 to 1,00,00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s/ annum appx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Cutaneous anthrax: </a:t>
            </a:r>
            <a:r>
              <a:rPr b="0" lang="en-US" sz="20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95‑99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 human cases globally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Endemic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dle‑East Asia, Kenya, Gambia, Zimbabwe, Thailand, Iran, Iraq, Turkey, parts of USSR &amp; Yugoslavi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547560" indent="-182520" algn="just">
              <a:lnSpc>
                <a:spcPct val="100000"/>
              </a:lnSpc>
              <a:spcBef>
                <a:spcPts val="601"/>
              </a:spcBef>
              <a:buClr>
                <a:srgbClr val="e0752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 India: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y limited geographic locations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jority of cases: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 trijunctional zone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South‑west Andhra Pradesh, south‑east Karnataka &amp; north Tamil Nadu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895120" y="228240"/>
            <a:ext cx="3429000" cy="71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DEMIOLOGY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3" name="Picture 5" descr=""/>
          <p:cNvPicPr/>
          <p:nvPr/>
        </p:nvPicPr>
        <p:blipFill>
          <a:blip r:embed="rId1"/>
          <a:stretch/>
        </p:blipFill>
        <p:spPr>
          <a:xfrm>
            <a:off x="5977080" y="2171880"/>
            <a:ext cx="2743200" cy="3352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71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 RANGE AND RESERVOIR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80880" y="1371240"/>
            <a:ext cx="8229600" cy="5257800"/>
          </a:xfrm>
          <a:prstGeom prst="rect">
            <a:avLst/>
          </a:prstGeom>
          <a:solidFill>
            <a:srgbClr val="eff1f7"/>
          </a:solidFill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erbivores, many wil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ly susceptibl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Pigs, equines, dogs &amp; camel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rately susceptibl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0a80a"/>
                </a:solidFill>
                <a:latin typeface="Times New Roman"/>
                <a:ea typeface="Times New Roman"/>
              </a:rPr>
              <a:t>Carnivores &amp; bird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ly resistan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n is moderately resistan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ha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ue reservoi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 occupational zoonos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6" name="Picture 3" descr="C:\Users\user\Desktop\download (4).jpg"/>
          <p:cNvPicPr/>
          <p:nvPr/>
        </p:nvPicPr>
        <p:blipFill>
          <a:blip r:embed="rId1"/>
          <a:stretch/>
        </p:blipFill>
        <p:spPr>
          <a:xfrm>
            <a:off x="533520" y="4191120"/>
            <a:ext cx="2057400" cy="17524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C:\Users\user\Desktop\download (6).jpg"/>
          <p:cNvPicPr/>
          <p:nvPr/>
        </p:nvPicPr>
        <p:blipFill>
          <a:blip r:embed="rId2"/>
          <a:stretch/>
        </p:blipFill>
        <p:spPr>
          <a:xfrm>
            <a:off x="6705720" y="4191120"/>
            <a:ext cx="1828800" cy="16761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C:\Users\user\Desktop\download (7).jpg"/>
          <p:cNvPicPr/>
          <p:nvPr/>
        </p:nvPicPr>
        <p:blipFill>
          <a:blip r:embed="rId3"/>
          <a:stretch/>
        </p:blipFill>
        <p:spPr>
          <a:xfrm>
            <a:off x="2666880" y="4191120"/>
            <a:ext cx="1981440" cy="16761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6" descr="C:\Users\user\Desktop\images (1).jpg"/>
          <p:cNvPicPr/>
          <p:nvPr/>
        </p:nvPicPr>
        <p:blipFill>
          <a:blip r:embed="rId4"/>
          <a:stretch/>
        </p:blipFill>
        <p:spPr>
          <a:xfrm>
            <a:off x="4724280" y="4191120"/>
            <a:ext cx="1905120" cy="167616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10"/>
          <p:cNvSpPr/>
          <p:nvPr/>
        </p:nvSpPr>
        <p:spPr>
          <a:xfrm>
            <a:off x="609480" y="59436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ol indust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1"/>
          <p:cNvSpPr/>
          <p:nvPr/>
        </p:nvSpPr>
        <p:spPr>
          <a:xfrm>
            <a:off x="4572000" y="5943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ir indust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2"/>
          <p:cNvSpPr/>
          <p:nvPr/>
        </p:nvSpPr>
        <p:spPr>
          <a:xfrm>
            <a:off x="6629400" y="59436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t/ bone meal indust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3"/>
          <p:cNvSpPr/>
          <p:nvPr/>
        </p:nvSpPr>
        <p:spPr>
          <a:xfrm>
            <a:off x="2666880" y="59436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ther indust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71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S AND TRANSMISSI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228240" y="1066680"/>
            <a:ext cx="7924680" cy="5407200"/>
          </a:xfrm>
          <a:prstGeom prst="rect">
            <a:avLst/>
          </a:prstGeom>
          <a:solidFill>
            <a:srgbClr val="eff1f7"/>
          </a:solidFill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In animals</a:t>
            </a:r>
            <a:r>
              <a:rPr b="1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In herbivore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ges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ntaminated fodder/improperly processed fe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ation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res (particularly during wallowing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In carnivores and omnivo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ges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nfected carcass/contaminated me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conta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ody secretions/ tissues of a diseased/dead animal </a:t>
            </a: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ontaminated fomites like soil, water, organic fertilizers, hairs, wool, hide etc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837720"/>
            <a:ext cx="7772400" cy="5791320"/>
          </a:xfrm>
          <a:prstGeom prst="rect">
            <a:avLst/>
          </a:prstGeom>
          <a:solidFill>
            <a:srgbClr val="eff1f7"/>
          </a:solidFill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In animals</a:t>
            </a:r>
            <a:r>
              <a:rPr b="1" lang="en-US" sz="2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direct conta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mal husbandry/agricultural operations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idental inoculation of pathogen into skin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gical operations (bleeding, dehorning, castration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cal transmiss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vector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sucking &amp; biting flies like blow flies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se flies (Tabanidae, which transmit bacilli on mouth parts of hosts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venging animal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birds (particularly vultures): Contaminate soil &amp; water reservoirs while defecating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Direct animal to animal transmission appears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to be rare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o evide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ss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rough milk of infected animal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6324480" cy="71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S AND TRANSMISSI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8" name="Picture 2" descr="C:\Users\user\Desktop\is.jpg"/>
          <p:cNvPicPr/>
          <p:nvPr/>
        </p:nvPicPr>
        <p:blipFill>
          <a:blip r:embed="rId1"/>
          <a:stretch/>
        </p:blipFill>
        <p:spPr>
          <a:xfrm>
            <a:off x="4568760" y="3427560"/>
            <a:ext cx="6480" cy="28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" descr="C:\Users\user\Desktop\is.jpg"/>
          <p:cNvPicPr/>
          <p:nvPr/>
        </p:nvPicPr>
        <p:blipFill>
          <a:blip r:embed="rId2"/>
          <a:stretch/>
        </p:blipFill>
        <p:spPr>
          <a:xfrm>
            <a:off x="4568760" y="3427560"/>
            <a:ext cx="6480" cy="28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" descr="C:\Users\user\Desktop\is.jpg"/>
          <p:cNvPicPr/>
          <p:nvPr/>
        </p:nvPicPr>
        <p:blipFill>
          <a:blip r:embed="rId3"/>
          <a:stretch/>
        </p:blipFill>
        <p:spPr>
          <a:xfrm>
            <a:off x="5943600" y="2670120"/>
            <a:ext cx="1133640" cy="10605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" descr="C:\Users\user\Desktop\is (2).jpg"/>
          <p:cNvPicPr/>
          <p:nvPr/>
        </p:nvPicPr>
        <p:blipFill>
          <a:blip r:embed="rId4"/>
          <a:stretch/>
        </p:blipFill>
        <p:spPr>
          <a:xfrm>
            <a:off x="7010280" y="2670120"/>
            <a:ext cx="114624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user</dc:creator>
  <dc:description/>
  <dc:language>en-US</dc:language>
  <cp:lastModifiedBy>dranjayvet@gmail.com</cp:lastModifiedBy>
  <dcterms:modified xsi:type="dcterms:W3CDTF">2020-04-21T06:49:14Z</dcterms:modified>
  <cp:revision>57</cp:revision>
  <dc:subject/>
  <dc:title>Anthrax</dc:title>
</cp:coreProperties>
</file>