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A793-B669-4C21-8A06-A8E164DD13A4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CDA1-48CC-43A0-B217-BFBBD72158F9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E15-3703-4291-8543-57166C8C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EB1-FB6D-46BC-B490-E021E4FF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A6646-2184-400E-B232-E680FD87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D8AF8-62C9-418C-82F5-B85904DB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F625E-8A9C-4089-8407-4CE149DC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B8815-94F6-40CC-BD98-B8A1DB6E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007AE-A893-4DDA-9998-650D331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8432C-8299-4AA8-9DE7-C05A47A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42FF0-2334-406E-BF02-AF314FAB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573D9-2A9B-42BD-8754-7F6FDA0C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771AD-51FD-4F8E-BB5F-F5368F83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8F0BD-A693-4E24-A9C5-88BE4E79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4AD-BD65-495F-A3B4-151CAF8A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F8BB2-9276-4B1F-A42B-C2FDD92D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23B42-398E-4DE4-992E-91F0BE7B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878CE-3164-4212-9378-940E7B37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0C13A-E2DC-47E8-BF31-5843A884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F0588-0430-4EDF-8487-FD700584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4A8BA-7B7A-4394-B05F-FDB40B1F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ABEA9-6249-44E8-B28A-BDF48F2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C99F5-6F6E-44EE-95B3-5C9E372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93A8A-B00A-47A9-9A62-06B45395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CC947-CB97-4AA9-B508-3EE68F5D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8CD-6D9F-4D70-9D91-6E761588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9E16C-B53C-4E38-A526-B2520CE4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8FAD3-61A5-4DCD-99A7-CB0B8FB8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D79C5-CD1B-4265-B36B-62E9FDA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3BC6B-6AFA-445E-91A9-669B6807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50118-8A0B-4774-90D7-62512ECC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2B1C3-CC17-4C5C-A4E8-C091D69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D1BE9-B657-4973-91EC-695DED4F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C172F-7115-450A-8E06-528AC04C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43430-9AE7-4FE9-A540-BF3BA7E1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A7518-3F9C-49F0-B2EC-11347BCE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1EDD-E73C-4A74-9471-BD0B0FB4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5575-58D5-4F7E-8953-9D74B20B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1E97E-2902-43EE-9BD9-A80FF6DB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2CA29-9E6E-4FD0-970C-62C23094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A50E6-7AB5-466D-B658-5001767B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B6020-35F5-49F1-8B28-F3A54A75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DDA99-FFA9-4ACB-BB17-5711E21E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98112-05C7-4F5C-8628-31565293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DA68B-B43B-4E32-B039-43367B70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67625-A813-42BE-97A2-93FDC54F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B6084-138A-42AA-81A3-AA61659B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CBE6-16DC-4FAE-868C-F0E9168F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16D9A-E0CF-4014-8365-64FF5AB8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88918-04F4-43EC-A441-0DB79C2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38B2A-FFB7-4653-A09D-D248DA67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097B4-67B5-4F04-BECA-AB750A92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A6B88-2734-4F22-89A9-07B60B49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56259-1FFA-4D60-82B5-1565F104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703A5-05F5-4677-B7AB-0E6C26E0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93CF8-7861-4CC5-A695-1AD6B8EF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93DC0-C632-427F-9FCF-EBD74F07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F95DE-55B4-47EC-A472-846AA57D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C7CA-2F3F-4193-A8A0-27AC8937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CBCFD-DC84-48EB-ACFA-5BBA5D7D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BD398-98CE-4A16-9749-B2662817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EF4FC-D2C3-45A5-BE56-26015E5A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00E6C-3EEF-46B2-9790-1D9E2DA4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01EF8-97A1-4297-8936-E8D41900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6AE9C-DB87-4A36-BD75-68EA3A80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B8283-D456-452C-AF67-EE331B75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36F01-2597-4084-B838-B4F10722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50FD1-37CA-4357-B0C0-247F3C4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71819-439E-4EED-AC7F-29B782B7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4179-1AB7-45FE-A483-C639B6DE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8D71C-75AD-4AF7-9AD0-31D56118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C1498-DDF6-4262-AF04-8416C96D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8AE79-F1B9-485C-BD8D-4BD04E71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17E43-AD99-42EF-B499-BDEB76BC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AE1A8-6D9F-408C-A415-73DA026A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2259E-1590-4161-9819-A3539F23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D9467-5BA7-40CF-91FE-02246CE7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641D8-F08C-436B-901C-8F7B787E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A36B8-1953-4E3E-A9D2-F916281D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039CA-F920-48FA-AD4B-01F1FB1D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1BA4-C6AB-4BCB-9FBA-3DECBBC8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FD156-887F-4D03-A4BA-988599C1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3F1FD-ECBC-43F0-AD1E-31BBE1FF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58DF7-AAC0-469D-9630-180BB2A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0E5B9-C57D-407C-A80A-0AD95F0A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AD009-7CB1-4D0D-AE8D-3C2A31B8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9999A-F493-43ED-A394-EB6EF16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49282-4DED-4DA4-BFBF-C41E05EB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4C555-3188-405D-ADA4-9BFA45C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79835-D81A-4842-90E2-422D884D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D4D35-3FC8-4B0D-AB09-299B7C75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B3C0-2EE3-48C3-BAE8-36F1D179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16EE4-7D97-42DD-BD01-C2AFC729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60A15-C6C0-4C15-A608-0FCC8A99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4DD68-B2C9-4A90-BB48-FA083B35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CC819-1E0C-4E06-A007-7026C67B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59F85-D6E9-4472-A5FE-48BDBE4F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1FE9D-052E-4B15-BE55-17CA8500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E8EB8-CAF0-44E3-80B4-65FCA1C8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0420C-B182-49FD-AFF5-763A1BFE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9B313-26A7-408E-8846-8129279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FCD7F-2444-4AA7-B2B9-610916DD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CB2-4625-485B-85B3-A697461A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C07CA-B1E1-470F-9FF8-DE2CADE8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8ED5F-3675-466F-989D-8E83DAA9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63094-D950-4462-A90D-4100BC5C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8827A-D8A1-45EF-A16A-F473BF59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A7E3B-176B-46D8-97C5-271D9DB7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8B652-4BCC-482F-AEBA-27427912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49653-43FD-4553-B23E-541DD76C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88F8A-93E0-4E42-A11A-A4092C93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6796C-76BD-42BB-90D4-98AC4FC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307B6-FD7C-43EE-A9E8-D8D5AF87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792-7522-4618-B28B-E0582600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93BA-2E7A-479B-A081-D745C80F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CBBEB-F867-47FF-B4E8-620D6250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F0C40-85BD-48E9-89E6-ABB0647A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B3A20-CBF8-428F-9F73-58C0CA89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F6105E-522C-430E-8030-DDBD14D5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087DA9-E358-4267-8C42-F66D80D1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E897-B949-4039-9EF3-BA9C2DD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232A-2177-4EC0-BAAB-CC678F6C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3039-720C-4426-AFBE-D92FD4CA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6465-3486-46BB-9D97-ABEDE62C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47A6-3350-4B9C-A2F2-4155E857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588D6-5011-4C6C-AE4E-2E5A8C7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128F-D937-42B5-ABEC-DADE6163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0E9A-8CBD-49F3-8025-FBC9EFB9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DD72-3CD4-464F-A3C5-FBC2C52F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ED8-88F8-495F-9F09-B08F4CA6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E619-9320-4BE6-8230-4010F29B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8734-EF92-4D96-972F-059C00E3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3007-0819-4254-9139-781BD8D6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5937-71BE-49B4-B6BF-FA9E8A8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C262-D573-4A6B-8982-CCFB69CA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13E4-CF2A-42E2-9B91-B50DA0A6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4876-98FF-44A1-AB1E-860B18C0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8F75-151E-43A7-9B77-F9A8DF04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5141-2BA5-4368-9A67-DEE53FB2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23C87-7ADD-4385-B273-791901D9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2E6-0558-4A60-963F-6DF905DB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8C84E-E1AC-4491-B3F8-595B8865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6968C-E640-4494-874A-7AAA2FA9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B2CA-2F64-4E5C-B86C-9D2E12C3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01A42-C9B9-4749-B09F-D81107A9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BA53-F77F-4AC9-B73B-53E8186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44E3-1A1D-4D67-8175-201F3E0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974B-7D11-431D-AE45-B60EEC7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7E560-5B08-4C1E-A74C-B75CDA7C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FED7-0BD1-4A30-B3C5-88304604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36093-94D1-4E4E-8A6A-3CEAC2D3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ED9-0CE3-4AB9-868F-1B27E5C6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8731D-E47C-4943-93F8-54F50753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D500-D88C-4BB3-9F0C-A79E7B7B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DD0A5-FB4C-4BA7-B119-1ED2DAFB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5270-99A3-4A54-82B6-B5923F2D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6FD95-853C-4196-9615-9857396C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01CBD-FC79-4AC1-890E-9B39623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844B-0A62-4123-845A-32073E7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5FC2E-8318-447B-9331-214C2509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B63DC-3B15-478A-BC54-B0824E73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0A5D-E208-458E-829A-C4E0A84E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04F-0801-47B5-868D-8C5009A0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F895-7D60-436E-B3DE-722A05C0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5C52F-D236-419E-B0AA-28A0EA84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5A542-C9CB-43BB-B2BB-B3AFFB1B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0C3D9-466F-4DC2-A8B4-AF20C717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7E8A-DA17-403A-8486-D62B67C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56482-1D74-44F3-AB70-FE8C96A4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6B2A8-AD6A-46BD-8079-61B66035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BBC8-C8E7-435B-B044-1E49A9D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2E4C4-70B5-4402-B557-1568B7C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289AC-B766-42AB-9E29-06E838B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0A6-811A-496C-97A1-29A6B6D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CBE5-B908-477B-A7C7-522AEC90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D59C5-F589-4C9A-AF1F-144FF4B0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E4C5-4B94-4FC8-86B5-8B06696F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56113-AF2A-4CB8-A010-8A4CB056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8FE0F-196A-423E-A8B3-393D2960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38E2B-756D-4701-A9C5-131E91EE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04152-69E4-450D-A47A-A791464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71A9-5F7C-47C2-9A98-DD64834B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3614C-08AE-4D31-8739-BFDDCE71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FDA3D-DA8F-4BD1-BCB4-DC1F03A8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A19-56CE-4844-8049-01D4F9A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EDC25-2924-437C-8B95-0DF28C10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A3106-3F51-40F9-A1AF-257F3467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5A844-E3D2-4CE6-8DF7-A8675901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043E5-6364-4996-B4F7-54B27EE0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E5037-D018-4360-8573-E58CDCB9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75094-AA58-4F8B-8923-B22006BA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C7E6B-41B0-4563-BEBD-F567CFE4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3DFA1-AB11-42EF-B270-F95E5167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6D55B-92AA-4636-A690-662B4267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538CC-03CC-4B76-9389-1064493A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CA1-A4D1-4FEC-9B8E-3255A9E4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74386-89F8-4D29-A856-ADDC7A4C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32D49-FEFD-4256-9943-B8BEAF3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2E246-F85E-4377-B9AF-73C8F39D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BE94B-EEAB-49F0-B524-4635F52A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0C699-F521-4AA0-B1AF-8FA4FA8D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FB395-A2C2-4951-94AC-89534F76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80612-A2EE-4B99-BFA5-BCECEC10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A6240-B915-4BD1-B5E0-BFC15ADC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C0524-314F-4EB8-B148-6355DFA1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6B2C3-95E9-4F78-9EE3-CDC2855D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53F4-385D-4C47-A123-F9304A5F177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5F8A-DDF6-4A28-A3F3-1B2080A5633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6695-1AF7-433C-B914-E60DE3D1E6F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3357-9760-4EA6-828D-22D7DE7174B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F59-9542-4AB0-BD6D-BA0E61916B6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5F2-22A7-4344-AB55-628825F8E84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389C-DB3A-48EE-BFB8-2471EE8C1EA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92E8-A7D3-4B70-AFE0-1F8353F053F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0F0A-3D04-4AD9-AB13-99BFA1372ED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1F21-56BC-4F14-B341-E05B7B25272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3E17-3F1B-4175-938A-A04572FE6B3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563B-F2B1-4930-B4E9-839BECCDFC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2E6B-4DE9-4398-A3D8-F70A25E5ED8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D728-FDA8-4853-A160-71C50C8DCB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835A-8178-4788-9BDB-D58C0001682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FBE0-9531-4843-A252-DB0C2E00E3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AF7A-8C3E-434B-876F-BAFAD14E3E9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77480" y="1987560"/>
            <a:ext cx="72010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28600" y="3546360"/>
            <a:ext cx="87501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3" descr=""/>
          <p:cNvPicPr/>
          <p:nvPr/>
        </p:nvPicPr>
        <p:blipFill>
          <a:blip r:embed="rId1"/>
          <a:stretch/>
        </p:blipFill>
        <p:spPr>
          <a:xfrm>
            <a:off x="596880" y="1336680"/>
            <a:ext cx="1536840" cy="118116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"/>
          <p:cNvPicPr/>
          <p:nvPr/>
        </p:nvPicPr>
        <p:blipFill>
          <a:blip r:embed="rId2"/>
          <a:stretch/>
        </p:blipFill>
        <p:spPr>
          <a:xfrm>
            <a:off x="7356600" y="1482840"/>
            <a:ext cx="1252440" cy="806400"/>
          </a:xfrm>
          <a:prstGeom prst="rect">
            <a:avLst/>
          </a:prstGeom>
          <a:ln w="0">
            <a:noFill/>
          </a:ln>
        </p:spPr>
      </p:pic>
      <p:sp>
        <p:nvSpPr>
          <p:cNvPr id="1187" name="Rectangle 6"/>
          <p:cNvSpPr/>
          <p:nvPr/>
        </p:nvSpPr>
        <p:spPr>
          <a:xfrm>
            <a:off x="2133720" y="1073160"/>
            <a:ext cx="50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</a:t>
            </a:r>
            <a:r>
              <a:rPr b="1" lang="en-IN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lood Transfusion in Cattle and Dog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8"/>
          <p:cNvSpPr/>
          <p:nvPr/>
        </p:nvSpPr>
        <p:spPr>
          <a:xfrm>
            <a:off x="2286000" y="3371760"/>
            <a:ext cx="45720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partment of Veterinary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ihar Veterinary College, Pa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Bihar Animal Sciences University, Patna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3"/>
          <p:cNvSpPr/>
          <p:nvPr/>
        </p:nvSpPr>
        <p:spPr>
          <a:xfrm flipV="1" rot="10800000">
            <a:off x="2286000" y="3540600"/>
            <a:ext cx="45720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Pallav Shekh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5"/>
          <p:cNvSpPr/>
          <p:nvPr/>
        </p:nvSpPr>
        <p:spPr>
          <a:xfrm>
            <a:off x="2403360" y="5645160"/>
            <a:ext cx="433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Vivek Kumar Sin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5" descr=""/>
          <p:cNvPicPr/>
          <p:nvPr/>
        </p:nvPicPr>
        <p:blipFill>
          <a:blip r:embed="rId3"/>
          <a:stretch/>
        </p:blipFill>
        <p:spPr>
          <a:xfrm>
            <a:off x="6173640" y="2502000"/>
            <a:ext cx="1133640" cy="121896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2" descr=""/>
          <p:cNvPicPr/>
          <p:nvPr/>
        </p:nvPicPr>
        <p:blipFill>
          <a:blip r:embed="rId4"/>
          <a:stretch/>
        </p:blipFill>
        <p:spPr>
          <a:xfrm>
            <a:off x="3200400" y="1643040"/>
            <a:ext cx="27432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Collection and storage of blood should be done asepticall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Collect less than 25% of a donor animal’s blood or 10-15ml blood/kg body wt. can be drawn off at 1 time without dange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Blood Collection…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1" name="Picture 4" descr="H:\Images\200908\060820091484.jpg"/>
          <p:cNvPicPr/>
          <p:nvPr/>
        </p:nvPicPr>
        <p:blipFill>
          <a:blip r:embed="rId1"/>
          <a:stretch/>
        </p:blipFill>
        <p:spPr>
          <a:xfrm>
            <a:off x="2378160" y="2803680"/>
            <a:ext cx="2327040" cy="3105000"/>
          </a:xfrm>
          <a:prstGeom prst="rect">
            <a:avLst/>
          </a:prstGeom>
          <a:ln w="0">
            <a:noFill/>
          </a:ln>
        </p:spPr>
      </p:pic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3" name="Picture 5" descr="H:\Images\200908\060820091485.jpg"/>
          <p:cNvPicPr/>
          <p:nvPr/>
        </p:nvPicPr>
        <p:blipFill>
          <a:blip r:embed="rId2"/>
          <a:stretch/>
        </p:blipFill>
        <p:spPr>
          <a:xfrm>
            <a:off x="5767560" y="2800440"/>
            <a:ext cx="2328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6" name="Picture 2" descr="H:\Images\200908\060820091487.jpg"/>
          <p:cNvPicPr/>
          <p:nvPr/>
        </p:nvPicPr>
        <p:blipFill>
          <a:blip r:embed="rId1"/>
          <a:stretch/>
        </p:blipFill>
        <p:spPr>
          <a:xfrm>
            <a:off x="2378160" y="2803680"/>
            <a:ext cx="2327040" cy="3105000"/>
          </a:xfrm>
          <a:prstGeom prst="rect">
            <a:avLst/>
          </a:prstGeom>
          <a:ln w="0">
            <a:noFill/>
          </a:ln>
        </p:spPr>
      </p:pic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8" name="Picture 3" descr="H:\Images\200908\060820091488.jpg"/>
          <p:cNvPicPr/>
          <p:nvPr/>
        </p:nvPicPr>
        <p:blipFill>
          <a:blip r:embed="rId2"/>
          <a:stretch/>
        </p:blipFill>
        <p:spPr>
          <a:xfrm>
            <a:off x="5767560" y="2800440"/>
            <a:ext cx="2328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1" name="Picture 2" descr="H:\Images\200908\060820091489.jpg"/>
          <p:cNvPicPr/>
          <p:nvPr/>
        </p:nvPicPr>
        <p:blipFill>
          <a:blip r:embed="rId1"/>
          <a:stretch/>
        </p:blipFill>
        <p:spPr>
          <a:xfrm>
            <a:off x="2378160" y="2803680"/>
            <a:ext cx="2327040" cy="3105000"/>
          </a:xfrm>
          <a:prstGeom prst="rect">
            <a:avLst/>
          </a:prstGeom>
          <a:ln w="0">
            <a:noFill/>
          </a:ln>
        </p:spPr>
      </p:pic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3" name="Picture 3" descr="H:\Images\200908\060820091490.jpg"/>
          <p:cNvPicPr/>
          <p:nvPr/>
        </p:nvPicPr>
        <p:blipFill>
          <a:blip r:embed="rId2"/>
          <a:stretch/>
        </p:blipFill>
        <p:spPr>
          <a:xfrm>
            <a:off x="5767560" y="2800440"/>
            <a:ext cx="2328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5" name="Picture 5" descr="Image030"/>
          <p:cNvPicPr/>
          <p:nvPr/>
        </p:nvPicPr>
        <p:blipFill>
          <a:blip r:embed="rId1"/>
          <a:stretch/>
        </p:blipFill>
        <p:spPr>
          <a:xfrm>
            <a:off x="2743200" y="1981080"/>
            <a:ext cx="39625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8" name="Picture 4" descr="140620091364"/>
          <p:cNvPicPr/>
          <p:nvPr/>
        </p:nvPicPr>
        <p:blipFill>
          <a:blip r:embed="rId1"/>
          <a:stretch/>
        </p:blipFill>
        <p:spPr>
          <a:xfrm>
            <a:off x="1943280" y="3156120"/>
            <a:ext cx="3197160" cy="2400120"/>
          </a:xfrm>
          <a:prstGeom prst="rect">
            <a:avLst/>
          </a:prstGeom>
          <a:ln w="0">
            <a:noFill/>
          </a:ln>
        </p:spPr>
      </p:pic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0" name="Picture 4" descr="140620091366"/>
          <p:cNvPicPr/>
          <p:nvPr/>
        </p:nvPicPr>
        <p:blipFill>
          <a:blip r:embed="rId2"/>
          <a:stretch/>
        </p:blipFill>
        <p:spPr>
          <a:xfrm>
            <a:off x="5334120" y="3154320"/>
            <a:ext cx="3195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3" name="Picture 2" descr="H:\Images\200908\060820091491.jpg"/>
          <p:cNvPicPr/>
          <p:nvPr/>
        </p:nvPicPr>
        <p:blipFill>
          <a:blip r:embed="rId1"/>
          <a:stretch/>
        </p:blipFill>
        <p:spPr>
          <a:xfrm>
            <a:off x="2378160" y="2803680"/>
            <a:ext cx="2327040" cy="310500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5334120" y="2800080"/>
            <a:ext cx="319536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Cross Matching Techniqu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942920" y="2136240"/>
            <a:ext cx="319716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The RBC surface have antigen which may react with Antibodies in Plasma of other animals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RBC lysis or agglutination of RBC or both but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Natural occurring Antibodies are rare in animals as in man thus it is safe to give first blood transfusion without cross matching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There are two types of cross matching:-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Major cross match Technique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Minor cross match Techniqu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942920" y="2136240"/>
            <a:ext cx="319716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Collect 2ml blood from donor and recipient in test tube having anticoagulant EDTA or citrate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Centrifuge the tube and collect plasma in separate tube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Wash the donor and recipient RBC 3 times with 0.9% normal saline solution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Centrifuge after each washing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Prepare 3-4% washed cell suspension of donor and recipient RBC in normal saline, percentage is not critica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Major cross match consist of combining equal vol. two drop of donor RBC suspension and recipient plasma mixed in equal quantity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Minor cross match consist of combining equal vol. two drop of donor plasma and necipient red cell suspension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This is reverse of major cross match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IN" sz="1400" spc="-1" strike="noStrike">
                <a:solidFill>
                  <a:srgbClr val="ff0000"/>
                </a:solidFill>
                <a:latin typeface="Century Gothic"/>
              </a:rPr>
              <a:t>This method is important only in species with naturally occurring iso antibodies or if the donor has been previously transfused or in more previously pregnant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43" name="Content Placeholder 5" descr=""/>
          <p:cNvPicPr/>
          <p:nvPr/>
        </p:nvPicPr>
        <p:blipFill>
          <a:blip r:embed="rId1"/>
          <a:stretch/>
        </p:blipFill>
        <p:spPr>
          <a:xfrm>
            <a:off x="1901880" y="2120760"/>
            <a:ext cx="66326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676520" y="623520"/>
            <a:ext cx="68580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Introduction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Blood is a fluid connecting tissue consist of a fluid medium with suspended cellular constituents [WBC &amp; RBC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ts main function is to supply oxygen, essential nutrients, enzymes, hormones, water &amp; electrolyt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t provides buffering system to the living tissu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t neurone the metabolic waste product as the 1</a:t>
            </a:r>
            <a:r>
              <a:rPr b="0" lang="en-IN" sz="1800" spc="-1" strike="noStrike" baseline="30000">
                <a:solidFill>
                  <a:srgbClr val="404040"/>
                </a:solidFill>
                <a:latin typeface="Century Gothic"/>
              </a:rPr>
              <a:t>st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stage of there elimination from the bod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entury Gothic"/>
              </a:rPr>
              <a:t>Matching and Cross matching test before Blood Transfusio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5" name="Picture 4" descr="Image031"/>
          <p:cNvPicPr/>
          <p:nvPr/>
        </p:nvPicPr>
        <p:blipFill>
          <a:blip r:embed="rId1"/>
          <a:stretch/>
        </p:blipFill>
        <p:spPr>
          <a:xfrm>
            <a:off x="2376360" y="1676520"/>
            <a:ext cx="4786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Blood Volume required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1942920" y="2133360"/>
            <a:ext cx="6591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uminant, Blood lost (litre) =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[Normal PCV – Patient PCV] x 0.08 x Body w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       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Normal PCV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Straight Connector 9"/>
          <p:cNvSpPr/>
          <p:nvPr/>
        </p:nvSpPr>
        <p:spPr>
          <a:xfrm>
            <a:off x="2362320" y="3581280"/>
            <a:ext cx="320040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Feline, Vol. of blood to transfuse (ml)=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Body wt (kg) x Desired increased in Hb x 70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         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onor Hb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Straight Connector 4"/>
          <p:cNvSpPr/>
          <p:nvPr/>
        </p:nvSpPr>
        <p:spPr>
          <a:xfrm>
            <a:off x="2362320" y="3581280"/>
            <a:ext cx="403848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anine, Vol. of blood to transfuse (ml)=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Body wt (kg) x 90 x (Desired PCV – Patient PCV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                                          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onor PCV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Straight Connector 4"/>
          <p:cNvSpPr/>
          <p:nvPr/>
        </p:nvSpPr>
        <p:spPr>
          <a:xfrm>
            <a:off x="3962520" y="3429000"/>
            <a:ext cx="365760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Rate of Blood Transfusion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1294920" y="2133720"/>
            <a:ext cx="7239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he blood should be transfused at slow rate (0.25ml/kg/h) for the 1</a:t>
            </a:r>
            <a:r>
              <a:rPr b="0" lang="en-IN" sz="1800" spc="-1" strike="noStrike" baseline="30000">
                <a:solidFill>
                  <a:srgbClr val="404040"/>
                </a:solidFill>
                <a:latin typeface="Century Gothic"/>
              </a:rPr>
              <a:t>st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15 min &amp; then animals monitored for adverse reac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Whole blood frequently is not the ideal product to be administered in all situa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f O2 carrying capacity is reduced =&gt; only RB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eplacement of circulatory vol. =&gt; Crystalloid or colloid solu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oagulopathy disorder =&gt; Fresh &amp; frozen plasm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hrombocytopenia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=&gt; Platelet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Risk of Blood Transfusion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estlessness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weating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iccup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achycardia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achypnoe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&amp; dyspnoe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ympany in rumina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aliv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Vomi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orses are highly suscepti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isk is much greater with transfusion &amp; reaction usually is evident within 1</a:t>
            </a:r>
            <a:r>
              <a:rPr b="0" lang="en-IN" sz="1800" spc="-1" strike="noStrike" baseline="30000">
                <a:solidFill>
                  <a:srgbClr val="404040"/>
                </a:solidFill>
                <a:latin typeface="Century Gothic"/>
              </a:rPr>
              <a:t>st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few min of administra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pinephrine (1:1000) @ 50ml/450kg B.wt. S/C or I/M rout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apid acting corticosteroi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rednisolone sodium @ 0.5 - 1 mg/kg Body wt. I/m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examethasone @ 0.5 – 0.1 mg/kg Body wt. I/V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Disadvanta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1600200" y="1447920"/>
            <a:ext cx="6934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cute haemolysi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epsis from contaminated Bloo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ypocalcaemia from too much citrate and hypervolem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Urticaria fever or vomition are seen occasionally spread of disease may occur from donor to recipient such as anaplasma, babesi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etrovirus (feline or bovine leukaemia, equine infections anaemia) and some rickettsial &amp; bacterial diseas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Picture 3" descr=""/>
          <p:cNvPicPr/>
          <p:nvPr/>
        </p:nvPicPr>
        <p:blipFill>
          <a:blip r:embed="rId1"/>
          <a:stretch/>
        </p:blipFill>
        <p:spPr>
          <a:xfrm rot="19417800">
            <a:off x="487080" y="861480"/>
            <a:ext cx="3994200" cy="218448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4" descr=""/>
          <p:cNvPicPr/>
          <p:nvPr/>
        </p:nvPicPr>
        <p:blipFill>
          <a:blip r:embed="rId2"/>
          <a:stretch/>
        </p:blipFill>
        <p:spPr>
          <a:xfrm rot="2401800">
            <a:off x="4827240" y="1044360"/>
            <a:ext cx="3882960" cy="268272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5" descr=""/>
          <p:cNvPicPr/>
          <p:nvPr/>
        </p:nvPicPr>
        <p:blipFill>
          <a:blip r:embed="rId3"/>
          <a:stretch/>
        </p:blipFill>
        <p:spPr>
          <a:xfrm>
            <a:off x="2084400" y="3597120"/>
            <a:ext cx="4240080" cy="2575080"/>
          </a:xfrm>
          <a:prstGeom prst="rect">
            <a:avLst/>
          </a:prstGeom>
          <a:ln w="0">
            <a:noFill/>
          </a:ln>
        </p:spPr>
      </p:pic>
      <p:sp>
        <p:nvSpPr>
          <p:cNvPr id="1266" name="TextBox 6"/>
          <p:cNvSpPr/>
          <p:nvPr/>
        </p:nvSpPr>
        <p:spPr>
          <a:xfrm>
            <a:off x="350532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Box 8"/>
          <p:cNvSpPr/>
          <p:nvPr/>
        </p:nvSpPr>
        <p:spPr>
          <a:xfrm>
            <a:off x="1295280" y="914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Box 9"/>
          <p:cNvSpPr/>
          <p:nvPr/>
        </p:nvSpPr>
        <p:spPr>
          <a:xfrm>
            <a:off x="7015320" y="914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10"/>
          <p:cNvSpPr/>
          <p:nvPr/>
        </p:nvSpPr>
        <p:spPr>
          <a:xfrm>
            <a:off x="22860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Blood Gro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Content Placeholder 3" descr=""/>
          <p:cNvPicPr/>
          <p:nvPr/>
        </p:nvPicPr>
        <p:blipFill>
          <a:blip r:embed="rId1"/>
          <a:stretch/>
        </p:blipFill>
        <p:spPr>
          <a:xfrm>
            <a:off x="517680" y="1905120"/>
            <a:ext cx="853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dic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lood transfusion done is several cases lik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Anaemia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Trauma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Coagulopathi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Platelet disorde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Epistaxi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Spleenic ruptur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&amp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Gastrointestinal haemorrhag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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Criteri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he parameter suggesting the need for blood transfusion include decrease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emoglobin (&lt;7g/dl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ecrease PCV (&lt;20%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ecrease plasma protein concentration (&lt;3.5g/dl),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onor Criteria -  Do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og  with minimum 25 kg w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ge 1-8year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PCV of donar around 40%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be vaccinate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be free from blood parasit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Cattle and Hor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1066680" y="14479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The Blood donor animals should be:-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Healthy Young adult with good body condition &amp; good body siz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Free from blood borne dis. viz. Equine infection anaemia (horse), Bovine leucosis complex, anaplasmosis (cattle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Donor animal should never receive blood transfus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No history of receiving blood-based vaccine eg anaplasmosis vaccine in cattl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Blood Colle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523880" y="21333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Restrain the Donor animal with sedation or anaesthesi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Puncture into the jugular Vein is method of choice using a 4-18 gauge needl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Collection can be from both jugular vein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A choke rope to increase the venous blood pressure facilitates blood collection in cattl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Content Placeholder 2" descr=""/>
          <p:cNvPicPr/>
          <p:nvPr/>
        </p:nvPicPr>
        <p:blipFill>
          <a:blip r:embed="rId1"/>
          <a:stretch/>
        </p:blipFill>
        <p:spPr>
          <a:xfrm>
            <a:off x="1633680" y="981000"/>
            <a:ext cx="69008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ijayakumar</dc:creator>
  <dc:description/>
  <dc:language>en-US</dc:language>
  <cp:lastModifiedBy>Windows User</cp:lastModifiedBy>
  <dcterms:modified xsi:type="dcterms:W3CDTF">2020-04-21T08:23:56Z</dcterms:modified>
  <cp:revision>281</cp:revision>
  <dc:subject/>
  <dc:title>Major credit seminar  on Prostatic disorders in dogs - An overview</dc:title>
</cp:coreProperties>
</file>