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4EFC-B478-4215-902C-A67D55BC6D1E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B0D3-8C2F-47B8-A287-1D4E6DFCA581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1B4-DF75-4EA7-AA34-42D2ADC4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AB7-5AD7-4DA8-9BC4-C9F42044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2ACFC-589F-4111-93C3-6AEA2073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89391-3678-49FF-B6D2-0645B052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3BEC0-E683-4304-926B-95F75773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6348A-E526-48FA-B5B9-C4F0A510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595F-1E8E-4369-8221-4CBD47ED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48E50-5249-46C7-9DA6-E91E07A2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DB42A-A8A3-4FFA-BC05-A8F522D9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801D0-7BBD-43BB-BCAE-40962F89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5FDCF-ED1E-4BCE-8F9D-08E90575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20820-1797-4F5B-8505-661B44F5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C30-C3D9-449D-A603-64DBA938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A7813-096E-4F90-87CA-A93319C3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324CC-B218-420B-B89B-5F8DEE53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BAA42-6695-4983-9CD3-0B95F09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2375F-2DDB-41DE-915C-1C9F5F73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3BB0B-A1D1-48E9-8F1E-D1E097EB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10280-81F4-4308-8B89-D6591945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BD956-EBB3-41EE-8632-14388F74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ADDB4-B896-4C28-A496-E23B3DCF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5D35F-ACC0-48B2-B3D8-30B1B3E3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96BC4-2D0B-4FB6-A50A-872439F3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7D0-4A96-4FED-84DF-AE583937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9CC7F-37A1-433B-BF3D-E116A17E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7D7EC-CA64-458E-BEDF-13C419A3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63376-319B-4C83-A20E-1A63DF12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53864-9C9A-4794-A2FA-E98B20D6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EB727-C116-4179-BC2C-6F4FAB1A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33923-071C-4A3C-B3D0-7202CCF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073C4-BD31-4888-A009-BC7B599C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54A52-62C8-413D-AE9B-B0530F1F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BBC06-2032-4BEC-8655-AEB54DD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B1824-7A1A-4A9A-A410-01CA6D6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BE75-9811-4DB8-A135-84C6BCD1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41492-0BDE-4C21-975C-6DA51F73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F1D9D-DBC8-48B6-A645-603F8CB4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9DA58-EF96-45F8-BC8E-E21C0395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D8317-07CF-41BC-AA35-175CFD44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57395-ACC5-4239-9B97-6B0B142F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9E109-3198-4C5D-BE25-89748D03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BDC5C-647B-415C-8BF6-60C2E4EE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FF42D-9572-4E94-A598-5069A5A7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8E605-7B97-4445-89A3-D46A64E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EB4BA-AF3E-4986-BFDD-07350A51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1ED1-242E-4966-9E4C-415FC75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CACEC-2EFD-4275-9B26-0793CAE5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B4EDC-537A-4849-9883-8A2E69F1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0F1CE-E795-4ED3-A6AE-F0AC656B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25FEE-29A1-4D5A-803B-6F77FE65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A529F-34F1-4675-823B-FA76F243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49141-480B-4FBF-9405-C937BD80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7E13F-5765-4228-ABD1-D13482D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17D46-05A2-440B-BC5D-DAF24658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05459-9F95-48AE-956E-9562FABA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917ED-E43A-4B6B-99CA-C717636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B137-C8FB-4DE5-9DAA-848979C5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989BD-EA2D-4678-8FC4-3BCCD48E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24DF7-4579-4609-A628-0736FAB5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AF106-CE18-4BA3-BC31-BDC9378D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A2F7E-08AF-4EBB-B889-53DACBD7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5E460-6BBB-4000-9173-5626B8A1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15BE4-BDFD-44C0-AC23-B37189F5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B29FA-9E83-4F9C-9A75-5FFF5007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B635C-5A6F-49DE-88A7-73DFC153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70D27-D788-4FC8-A26C-EC47B22D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FF161-E2B5-44CE-B31A-64F7CF75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ECD9-5E5B-44A1-B7CB-8B88F15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3D3B6-8D90-49E7-A6E8-AB1A9AB3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682A7-EADB-447A-992B-C0839356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2E27F-4503-48D1-BEE3-8ACE492A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CA6E0-12BF-4E2D-9C12-33839DD0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97280-4586-4B9E-8A82-EE306B1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EAC6B-33DE-4AA9-AE03-43660B0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4EB18-D114-4E73-A023-D3DB699F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4A3CA-BE8C-4997-8EFE-F31B50FF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1A3B7-A7F9-40E7-B55D-ADCACC39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EA4DF-1816-4A86-89CF-B546BC68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6CE0-F7B8-487B-AFAD-04712C79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11FBE-2D44-4669-A2DB-9E770AD1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14771-DF8F-408D-9AEA-875BA5C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10195-3F1B-4E26-B294-CFF6C8E6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E4525-523A-4C66-BE98-695BE27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31BB2-6193-4996-8724-26DC93A6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3F096-1CF5-40DC-87F5-DB9AFBC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65CFF-CD86-4D20-9C73-E1AB1C8D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FA1CC-BC3E-4CC5-8247-496D244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3C3E3-11BA-4871-A2CA-EB6C1A25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EB899-1CD9-4E85-BBB9-4D3A7485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B2E4-5573-4E89-94D6-76F22347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E50A3-052A-466C-B496-01A0F61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FB1E1-D168-43CE-BB71-C7B2D1C3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C85A8-0F2A-4CFF-90B9-A0910608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2CBD5-8A4C-4A15-98C0-F233ADF0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D210A-777D-4E9E-9DBF-3E70BBFB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C57D3-4C54-48F2-9AC6-C41B97A2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79B91-229B-4D98-A551-8B7E38ED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941E7-303A-458D-9C71-F5B949F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71A39-FBFF-4A60-91DB-7C0CC30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177AC1-D87E-4048-B032-130662FD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2D2B-608E-49BA-AC82-00C07FC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4C81A-2F32-4D15-9037-77BB1E70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4368C-D189-4A50-AA91-746A905B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56374-2FF0-48D1-A8A5-ACCAE314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43A86-605D-4BCB-964D-82CB9995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504EE-51D5-4675-A70F-9D1C51C2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F3F53-7CCD-4CDE-9366-F17084C2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0BC0C-D7E8-4EAA-AC01-95F4A3B8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B4603-3617-47F8-93F9-95DF6007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C0CC9-1C30-4BF9-AE80-957553D8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232A0-FA65-4C1B-9400-B8393CEC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ABD-44DE-4713-BE1B-7DE8F749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A567-DB9F-42F0-BD18-798303A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F6C2E-20C6-4C9D-8E37-A533AABF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4AEE8-93F5-4E2E-9288-EEB58167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002AE-AC1A-48AE-A8AA-05FDDEDA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E72DE-CA9D-4F05-A2F8-7C162064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9E366-8E44-4A04-AF42-0DE7F09F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87F9-0D1D-4BB3-B45B-4A285A13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3B97-5F48-42C3-8B76-31663E3E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3210-9DC9-40AE-B89D-B190D5D1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0365-1CA0-45DF-A875-DFE920CA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7B03-7ABC-4FD2-B2BC-C2AE40F0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7EFD-2CFC-4291-9E19-63CFF96C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C29E-0E55-43A1-A405-82F41223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293F-BF3D-455A-9567-2BEF2516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B4E8-FC6F-4879-AF5E-F0298658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294-9C6C-4DB4-B24A-1052A767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FB75-2A22-4978-BC93-34CC1E33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3108-867B-4AD0-BF3C-40E37B9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310B-CF99-4852-85A1-5C08AB3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CFA8-2019-4A57-A479-9180B13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F23A-B399-40CB-A76B-4A06344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7AC0E-7546-430B-8CC3-CF00056A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4956-C3CF-485F-B2CD-9231F6A0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34E7-31FC-46BD-91F3-9BC41DF4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3FFFF-20DC-4329-A80E-41702A93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503C-8D35-49C8-B28F-FC40CD43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48E-30DF-4785-8C8D-D535BEBB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769E-BA40-4C1D-892C-FE64F5E3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2EDC-25E3-432A-BE52-F7B7D708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E2CE9-1F66-4A46-ADDF-CF0C82E4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72E6-41D6-4D0B-8E6F-A594ED78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68E70-09FD-45B3-B315-4CCA5370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4ED7-75A2-4887-93D4-460EEF1E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90B7-ACB0-47FA-A3C8-95869968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2E77-67E9-44B2-988F-13D1D5D4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C958-22AD-46FF-B525-1BD9A42E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F5EE-26A7-4089-AF1D-4C29B1E3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520-3316-469F-9911-6A0604D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F90B-99E0-4D29-BB75-15081781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B3238-890F-4C06-BE10-7C26B01C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EF5E-1728-409E-8DC3-CB5D333F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875D6-C166-4B13-AEFC-833E46BA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0A5F5-F9CF-429A-91D9-DFAC8D5B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F880-6D57-4293-8855-2F92881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9802-C63F-464D-841F-6672CDE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7205A-29A6-4F3D-B87F-61D9A45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D9AD-2878-42FC-AA15-69548284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A13D-8B3B-4B80-B7ED-17DD83BF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889-BF9E-460F-91B6-534A663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B066-6309-418F-A640-6C95A09F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E9A8-523B-4052-A3F9-FE320392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8800-4661-45EB-82AB-74083DA0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CF41D-5FBC-48FB-836F-FAC1AF8C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802B7-92CC-41A4-A794-6AF91470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9D863-AD76-439D-8B6E-94B6D2A3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91C80-4B63-4D91-BB03-32B81056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68F53-D963-402B-AAAC-F5653EA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7F5E7-7DD1-416D-B940-B612C22E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AA16-27FC-41CF-96A4-87CE2F3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2ED-67C8-4C61-9BD4-46DA0D9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70958-6B77-4564-8E27-0419D50E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76817-38E6-44CA-861E-39EEF351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EAA0-5438-4FA0-B8A0-A4B19251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CEA34-121E-405E-8F76-3A39687C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53475-C139-4882-BB78-E7872FB7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59F5B-D97A-4C60-B4E9-00CDBC2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5777-ED50-4257-AC3F-D7AB74E4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D66C0-BFE8-4C56-A29F-F51F83C6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85C77-4A71-4418-93E4-F3630ED3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99C08-6EA7-44B3-8141-EAD25CC7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DDF-328D-473F-B3FD-789DF245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1334-772D-4D66-BD9A-614E35D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72137-9D2B-4B8E-85DE-DA651E4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E017F-C25E-4347-A3F3-A1C43F61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FB85-2DFB-478C-8A9B-078A680C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6BC15-0D10-4A70-A6B9-B98F21C7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7BD90-3FEA-4EF7-9F3A-51E345B6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57F14-AF6F-4438-98AD-3A8B46F9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2ED2B-80A1-4C96-9D38-5B984E72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3696B-F201-4ECC-A5FD-D8686F24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ABC44-D956-45CF-BA8B-68E8A4C7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E8F-DD86-4D10-80B8-910F075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51CC0-C22B-4ECF-B561-C475C9A4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ECCE4-71E7-4EB6-8463-DCE2C71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1B813-78F4-4A48-A48F-FA5AD2E3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D31E8-B2E0-4083-83D5-F29DDBB8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0C08F-3A6A-46E6-93D2-BC872AD9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4E19-0779-467F-9921-318C34EE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E6BC-D978-4BF2-8526-CC340AFF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88627-D8BD-4F38-88E2-447CAA06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9B05C-6620-4739-AAD2-EA02660D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3FEDB-2E1B-41D9-B991-1AEBF479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5929-3D99-4034-9040-FC708713AC1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AB50-F494-4B78-9AD7-3B35A857F62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2B14-BA64-4631-B48E-232C6A3C783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4029-76E9-4550-9757-CFDFDF9C66D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3E94-9899-4EC5-988B-7ACC4019F91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84E2-24D4-4366-B408-F5339DB8E4B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BADE-0A9B-497C-8D09-C2396A4EA18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9552-8FC3-4717-9744-4FBEA6E6974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A097-9A61-4F2E-8FA8-684B47AC9C5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A325-1EBA-462B-A7C7-59CCF531058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A9DC-ABCE-4220-B8FB-8C82D51ACA5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B63C-F87D-4C1F-A00F-481C0D00D91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2DEE-7269-4BA6-8DB9-481ECB2A446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8402-DCEC-42CB-B4E5-F44D626B2F4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5231-AEEB-4AE7-9E9C-99028B9730F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B99-192A-4F94-8355-3469BFE44C3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13B2-A0C6-4243-83E8-C02AEEDDD58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77480" y="1987560"/>
            <a:ext cx="72010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28600" y="3546360"/>
            <a:ext cx="87501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3" descr=""/>
          <p:cNvPicPr/>
          <p:nvPr/>
        </p:nvPicPr>
        <p:blipFill>
          <a:blip r:embed="rId1"/>
          <a:stretch/>
        </p:blipFill>
        <p:spPr>
          <a:xfrm>
            <a:off x="596880" y="1336680"/>
            <a:ext cx="1536840" cy="118116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"/>
          <p:cNvPicPr/>
          <p:nvPr/>
        </p:nvPicPr>
        <p:blipFill>
          <a:blip r:embed="rId2"/>
          <a:stretch/>
        </p:blipFill>
        <p:spPr>
          <a:xfrm>
            <a:off x="7356600" y="1482840"/>
            <a:ext cx="1252440" cy="806400"/>
          </a:xfrm>
          <a:prstGeom prst="rect">
            <a:avLst/>
          </a:prstGeom>
          <a:ln w="0">
            <a:noFill/>
          </a:ln>
        </p:spPr>
      </p:pic>
      <p:sp>
        <p:nvSpPr>
          <p:cNvPr id="1187" name="Rectangle 6"/>
          <p:cNvSpPr/>
          <p:nvPr/>
        </p:nvSpPr>
        <p:spPr>
          <a:xfrm>
            <a:off x="2133720" y="1073160"/>
            <a:ext cx="50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</a:t>
            </a:r>
            <a:r>
              <a:rPr b="1" lang="en-IN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lood Transfusion in Cattle and Dog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8"/>
          <p:cNvSpPr/>
          <p:nvPr/>
        </p:nvSpPr>
        <p:spPr>
          <a:xfrm>
            <a:off x="2286000" y="3371760"/>
            <a:ext cx="45720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partment of Veterinary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ihar Veterinary College, Pa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Bihar Animal Sciences University, Patna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3"/>
          <p:cNvSpPr/>
          <p:nvPr/>
        </p:nvSpPr>
        <p:spPr>
          <a:xfrm flipV="1" rot="10800000">
            <a:off x="2286000" y="3540600"/>
            <a:ext cx="45720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Pallav Shekh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5"/>
          <p:cNvSpPr/>
          <p:nvPr/>
        </p:nvSpPr>
        <p:spPr>
          <a:xfrm>
            <a:off x="2403360" y="5645160"/>
            <a:ext cx="433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Vivek Kumar Sin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5" descr=""/>
          <p:cNvPicPr/>
          <p:nvPr/>
        </p:nvPicPr>
        <p:blipFill>
          <a:blip r:embed="rId3"/>
          <a:stretch/>
        </p:blipFill>
        <p:spPr>
          <a:xfrm>
            <a:off x="6173640" y="2502000"/>
            <a:ext cx="1133640" cy="121896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2" descr=""/>
          <p:cNvPicPr/>
          <p:nvPr/>
        </p:nvPicPr>
        <p:blipFill>
          <a:blip r:embed="rId4"/>
          <a:stretch/>
        </p:blipFill>
        <p:spPr>
          <a:xfrm>
            <a:off x="3200400" y="1643040"/>
            <a:ext cx="2743200" cy="1671840"/>
          </a:xfrm>
          <a:prstGeom prst="rect">
            <a:avLst/>
          </a:prstGeom>
          <a:ln w="0">
            <a:noFill/>
          </a:ln>
        </p:spPr>
      </p:pic>
      <p:sp>
        <p:nvSpPr>
          <p:cNvPr id="1193" name="TextBox 3"/>
          <p:cNvSpPr/>
          <p:nvPr/>
        </p:nvSpPr>
        <p:spPr>
          <a:xfrm>
            <a:off x="6863760" y="59436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Unit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Collection and storage of blood should be done asepticall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Collect less than 25% of a donor animal’s blood or 10-15ml blood/kg body wt. can be drawn off at 1 time without dange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Blood Collection…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2" name="Picture 4" descr="H:\Images\200908\060820091484.jpg"/>
          <p:cNvPicPr/>
          <p:nvPr/>
        </p:nvPicPr>
        <p:blipFill>
          <a:blip r:embed="rId1"/>
          <a:stretch/>
        </p:blipFill>
        <p:spPr>
          <a:xfrm>
            <a:off x="2378160" y="2803680"/>
            <a:ext cx="2327040" cy="3105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4" name="Picture 5" descr="H:\Images\200908\060820091485.jpg"/>
          <p:cNvPicPr/>
          <p:nvPr/>
        </p:nvPicPr>
        <p:blipFill>
          <a:blip r:embed="rId2"/>
          <a:stretch/>
        </p:blipFill>
        <p:spPr>
          <a:xfrm>
            <a:off x="5767560" y="2800440"/>
            <a:ext cx="2328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7" name="Picture 2" descr="H:\Images\200908\060820091487.jpg"/>
          <p:cNvPicPr/>
          <p:nvPr/>
        </p:nvPicPr>
        <p:blipFill>
          <a:blip r:embed="rId1"/>
          <a:stretch/>
        </p:blipFill>
        <p:spPr>
          <a:xfrm>
            <a:off x="2378160" y="2803680"/>
            <a:ext cx="2327040" cy="3105000"/>
          </a:xfrm>
          <a:prstGeom prst="rect">
            <a:avLst/>
          </a:prstGeom>
          <a:ln w="0">
            <a:noFill/>
          </a:ln>
        </p:spPr>
      </p:pic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9" name="Picture 3" descr="H:\Images\200908\060820091488.jpg"/>
          <p:cNvPicPr/>
          <p:nvPr/>
        </p:nvPicPr>
        <p:blipFill>
          <a:blip r:embed="rId2"/>
          <a:stretch/>
        </p:blipFill>
        <p:spPr>
          <a:xfrm>
            <a:off x="5767560" y="2800440"/>
            <a:ext cx="2328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2" name="Picture 2" descr="H:\Images\200908\060820091489.jpg"/>
          <p:cNvPicPr/>
          <p:nvPr/>
        </p:nvPicPr>
        <p:blipFill>
          <a:blip r:embed="rId1"/>
          <a:stretch/>
        </p:blipFill>
        <p:spPr>
          <a:xfrm>
            <a:off x="2378160" y="2803680"/>
            <a:ext cx="2327040" cy="3105000"/>
          </a:xfrm>
          <a:prstGeom prst="rect">
            <a:avLst/>
          </a:prstGeom>
          <a:ln w="0">
            <a:noFill/>
          </a:ln>
        </p:spPr>
      </p:pic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4" name="Picture 3" descr="H:\Images\200908\060820091490.jpg"/>
          <p:cNvPicPr/>
          <p:nvPr/>
        </p:nvPicPr>
        <p:blipFill>
          <a:blip r:embed="rId2"/>
          <a:stretch/>
        </p:blipFill>
        <p:spPr>
          <a:xfrm>
            <a:off x="5767560" y="2800440"/>
            <a:ext cx="2328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6" name="Picture 5" descr="Image030"/>
          <p:cNvPicPr/>
          <p:nvPr/>
        </p:nvPicPr>
        <p:blipFill>
          <a:blip r:embed="rId1"/>
          <a:stretch/>
        </p:blipFill>
        <p:spPr>
          <a:xfrm>
            <a:off x="2743200" y="1981080"/>
            <a:ext cx="39625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9" name="Picture 4" descr="140620091364"/>
          <p:cNvPicPr/>
          <p:nvPr/>
        </p:nvPicPr>
        <p:blipFill>
          <a:blip r:embed="rId1"/>
          <a:stretch/>
        </p:blipFill>
        <p:spPr>
          <a:xfrm>
            <a:off x="1943280" y="3156120"/>
            <a:ext cx="3197160" cy="240012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1" name="Picture 4" descr="140620091366"/>
          <p:cNvPicPr/>
          <p:nvPr/>
        </p:nvPicPr>
        <p:blipFill>
          <a:blip r:embed="rId2"/>
          <a:stretch/>
        </p:blipFill>
        <p:spPr>
          <a:xfrm>
            <a:off x="5334120" y="3154320"/>
            <a:ext cx="3195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265480" y="2226960"/>
            <a:ext cx="2874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4" name="Picture 2" descr="H:\Images\200908\060820091491.jpg"/>
          <p:cNvPicPr/>
          <p:nvPr/>
        </p:nvPicPr>
        <p:blipFill>
          <a:blip r:embed="rId1"/>
          <a:stretch/>
        </p:blipFill>
        <p:spPr>
          <a:xfrm>
            <a:off x="2378160" y="2803680"/>
            <a:ext cx="2327040" cy="310500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5334120" y="2800080"/>
            <a:ext cx="319536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Cross Matching Techniqu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942920" y="2136240"/>
            <a:ext cx="319716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The RBC surface have antigen which may react with Antibodies in Plasma of other animals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RBC lysis or agglutination of RBC or both but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Natural occurring Antibodies are rare in animals as in man thus it is safe to give first blood transfusion without cross matching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There are two types of cross matching:-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Major cross match Technique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700" spc="-1" strike="noStrike">
                <a:solidFill>
                  <a:srgbClr val="404040"/>
                </a:solidFill>
                <a:latin typeface="Century Gothic"/>
              </a:rPr>
              <a:t>Minor cross match Techniqu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1942920" y="2136240"/>
            <a:ext cx="319716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Collect 2ml blood from donor and recipient in test tube having anticoagulant EDTA or citrate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Centrifuge the tube and collect plasma in separate tube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Wash the donor and recipient RBC 3 times with 0.9% normal saline solution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Centrifuge after each washing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404040"/>
                </a:solidFill>
                <a:latin typeface="Century Gothic"/>
              </a:rPr>
              <a:t>Prepare 3-4% washed cell suspension of donor and recipient RBC in normal saline, percentage is not critica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Major cross match consist of combining equal vol. two drop of donor RBC suspension and recipient plasma mixed in equal quantity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Minor cross match consist of combining equal vol. two drop of donor plasma and necipient red cell suspension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This is reverse of major cross match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IN" sz="1400" spc="-1" strike="noStrike">
                <a:solidFill>
                  <a:srgbClr val="ff0000"/>
                </a:solidFill>
                <a:latin typeface="Century Gothic"/>
              </a:rPr>
              <a:t>This method is important only in species with naturally occurring iso antibodies or if the donor has been previously transfused or in more previously pregnant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44" name="Content Placeholder 5" descr=""/>
          <p:cNvPicPr/>
          <p:nvPr/>
        </p:nvPicPr>
        <p:blipFill>
          <a:blip r:embed="rId1"/>
          <a:stretch/>
        </p:blipFill>
        <p:spPr>
          <a:xfrm>
            <a:off x="1901880" y="2120760"/>
            <a:ext cx="66326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520" y="623520"/>
            <a:ext cx="68580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Introduction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Blood is a fluid connecting tissue consist of a fluid medium with suspended cellular constituents [WBC &amp; RBC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ts main function is to supply oxygen, essential nutrients, enzymes, hormones, water &amp; electrolyt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t provides buffering system to the living tissu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t neurone the metabolic waste product as the 1</a:t>
            </a:r>
            <a:r>
              <a:rPr b="0" lang="en-IN" sz="1800" spc="-1" strike="noStrike" baseline="30000">
                <a:solidFill>
                  <a:srgbClr val="404040"/>
                </a:solidFill>
                <a:latin typeface="Century Gothic"/>
              </a:rPr>
              <a:t>st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stage of there elimination from the bod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entury Gothic"/>
              </a:rPr>
              <a:t>Matching and Cross matching test before Blood Transfusio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6" name="Picture 4" descr="Image031"/>
          <p:cNvPicPr/>
          <p:nvPr/>
        </p:nvPicPr>
        <p:blipFill>
          <a:blip r:embed="rId1"/>
          <a:stretch/>
        </p:blipFill>
        <p:spPr>
          <a:xfrm>
            <a:off x="2376360" y="1676520"/>
            <a:ext cx="4786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Blood Volume required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1942920" y="2133360"/>
            <a:ext cx="6591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uminant, Blood lost (litre) =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[Normal PCV – Patient PCV] x 0.08 x Body w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       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Normal PCV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9" name="Straight Connector 9"/>
          <p:cNvSpPr/>
          <p:nvPr/>
        </p:nvSpPr>
        <p:spPr>
          <a:xfrm>
            <a:off x="2362320" y="3581280"/>
            <a:ext cx="320040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Feline, Vol. of blood to transfuse (ml)=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Body wt (kg) x Desired increased in Hb x 70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         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onor Hb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Straight Connector 4"/>
          <p:cNvSpPr/>
          <p:nvPr/>
        </p:nvSpPr>
        <p:spPr>
          <a:xfrm>
            <a:off x="2362320" y="3581280"/>
            <a:ext cx="403848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anine, Vol. of blood to transfuse (ml)=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Body wt (kg) x 90 x (Desired PCV – Patient PCV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                                                  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onor PCV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Straight Connector 4"/>
          <p:cNvSpPr/>
          <p:nvPr/>
        </p:nvSpPr>
        <p:spPr>
          <a:xfrm>
            <a:off x="3962520" y="3429000"/>
            <a:ext cx="365760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Rate of Blood Transfusion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294920" y="2133720"/>
            <a:ext cx="7239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he blood should be transfused at slow rate (0.25ml/kg/h) for the 1</a:t>
            </a:r>
            <a:r>
              <a:rPr b="0" lang="en-IN" sz="1800" spc="-1" strike="noStrike" baseline="30000">
                <a:solidFill>
                  <a:srgbClr val="404040"/>
                </a:solidFill>
                <a:latin typeface="Century Gothic"/>
              </a:rPr>
              <a:t>st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15 min &amp; then animals monitored for adverse reac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Whole blood frequently is not the ideal product to be administered in all situa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f O2 carrying capacity is reduced =&gt; only RB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eplacement of circulatory vol. =&gt; Crystalloid or colloid solu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Coagulopathy disorder =&gt; Fresh &amp; frozen plasm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hrombocytopenia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=&gt; Platelet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262626"/>
                </a:solidFill>
                <a:latin typeface="Century Gothic"/>
              </a:rPr>
              <a:t>Risk of Blood Transfusion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estlessness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weating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iccup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achycardia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achypnoe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&amp; dyspnoe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Tympany in rumina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aliv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Vomi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orses are highly suscepti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isk is much greater with transfusion &amp; reaction usually is evident within 1</a:t>
            </a:r>
            <a:r>
              <a:rPr b="0" lang="en-IN" sz="1800" spc="-1" strike="noStrike" baseline="30000">
                <a:solidFill>
                  <a:srgbClr val="404040"/>
                </a:solidFill>
                <a:latin typeface="Century Gothic"/>
              </a:rPr>
              <a:t>st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few min of administra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Epinephrine (1:1000) @ 50ml/450kg B.wt. S/C or I/M rout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apid acting corticosteroi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Prednisolone sodium @ 0.5 - 1 mg/kg Body wt. I/m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Dexamethasone @ 0.5 – 0.1 mg/kg Body wt. I/V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Disadvanta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600200" y="1447920"/>
            <a:ext cx="6934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cute haemolysi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Sepsis from contaminated Bloo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Hypocalcaemia from too much citrate and hypervolem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Urticaria fever or vomition are seen occasionally spread of disease may occur from donor to recipient such as anaplasma, babesi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Retrovirus (feline or bovine leukaemia, equine infections anaemia) and some rickettsial &amp; bacterial diseas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3" descr=""/>
          <p:cNvPicPr/>
          <p:nvPr/>
        </p:nvPicPr>
        <p:blipFill>
          <a:blip r:embed="rId1"/>
          <a:stretch/>
        </p:blipFill>
        <p:spPr>
          <a:xfrm rot="19417800">
            <a:off x="487080" y="861480"/>
            <a:ext cx="3994200" cy="218448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4" descr=""/>
          <p:cNvPicPr/>
          <p:nvPr/>
        </p:nvPicPr>
        <p:blipFill>
          <a:blip r:embed="rId2"/>
          <a:stretch/>
        </p:blipFill>
        <p:spPr>
          <a:xfrm rot="2401800">
            <a:off x="4827240" y="1044360"/>
            <a:ext cx="3882960" cy="268272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5" descr=""/>
          <p:cNvPicPr/>
          <p:nvPr/>
        </p:nvPicPr>
        <p:blipFill>
          <a:blip r:embed="rId3"/>
          <a:stretch/>
        </p:blipFill>
        <p:spPr>
          <a:xfrm>
            <a:off x="2084400" y="3597120"/>
            <a:ext cx="4240080" cy="2575080"/>
          </a:xfrm>
          <a:prstGeom prst="rect">
            <a:avLst/>
          </a:prstGeom>
          <a:ln w="0">
            <a:noFill/>
          </a:ln>
        </p:spPr>
      </p:pic>
      <p:sp>
        <p:nvSpPr>
          <p:cNvPr id="1267" name="TextBox 6"/>
          <p:cNvSpPr/>
          <p:nvPr/>
        </p:nvSpPr>
        <p:spPr>
          <a:xfrm>
            <a:off x="350532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Box 8"/>
          <p:cNvSpPr/>
          <p:nvPr/>
        </p:nvSpPr>
        <p:spPr>
          <a:xfrm>
            <a:off x="1295280" y="914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9"/>
          <p:cNvSpPr/>
          <p:nvPr/>
        </p:nvSpPr>
        <p:spPr>
          <a:xfrm>
            <a:off x="7015320" y="914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10"/>
          <p:cNvSpPr/>
          <p:nvPr/>
        </p:nvSpPr>
        <p:spPr>
          <a:xfrm>
            <a:off x="22860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Blood Gro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7" name="Content Placeholder 3" descr=""/>
          <p:cNvPicPr/>
          <p:nvPr/>
        </p:nvPicPr>
        <p:blipFill>
          <a:blip r:embed="rId1"/>
          <a:stretch/>
        </p:blipFill>
        <p:spPr>
          <a:xfrm>
            <a:off x="517680" y="1905120"/>
            <a:ext cx="853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dic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lood transfusion done is several cases lik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Anaemia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Trauma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Coagulopathi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Platelet disorde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Epistaxi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Spleenic ruptur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&amp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Gastrointestinal haemorrhag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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Criteri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1942920" y="2133360"/>
            <a:ext cx="6591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he parameter suggesting the need for blood transfusion include decrease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emoglobin (&lt;7g/dl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ecrease PCV (&lt;20%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ecrease plasma protein concentration (&lt;3.5g/dl),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onor Criteria -  Do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og  with minimum 25 kg w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ge 1-8year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PCV of donar around 40%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be vaccinate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be free from blood parasit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Cattle and Hor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066680" y="14479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The Blood donor animals should be:-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Healthy Young adult with good body condition &amp; good body siz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Free from blood borne dis. viz. Equine infection anaemia (horse), Bovine leucosis complex, anaplasmosis (cattle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Donor animal should never receive blood transfus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No history of receiving blood-based vaccine eg anaplasmosis vaccine in cattl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Blood Colle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1523880" y="21333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Restrain the Donor animal with sedation or anaesthesi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Puncture into the jugular Vein is method of choice using a 4-18 gauge needl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Collection can be from both jugular vein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entury Gothic"/>
              </a:rPr>
              <a:t>A choke rope to increase the venous blood pressure facilitates blood collection in cattl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Content Placeholder 2" descr=""/>
          <p:cNvPicPr/>
          <p:nvPr/>
        </p:nvPicPr>
        <p:blipFill>
          <a:blip r:embed="rId1"/>
          <a:stretch/>
        </p:blipFill>
        <p:spPr>
          <a:xfrm>
            <a:off x="1633680" y="981000"/>
            <a:ext cx="69008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ijayakumar</dc:creator>
  <dc:description/>
  <dc:language>en-US</dc:language>
  <cp:lastModifiedBy>Windows User</cp:lastModifiedBy>
  <dcterms:modified xsi:type="dcterms:W3CDTF">2020-04-26T16:56:48Z</dcterms:modified>
  <cp:revision>282</cp:revision>
  <dc:subject/>
  <dc:title>Major credit seminar  on Prostatic disorders in dogs - An overview</dc:title>
</cp:coreProperties>
</file>