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7.png" ContentType="image/png"/>
  <Override PartName="/ppt/media/image34.jpeg" ContentType="image/jpeg"/>
  <Override PartName="/ppt/media/image12.jpeg" ContentType="image/jpeg"/>
  <Override PartName="/ppt/media/image13.png" ContentType="image/png"/>
  <Override PartName="/ppt/media/image37.jpeg" ContentType="image/jpeg"/>
  <Override PartName="/ppt/media/image38.png" ContentType="image/png"/>
  <Override PartName="/ppt/media/image8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1.jpeg" ContentType="image/jpeg"/>
  <Override PartName="/ppt/media/image35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9.png" ContentType="image/png"/>
  <Override PartName="/ppt/media/image36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media/image11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73C0-E2CF-4A25-9522-7446AE4FA229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)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n bovines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)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d Surveillance test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k ring test (MRT) can be used 3-4 times a year on pooled milk samples to detect most infected he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 animal testing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tube agglutintion test (STAT) which is most widely us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pot agglutination tests like Card test and Rose Bengal Plate Test (RBPT) employ staine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ucell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s buffered to pH 3.5 or 4.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T which is the most reliable test with a relative insensitivity to antibodies produced following S-19 vaccin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i)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ementary test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enzyme immuno-assay (E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ly in India, an ELISA for bovine brucellosis has been developed by Indian Council of Agricultural Research (ICAR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ther useful variation of EIA is dot-immunoassay which can be used to screen large number of individual anim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v)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mising test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are currently not in routine use  include indirect haemolysis test (IHLT), haemolysis in gel test, radial immunodiffusion test (employing poly B), and anamnestic tes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skin delayed type hypersensitivity (SDTH) test in addition to serological test has been suggested to significantly improve the diagnosis of brucello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7FBE-75D6-485A-B6D6-5D5711C52036}" type="slidenum">
              <a:rPr b="0" lang="en-IN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31C6-E912-4CC1-A2C2-F52471CB9999}" type="slidenum">
              <a:rPr b="0" lang="en-IN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977-1D08-4D08-A1B7-6CE667D4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7E4A-9924-416C-B255-EEC1EAF7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53E-0241-42E4-8E1B-B1579679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2284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267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93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72284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2267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5AD-4DC5-44BF-B7E1-9F0A7C95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DDE2-B8AA-4B05-A76B-EABF6ECD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7D7F-D236-4FA3-844D-8EDB3E7E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AE08-E0B0-4160-92AD-6BAD9811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84C1-C7E5-4799-A261-AED8D0BC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A947-91C3-4C45-A809-9169D46D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103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8F6A-7E4D-4992-9A29-581832FE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FD78-BA84-4628-BBC5-64AE1FE4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34F3-FCBE-4A83-BB12-4AEADB65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5F29-835D-4B3C-B4F8-59CCD890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E28E-C1D7-4819-99AA-99C03B7D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46EC-1931-4ABC-9426-CA23ABDD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6657-C255-4B46-BC5D-89EB2CA6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2284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2267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72284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2267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8ED0-ED42-48EB-965F-79A14AB7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5FA7A-88BE-49A4-B878-0C56C4CF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8F112-A523-4CD4-A6CE-5DDD6A75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49284-6FB3-46D9-9C7D-C6104C3B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764CE-51B8-4A01-8CDD-FE20AA6F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1E7EB-34E6-4EBE-8F96-93B4A2CD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0318-087E-4BAD-9D90-3474E1CA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103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AAA42-8F1B-4A15-B95E-60E66564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3BB4D-80EE-4425-AAAD-7B66EDE5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3A285-7524-4B61-BF98-9291FB15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53C80-142D-4D08-9412-D411E429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16928-EABE-4551-AA4B-73DE2B09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E3596-B7EA-4EC9-86D6-25401A0C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2284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2267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2193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72284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2267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BF543-B897-4EB6-B2B6-A3BB41B3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4B4F9-F22B-474B-8278-69DE4352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F3DEB-9D38-42A9-A70C-88EA0BDB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C2410-14D8-4017-9E2D-16A5C805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0EE-FA13-48E9-ACE7-50BC8C82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485BE-91F2-4B85-8C24-D0534E98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B2B61-52BE-4B97-83E3-6EF06310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103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9D815-25C4-4DD5-9D51-D283FC38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9307B-9274-454D-B3DE-6FCF11A2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FE215-B476-491A-B370-8DEBCC26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0F501-81CA-40BE-8F16-44301E2B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F0E32-2269-49A0-8CFE-EEFF0F00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13CB2-B998-4DD0-BF7E-7FDF9E66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2284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2267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2193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72284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82267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79172-9005-42A0-BD55-829D4E69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604DF-23CA-448F-874B-C2600EA2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CE2-FEBE-4CDA-A5F6-FAB3EEA6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F2BE4-3D3F-432A-AB5C-EA06A7D0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15FD1-B7DC-4080-9E02-B314E1A3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EFCEB-77FF-4556-BD53-5352CCF8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2607E-1888-482D-A876-C4E0EF2F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103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BE1E6-30FE-4809-994A-B14BD1E8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AD979-0339-4246-BFB6-02F5E032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6E5A1-2697-4BE9-9E14-1C927099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F929B-CBEC-426E-93BB-33C34874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A142E-2A75-4BAF-B7AA-FD6AE323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413DB-55FB-4758-B85C-89EA08C4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103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9A7-7B5F-453D-96D7-A1F92C28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2284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2267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2193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72284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2267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7C903-6ED6-4910-9D26-1A98578D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BCF2-E364-4219-A473-A44E0BC8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4163-0C47-42D3-9FC7-14897510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5DB9-2265-4C6A-AB68-CB21E850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85680" y="69840"/>
            <a:ext cx="1201752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29600" y="6190920"/>
            <a:ext cx="330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18960" y="6172200"/>
            <a:ext cx="528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84400" y="6277320"/>
            <a:ext cx="431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F129-3927-45B3-8677-D8F8ED2A3511}" type="slidenum">
              <a:rPr b="0" lang="en-IN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87480" y="69840"/>
            <a:ext cx="1201716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84240" y="1449360"/>
            <a:ext cx="1202832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84240" y="1397160"/>
            <a:ext cx="1202832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84240" y="2976480"/>
            <a:ext cx="1202832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8229600" y="6190920"/>
            <a:ext cx="330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218960" y="6172200"/>
            <a:ext cx="528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84400" y="6277320"/>
            <a:ext cx="431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6FFC-EB01-4805-83B4-6438993708EF}" type="slidenum">
              <a:rPr b="0" lang="en-IN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85680" y="66600"/>
            <a:ext cx="12026880" cy="6699240"/>
            <a:chOff x="85680" y="66600"/>
            <a:chExt cx="1202688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85680" y="66600"/>
              <a:ext cx="1202688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84320" y="166680"/>
              <a:ext cx="1182348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92160" y="2376000"/>
            <a:ext cx="1201896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92160" y="2341440"/>
            <a:ext cx="1201896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90360" y="2468520"/>
            <a:ext cx="1202076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8229600" y="6190920"/>
            <a:ext cx="330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066320" y="617220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84400" y="6275520"/>
            <a:ext cx="431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27B8-5636-4378-AB79-6821CCBF090E}" type="slidenum">
              <a:rPr b="0" lang="en-IN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85680" y="69840"/>
            <a:ext cx="1201752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85680" y="69840"/>
            <a:ext cx="1201752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8229600" y="6190920"/>
            <a:ext cx="330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1218960" y="6172200"/>
            <a:ext cx="528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84400" y="6277320"/>
            <a:ext cx="431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28AC-2FAC-45C3-BE2E-78C020D773DF}" type="slidenum">
              <a:rPr b="0" lang="en-IN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85680" y="69840"/>
            <a:ext cx="1201752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90360" y="4682160"/>
            <a:ext cx="120096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92160" y="4649760"/>
            <a:ext cx="120078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92160" y="4773600"/>
            <a:ext cx="12007800" cy="493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8229600" y="6190920"/>
            <a:ext cx="330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1218960" y="617220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84400" y="6275520"/>
            <a:ext cx="431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2C8F-03ED-4871-AA64-BD24F761F2ED}" type="slidenum">
              <a:rPr b="0" lang="en-IN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Rounded Rectangle 4"/>
          <p:cNvGrpSpPr/>
          <p:nvPr/>
        </p:nvGrpSpPr>
        <p:grpSpPr>
          <a:xfrm>
            <a:off x="6394320" y="3376440"/>
            <a:ext cx="5553360" cy="3365640"/>
            <a:chOff x="6394320" y="3376440"/>
            <a:chExt cx="5553360" cy="3365640"/>
          </a:xfrm>
        </p:grpSpPr>
        <p:pic>
          <p:nvPicPr>
            <p:cNvPr id="236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6394320" y="3376440"/>
              <a:ext cx="5553360" cy="336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6603840" y="3564000"/>
              <a:ext cx="5139000" cy="29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imal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so k/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agious abor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ortus fe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fectious abor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pizootic abor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ng’s disease (Cattl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m epididymitis (Male Sheep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icture 2" descr="Image result for Brucellosis"/>
          <p:cNvPicPr/>
          <p:nvPr/>
        </p:nvPicPr>
        <p:blipFill>
          <a:blip r:embed="rId2"/>
          <a:srcRect l="18880" t="13328" r="15868" b="32861"/>
          <a:stretch/>
        </p:blipFill>
        <p:spPr>
          <a:xfrm>
            <a:off x="3336840" y="250920"/>
            <a:ext cx="5973840" cy="1164960"/>
          </a:xfrm>
          <a:prstGeom prst="rect">
            <a:avLst/>
          </a:prstGeom>
          <a:ln w="0">
            <a:noFill/>
          </a:ln>
        </p:spPr>
      </p:pic>
      <p:grpSp>
        <p:nvGrpSpPr>
          <p:cNvPr id="239" name="Rounded Rectangle 3"/>
          <p:cNvGrpSpPr/>
          <p:nvPr/>
        </p:nvGrpSpPr>
        <p:grpSpPr>
          <a:xfrm>
            <a:off x="444600" y="3359160"/>
            <a:ext cx="5906880" cy="3286080"/>
            <a:chOff x="444600" y="3359160"/>
            <a:chExt cx="5906880" cy="3286080"/>
          </a:xfrm>
        </p:grpSpPr>
        <p:pic>
          <p:nvPicPr>
            <p:cNvPr id="240" name="Rounded Rectangle 3" descr=""/>
            <p:cNvPicPr/>
            <p:nvPr/>
          </p:nvPicPr>
          <p:blipFill>
            <a:blip r:embed="rId3"/>
            <a:stretch/>
          </p:blipFill>
          <p:spPr>
            <a:xfrm>
              <a:off x="444600" y="3359160"/>
              <a:ext cx="590688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42960" y="3533760"/>
              <a:ext cx="5513400" cy="28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: also k/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litococcosis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. melitensi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lta fever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. melitensi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diterranean fever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. melitensi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ibraltar Fever/ Undulant Fever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.abortu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yprus Fe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ck of Gibralt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5"/>
          <p:cNvSpPr/>
          <p:nvPr/>
        </p:nvSpPr>
        <p:spPr>
          <a:xfrm>
            <a:off x="855720" y="1711440"/>
            <a:ext cx="1076652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ucellosis is a bacterial zoonotic disease caused by genu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ucell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infection is almost invariably transmitted by direct or indirect contact with infected animals or their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4" descr="Our Clients | Jivesna Tech"/>
          <p:cNvPicPr/>
          <p:nvPr/>
        </p:nvPicPr>
        <p:blipFill>
          <a:blip r:embed="rId4"/>
          <a:stretch/>
        </p:blipFill>
        <p:spPr>
          <a:xfrm>
            <a:off x="255600" y="114480"/>
            <a:ext cx="1200240" cy="1211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6" descr="Bihar Veterinary College - Wikipedia"/>
          <p:cNvPicPr/>
          <p:nvPr/>
        </p:nvPicPr>
        <p:blipFill>
          <a:blip r:embed="rId5"/>
          <a:stretch/>
        </p:blipFill>
        <p:spPr>
          <a:xfrm>
            <a:off x="10904400" y="168120"/>
            <a:ext cx="997200" cy="11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Title 1"/>
          <p:cNvGrpSpPr/>
          <p:nvPr/>
        </p:nvGrpSpPr>
        <p:grpSpPr>
          <a:xfrm>
            <a:off x="4834080" y="-115920"/>
            <a:ext cx="2998800" cy="1255680"/>
            <a:chOff x="4834080" y="-115920"/>
            <a:chExt cx="2998800" cy="1255680"/>
          </a:xfrm>
        </p:grpSpPr>
        <p:pic>
          <p:nvPicPr>
            <p:cNvPr id="297" name="Title 1" descr=""/>
            <p:cNvPicPr/>
            <p:nvPr/>
          </p:nvPicPr>
          <p:blipFill>
            <a:blip r:embed="rId1"/>
            <a:stretch/>
          </p:blipFill>
          <p:spPr>
            <a:xfrm>
              <a:off x="4834080" y="-115920"/>
              <a:ext cx="29988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4979880" y="187200"/>
              <a:ext cx="26305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agnosi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Picture 2" descr="Image result for Brucellosis"/>
          <p:cNvPicPr/>
          <p:nvPr/>
        </p:nvPicPr>
        <p:blipFill>
          <a:blip r:embed="rId2"/>
          <a:stretch/>
        </p:blipFill>
        <p:spPr>
          <a:xfrm>
            <a:off x="8761320" y="4133880"/>
            <a:ext cx="3189240" cy="1824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Image result for Brucellosis"/>
          <p:cNvPicPr/>
          <p:nvPr/>
        </p:nvPicPr>
        <p:blipFill>
          <a:blip r:embed="rId3"/>
          <a:stretch/>
        </p:blipFill>
        <p:spPr>
          <a:xfrm>
            <a:off x="8640720" y="1521000"/>
            <a:ext cx="3314880" cy="18954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378000" y="1090440"/>
            <a:ext cx="11612520" cy="512136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ima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 Based on Sign &amp; symptom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rtions in the late pregnancy (third trims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 Histor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 infec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new anima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s to storm of abor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  A confirmatory diagnos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lati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ucella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bomasal contents of aborted foetus/ uterine/ vaginal exuda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ological cul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culation in guinea pig/ m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mmunodiagnos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on of antibodi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um/ Uterine discharge/ vaginal mucus/ milk/ semen plas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C:\Users\user\Desktop\download (1).jpg"/>
          <p:cNvPicPr/>
          <p:nvPr/>
        </p:nvPicPr>
        <p:blipFill>
          <a:blip r:embed="rId1"/>
          <a:srcRect l="17917" t="0" r="17267" b="0"/>
          <a:stretch/>
        </p:blipFill>
        <p:spPr>
          <a:xfrm>
            <a:off x="8839080" y="2239920"/>
            <a:ext cx="3154320" cy="14637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320400" y="762120"/>
            <a:ext cx="8412120" cy="58975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In Bovin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d Surveillance tests: 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ilk ring test (MRT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Individual animal testing: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ndard tube agglutintion test (STAT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imple spot agglutination tests: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ard test &amp; Rose Bengal Plate Test (RBPT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mplement Fixation Test (CFT) which is the most reliable test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Supplementary tests: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nzyme immuno-assay (EIA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nzyme Linked Immuno sorbent Assay (ELISA)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ot-immunoassay to screen large number of individual animal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Other promising tests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direct haemolysis test (IHLT),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aemolysis in gel test,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adial immunodiffusion test (employing poly B), &amp;  anamnestic test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kin delayed type hypersensitivity (SDTH) test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04" name="Title 1"/>
          <p:cNvGrpSpPr/>
          <p:nvPr/>
        </p:nvGrpSpPr>
        <p:grpSpPr>
          <a:xfrm>
            <a:off x="4425840" y="-285840"/>
            <a:ext cx="3060720" cy="1255680"/>
            <a:chOff x="4425840" y="-285840"/>
            <a:chExt cx="3060720" cy="1255680"/>
          </a:xfrm>
        </p:grpSpPr>
        <p:pic>
          <p:nvPicPr>
            <p:cNvPr id="305" name="Title 1" descr=""/>
            <p:cNvPicPr/>
            <p:nvPr/>
          </p:nvPicPr>
          <p:blipFill>
            <a:blip r:embed="rId2"/>
            <a:stretch/>
          </p:blipFill>
          <p:spPr>
            <a:xfrm>
              <a:off x="4425840" y="-285840"/>
              <a:ext cx="30607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476600" y="0"/>
              <a:ext cx="296100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br>
                <a:rPr sz="4400"/>
              </a:b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agnosi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2" descr="C:\Users\user\Desktop\download.jpg"/>
          <p:cNvPicPr/>
          <p:nvPr/>
        </p:nvPicPr>
        <p:blipFill>
          <a:blip r:embed="rId3"/>
          <a:srcRect l="21603" t="0" r="0" b="0"/>
          <a:stretch/>
        </p:blipFill>
        <p:spPr>
          <a:xfrm>
            <a:off x="8823240" y="685800"/>
            <a:ext cx="3140280" cy="1508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C:\Users\user\Desktop\download (2).jpg"/>
          <p:cNvPicPr/>
          <p:nvPr/>
        </p:nvPicPr>
        <p:blipFill>
          <a:blip r:embed="rId4"/>
          <a:stretch/>
        </p:blipFill>
        <p:spPr>
          <a:xfrm>
            <a:off x="8899560" y="3747960"/>
            <a:ext cx="3017880" cy="13273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C:\Users\user\Desktop\download (3).jpg"/>
          <p:cNvPicPr/>
          <p:nvPr/>
        </p:nvPicPr>
        <p:blipFill>
          <a:blip r:embed="rId5"/>
          <a:stretch/>
        </p:blipFill>
        <p:spPr>
          <a:xfrm>
            <a:off x="8869320" y="5227560"/>
            <a:ext cx="3063960" cy="1447920"/>
          </a:xfrm>
          <a:prstGeom prst="rect">
            <a:avLst/>
          </a:prstGeom>
          <a:ln w="0">
            <a:noFill/>
          </a:ln>
        </p:spPr>
      </p:pic>
      <p:grpSp>
        <p:nvGrpSpPr>
          <p:cNvPr id="310" name="Content Placeholder 2"/>
          <p:cNvGrpSpPr/>
          <p:nvPr/>
        </p:nvGrpSpPr>
        <p:grpSpPr>
          <a:xfrm>
            <a:off x="249120" y="762120"/>
            <a:ext cx="8510760" cy="5956200"/>
            <a:chOff x="249120" y="762120"/>
            <a:chExt cx="8510760" cy="5956200"/>
          </a:xfrm>
        </p:grpSpPr>
        <p:pic>
          <p:nvPicPr>
            <p:cNvPr id="311" name="Content Placeholder 2" descr=""/>
            <p:cNvPicPr/>
            <p:nvPr/>
          </p:nvPicPr>
          <p:blipFill>
            <a:blip r:embed="rId6"/>
            <a:stretch/>
          </p:blipFill>
          <p:spPr>
            <a:xfrm>
              <a:off x="249120" y="762120"/>
              <a:ext cx="8510760" cy="59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334800" y="822240"/>
              <a:ext cx="8321760" cy="58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just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n ovines &amp; capri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28600" algn="just">
                <a:lnSpc>
                  <a:spcPct val="100000"/>
                </a:lnSpc>
                <a:spcBef>
                  <a:spcPts val="374"/>
                </a:spcBef>
                <a:buClr>
                  <a:srgbClr val="9b2d1f"/>
                </a:buClr>
                <a:buSzPct val="8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kin Delayed Type Hypersensitivity  test employin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rucellin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n be used for herd surveillanc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n swi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28600" algn="just">
                <a:lnSpc>
                  <a:spcPct val="100000"/>
                </a:lnSpc>
                <a:spcBef>
                  <a:spcPts val="374"/>
                </a:spcBef>
                <a:buClr>
                  <a:srgbClr val="9b2d1f"/>
                </a:buClr>
                <a:buSzPct val="8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diagnosis of brucellosis presents special probl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28600" algn="just">
                <a:lnSpc>
                  <a:spcPct val="100000"/>
                </a:lnSpc>
                <a:spcBef>
                  <a:spcPts val="374"/>
                </a:spcBef>
                <a:buClr>
                  <a:srgbClr val="9b2d1f"/>
                </a:buClr>
                <a:buSzPct val="8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BPT appears to be the most suitable tes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28600" algn="just">
                <a:lnSpc>
                  <a:spcPct val="100000"/>
                </a:lnSpc>
                <a:spcBef>
                  <a:spcPts val="374"/>
                </a:spcBef>
                <a:buClr>
                  <a:srgbClr val="9b2d1f"/>
                </a:buClr>
                <a:buSzPct val="8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  gives variable resul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07520" y="709560"/>
            <a:ext cx="11287080" cy="578016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Tentative diagnosi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87320" indent="-51444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epidemiological, clinical and laboratory find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The confirmatory diagnosi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87320" indent="-51444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isolation and identific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787320" indent="-51444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suitable specim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ood during high temperatur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787320" indent="-51444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ver biopsy/ bone marrow aspirates from iliac crest/ sternum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In serolog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87320" indent="-51444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ired serum sample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787320" indent="-51444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787320" indent="-51444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ercaptoethanol tes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2-MET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787320" indent="-51444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mb's or anti-globulin tes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GT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F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787320" indent="-51444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most widely used test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787320" indent="-51444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er test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I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pid &amp;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nsitive PC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14" name="Title 1"/>
          <p:cNvGrpSpPr/>
          <p:nvPr/>
        </p:nvGrpSpPr>
        <p:grpSpPr>
          <a:xfrm>
            <a:off x="4425840" y="-285840"/>
            <a:ext cx="3060720" cy="1255680"/>
            <a:chOff x="4425840" y="-285840"/>
            <a:chExt cx="3060720" cy="1255680"/>
          </a:xfrm>
        </p:grpSpPr>
        <p:pic>
          <p:nvPicPr>
            <p:cNvPr id="315" name="Title 1" descr=""/>
            <p:cNvPicPr/>
            <p:nvPr/>
          </p:nvPicPr>
          <p:blipFill>
            <a:blip r:embed="rId1"/>
            <a:stretch/>
          </p:blipFill>
          <p:spPr>
            <a:xfrm>
              <a:off x="4425840" y="-285840"/>
              <a:ext cx="30607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476600" y="0"/>
              <a:ext cx="296100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br>
                <a:rPr sz="4400"/>
              </a:b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agnosi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Picture 2" descr="C:\Users\user\Desktop\download (4).jpg"/>
          <p:cNvPicPr/>
          <p:nvPr/>
        </p:nvPicPr>
        <p:blipFill>
          <a:blip r:embed="rId2"/>
          <a:stretch/>
        </p:blipFill>
        <p:spPr>
          <a:xfrm>
            <a:off x="6986520" y="3452760"/>
            <a:ext cx="3662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Title 1"/>
          <p:cNvGrpSpPr/>
          <p:nvPr/>
        </p:nvGrpSpPr>
        <p:grpSpPr>
          <a:xfrm>
            <a:off x="4748040" y="152280"/>
            <a:ext cx="3048120" cy="1255680"/>
            <a:chOff x="4748040" y="152280"/>
            <a:chExt cx="3048120" cy="1255680"/>
          </a:xfrm>
        </p:grpSpPr>
        <p:pic>
          <p:nvPicPr>
            <p:cNvPr id="319" name="Title 1" descr=""/>
            <p:cNvPicPr/>
            <p:nvPr/>
          </p:nvPicPr>
          <p:blipFill>
            <a:blip r:embed="rId1"/>
            <a:stretch/>
          </p:blipFill>
          <p:spPr>
            <a:xfrm>
              <a:off x="4748040" y="152280"/>
              <a:ext cx="30481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4906800" y="304920"/>
              <a:ext cx="2732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eatmen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 txBox="1"/>
          <p:nvPr/>
        </p:nvSpPr>
        <p:spPr>
          <a:xfrm>
            <a:off x="442440" y="1209240"/>
            <a:ext cx="11139480" cy="51181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imals: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for brucellosis i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ther advisable nor practicabl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past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tracycli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500 mg, 6 hourly for 6 weeks) +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my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.0 g, i/m, daily for 3 weeks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ly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fampi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00-900 mg) +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xycycli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00 mg) to be given daily in the morning as a single dose for 6 weeks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trimoxazo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rimethoprin 160 mg with sulphamethoxazole 800 mg) 8 hourly for first two weeks followed by 12 hourly for further 2 weeks may also be given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pregnanc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my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tracycline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indicated)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fampi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rimoxazo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Safe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Title 1"/>
          <p:cNvGrpSpPr/>
          <p:nvPr/>
        </p:nvGrpSpPr>
        <p:grpSpPr>
          <a:xfrm>
            <a:off x="3444840" y="133200"/>
            <a:ext cx="5778360" cy="1146240"/>
            <a:chOff x="3444840" y="133200"/>
            <a:chExt cx="5778360" cy="1146240"/>
          </a:xfrm>
        </p:grpSpPr>
        <p:pic>
          <p:nvPicPr>
            <p:cNvPr id="323" name="Title 1" descr=""/>
            <p:cNvPicPr/>
            <p:nvPr/>
          </p:nvPicPr>
          <p:blipFill>
            <a:blip r:embed="rId1"/>
            <a:stretch/>
          </p:blipFill>
          <p:spPr>
            <a:xfrm>
              <a:off x="3444840" y="133200"/>
              <a:ext cx="57783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490920" y="201600"/>
              <a:ext cx="568332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vention and contro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Content Placeholder 2" descr=""/>
          <p:cNvPicPr/>
          <p:nvPr/>
        </p:nvPicPr>
        <p:blipFill>
          <a:blip r:embed="rId2"/>
          <a:stretch/>
        </p:blipFill>
        <p:spPr>
          <a:xfrm>
            <a:off x="225360" y="1127160"/>
            <a:ext cx="5767560" cy="5383080"/>
          </a:xfrm>
          <a:prstGeom prst="rect">
            <a:avLst/>
          </a:prstGeom>
          <a:ln w="0">
            <a:noFill/>
          </a:ln>
        </p:spPr>
      </p:pic>
      <p:sp>
        <p:nvSpPr>
          <p:cNvPr id="326" name="Content Placeholder 2"/>
          <p:cNvSpPr/>
          <p:nvPr/>
        </p:nvSpPr>
        <p:spPr>
          <a:xfrm>
            <a:off x="6283440" y="1228680"/>
            <a:ext cx="5908680" cy="52214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Human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 during handling of infected ani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Labora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 hygienic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e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cina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cc"/>
                </a:solidFill>
                <a:latin typeface="Times New Roman"/>
                <a:ea typeface="Arial"/>
              </a:rPr>
              <a:t>Live-attenuated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ff"/>
                </a:solidFill>
                <a:latin typeface="Times New Roman"/>
                <a:ea typeface="Arial"/>
              </a:rPr>
              <a:t>B. abortus 19B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ff"/>
                </a:solidFill>
                <a:latin typeface="Times New Roman"/>
                <a:ea typeface="Arial"/>
              </a:rPr>
              <a:t>B. melitensis 104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cc"/>
                </a:solidFill>
                <a:latin typeface="Times New Roman"/>
                <a:ea typeface="Arial"/>
              </a:rPr>
              <a:t>Kill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ff"/>
                </a:solidFill>
                <a:latin typeface="Times New Roman"/>
              </a:rPr>
              <a:t>                  </a:t>
            </a:r>
            <a:r>
              <a:rPr b="0" i="1" lang="en-US" sz="2000" spc="-1" strike="noStrike">
                <a:solidFill>
                  <a:srgbClr val="3333ff"/>
                </a:solidFill>
                <a:latin typeface="Times New Roman"/>
              </a:rPr>
              <a:t>PI-SDS from B. abortus and B. meliten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ff"/>
                </a:solidFill>
                <a:latin typeface="Times New Roman"/>
                <a:ea typeface="Arial"/>
              </a:rPr>
              <a:t>   </a:t>
            </a:r>
            <a:r>
              <a:rPr b="0" i="1" lang="en-US" sz="2000" spc="-1" strike="noStrike">
                <a:solidFill>
                  <a:srgbClr val="3333ff"/>
                </a:solidFill>
                <a:latin typeface="Times New Roman"/>
                <a:ea typeface="Arial"/>
              </a:rPr>
              <a:t>LPS-Protein conju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ff"/>
                </a:solidFill>
                <a:latin typeface="Times New Roman"/>
                <a:ea typeface="Arial"/>
              </a:rPr>
              <a:t>    </a:t>
            </a:r>
            <a:r>
              <a:rPr b="0" i="1" lang="en-US" sz="2000" spc="-1" strike="noStrike">
                <a:solidFill>
                  <a:srgbClr val="3333ff"/>
                </a:solidFill>
                <a:latin typeface="Times New Roman"/>
                <a:ea typeface="Arial"/>
              </a:rPr>
              <a:t>Acid ex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Title 1"/>
          <p:cNvGrpSpPr/>
          <p:nvPr/>
        </p:nvGrpSpPr>
        <p:grpSpPr>
          <a:xfrm>
            <a:off x="3852720" y="-36360"/>
            <a:ext cx="3938760" cy="1255680"/>
            <a:chOff x="3852720" y="-36360"/>
            <a:chExt cx="3938760" cy="1255680"/>
          </a:xfrm>
        </p:grpSpPr>
        <p:pic>
          <p:nvPicPr>
            <p:cNvPr id="246" name="Title 1" descr=""/>
            <p:cNvPicPr/>
            <p:nvPr/>
          </p:nvPicPr>
          <p:blipFill>
            <a:blip r:embed="rId1"/>
            <a:stretch/>
          </p:blipFill>
          <p:spPr>
            <a:xfrm>
              <a:off x="3852720" y="-36360"/>
              <a:ext cx="39387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3903840" y="220680"/>
              <a:ext cx="383832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br>
                <a:rPr sz="3600"/>
              </a:br>
              <a:br>
                <a:rPr sz="3600"/>
              </a:br>
              <a:br>
                <a:rPr sz="3600"/>
              </a:br>
              <a:br>
                <a:rPr sz="3600"/>
              </a:br>
              <a:br>
                <a:rPr sz="3600"/>
              </a:b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tiolog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Picture 2" descr="Image result for Brucellosis"/>
          <p:cNvPicPr/>
          <p:nvPr/>
        </p:nvPicPr>
        <p:blipFill>
          <a:blip r:embed="rId2"/>
          <a:stretch/>
        </p:blipFill>
        <p:spPr>
          <a:xfrm>
            <a:off x="4984920" y="1076400"/>
            <a:ext cx="2374560" cy="16812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3"/>
          <p:cNvSpPr/>
          <p:nvPr/>
        </p:nvSpPr>
        <p:spPr>
          <a:xfrm>
            <a:off x="792000" y="1006560"/>
            <a:ext cx="4048200" cy="349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d by genus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ruce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m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rob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moti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capsul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pore form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ccobacillary r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species requir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10%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primary iso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7464600" y="900000"/>
            <a:ext cx="4292280" cy="359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mon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ucell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es inclu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ucella abort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melitens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su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ca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ov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neotoma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. neotoma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 nonzoonotic ag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762120" y="4654440"/>
            <a:ext cx="10928160" cy="202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186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described  as Mediterranean remittent fe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8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ir David Bruc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lated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ucella melitensi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ed soldi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9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ish veterinarian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rnard Bang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late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ucella abort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g's dise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Image result for Brucellosis"/>
          <p:cNvPicPr/>
          <p:nvPr/>
        </p:nvPicPr>
        <p:blipFill>
          <a:blip r:embed="rId3"/>
          <a:stretch/>
        </p:blipFill>
        <p:spPr>
          <a:xfrm>
            <a:off x="5029200" y="2935440"/>
            <a:ext cx="2374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Title 1"/>
          <p:cNvGrpSpPr/>
          <p:nvPr/>
        </p:nvGrpSpPr>
        <p:grpSpPr>
          <a:xfrm>
            <a:off x="3438360" y="-165240"/>
            <a:ext cx="5193000" cy="1255680"/>
            <a:chOff x="3438360" y="-165240"/>
            <a:chExt cx="5193000" cy="1255680"/>
          </a:xfrm>
        </p:grpSpPr>
        <p:pic>
          <p:nvPicPr>
            <p:cNvPr id="254" name="Title 1" descr=""/>
            <p:cNvPicPr/>
            <p:nvPr/>
          </p:nvPicPr>
          <p:blipFill>
            <a:blip r:embed="rId1"/>
            <a:stretch/>
          </p:blipFill>
          <p:spPr>
            <a:xfrm>
              <a:off x="3438360" y="-165240"/>
              <a:ext cx="51930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3484440" y="192240"/>
              <a:ext cx="5099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400"/>
              </a:b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pidemiolog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Rectangle 2"/>
          <p:cNvSpPr/>
          <p:nvPr/>
        </p:nvSpPr>
        <p:spPr>
          <a:xfrm>
            <a:off x="426960" y="811080"/>
            <a:ext cx="11371320" cy="5791680"/>
          </a:xfrm>
          <a:prstGeom prst="rect">
            <a:avLst/>
          </a:prstGeom>
          <a:noFill/>
          <a:ln w="9360">
            <a:solidFill>
              <a:srgbClr val="9562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Calibri"/>
              </a:rPr>
              <a:t>Widely prevalen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: All the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Calibri"/>
              </a:rPr>
              <a:t>In Indi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: widely prevalent in all the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Calibri"/>
              </a:rPr>
              <a:t>The occurrence of disease in ma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: Indicator of the infection i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anim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7030a0"/>
                </a:solidFill>
                <a:latin typeface="Times New Roman"/>
                <a:ea typeface="Calibri"/>
              </a:rPr>
              <a:t>B. melitensis</a:t>
            </a:r>
            <a:r>
              <a:rPr b="1" lang="en-US" sz="22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Most comm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among al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Brucell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spe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Infections are primarily  food borne (consumption of unpasteurized dairy produc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7030a0"/>
                </a:solidFill>
                <a:latin typeface="Times New Roman"/>
                <a:ea typeface="Calibri"/>
              </a:rPr>
              <a:t>B. abor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Most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widely distribu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Associated with occupational expos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Times New Roman"/>
                <a:ea typeface="Calibri"/>
              </a:rPr>
              <a:t>B. abortus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Calibri"/>
              </a:rPr>
              <a:t> biotype I- Important in organized far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Times New Roman"/>
                <a:ea typeface="Calibri"/>
              </a:rPr>
              <a:t>B. abortus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Calibri"/>
              </a:rPr>
              <a:t> biotype III-In cattle raised under the traditional system  of rear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7030a0"/>
                </a:solidFill>
                <a:latin typeface="Times New Roman"/>
                <a:ea typeface="Calibri"/>
              </a:rPr>
              <a:t>B. su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Associated with occupational expos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7030a0"/>
                </a:solidFill>
                <a:latin typeface="Times New Roman"/>
                <a:ea typeface="Calibri"/>
              </a:rPr>
              <a:t>B. ca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Human brucellosis due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B. cani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is uncomm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Times New Roman"/>
                <a:ea typeface="Calibri"/>
              </a:rPr>
              <a:t>The disease shows much higher prevalence in organized farms than in village he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C:\Users\user\Desktop\images.jpg"/>
          <p:cNvPicPr/>
          <p:nvPr/>
        </p:nvPicPr>
        <p:blipFill>
          <a:blip r:embed="rId2"/>
          <a:stretch/>
        </p:blipFill>
        <p:spPr>
          <a:xfrm>
            <a:off x="9196560" y="985680"/>
            <a:ext cx="238104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52440" y="378000"/>
            <a:ext cx="6622920" cy="876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ypes of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ucell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p. 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rcRect l="22254" t="30044" r="21346" b="9409"/>
          <a:stretch/>
        </p:blipFill>
        <p:spPr>
          <a:xfrm>
            <a:off x="1636560" y="1268280"/>
            <a:ext cx="8686800" cy="5345280"/>
          </a:xfrm>
          <a:prstGeom prst="rect">
            <a:avLst/>
          </a:prstGeom>
          <a:ln w="0">
            <a:noFill/>
          </a:ln>
        </p:spPr>
      </p:pic>
      <p:sp>
        <p:nvSpPr>
          <p:cNvPr id="260" name="Rounded Rectangle 4"/>
          <p:cNvSpPr/>
          <p:nvPr/>
        </p:nvSpPr>
        <p:spPr>
          <a:xfrm>
            <a:off x="2478240" y="165276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ounded Rectangle 5"/>
          <p:cNvSpPr/>
          <p:nvPr/>
        </p:nvSpPr>
        <p:spPr>
          <a:xfrm>
            <a:off x="8691480" y="164160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Title 1"/>
          <p:cNvGrpSpPr/>
          <p:nvPr/>
        </p:nvGrpSpPr>
        <p:grpSpPr>
          <a:xfrm>
            <a:off x="3438360" y="-165240"/>
            <a:ext cx="5193000" cy="1255680"/>
            <a:chOff x="3438360" y="-165240"/>
            <a:chExt cx="5193000" cy="1255680"/>
          </a:xfrm>
        </p:grpSpPr>
        <p:pic>
          <p:nvPicPr>
            <p:cNvPr id="263" name="Title 1" descr=""/>
            <p:cNvPicPr/>
            <p:nvPr/>
          </p:nvPicPr>
          <p:blipFill>
            <a:blip r:embed="rId1"/>
            <a:stretch/>
          </p:blipFill>
          <p:spPr>
            <a:xfrm>
              <a:off x="3438360" y="-165240"/>
              <a:ext cx="51930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3484440" y="192240"/>
              <a:ext cx="5099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400"/>
              </a:b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pidemiolog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5" name=""/>
          <p:cNvGraphicFramePr/>
          <p:nvPr/>
        </p:nvGraphicFramePr>
        <p:xfrm>
          <a:off x="2389320" y="828720"/>
          <a:ext cx="7049880" cy="5748120"/>
        </p:xfrm>
        <a:graphic>
          <a:graphicData uri="http://schemas.openxmlformats.org/drawingml/2006/table">
            <a:tbl>
              <a:tblPr/>
              <a:tblGrid>
                <a:gridCol w="947520"/>
                <a:gridCol w="2130480"/>
                <a:gridCol w="3971880"/>
              </a:tblGrid>
              <a:tr h="67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l. No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ec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417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melitens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ts and shee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17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abort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t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17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can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17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su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17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ov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ee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77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neotoma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ert Woodr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otoma lepida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17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pinnipedial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608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cet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lphin, porpoise, wha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771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microt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on Vo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tus arvalis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1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inopina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know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Title 1"/>
          <p:cNvGrpSpPr/>
          <p:nvPr/>
        </p:nvGrpSpPr>
        <p:grpSpPr>
          <a:xfrm>
            <a:off x="2676600" y="-128520"/>
            <a:ext cx="7284960" cy="1255680"/>
            <a:chOff x="2676600" y="-128520"/>
            <a:chExt cx="7284960" cy="1255680"/>
          </a:xfrm>
        </p:grpSpPr>
        <p:pic>
          <p:nvPicPr>
            <p:cNvPr id="267" name="Title 1" descr=""/>
            <p:cNvPicPr/>
            <p:nvPr/>
          </p:nvPicPr>
          <p:blipFill>
            <a:blip r:embed="rId1"/>
            <a:stretch/>
          </p:blipFill>
          <p:spPr>
            <a:xfrm>
              <a:off x="2676600" y="-128520"/>
              <a:ext cx="72849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2727360" y="220680"/>
              <a:ext cx="71834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s and transmissio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 txBox="1"/>
          <p:nvPr/>
        </p:nvSpPr>
        <p:spPr>
          <a:xfrm>
            <a:off x="353520" y="899640"/>
            <a:ext cx="9369720" cy="5781960"/>
          </a:xfrm>
          <a:prstGeom prst="rect">
            <a:avLst/>
          </a:prstGeom>
          <a:noFill/>
          <a:ln w="9360">
            <a:solidFill>
              <a:srgbClr val="9b2d1f"/>
            </a:solidFill>
            <a:miter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 animal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common route is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ough the mucous membran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opharyn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respiratory tract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nctiva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attle, sheep, Goat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route </a:t>
            </a:r>
            <a:r>
              <a:rPr b="0" lang="en-US" sz="22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(by licking of aborted fetus or genital discharge of aborted dam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estion </a:t>
            </a:r>
            <a:r>
              <a:rPr b="0" lang="en-US" sz="22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of contaminated feed &amp; water that are with aborted material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k of infected dam </a:t>
            </a:r>
            <a:r>
              <a:rPr b="0" lang="en-US" sz="22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in the young one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ficial insemination </a:t>
            </a:r>
            <a:r>
              <a:rPr b="0" lang="en-US" sz="22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with frozen semen from infected bulls and dog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transmission </a:t>
            </a:r>
            <a:r>
              <a:rPr b="0" lang="en-US" sz="22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through flies, ticks, rats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win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ereal </a:t>
            </a:r>
            <a:r>
              <a:rPr b="0" lang="en-US" sz="22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transmission is an important route of infection in case of swin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og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as a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/ biological vector </a:t>
            </a:r>
            <a:r>
              <a:rPr b="0" lang="en-US" sz="22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for the transmission of </a:t>
            </a:r>
            <a:r>
              <a:rPr b="0" i="1" lang="en-US" sz="22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B. abrtus</a:t>
            </a:r>
            <a:r>
              <a:rPr b="0" lang="en-US" sz="22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B. suis, B. melitensis </a:t>
            </a:r>
            <a:r>
              <a:rPr b="0" lang="en-US" sz="22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&amp; </a:t>
            </a:r>
            <a:r>
              <a:rPr b="0" i="1" lang="en-US" sz="22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B. cani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2"/>
          <a:stretch/>
        </p:blipFill>
        <p:spPr>
          <a:xfrm>
            <a:off x="9880560" y="944640"/>
            <a:ext cx="2021040" cy="1297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Image result for brucellosis animal"/>
          <p:cNvPicPr/>
          <p:nvPr/>
        </p:nvPicPr>
        <p:blipFill>
          <a:blip r:embed="rId3"/>
          <a:stretch/>
        </p:blipFill>
        <p:spPr>
          <a:xfrm>
            <a:off x="9925200" y="3952800"/>
            <a:ext cx="2050920" cy="1357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Related image"/>
          <p:cNvPicPr/>
          <p:nvPr/>
        </p:nvPicPr>
        <p:blipFill>
          <a:blip r:embed="rId4"/>
          <a:stretch/>
        </p:blipFill>
        <p:spPr>
          <a:xfrm>
            <a:off x="9910800" y="5407200"/>
            <a:ext cx="2065320" cy="1204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Image result for brucellosis animal"/>
          <p:cNvPicPr/>
          <p:nvPr/>
        </p:nvPicPr>
        <p:blipFill>
          <a:blip r:embed="rId5"/>
          <a:stretch/>
        </p:blipFill>
        <p:spPr>
          <a:xfrm>
            <a:off x="9928080" y="2428920"/>
            <a:ext cx="20480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Title 1"/>
          <p:cNvGrpSpPr/>
          <p:nvPr/>
        </p:nvGrpSpPr>
        <p:grpSpPr>
          <a:xfrm>
            <a:off x="2584440" y="-96840"/>
            <a:ext cx="6888240" cy="1255680"/>
            <a:chOff x="2584440" y="-96840"/>
            <a:chExt cx="6888240" cy="1255680"/>
          </a:xfrm>
        </p:grpSpPr>
        <p:pic>
          <p:nvPicPr>
            <p:cNvPr id="275" name="Title 1" descr=""/>
            <p:cNvPicPr/>
            <p:nvPr/>
          </p:nvPicPr>
          <p:blipFill>
            <a:blip r:embed="rId1"/>
            <a:stretch/>
          </p:blipFill>
          <p:spPr>
            <a:xfrm>
              <a:off x="2584440" y="-96840"/>
              <a:ext cx="68882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2635200" y="236520"/>
              <a:ext cx="6789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s and transmissio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 txBox="1"/>
          <p:nvPr/>
        </p:nvSpPr>
        <p:spPr>
          <a:xfrm>
            <a:off x="4836960" y="972720"/>
            <a:ext cx="7172640" cy="5560920"/>
          </a:xfrm>
          <a:prstGeom prst="rect">
            <a:avLst/>
          </a:prstGeom>
          <a:noFill/>
          <a:ln w="9360">
            <a:solidFill>
              <a:srgbClr val="9b2d1f"/>
            </a:solidFill>
            <a:miter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 huma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drinking </a:t>
            </a:r>
            <a:r>
              <a:rPr b="0" lang="en-US" sz="22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of infected raw milk or unpasteurized milk water contaminated with excreta of infected animals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ingestion </a:t>
            </a:r>
            <a:r>
              <a:rPr b="0" lang="en-US" sz="22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of cheese, raw vegetable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ing </a:t>
            </a:r>
            <a:r>
              <a:rPr b="0" lang="en-US" sz="22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o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aborted fetus, fluids and fetal membrane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pational exposure </a:t>
            </a:r>
            <a:r>
              <a:rPr b="0" lang="en-US" sz="22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in stockyard workers, slaughter house workers and Veterinarian, butcher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 through </a:t>
            </a:r>
            <a:r>
              <a:rPr b="0" lang="en-US" sz="22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skin abrasions &amp; conjunctiva and possibly airborn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8" name="Picture 2" descr="Image result for brucellosis animal"/>
          <p:cNvPicPr/>
          <p:nvPr/>
        </p:nvPicPr>
        <p:blipFill>
          <a:blip r:embed="rId2"/>
          <a:stretch/>
        </p:blipFill>
        <p:spPr>
          <a:xfrm>
            <a:off x="299880" y="1014480"/>
            <a:ext cx="4478400" cy="55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Title 1"/>
          <p:cNvGrpSpPr/>
          <p:nvPr/>
        </p:nvGrpSpPr>
        <p:grpSpPr>
          <a:xfrm>
            <a:off x="1731960" y="-85680"/>
            <a:ext cx="6357960" cy="1255680"/>
            <a:chOff x="1731960" y="-85680"/>
            <a:chExt cx="6357960" cy="1255680"/>
          </a:xfrm>
        </p:grpSpPr>
        <p:pic>
          <p:nvPicPr>
            <p:cNvPr id="280" name="Title 1" descr=""/>
            <p:cNvPicPr/>
            <p:nvPr/>
          </p:nvPicPr>
          <p:blipFill>
            <a:blip r:embed="rId1"/>
            <a:stretch/>
          </p:blipFill>
          <p:spPr>
            <a:xfrm>
              <a:off x="1731960" y="-85680"/>
              <a:ext cx="63579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1779480" y="206280"/>
              <a:ext cx="625788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400"/>
              </a:b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ease in Animal'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 txBox="1"/>
          <p:nvPr/>
        </p:nvSpPr>
        <p:spPr>
          <a:xfrm>
            <a:off x="418680" y="971280"/>
            <a:ext cx="8472600" cy="5562360"/>
          </a:xfrm>
          <a:prstGeom prst="rect">
            <a:avLst/>
          </a:prstGeom>
          <a:noFill/>
          <a:ln w="9360">
            <a:solidFill>
              <a:srgbClr val="9b2d1f"/>
            </a:solidFill>
            <a:miter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ubation period : 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 to 3 week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re instances several months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ovine, sheep and goats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or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late in gestation (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imester) &amp; only onc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le shee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ov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Ram epididymitis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wine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sui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ized in the non-gravid uterus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 to abscess formation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eness &amp; posterior paralysis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hor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stula of wither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ll evil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en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arrier state persists especially with secretions from the udder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le animals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rtility, testicular abnormalities &amp; poor semen quality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og: Prostitis, unlateral &amp; bilateral testicular hypertroph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3" name="Picture 2" descr="Image result for brucellosis animal"/>
          <p:cNvPicPr/>
          <p:nvPr/>
        </p:nvPicPr>
        <p:blipFill>
          <a:blip r:embed="rId2"/>
          <a:stretch/>
        </p:blipFill>
        <p:spPr>
          <a:xfrm>
            <a:off x="8980560" y="2906640"/>
            <a:ext cx="2967120" cy="1773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Image result for brucellosis animal"/>
          <p:cNvPicPr/>
          <p:nvPr/>
        </p:nvPicPr>
        <p:blipFill>
          <a:blip r:embed="rId3"/>
          <a:stretch/>
        </p:blipFill>
        <p:spPr>
          <a:xfrm>
            <a:off x="9010800" y="1030320"/>
            <a:ext cx="2965320" cy="16873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Image result for fistulas wither in brucellosis affected animals"/>
          <p:cNvPicPr/>
          <p:nvPr/>
        </p:nvPicPr>
        <p:blipFill>
          <a:blip r:embed="rId4"/>
          <a:stretch/>
        </p:blipFill>
        <p:spPr>
          <a:xfrm>
            <a:off x="8980560" y="4869000"/>
            <a:ext cx="29671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Title 1"/>
          <p:cNvGrpSpPr/>
          <p:nvPr/>
        </p:nvGrpSpPr>
        <p:grpSpPr>
          <a:xfrm>
            <a:off x="2859120" y="-66600"/>
            <a:ext cx="5992920" cy="1255680"/>
            <a:chOff x="2859120" y="-66600"/>
            <a:chExt cx="5992920" cy="1255680"/>
          </a:xfrm>
        </p:grpSpPr>
        <p:pic>
          <p:nvPicPr>
            <p:cNvPr id="287" name="Title 1" descr=""/>
            <p:cNvPicPr/>
            <p:nvPr/>
          </p:nvPicPr>
          <p:blipFill>
            <a:blip r:embed="rId1"/>
            <a:stretch/>
          </p:blipFill>
          <p:spPr>
            <a:xfrm>
              <a:off x="2859120" y="-66600"/>
              <a:ext cx="59929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905200" y="192240"/>
              <a:ext cx="5898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400"/>
              </a:b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ease in Huma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 txBox="1"/>
          <p:nvPr/>
        </p:nvSpPr>
        <p:spPr>
          <a:xfrm>
            <a:off x="536400" y="1029960"/>
            <a:ext cx="11158560" cy="551988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ubation period: 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 to 3 weeks 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septicemic disease with sudden or insidious onset and is accompanied by continued intermittent or irregular fever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290" name="Rectangle 4"/>
          <p:cNvGrpSpPr/>
          <p:nvPr/>
        </p:nvGrpSpPr>
        <p:grpSpPr>
          <a:xfrm>
            <a:off x="5900760" y="1695600"/>
            <a:ext cx="5761080" cy="5046480"/>
            <a:chOff x="5900760" y="1695600"/>
            <a:chExt cx="5761080" cy="5046480"/>
          </a:xfrm>
        </p:grpSpPr>
        <p:pic>
          <p:nvPicPr>
            <p:cNvPr id="291" name="Rectangle 4" descr=""/>
            <p:cNvPicPr/>
            <p:nvPr/>
          </p:nvPicPr>
          <p:blipFill>
            <a:blip r:embed="rId2"/>
            <a:stretch/>
          </p:blipFill>
          <p:spPr>
            <a:xfrm>
              <a:off x="5900760" y="1695600"/>
              <a:ext cx="5761080" cy="50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016680" y="1828800"/>
              <a:ext cx="5530680" cy="46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Chronic  f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dulant natu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y persist for year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continuously or intermittently)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sociated with hypersensitivity &amp; it is very difficult to diagnos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se fatality &lt; 2% if untreate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urobrucellosis: 1-3% of cas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quelae are highly variable include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anulomatous hepatitis, arthritis, spondylitis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emia, leukopenia, thrombocytopenia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ningitis, uveitis, optic neuritis &amp;  endocardit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Rectangle 5"/>
          <p:cNvGrpSpPr/>
          <p:nvPr/>
        </p:nvGrpSpPr>
        <p:grpSpPr>
          <a:xfrm>
            <a:off x="585720" y="1847880"/>
            <a:ext cx="5218200" cy="4668840"/>
            <a:chOff x="585720" y="1847880"/>
            <a:chExt cx="5218200" cy="4668840"/>
          </a:xfrm>
        </p:grpSpPr>
        <p:pic>
          <p:nvPicPr>
            <p:cNvPr id="294" name="Rectangle 5" descr=""/>
            <p:cNvPicPr/>
            <p:nvPr/>
          </p:nvPicPr>
          <p:blipFill>
            <a:blip r:embed="rId3"/>
            <a:stretch/>
          </p:blipFill>
          <p:spPr>
            <a:xfrm>
              <a:off x="585720" y="1847880"/>
              <a:ext cx="5218200" cy="466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693720" y="1873080"/>
              <a:ext cx="505764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Acute f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ills &amp; profuse sweating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Peculiar odour at night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kness &amp; fatigu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rmal temperature : In morning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ise in temp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In evening  (4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omnia, nausea, headache, anorexia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thralgia, muscular/ body pain, wt. los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xual impotence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amp; orchitis in ma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ymphadenopath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urological symptoms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Irritation, 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rvousness &amp; depress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12T04:12:00Z</dcterms:created>
  <dc:creator>Epidemiology lab 1</dc:creator>
  <dc:description/>
  <dc:language>en-US</dc:language>
  <cp:lastModifiedBy>dranjayvet@gmail.com</cp:lastModifiedBy>
  <dcterms:modified xsi:type="dcterms:W3CDTF">2020-04-11T07:01:17Z</dcterms:modified>
  <cp:revision>63</cp:revision>
  <dc:subject/>
  <dc:title>BRucellosis</dc:title>
</cp:coreProperties>
</file>