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jpeg" ContentType="image/jpeg"/>
  <Override PartName="/ppt/media/image23.wmf" ContentType="image/x-wmf"/>
  <Override PartName="/ppt/media/image9.gif" ContentType="image/gif"/>
  <Override PartName="/ppt/media/image22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.gif" ContentType="image/gif"/>
  <Override PartName="/ppt/media/image5.gif" ContentType="image/gif"/>
  <Override PartName="/ppt/media/image13.jpeg" ContentType="image/jpeg"/>
  <Override PartName="/ppt/media/image25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0.png" ContentType="image/png"/>
  <Override PartName="/ppt/media/image24.jpeg" ContentType="image/jpeg"/>
  <Override PartName="/ppt/media/image15.png" ContentType="image/png"/>
  <Override PartName="/ppt/media/image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FE6-1C82-4FA7-8F60-3B7BA8E7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F51-FDEF-432D-8781-35B519F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6EB-B5A0-4C86-8F64-FD22A146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B72-F304-4A79-9911-6E719609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EA1D-77FD-41F0-B5D7-561562CD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79ED-8B51-4836-9C1E-84FF69B1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9F05-47D8-40C2-A18E-8036E8F2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9BE9-0280-4CB7-8D8E-121B487A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9E6A-7003-40B2-92FE-02582797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825D-8B05-4435-A547-A9C6F8B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1C7E-F2B9-4F72-B712-86F7DD08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AC7-9426-4E87-8D82-CD262BD4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4120-EE00-4D7F-A153-C48D3FE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2C05-0FE8-4958-A2F3-39AF2AAF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3A37-7C3C-4B01-9167-5DD45812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DB4D-3385-4B25-B239-C136D8AE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1340-12A5-4BAC-92F3-B7683E6B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3DFD5-65DF-46A8-B5A0-D5E67287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44F8C-533A-4C8E-8FA8-EF4A5329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19F74-3399-42BD-83F0-40719BF5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9AF82-54A2-4D8F-81B7-2FE56749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4ACD6-D322-4C7C-BF1E-2FEE2F68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E17-CB29-4767-A60F-DACAA8F0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4800B-D8CE-4098-A85F-51EF9786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76183-3ED1-4626-B8C8-1B838F8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DD6EC-EAAD-4430-AA86-3881E6C5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2C51C-B688-4270-A172-2B8DA135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BAB55-CFE3-4AD4-91D3-5147C6C1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6839A-3890-4DB9-B246-882D3619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83D72-838C-4CED-B4F5-B342F07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33890-385A-4871-A8F5-6F7D48D4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E59ED-4D2B-4F7B-95D0-59A8E969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B6F0F-0E17-452A-91A1-04911C17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A0C-08BB-4AFD-9373-CAC85C98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378FB-047F-4978-B89E-ED5CF27E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48958-BEC7-42E4-BC6F-A35DC9A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171CC7-FD41-4E3E-BC0C-7EE26B2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B903E-1EA5-4B25-88BC-106ACCC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42709-CFF4-432F-B182-46AD71DA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0C7EF4-EA42-483F-B3BC-FA949471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53905-A83B-423C-B4A5-C297DA59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858262-E593-432C-9A60-DA1E44AD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D8B0B-7300-4EDA-87BA-04DB345C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19DE1-55A2-4E7B-9D8B-C8D5D4C8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5CC-E120-4F89-B9B5-AE6635EB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02C78-F4B3-40CD-9A6D-0946BCAB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EC2E3-DA81-4786-BC8F-9F3C1E79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541C4-5E81-4A16-A8DA-7C082A28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4C468A-1160-4B29-B305-6E6ADD0F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71E92D-8104-47D5-9C81-ACBC0BDB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0877D-88DF-4835-B87C-9F04BE16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11A5F2-9385-4CA0-BA2C-CC48890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D4104-F788-4B08-A0BE-DD8E8849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460F1F-CB3E-4093-AE14-671EB39B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7997F-A756-4062-8ACF-FB94DC68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8E3-EF4E-47BA-9F43-176A6C9B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68ACB-4D54-4199-BDA7-7CC2E17A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C4D0-6A12-4D8B-8DD3-85265C78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BD188-52C4-4C83-9154-B3E9808C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C34CC-A3B5-4B6D-A383-6BF72683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6B75E-10F5-4CAB-989A-A61A5DD5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5C500-4A7D-47C4-845C-52949812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047A5-71BD-46C5-AF70-E2064024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4EC1E-FC1A-4160-84A1-ECBC3C49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864AD-800F-461A-9E33-4723E4E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0302-4CDD-4407-80C8-C17D9C1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271-FF1B-40B1-9A41-50976CA3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45EF0-AB85-467F-BBE9-74AC84CA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39FEF-00BC-4772-B90B-46CBFA32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08FD-AFBC-4B3D-9869-FEE4818E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E7BE77-8D91-4C17-A68D-9BC4DEAA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13879D-6F7E-4000-B0F7-E40EBA9B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7B23A-765F-4E73-9839-DA9FB472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D5224-4B88-40AC-8492-1C623EEF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FEEBD-DDC7-4C6F-9392-D8FB32A1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9FEF2-AE66-481E-9C67-0C9EBDCB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321FB-3669-4BFE-968B-8E7D19C4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A45-64C6-4B5D-BAB2-00B304AD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A3C62-D9BA-4F76-A77E-19045E00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83D12-689E-4830-BAB1-B4BB9C5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A7AB0-CD0C-4E7F-BAD7-084541B0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3AF0D-A077-4CF9-8DF9-E58B0705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906AD-E0ED-498D-84E7-C48AB758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C6FF7-2EAB-4913-A418-8F2AC86A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5EEBF-E672-4E4F-BD14-47C26A7F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C31EA-0CCC-4DE0-B00F-DD02FA41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16B20-2B18-4A48-8AB8-30A6075E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6BB3C-6A5A-44EE-9C4C-41DDF33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76B-5169-4E17-B0C5-389FD003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1820A-AB5B-402B-80B9-B2A0A9E4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B5448-2AF1-48F0-8264-684D169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DEC7E-A250-4F82-BC01-3B76546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17D55-31FC-47A2-9EF0-8C0AA6B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C6B02-669A-4A42-BDE2-C7BDE5FC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9AF94-8EF5-45ED-9623-243E62B6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46DEA-60FF-434D-BC3B-5E8AD6A3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687C-7810-4D7E-8AE0-5D71E659A3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EB18-2FA9-4508-8A7F-B790D66FB46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7093-2C4A-4882-AC0E-1F21A8D3831C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3DF3-1283-4D60-8474-81D796CCB38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23B4-983A-48ED-803C-3BB055D8B7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11B3-57CD-43A9-9F4A-D12280954E8A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DAAF-62FA-4720-BB85-EF281E86EC4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F64-01E4-4C72-BC1D-B008918C74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http://anrvitamins.com/glossary/trypto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nrvitamins.com/glossary/lysine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775f55"/>
                </a:solidFill>
                <a:latin typeface="Tw Cen MT"/>
              </a:rPr>
              <a:t>Fundamentals of  Microb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IN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r. Sonia Kumar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sstt.Prof cum Jr.Scient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airy Microbiolog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GIDT,BASU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1" lang="en-IN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atna-80001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0" y="0"/>
            <a:ext cx="914400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yrimidines- have only one ring.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Thymine &amp; Cytos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3" descr="pyrimidine"/>
          <p:cNvPicPr/>
          <p:nvPr/>
        </p:nvPicPr>
        <p:blipFill>
          <a:blip r:embed="rId1"/>
          <a:stretch/>
        </p:blipFill>
        <p:spPr>
          <a:xfrm>
            <a:off x="990720" y="2217600"/>
            <a:ext cx="74674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BasePairing"/>
          <p:cNvPicPr/>
          <p:nvPr/>
        </p:nvPicPr>
        <p:blipFill>
          <a:blip r:embed="rId1"/>
          <a:stretch/>
        </p:blipFill>
        <p:spPr>
          <a:xfrm>
            <a:off x="1085760" y="-304920"/>
            <a:ext cx="638172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3"/>
          <p:cNvSpPr/>
          <p:nvPr/>
        </p:nvSpPr>
        <p:spPr>
          <a:xfrm>
            <a:off x="1523880" y="0"/>
            <a:ext cx="586764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886200" y="0"/>
            <a:ext cx="312408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6" descr="adenine"/>
          <p:cNvPicPr/>
          <p:nvPr/>
        </p:nvPicPr>
        <p:blipFill>
          <a:blip r:embed="rId2"/>
          <a:stretch/>
        </p:blipFill>
        <p:spPr>
          <a:xfrm>
            <a:off x="4324320" y="25560"/>
            <a:ext cx="3981600" cy="28699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8"/>
          <p:cNvSpPr/>
          <p:nvPr/>
        </p:nvSpPr>
        <p:spPr>
          <a:xfrm>
            <a:off x="380880" y="38088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yrimid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4267080" y="0"/>
            <a:ext cx="26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Puri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3429000" y="46483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3505320" y="56386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3962520" y="36576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4038480" y="0"/>
            <a:ext cx="0" cy="601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3" descr="pyrimidine"/>
          <p:cNvPicPr/>
          <p:nvPr/>
        </p:nvPicPr>
        <p:blipFill>
          <a:blip r:embed="rId3"/>
          <a:stretch/>
        </p:blipFill>
        <p:spPr>
          <a:xfrm>
            <a:off x="0" y="1523880"/>
            <a:ext cx="3886200" cy="2706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5"/>
          <p:cNvSpPr/>
          <p:nvPr/>
        </p:nvSpPr>
        <p:spPr>
          <a:xfrm>
            <a:off x="0" y="3657600"/>
            <a:ext cx="3962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RNA-struct"/>
          <p:cNvPicPr/>
          <p:nvPr/>
        </p:nvPicPr>
        <p:blipFill>
          <a:blip r:embed="rId1"/>
          <a:stretch/>
        </p:blipFill>
        <p:spPr>
          <a:xfrm>
            <a:off x="457200" y="380880"/>
            <a:ext cx="1719360" cy="60199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2362320" y="1066680"/>
            <a:ext cx="6400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ngle Stranded RNA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BasePairing"/>
          <p:cNvPicPr/>
          <p:nvPr/>
        </p:nvPicPr>
        <p:blipFill>
          <a:blip r:embed="rId1"/>
          <a:stretch/>
        </p:blipFill>
        <p:spPr>
          <a:xfrm>
            <a:off x="1371600" y="533520"/>
            <a:ext cx="6172200" cy="518148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4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8047"/>
                </a:solidFill>
                <a:latin typeface="Times New Roman"/>
              </a:rPr>
              <a:t>There is no thymine in 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886200" y="0"/>
            <a:ext cx="312408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6" descr="adenine"/>
          <p:cNvPicPr/>
          <p:nvPr/>
        </p:nvPicPr>
        <p:blipFill>
          <a:blip r:embed="rId2"/>
          <a:stretch/>
        </p:blipFill>
        <p:spPr>
          <a:xfrm>
            <a:off x="4324320" y="190440"/>
            <a:ext cx="3600360" cy="2705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uracil"/>
          <p:cNvPicPr/>
          <p:nvPr/>
        </p:nvPicPr>
        <p:blipFill>
          <a:blip r:embed="rId3"/>
          <a:stretch/>
        </p:blipFill>
        <p:spPr>
          <a:xfrm>
            <a:off x="380880" y="838080"/>
            <a:ext cx="2133720" cy="236232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380880" y="-1522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yrimid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4267080" y="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Pur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3429000" y="46483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3505320" y="56386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3962520" y="36576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4038480" y="0"/>
            <a:ext cx="0" cy="601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0" y="33526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RNA Stru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0" y="4343400"/>
            <a:ext cx="899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Times New Roman"/>
              </a:rPr>
              <a:t>RNA is made of nucleotides. These nucleotides are made up of a Ribose sugar, a phosphate group and a nitrogenous b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0" y="614052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5"/>
          <p:cNvSpPr/>
          <p:nvPr/>
        </p:nvSpPr>
        <p:spPr>
          <a:xfrm>
            <a:off x="0" y="-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RNA Function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76320" y="722160"/>
            <a:ext cx="89154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imes New Roman"/>
              </a:rPr>
              <a:t>RNA helps to assemble amino acids into proteins. It’s the proteins that determine trai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0" y="2362320"/>
            <a:ext cx="87631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Three types-mRNA, rRNA and tRN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0" y="0"/>
            <a:ext cx="91440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cc"/>
                </a:solidFill>
                <a:latin typeface="Times New Roman"/>
              </a:rPr>
              <a:t>Ribosomal RNA (rRNA)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b050"/>
                </a:solidFill>
                <a:latin typeface="Times New Roman"/>
              </a:rPr>
              <a:t>along with several dozen proteins make up the ribosomes. The ribosomes are where proteins are assembled during a process called transl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609480" y="304920"/>
            <a:ext cx="777240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st genes contain instructions for assembling amino acids into protein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1828800"/>
            <a:ext cx="868680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RNA (messenger RNA) is the RNA molecule that carries copies of DNA instructions for a specific prote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8047"/>
                </a:solidFill>
                <a:latin typeface="Times New Roman"/>
              </a:rPr>
              <a:t>mRNA is the “blueprint” for assembling the correct proteins in the riboso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0" y="1523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0" y="-3240"/>
            <a:ext cx="91440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tRNA (transfer RNA)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responsible for transferring a specific amino acid to the ribosome for protein synthesi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-76320" y="2209680"/>
            <a:ext cx="952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ree Differences between DNA and 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0" y="324468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b6d2"/>
                </a:solidFill>
                <a:latin typeface="Times New Roman"/>
              </a:rPr>
              <a:t>1. Sugar is ribose in RNA and deoxyribose in D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0" y="438768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2. RNA is single stranded and DNA is a double stranded helix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0" y="548640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b6d2"/>
                </a:solidFill>
                <a:latin typeface="Times New Roman"/>
              </a:rPr>
              <a:t>3. RNA contains uracil instead of thymine found in DN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Protei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52280" y="150840"/>
            <a:ext cx="8991720" cy="7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d8047"/>
                </a:solidFill>
                <a:latin typeface="Times New Roman"/>
              </a:rPr>
              <a:t>DNA &amp; R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3" descr="DNA-08"/>
          <p:cNvPicPr/>
          <p:nvPr/>
        </p:nvPicPr>
        <p:blipFill>
          <a:blip r:embed="rId1"/>
          <a:stretch/>
        </p:blipFill>
        <p:spPr>
          <a:xfrm>
            <a:off x="0" y="1523880"/>
            <a:ext cx="2185920" cy="53341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4">
            <a:hlinkClick r:id="rId2"/>
          </p:cNvPr>
          <p:cNvSpPr/>
          <p:nvPr/>
        </p:nvSpPr>
        <p:spPr>
          <a:xfrm>
            <a:off x="380880" y="15238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 Double Hel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5" descr="RNA"/>
          <p:cNvPicPr/>
          <p:nvPr/>
        </p:nvPicPr>
        <p:blipFill>
          <a:blip r:embed="rId3"/>
          <a:stretch/>
        </p:blipFill>
        <p:spPr>
          <a:xfrm>
            <a:off x="4572000" y="1523880"/>
            <a:ext cx="3586320" cy="52578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6"/>
          <p:cNvSpPr/>
          <p:nvPr/>
        </p:nvSpPr>
        <p:spPr>
          <a:xfrm>
            <a:off x="6172200" y="1403280"/>
            <a:ext cx="320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ngle Stranded 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7" descr="an_dna"/>
          <p:cNvPicPr/>
          <p:nvPr/>
        </p:nvPicPr>
        <p:blipFill>
          <a:blip r:embed="rId4"/>
          <a:stretch/>
        </p:blipFill>
        <p:spPr>
          <a:xfrm>
            <a:off x="1981080" y="3200400"/>
            <a:ext cx="236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Proteins control chemical reactions and the phenotypes (traits) of organisms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3" descr="Amino acid"/>
          <p:cNvPicPr/>
          <p:nvPr/>
        </p:nvPicPr>
        <p:blipFill>
          <a:blip r:embed="rId1"/>
          <a:stretch/>
        </p:blipFill>
        <p:spPr>
          <a:xfrm>
            <a:off x="1295280" y="228600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tein Func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304920" y="990720"/>
            <a:ext cx="8534160" cy="38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85000"/>
              </a:lnSpc>
              <a:spcBef>
                <a:spcPts val="2750"/>
              </a:spcBef>
              <a:buClr>
                <a:srgbClr val="94b6d2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4b6d2"/>
                </a:solidFill>
                <a:latin typeface="Tahoma"/>
              </a:rPr>
              <a:t>Proteins control rate of chemical reactions and regulate our cell function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85000"/>
              </a:lnSpc>
              <a:spcBef>
                <a:spcPts val="2750"/>
              </a:spcBef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ahoma"/>
              </a:rPr>
              <a:t>It’s these functions that determine what we look like and d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0" y="3049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. The following molecule is a/a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" descr="dna-big"/>
          <p:cNvPicPr/>
          <p:nvPr/>
        </p:nvPicPr>
        <p:blipFill>
          <a:blip r:embed="rId1"/>
          <a:stretch/>
        </p:blipFill>
        <p:spPr>
          <a:xfrm>
            <a:off x="6248520" y="1219320"/>
            <a:ext cx="2514600" cy="52578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"/>
          <p:cNvSpPr/>
          <p:nvPr/>
        </p:nvSpPr>
        <p:spPr>
          <a:xfrm>
            <a:off x="457200" y="1905120"/>
            <a:ext cx="50292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bo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533520" y="3429000"/>
            <a:ext cx="228600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0" y="0"/>
            <a:ext cx="89154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llowing is a monomer of DN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0" y="1600200"/>
            <a:ext cx="4419720" cy="46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ino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ydrogen bo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cleot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0" y="4800600"/>
            <a:ext cx="388620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Object 1024"/>
          <p:cNvGraphicFramePr/>
          <p:nvPr/>
        </p:nvGraphicFramePr>
        <p:xfrm>
          <a:off x="4114800" y="1600200"/>
          <a:ext cx="4876920" cy="5257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600200"/>
                    <a:ext cx="4876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0" y="0"/>
            <a:ext cx="914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4400" spc="-1" strike="noStrike">
                <a:solidFill>
                  <a:srgbClr val="002060"/>
                </a:solidFill>
                <a:latin typeface="Times New Roman"/>
              </a:rPr>
              <a:t>How many different types of RNA are involved in protein synthe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0" y="2381400"/>
            <a:ext cx="61722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76320" y="4952880"/>
            <a:ext cx="129528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Object 1024"/>
          <p:cNvGraphicFramePr/>
          <p:nvPr/>
        </p:nvGraphicFramePr>
        <p:xfrm>
          <a:off x="2895480" y="1752480"/>
          <a:ext cx="6019920" cy="4572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3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752480"/>
                    <a:ext cx="6019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304920"/>
            <a:ext cx="89154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Which of the following have hydrogen bonds between nitrogenous bas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0" y="2381400"/>
            <a:ext cx="617220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 and B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376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76320" y="2438280"/>
            <a:ext cx="236196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Picture 8" descr="DNA-RNA"/>
          <p:cNvPicPr/>
          <p:nvPr/>
        </p:nvPicPr>
        <p:blipFill>
          <a:blip r:embed="rId1"/>
          <a:stretch/>
        </p:blipFill>
        <p:spPr>
          <a:xfrm>
            <a:off x="4800600" y="2479680"/>
            <a:ext cx="43434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0" y="0"/>
            <a:ext cx="914400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060"/>
                </a:solidFill>
                <a:latin typeface="Times New Roman"/>
              </a:rPr>
              <a:t>5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Which of the following represent the initials for the following? tRNA,rRNA and mR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152280" y="1808280"/>
            <a:ext cx="8610840" cy="51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ition, ribosomal&amp; mess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fer, reconnaissance &amp; mess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fer,ribosomal &amp; meth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fer,ribosomal &amp; messe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33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76320" y="6324480"/>
            <a:ext cx="8229600" cy="53352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0" y="0"/>
            <a:ext cx="89917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Times New Roman"/>
              </a:rPr>
              <a:t>6. 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</a:rPr>
              <a:t>Which of the following is found in both DNA &amp; R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0" y="1523880"/>
            <a:ext cx="9144000" cy="58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sphate group + guanine + ura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sphate group + guanine + cytos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bose + phosphate group + ura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oxyribose + phosphate group + thy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76320" y="2438280"/>
            <a:ext cx="861048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0" y="0"/>
            <a:ext cx="914400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7. Which of the following describes the structure of DN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0" y="1523880"/>
            <a:ext cx="9144000" cy="65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stranded RNA molec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Stranded Helix molec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stranded RNA helix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75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stranded RNA molecu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76320" y="2438280"/>
            <a:ext cx="8305560" cy="9144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1" descr=""/>
          <p:cNvPicPr/>
          <p:nvPr/>
        </p:nvPicPr>
        <p:blipFill>
          <a:blip r:embed="rId1"/>
          <a:stretch/>
        </p:blipFill>
        <p:spPr>
          <a:xfrm>
            <a:off x="1871640" y="2786040"/>
            <a:ext cx="31147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8047"/>
                </a:solidFill>
                <a:latin typeface="Tw Cen MT"/>
              </a:rPr>
              <a:t>Functions of DNA,RNA and Protein.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0" y="1371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DNA Functions:</a:t>
            </a: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0" y="2514600"/>
            <a:ext cx="891540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4b6d2"/>
                </a:solidFill>
                <a:latin typeface="Times New Roman"/>
              </a:rPr>
              <a:t>1.</a:t>
            </a:r>
            <a:r>
              <a:rPr b="0" lang="en-US" sz="4400" spc="-1" strike="noStrike">
                <a:solidFill>
                  <a:srgbClr val="94b6d2"/>
                </a:solidFill>
                <a:latin typeface="Times New Roman"/>
              </a:rPr>
              <a:t>DNA carries genetic info from one generation to the n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0" y="3657600"/>
            <a:ext cx="883908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2. </a:t>
            </a: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DNA becomes read and transcribed so that proteins are made and traits are express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0" y="5334120"/>
            <a:ext cx="891540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3</a:t>
            </a:r>
            <a:r>
              <a:rPr b="0" lang="en-US" sz="5400" spc="-1" strike="noStrike">
                <a:solidFill>
                  <a:srgbClr val="3333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DNA must be replicated each time cells divi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3_36"/>
          <p:cNvPicPr/>
          <p:nvPr/>
        </p:nvPicPr>
        <p:blipFill>
          <a:blip r:embed="rId1"/>
          <a:stretch/>
        </p:blipFill>
        <p:spPr>
          <a:xfrm>
            <a:off x="228600" y="838080"/>
            <a:ext cx="3200400" cy="54864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2590920" y="228600"/>
            <a:ext cx="441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ouble Helix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DNA-08"/>
          <p:cNvPicPr/>
          <p:nvPr/>
        </p:nvPicPr>
        <p:blipFill>
          <a:blip r:embed="rId2"/>
          <a:stretch/>
        </p:blipFill>
        <p:spPr>
          <a:xfrm>
            <a:off x="4800600" y="1981080"/>
            <a:ext cx="1998720" cy="44197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Dna%20Helix"/>
          <p:cNvPicPr/>
          <p:nvPr/>
        </p:nvPicPr>
        <p:blipFill>
          <a:blip r:embed="rId3"/>
          <a:stretch/>
        </p:blipFill>
        <p:spPr>
          <a:xfrm>
            <a:off x="6629400" y="533520"/>
            <a:ext cx="2057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2"/>
          <p:cNvSpPr/>
          <p:nvPr/>
        </p:nvSpPr>
        <p:spPr>
          <a:xfrm>
            <a:off x="0" y="30492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8047"/>
                </a:solidFill>
                <a:latin typeface="Times New Roman"/>
              </a:rPr>
              <a:t>Watson and Crick had discovered that DNA was a double helix in which hydrogen bonds between C-G and A-T held the double strands toge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3" descr="watson-crick"/>
          <p:cNvPicPr/>
          <p:nvPr/>
        </p:nvPicPr>
        <p:blipFill>
          <a:blip r:embed="rId1"/>
          <a:stretch/>
        </p:blipFill>
        <p:spPr>
          <a:xfrm>
            <a:off x="2438280" y="2514600"/>
            <a:ext cx="3962520" cy="39099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4"/>
          <p:cNvSpPr/>
          <p:nvPr/>
        </p:nvSpPr>
        <p:spPr>
          <a:xfrm>
            <a:off x="40788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lgdna"/>
          <p:cNvPicPr/>
          <p:nvPr/>
        </p:nvPicPr>
        <p:blipFill>
          <a:blip r:embed="rId2"/>
          <a:stretch/>
        </p:blipFill>
        <p:spPr>
          <a:xfrm>
            <a:off x="3352680" y="2438280"/>
            <a:ext cx="1544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228600" y="30492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8047"/>
                </a:solidFill>
                <a:latin typeface="Times New Roman"/>
              </a:rPr>
              <a:t>DNA Structure (double helix where two DNA strands are wound around each other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0" y="23623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8047"/>
                </a:solidFill>
                <a:latin typeface="Times New Roman"/>
              </a:rPr>
              <a:t>Nucleic Acids (DNA &amp; RNA) are made up of patterns of monomers called nucleotid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Nucleot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Phospha2%255B1%255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2819520" cy="25905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eoxyribose_helix"/>
          <p:cNvPicPr/>
          <p:nvPr/>
        </p:nvPicPr>
        <p:blipFill>
          <a:blip r:embed="rId3"/>
          <a:stretch/>
        </p:blipFill>
        <p:spPr>
          <a:xfrm>
            <a:off x="2590920" y="2514600"/>
            <a:ext cx="2463840" cy="28195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1828800" y="2209680"/>
            <a:ext cx="380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2362320" y="251460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6" descr="cytosine"/>
          <p:cNvPicPr/>
          <p:nvPr/>
        </p:nvPicPr>
        <p:blipFill>
          <a:blip r:embed="rId4"/>
          <a:stretch/>
        </p:blipFill>
        <p:spPr>
          <a:xfrm>
            <a:off x="5791320" y="2666880"/>
            <a:ext cx="2558880" cy="2971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4800600" y="3352680"/>
            <a:ext cx="2286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6781680" y="36576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9"/>
          <p:cNvSpPr/>
          <p:nvPr/>
        </p:nvSpPr>
        <p:spPr>
          <a:xfrm>
            <a:off x="4876920" y="3352680"/>
            <a:ext cx="137160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2819520" y="24382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200400" y="2452680"/>
            <a:ext cx="114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4267080" y="4662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1828800" y="2438280"/>
            <a:ext cx="137160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>
            <a:off x="4572000" y="3200400"/>
            <a:ext cx="2286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4648320" y="2514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6"/>
          <p:cNvSpPr/>
          <p:nvPr/>
        </p:nvSpPr>
        <p:spPr>
          <a:xfrm>
            <a:off x="7924680" y="35053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7"/>
          <p:cNvSpPr/>
          <p:nvPr/>
        </p:nvSpPr>
        <p:spPr>
          <a:xfrm>
            <a:off x="7924680" y="39625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7924680" y="441972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228600" y="-152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Phosphate Gro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>
            <a:off x="304920" y="533520"/>
            <a:ext cx="2666880" cy="2590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>
            <a:off x="2819520" y="2209680"/>
            <a:ext cx="2819160" cy="2971800"/>
          </a:xfrm>
          <a:prstGeom prst="ellipse">
            <a:avLst/>
          </a:prstGeom>
          <a:noFill/>
          <a:ln w="763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3429000" y="13716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Deoxyribo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23"/>
          <p:cNvSpPr/>
          <p:nvPr/>
        </p:nvSpPr>
        <p:spPr>
          <a:xfrm>
            <a:off x="5638680" y="2438280"/>
            <a:ext cx="3048120" cy="3505320"/>
          </a:xfrm>
          <a:prstGeom prst="ellipse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4114800" y="58816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99"/>
                </a:solidFill>
                <a:latin typeface="Times New Roman"/>
              </a:rPr>
              <a:t>Nitrogenous  B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4038480" y="53352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ucleotide Par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0" y="-31680"/>
            <a:ext cx="9144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8047"/>
                </a:solidFill>
                <a:latin typeface="Times New Roman"/>
              </a:rPr>
              <a:t>There are two types of nitrogenous ba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purine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51844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"/>
          <p:cNvSpPr/>
          <p:nvPr/>
        </p:nvSpPr>
        <p:spPr>
          <a:xfrm>
            <a:off x="3733920" y="1676520"/>
            <a:ext cx="19047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0" y="1219320"/>
            <a:ext cx="91440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Purines- have two rings.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dd8047"/>
                </a:solidFill>
                <a:latin typeface="Times New Roman"/>
              </a:rPr>
              <a:t>Adenine and Guan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b</dc:creator>
  <dc:description/>
  <dc:language>en-US</dc:language>
  <cp:lastModifiedBy>HP</cp:lastModifiedBy>
  <dcterms:modified xsi:type="dcterms:W3CDTF">2020-04-20T18:31:12Z</dcterms:modified>
  <cp:revision>56</cp:revision>
  <dc:subject/>
  <dc:title>PowerPoint Presentation</dc:title>
</cp:coreProperties>
</file>