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23.wmf" ContentType="image/x-wmf"/>
  <Override PartName="/ppt/media/image9.gif" ContentType="image/gif"/>
  <Override PartName="/ppt/media/image22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.gif" ContentType="image/gif"/>
  <Override PartName="/ppt/media/image5.gif" ContentType="image/gif"/>
  <Override PartName="/ppt/media/image13.jpeg" ContentType="image/jpeg"/>
  <Override PartName="/ppt/media/image25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051-CF54-4D45-9A1F-CCCD8430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01E-9272-4647-BF5F-672B24FD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4D3-648F-4468-8165-DD537478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60A-D4FB-4916-94BC-E5BDACD8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978A-DD02-4CF3-B9C2-032F4107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351C-E1BA-4BEE-B731-FC52DD0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2A49-2E01-4355-9AF8-A94CB73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5477-3296-4DE1-B29F-EF546E8D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334F-C429-4E60-B303-20F831A3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75D-79AE-478A-9260-667F4DF1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88CA-E9EE-47F4-8D92-65CAA423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541-AFD9-4526-A244-B3187505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0443-6662-445D-81A9-4BF2E20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EC4A-06EC-4480-939F-0092BBA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8CBE-2ACE-40E7-9639-4EBBC95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2F77-95A3-494C-ACCF-408DF880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139D-AA47-4E85-BEDD-CE763E64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168AF-5221-4BEE-A4BA-65AD754B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624EA-B0BB-452A-9EC6-E3D6563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B4E2F-086B-4C6D-9DFB-34E09E3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98D2A-AC7F-4CC4-9501-0A3782A3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9845A-4726-49CC-9F50-66172128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188-AA4D-473A-8856-D6A0B52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62793-5758-4E5E-A667-EB940C11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1E96B-3D77-43A0-B1F3-10A3B5D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7F2D8-BE90-48A5-A2A2-B056CBB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6ADC2-2AA0-4E36-85E8-6A2978B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3BF73-4477-4FA0-BB62-5DCF068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72D99-ABC0-4757-8A3E-321A4975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4828F-3EA4-4A07-BA56-1FF97FCA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9FB4C-7D39-45B1-9B48-8FC87011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E97F7-D411-4917-AF0E-5E8110DF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C0D35-8B2A-43C9-ACA1-8831FC37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F39-E8E7-4E48-9943-47AE5981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43FDA-AAF8-4E30-94C2-A2A3D52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4A25A-DAEF-4370-A733-9B321E9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F845B-4853-46DC-A5DC-D3D86B0E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68DAE-AA68-4B28-8B0B-2C391674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BCACA-EE60-42DC-AC52-45412329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E0982-680F-4D0E-A966-7F2D0DF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84A37-EDD7-44FD-A0DF-692504C2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509CD-0742-4F08-B3DD-7CAAD619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C2793-A1FE-431B-A457-24B89DA7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45EAA-B2A1-44F8-93EE-B4467384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D16-3809-4CE5-8B93-A4BF0ED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4675C-6796-459F-A287-8222F6FF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AE3E7-B748-4DA7-906A-B158C24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E5130-C289-40BB-BCEB-4FA50243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8D1E3-E971-4CA0-8E42-56682567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3E68B-71F4-4D39-AFE2-E3F6C532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257FD-A66A-4917-8932-9F958FD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0F2A0-58F5-40F7-989E-397B20DC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D61F6-603C-42D9-9B5F-95BDD3E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AAC35-4EBB-4B77-B6DE-17D04A65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0AB75-C0CE-4550-AEDD-74C177BF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E57-56D9-4245-9CFA-34DC0769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74C4E-4B55-4639-B753-5BF62C9E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B4959-7BF8-47AD-90E2-4212EE48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771A-F8F0-423F-878C-DF86120A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A94C-6751-4118-B2B5-03DA7D88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E588E-8624-49BC-AA95-B2721F43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CD80-8715-4189-B68E-747171E2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2B119-4842-4E8F-AE81-49BFD7D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65033-689A-40EE-A52A-0B604B3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315D-273C-448F-8D9D-BD71C5A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D9D7A-1697-4EE7-8BE5-25FD138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356-C255-4B99-BE06-DF10273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2420-A3D6-46F8-9AD0-FC4F3A69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6BDC-1E69-4B8E-BC50-C324CD67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DBD0-FB5B-437D-8A73-8ED861CF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4590A-F9D4-4485-8084-699982A9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C3B35-5431-4F42-9BA0-F51B51FA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68CFE-F71C-4AB2-9B58-5FD822F1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84FD2-E55B-4871-BF8B-1AD331D9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9BBB8-2350-41D8-A72F-8C77F513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8805A-185F-43C8-9924-66900316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F04F5-76B3-452A-A137-5B6FECF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6CD-DBEC-4C0E-8A10-DBBC01B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67549-0377-452D-A70E-9F68149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8F717-44F1-4BCF-A23E-2318643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D6DF5-D494-4E55-AC76-C3F4662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0CFF7-B59B-4D50-8FA6-AA3A76C8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215CA-96B4-47EA-9DB8-B2F731BB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F342C-F2EC-4A62-BCC3-9E1D50AA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25D6-2158-4B93-BB33-CE5BFEF8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45C8-15E9-47A0-99FF-24F07AFC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434C-A00F-4331-88BB-90841B34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E682B-00B5-49CD-A1D8-AA80D52A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01C-B459-4AAE-BF4C-47D5F46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11CA6-2C2B-4689-BB0E-F379E77C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FF30-FDF4-4AAB-9097-A196C8F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A056A-BE66-44AD-BF22-CFEDDED3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086C5-872B-4601-9680-E009FFF9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60975-EA37-42D8-8BCF-B5D00A19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8D58A-33B0-4333-8A61-077DBEC3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E464E-3848-49BA-B19B-52FFF3F0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6ACB-A06C-4BA1-A6D5-34E1E509F7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F90B-EDD8-4C42-BB1F-CEC20CC2DBB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A572-989E-4EF8-8C2A-6180B32FE83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C54F-EF79-415B-BCDC-990C60EB96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5F3A-B502-4A7E-B346-8F53EEF1B0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7A6-E22C-4B17-BF48-155AFEC953D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493C-E13D-445D-82C1-62FC1E066A8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33C4-619C-4696-B558-3422BC8F09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anrvitamins.com/glossary/trypto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rvitamins.com/glossary/lysine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775f55"/>
                </a:solidFill>
                <a:latin typeface="Tw Cen MT"/>
              </a:rPr>
              <a:t>Fundamentals of  Microb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. Sonia Kumar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stt.Prof cum Jr.Scient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iry Microbi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GIDT,BASU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tna-80001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0" y="0"/>
            <a:ext cx="914400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yrimidines- have only one ring.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Thymine &amp; Cytos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3" descr="pyrimidine"/>
          <p:cNvPicPr/>
          <p:nvPr/>
        </p:nvPicPr>
        <p:blipFill>
          <a:blip r:embed="rId1"/>
          <a:stretch/>
        </p:blipFill>
        <p:spPr>
          <a:xfrm>
            <a:off x="990720" y="2217600"/>
            <a:ext cx="74674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BasePairing"/>
          <p:cNvPicPr/>
          <p:nvPr/>
        </p:nvPicPr>
        <p:blipFill>
          <a:blip r:embed="rId1"/>
          <a:stretch/>
        </p:blipFill>
        <p:spPr>
          <a:xfrm>
            <a:off x="1085760" y="-304920"/>
            <a:ext cx="638172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1523880" y="0"/>
            <a:ext cx="586764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886200" y="0"/>
            <a:ext cx="312408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6" descr="adenine"/>
          <p:cNvPicPr/>
          <p:nvPr/>
        </p:nvPicPr>
        <p:blipFill>
          <a:blip r:embed="rId2"/>
          <a:stretch/>
        </p:blipFill>
        <p:spPr>
          <a:xfrm>
            <a:off x="4324320" y="25560"/>
            <a:ext cx="3981600" cy="28699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380880" y="3808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yrimid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4267080" y="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Pur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3429000" y="46483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3505320" y="56386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3962520" y="36576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4038480" y="0"/>
            <a:ext cx="0" cy="601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pyrimidine"/>
          <p:cNvPicPr/>
          <p:nvPr/>
        </p:nvPicPr>
        <p:blipFill>
          <a:blip r:embed="rId3"/>
          <a:stretch/>
        </p:blipFill>
        <p:spPr>
          <a:xfrm>
            <a:off x="0" y="1523880"/>
            <a:ext cx="3886200" cy="2706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5"/>
          <p:cNvSpPr/>
          <p:nvPr/>
        </p:nvSpPr>
        <p:spPr>
          <a:xfrm>
            <a:off x="0" y="3657600"/>
            <a:ext cx="3962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RNA-struct"/>
          <p:cNvPicPr/>
          <p:nvPr/>
        </p:nvPicPr>
        <p:blipFill>
          <a:blip r:embed="rId1"/>
          <a:stretch/>
        </p:blipFill>
        <p:spPr>
          <a:xfrm>
            <a:off x="457200" y="380880"/>
            <a:ext cx="1719360" cy="60199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2362320" y="106668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ngle Stranded R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BasePairing"/>
          <p:cNvPicPr/>
          <p:nvPr/>
        </p:nvPicPr>
        <p:blipFill>
          <a:blip r:embed="rId1"/>
          <a:stretch/>
        </p:blipFill>
        <p:spPr>
          <a:xfrm>
            <a:off x="1371600" y="533520"/>
            <a:ext cx="6172200" cy="518148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4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8047"/>
                </a:solidFill>
                <a:latin typeface="Times New Roman"/>
              </a:rPr>
              <a:t>There is no thymine in 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886200" y="0"/>
            <a:ext cx="312408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6" descr="adenine"/>
          <p:cNvPicPr/>
          <p:nvPr/>
        </p:nvPicPr>
        <p:blipFill>
          <a:blip r:embed="rId2"/>
          <a:stretch/>
        </p:blipFill>
        <p:spPr>
          <a:xfrm>
            <a:off x="4324320" y="190440"/>
            <a:ext cx="3600360" cy="2705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uracil"/>
          <p:cNvPicPr/>
          <p:nvPr/>
        </p:nvPicPr>
        <p:blipFill>
          <a:blip r:embed="rId3"/>
          <a:stretch/>
        </p:blipFill>
        <p:spPr>
          <a:xfrm>
            <a:off x="380880" y="838080"/>
            <a:ext cx="2133720" cy="236232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380880" y="-152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4267080" y="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Pur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3429000" y="46483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3505320" y="56386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3962520" y="36576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4038480" y="0"/>
            <a:ext cx="0" cy="601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0" y="3352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RNA Stru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0" y="4343400"/>
            <a:ext cx="899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</a:rPr>
              <a:t>RNA is made of nucleotides. These nucleotides are made up of a Ribose sugar, a phosphate group and a nitrogenous b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0" y="61405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0" y="-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RNA Function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76320" y="722160"/>
            <a:ext cx="89154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imes New Roman"/>
              </a:rPr>
              <a:t>RNA helps to assemble amino acids into proteins. It’s the proteins that determine 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0" y="2362320"/>
            <a:ext cx="8763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Three types-mRNA, rRNA and tR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0" y="0"/>
            <a:ext cx="9144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Times New Roman"/>
              </a:rPr>
              <a:t>Ribosomal RNA (rRNA)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Times New Roman"/>
              </a:rPr>
              <a:t>along with several dozen proteins make up the ribosomes. The ribosomes are where proteins are assembled during a process called trans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609480" y="304920"/>
            <a:ext cx="777240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genes contain instructions for assembling amino acids into protein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1828800"/>
            <a:ext cx="868680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RNA (messenger RNA) is the RNA molecule that carries copies of DNA instructions for a specific prote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8047"/>
                </a:solidFill>
                <a:latin typeface="Times New Roman"/>
              </a:rPr>
              <a:t>mRNA is the “blueprint” for assembling the correct proteins in the riboso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0" y="1523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0" y="-3240"/>
            <a:ext cx="9144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tRNA (transfer RNA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responsible for transferring a specific amino acid to the ribosome for protein synthesi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-76320" y="2209680"/>
            <a:ext cx="952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ree Differences between DNA and 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0" y="324468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b6d2"/>
                </a:solidFill>
                <a:latin typeface="Times New Roman"/>
              </a:rPr>
              <a:t>1. Sugar is ribose in RNA and deoxyribose in D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0" y="438768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2. RNA is single stranded and DNA is a double stranded helix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0" y="548640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b6d2"/>
                </a:solidFill>
                <a:latin typeface="Times New Roman"/>
              </a:rPr>
              <a:t>3. RNA contains uracil instead of thymine found in D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52280" y="150840"/>
            <a:ext cx="899172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d8047"/>
                </a:solidFill>
                <a:latin typeface="Times New Roman"/>
              </a:rPr>
              <a:t>DNA &amp; R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3" descr="DNA-08"/>
          <p:cNvPicPr/>
          <p:nvPr/>
        </p:nvPicPr>
        <p:blipFill>
          <a:blip r:embed="rId1"/>
          <a:stretch/>
        </p:blipFill>
        <p:spPr>
          <a:xfrm>
            <a:off x="0" y="1523880"/>
            <a:ext cx="2185920" cy="53341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>
            <a:hlinkClick r:id="rId2"/>
          </p:cNvPr>
          <p:cNvSpPr/>
          <p:nvPr/>
        </p:nvSpPr>
        <p:spPr>
          <a:xfrm>
            <a:off x="380880" y="15238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RNA"/>
          <p:cNvPicPr/>
          <p:nvPr/>
        </p:nvPicPr>
        <p:blipFill>
          <a:blip r:embed="rId3"/>
          <a:stretch/>
        </p:blipFill>
        <p:spPr>
          <a:xfrm>
            <a:off x="4572000" y="1523880"/>
            <a:ext cx="3586320" cy="52578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6172200" y="140328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ngle Stranded 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7" descr="an_dna"/>
          <p:cNvPicPr/>
          <p:nvPr/>
        </p:nvPicPr>
        <p:blipFill>
          <a:blip r:embed="rId4"/>
          <a:stretch/>
        </p:blipFill>
        <p:spPr>
          <a:xfrm>
            <a:off x="1981080" y="3200400"/>
            <a:ext cx="236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Proteins control chemical reactions and the phenotypes (traits) of organisms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3" descr="Amino acid"/>
          <p:cNvPicPr/>
          <p:nvPr/>
        </p:nvPicPr>
        <p:blipFill>
          <a:blip r:embed="rId1"/>
          <a:stretch/>
        </p:blipFill>
        <p:spPr>
          <a:xfrm>
            <a:off x="1295280" y="228600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tein Func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304920" y="990720"/>
            <a:ext cx="8534160" cy="38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85000"/>
              </a:lnSpc>
              <a:spcBef>
                <a:spcPts val="2750"/>
              </a:spcBef>
              <a:buClr>
                <a:srgbClr val="94b6d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b6d2"/>
                </a:solidFill>
                <a:latin typeface="Tahoma"/>
              </a:rPr>
              <a:t>Proteins control rate of chemical reactions and regulate our cell function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85000"/>
              </a:lnSpc>
              <a:spcBef>
                <a:spcPts val="2750"/>
              </a:spcBef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It’s these functions that determine what we look like and 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0" y="3049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The following molecule is a/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" descr="dna-big"/>
          <p:cNvPicPr/>
          <p:nvPr/>
        </p:nvPicPr>
        <p:blipFill>
          <a:blip r:embed="rId1"/>
          <a:stretch/>
        </p:blipFill>
        <p:spPr>
          <a:xfrm>
            <a:off x="6248520" y="121932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1905120"/>
            <a:ext cx="50292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bo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533520" y="3429000"/>
            <a:ext cx="228600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0" y="0"/>
            <a:ext cx="89154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llowing is a monomer of D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0" y="1600200"/>
            <a:ext cx="441972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ydrogen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cleot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4800600"/>
            <a:ext cx="388620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Object 1024"/>
          <p:cNvGraphicFramePr/>
          <p:nvPr/>
        </p:nvGraphicFramePr>
        <p:xfrm>
          <a:off x="4114800" y="1600200"/>
          <a:ext cx="4876920" cy="52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600200"/>
                    <a:ext cx="4876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0" y="0"/>
            <a:ext cx="914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How many different types of RNA are involved in protein synthe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0" y="2381400"/>
            <a:ext cx="61722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76320" y="4952880"/>
            <a:ext cx="129528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Object 1024"/>
          <p:cNvGraphicFramePr/>
          <p:nvPr/>
        </p:nvGraphicFramePr>
        <p:xfrm>
          <a:off x="2895480" y="1752480"/>
          <a:ext cx="6019920" cy="457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6019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304920"/>
            <a:ext cx="89154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Which of the following have hydrogen bonds between nitrogenous bas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0" y="2381400"/>
            <a:ext cx="61722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and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76320" y="2438280"/>
            <a:ext cx="236196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8" descr="DNA-RNA"/>
          <p:cNvPicPr/>
          <p:nvPr/>
        </p:nvPicPr>
        <p:blipFill>
          <a:blip r:embed="rId1"/>
          <a:stretch/>
        </p:blipFill>
        <p:spPr>
          <a:xfrm>
            <a:off x="4800600" y="2479680"/>
            <a:ext cx="43434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0" y="0"/>
            <a:ext cx="91440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5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Which of the following represent the initials for the following? tRNA,rRNA and m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52280" y="1808280"/>
            <a:ext cx="8610840" cy="51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ition, ribosomal&amp; mess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fer, reconnaissance &amp; mess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fer,ribosomal &amp; meth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fer,ribosomal &amp; mess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76320" y="6324480"/>
            <a:ext cx="8229600" cy="5335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0" y="0"/>
            <a:ext cx="89917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6.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Which of the following is found in both DNA &amp; R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0" y="1523880"/>
            <a:ext cx="91440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sphate group + guanine + ura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ate group + guanine + cytos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bose + phosphate group + ura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oxyribose + phosphate group + thy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76320" y="2438280"/>
            <a:ext cx="861048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0" y="0"/>
            <a:ext cx="914400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. Which of the following describes the structure of DN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0" y="1523880"/>
            <a:ext cx="914400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stranded RNA molec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Stranded Helix molec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stranded RNA hel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stranded RNA molec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76320" y="2438280"/>
            <a:ext cx="830556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1" descr=""/>
          <p:cNvPicPr/>
          <p:nvPr/>
        </p:nvPicPr>
        <p:blipFill>
          <a:blip r:embed="rId1"/>
          <a:stretch/>
        </p:blipFill>
        <p:spPr>
          <a:xfrm>
            <a:off x="1871640" y="2786040"/>
            <a:ext cx="31147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8047"/>
                </a:solidFill>
                <a:latin typeface="Tw Cen MT"/>
              </a:rPr>
              <a:t>Functions of DNA,RNA and Protein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0" y="1371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DNA Functions:</a:t>
            </a: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0" y="2514600"/>
            <a:ext cx="89154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b6d2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94b6d2"/>
                </a:solidFill>
                <a:latin typeface="Times New Roman"/>
              </a:rPr>
              <a:t>DNA carries genetic info from one generation to the n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0" y="3657600"/>
            <a:ext cx="883908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DNA becomes read and transcribed so that proteins are made and traits are expres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0" y="5334120"/>
            <a:ext cx="891540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DNA must be replicated each time cells divi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3_36"/>
          <p:cNvPicPr/>
          <p:nvPr/>
        </p:nvPicPr>
        <p:blipFill>
          <a:blip r:embed="rId1"/>
          <a:stretch/>
        </p:blipFill>
        <p:spPr>
          <a:xfrm>
            <a:off x="228600" y="838080"/>
            <a:ext cx="3200400" cy="54864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2590920" y="228600"/>
            <a:ext cx="44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uble Helix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DNA-08"/>
          <p:cNvPicPr/>
          <p:nvPr/>
        </p:nvPicPr>
        <p:blipFill>
          <a:blip r:embed="rId2"/>
          <a:stretch/>
        </p:blipFill>
        <p:spPr>
          <a:xfrm>
            <a:off x="4800600" y="1981080"/>
            <a:ext cx="1998720" cy="4419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Dna%20Helix"/>
          <p:cNvPicPr/>
          <p:nvPr/>
        </p:nvPicPr>
        <p:blipFill>
          <a:blip r:embed="rId3"/>
          <a:stretch/>
        </p:blipFill>
        <p:spPr>
          <a:xfrm>
            <a:off x="6629400" y="533520"/>
            <a:ext cx="205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0" y="30492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8047"/>
                </a:solidFill>
                <a:latin typeface="Times New Roman"/>
              </a:rPr>
              <a:t>Watson and Crick had discovered that DNA was a double helix in which hydrogen bonds between C-G and A-T held the double strands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watson-crick"/>
          <p:cNvPicPr/>
          <p:nvPr/>
        </p:nvPicPr>
        <p:blipFill>
          <a:blip r:embed="rId1"/>
          <a:stretch/>
        </p:blipFill>
        <p:spPr>
          <a:xfrm>
            <a:off x="2438280" y="2514600"/>
            <a:ext cx="3962520" cy="39099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4"/>
          <p:cNvSpPr/>
          <p:nvPr/>
        </p:nvSpPr>
        <p:spPr>
          <a:xfrm>
            <a:off x="40788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lgdna"/>
          <p:cNvPicPr/>
          <p:nvPr/>
        </p:nvPicPr>
        <p:blipFill>
          <a:blip r:embed="rId2"/>
          <a:stretch/>
        </p:blipFill>
        <p:spPr>
          <a:xfrm>
            <a:off x="3352680" y="2438280"/>
            <a:ext cx="1544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228600" y="30492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DNA Structure (double helix where two DNA strands are wound around each other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0" y="23623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imes New Roman"/>
              </a:rPr>
              <a:t>Nucleic Acids (DNA &amp; RNA) are made up of patterns of monomers called nucleotid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Nucleot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Phospha2%255B1%25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2819520" cy="2590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eoxyribose_helix"/>
          <p:cNvPicPr/>
          <p:nvPr/>
        </p:nvPicPr>
        <p:blipFill>
          <a:blip r:embed="rId3"/>
          <a:stretch/>
        </p:blipFill>
        <p:spPr>
          <a:xfrm>
            <a:off x="2590920" y="2514600"/>
            <a:ext cx="2463840" cy="28195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1828800" y="22096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2362320" y="2514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6" descr="cytosine"/>
          <p:cNvPicPr/>
          <p:nvPr/>
        </p:nvPicPr>
        <p:blipFill>
          <a:blip r:embed="rId4"/>
          <a:stretch/>
        </p:blipFill>
        <p:spPr>
          <a:xfrm>
            <a:off x="5791320" y="2666880"/>
            <a:ext cx="2558880" cy="2971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4800600" y="3352680"/>
            <a:ext cx="2286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6781680" y="36576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4876920" y="3352680"/>
            <a:ext cx="1371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2819520" y="24382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200400" y="24526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4267080" y="4662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1828800" y="24382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>
            <a:off x="4572000" y="320040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4648320" y="2514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7924680" y="35053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7"/>
          <p:cNvSpPr/>
          <p:nvPr/>
        </p:nvSpPr>
        <p:spPr>
          <a:xfrm>
            <a:off x="7924680" y="39625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7924680" y="44197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228600" y="-152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hosphate Gro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>
            <a:off x="304920" y="533520"/>
            <a:ext cx="2666880" cy="2590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>
            <a:off x="2819520" y="2209680"/>
            <a:ext cx="2819160" cy="2971800"/>
          </a:xfrm>
          <a:prstGeom prst="ellipse">
            <a:avLst/>
          </a:prstGeom>
          <a:noFill/>
          <a:ln w="763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3429000" y="13716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Deoxyrib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23"/>
          <p:cNvSpPr/>
          <p:nvPr/>
        </p:nvSpPr>
        <p:spPr>
          <a:xfrm>
            <a:off x="5638680" y="2438280"/>
            <a:ext cx="3048120" cy="3505320"/>
          </a:xfrm>
          <a:prstGeom prst="ellipse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4114800" y="58816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Nitrogenous  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4038480" y="5335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ucleotide Par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-3168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There are two types of nitrogenous ba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purine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51844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"/>
          <p:cNvSpPr/>
          <p:nvPr/>
        </p:nvSpPr>
        <p:spPr>
          <a:xfrm>
            <a:off x="3733920" y="1676520"/>
            <a:ext cx="1904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0" y="121932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Purines- have two rings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Adenine and Guan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b</dc:creator>
  <dc:description/>
  <dc:language>en-US</dc:language>
  <cp:lastModifiedBy>HP</cp:lastModifiedBy>
  <dcterms:modified xsi:type="dcterms:W3CDTF">2020-04-20T18:31:12Z</dcterms:modified>
  <cp:revision>56</cp:revision>
  <dc:subject/>
  <dc:title>PowerPoint Presentation</dc:title>
</cp:coreProperties>
</file>