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4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30.wmf" ContentType="image/x-wmf"/>
  <Override PartName="/ppt/media/image31.jpeg" ContentType="image/jpeg"/>
  <Override PartName="/ppt/media/image25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19.jpeg" ContentType="image/jpeg"/>
  <Override PartName="/ppt/media/image29.wmf" ContentType="image/x-wmf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61A-27C9-4A9F-A957-267D43E0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87C-5DF2-4BA0-BAB6-A9B4520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D197-2386-46EA-8975-209BE8B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9147A-0FFC-48C2-AFBA-D1AE041D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B879-8502-4DF4-9AD0-6B21C0D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220CC-3968-4CD9-ACC3-4A792EB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0C513-9DB4-46D8-BECB-5607737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FEC7B-EA13-4828-ACBA-F39C05D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7A40C-72E7-4789-B9D0-FD3CEF37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3B50E-2510-4069-BD82-F3D3A7E8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8590-2990-413C-91CA-C6E16B5A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C38F8-83B9-4D1D-A191-0C808FD0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2E4-74E5-41D0-8AE8-2EF03FCD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0A60C-ABC8-4127-9505-F13C664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52B92-824C-4889-A9C0-97733A6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907E3-230B-49FE-BFB9-F4B7165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D184C-064A-41DB-BC31-4F2ABE85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769CE-8E61-4D71-9709-C67E195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3A0DA-D93D-48F1-ABE0-873EBA7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D7074-948F-447B-A385-7EF9B473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F9816-ED09-4184-BBA3-171170F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E14F6-2C75-4036-BC66-BBD2A9E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4180E-AF02-4718-A926-2ED41400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D10-D16C-4673-A276-8A5745CD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E8CCE-1606-4E36-9C5C-7DFE81C3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F80F-2A49-4411-9E27-A43F3E30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39FDB-429E-4F4A-9C75-457589A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71C22-D8CD-46C9-887C-FCE93F4B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7A379-8A46-46D5-B12C-B79A08E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FBC9D-2BE9-49C3-AE33-05854BE2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4E04C-BF66-4EE6-9244-1C86642C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8F7CE-E436-4830-858A-B4F7C3B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91D2-BF01-46E2-9C79-DD748E01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C29DD-6E80-4F38-AB1A-7418396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8A19-94E1-4D5F-BC82-09D9E029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760B8-575B-4D45-9ECA-CCF24AE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B31F-8BFE-4892-B172-4F90B323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EF411-5C05-4130-BCEC-C29E99DE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3A5F-1B0E-4F8F-B388-DB7E3959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260F-A68C-4EE8-AF55-A0AD398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22597-49DA-4EFD-8896-B2722EDE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A24EF-712B-4C2D-96CE-CBA7421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43151-F85B-4EEE-A5FB-DEE296B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3393-FBD7-4204-A237-0A40BB3E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0A92A-609D-4F39-9CAA-575DB92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4A1-3FFD-479F-9CC4-C8D7AC8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12277-D493-4F18-9D38-41F062E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1299-213C-4675-ADA8-DB4612D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EEBF9-AA90-40C8-82A4-8D990DD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D7772-3720-40F2-AD87-5F4B4FF7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F6635-784A-4DFC-B348-33A03868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6608-B32B-4E9E-9A70-D563CDE4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03647-F3CE-4F86-8DEE-11142427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F2FBC-809D-45B4-B604-B0EFCE0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D0845-DA13-4E51-945D-7D30287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67D3A-E0BB-4EA1-9404-E6309D48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497D-DE6A-421F-89C9-85563526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F7214-AC0C-43E4-AE9F-2E66317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A7456-F0E1-4C7C-B6A9-A96BC5A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4A7C5-68D0-4400-A8B4-47D4AE5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D40DD-5B0E-45E1-BEA5-5357043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AA64A-2D03-407E-9FD4-66E0E41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6C0AA-6444-420E-92E2-196CC183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7BC3D-5BC6-4235-93FE-4AB198CD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CD5F8-CFEE-48DC-9ED3-4369559B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1C4D2-B6B0-45F1-A969-133B342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066DF-97C4-4DA2-85A6-FCE50D23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86A-BB7B-43E1-A48B-551FB690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6D736-D041-4C59-84A7-7CCFE2F1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51CFC-48A7-4F6A-A25C-B8A2B452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625D4-4F84-4FB7-8264-077679F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CD2E9-16FB-4F2D-A67D-C6A6A65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E5D09-08B6-446E-B639-92B2B41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1A546-1E63-4CAA-87AF-F3EA07A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A5EF5-F5A3-43A6-8308-CE30528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8A901-C1E6-460C-9107-79A82528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22E69-DB8C-4860-A7DD-F5B75803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1A48B-FFC3-40C3-9868-EF1267A7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7FCF-B0A6-4220-A168-F2C215CB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64D78-B51E-46B7-A57E-C660510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684DF-682C-48A5-ADFA-033E031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64A87-FF99-4076-8D31-8910B972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7B942-3433-46DA-91BD-7E7E0B8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2CAD6-040D-4B61-BF4F-E556BF3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DF830-81A7-49BD-B9FE-4D73AEA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977BC-2DDA-404B-99E9-95CF818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E07FA-D049-48F9-853F-FE2B61F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903A1-189B-4E4C-882A-92ADDEA1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CA773-D98C-40CD-B2CC-F7E63DE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7160-75B2-407A-A0A6-AD47DC56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5FA48-E6B9-46B6-8942-3A6755B6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A3801-92F1-4896-9754-2FA6265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718C9-E77E-4D2B-8817-D076D78D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FF0B2-710C-4A7F-A48A-E2C261E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4DE41-FAB4-4902-9756-5A71D15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4AFA6-592E-4816-A7F1-A271711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34334-3238-4CE3-AD6B-BC06B3B8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47B1F-CE4C-4B0B-8C08-B969B94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4AD72-A7D1-4C87-BB76-357F8D1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784E2-545D-4FEF-A55F-1975783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428-9766-4505-8306-8A2D022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4B4E8-1352-4668-B5F9-2FAD7F55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2DA52-20DF-46D1-8484-7C23516E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E28C1-F757-4CB2-B78F-5C00D677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57F05-CA54-490C-9707-B16100B4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5C279-8D45-4D59-A3EC-7CFA5D0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275D2-BCCA-48F7-8976-3C59821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EB7D3-0D47-4566-BD87-C4F71498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13645-8AD7-44A4-9E39-36A30DF9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8B695-D8FB-4667-B68C-5D93F3E6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B229C-5E60-449B-BEA4-ACB6F97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8AE-6A07-4135-AF11-13C7919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315-3389-4321-AFE4-CD38A96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B961B-A308-4A7C-8B14-3B4CF2E0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467C7-CBDA-416E-8845-BAF84A3D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08D85-8D59-4CC8-9641-9125424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19A8A-CE4F-4281-8822-E4EA1C1D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6F15F-358D-462D-8D0E-6C404624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8E3E-B5CF-450C-B975-69120B7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8F47-6E6F-4FE8-8B1A-D8481611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C63-6E75-43D3-90C2-E35BDA70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7DE1-1976-490A-81FC-65E6164D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F88A-C863-42C7-9929-9B49D6AD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13A4-65C1-46BD-A3DD-9B4A743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E96C-BD77-46CA-9579-5A19C43F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F51A-41DB-42F7-BEED-4E908F1F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DBAB-7C0A-462E-9982-CCE38B86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282-9319-4206-BCC2-15B04B1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9542-7DDD-4505-98AC-10AC018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C83C-F437-45FF-83B7-409C666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D600-5226-42DC-AE13-8705804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3DB5-EA16-48D1-9DFF-7057557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133F-1DE5-43F4-99B6-0C8C9EEB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8ED2-BFF4-4A5E-A8C1-6D5EBBBF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86DF-BAE6-4856-9F76-3B661F0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2D62-D33F-42DD-B654-479D059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37D7-B83B-468A-A2F8-90F20BB2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5E7D-AC93-47B2-A5B8-2E1318B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DDF-3703-4136-8936-1A8CD7F2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C01A-2E6C-40EF-80E4-55C7BE40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BB84-102E-43A5-84CC-7C4D379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32DB-CAF6-4EC5-8419-3565BFE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437F-6326-4DEA-BF77-703BCA0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85CC-5728-4CB0-A613-AB8D2FC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4E5C-4B1F-4C5E-A547-E7E599A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D379-C368-4DC3-8900-D92BB3C1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9068-CDBD-4254-8F4F-3B79FFA5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11B7-79B1-4F39-A01C-7A998B74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B52E-D795-4BD6-9209-A0CAAA34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C53-2403-498A-B209-702E070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432B-F970-4750-866A-503F5A83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CA7B-FC57-4E27-AE82-24E0A151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756E-350D-4E6F-A1B6-EB80EF5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DDF5-B712-4758-861F-33E6077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A343-4C34-4312-B011-1D55B03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2B4A-C930-4CDA-9DE4-224A2A9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9811-5B89-42B2-A5AE-6A547D7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E206-A90F-4D2F-97CD-944FE48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F310-2033-4D93-AE06-962B03A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9DA3-6CC3-47EB-8F88-08621825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C3C-8FB8-4A5F-BEE0-8E82152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3FF5-644B-4E6E-8891-9B0B8E75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914E-33F5-4342-A36F-7653A857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D653-1AD4-4219-892C-A0B593A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9EE4-AD1F-4C92-9D84-377B554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0353-509A-4632-A63E-D4E3C27D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43B7-13CC-45F4-8195-05EED07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56CC-0638-4C05-9E55-A8B3CEE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031F-4FBE-4590-BA3B-ED0263C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B0872-B331-491C-9BB5-8911C56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BEDF-100E-4D0C-8C38-40FC06D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CD8-BB9B-4A82-B866-5290EB6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D8EB-C41D-4F73-A5BF-CD23FB1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2C1B-D525-4D45-BCF8-6F1BE8BF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8404B-892B-4B06-A165-B12F2771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F8FDD-FD86-406A-A4A7-0197CD27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71370-F347-4A48-BE12-3536BFAF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9826-7752-4A61-A56F-574224B5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48EA-56A1-4839-8BD7-7FE62F5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6BF48-23EA-4747-8828-D6C2B2AF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9CB8-7933-4B2A-9E6F-491B8BE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FA63-2E40-4EDA-963D-F11587F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F5E-03F9-4FB0-9670-2F7F81E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09B3-E4E1-4C92-8E01-E9D4BA0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7BC9-5172-4F9D-8202-905F4E1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35B3-B950-40E1-8B91-CEF65360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123E-4719-4903-8CED-EF14E2E2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33A7-6F05-42D5-AEDD-CCE2867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2D8D-A4E4-4015-A641-B0BDD34B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F77AE-B4E0-4F2B-9FD9-C4B74C0D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1285F-2B50-4F6C-9EB7-AD914C2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2DF2-D084-4B34-9EB2-75D48A0D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71BFB-955C-47EB-919D-2A81C530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E61-C2C5-4BA9-A19C-265D4CE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BF649-FAD6-450D-8D31-AEA9E14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E158-562C-47EB-B2AE-AA5A55F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F1A7-4AD4-451E-8A50-8C4371D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6CD09-273B-4A7D-8046-FCF8F67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81BA5-653F-4BEA-9E98-8F6F832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82DA-E02F-4CBB-8C5B-A2084226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6EB75-8242-4245-A84E-9EC975DF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27528-718F-4941-AC6D-F17D57CB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12899-7839-4A32-BBDE-FBF1B30C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8D000-DE3B-4F94-A30A-F501251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1DAD-0B41-43B1-AE65-F6B45C2CD0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8CC-7702-48FD-9EEC-5EB62CD07B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F0A4-32A4-4DAB-B59C-6C62DB2D20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2AE-1586-47CC-AE49-594000467A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5AF-5DAE-42E5-A867-F6D5F2C4A8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357-857D-4B13-BE3A-87CBBB7791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6E47-414F-40F4-BF43-AD3265BF9F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FAF-47F9-4C24-92B3-95B5620BE4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594-03E9-4367-94F2-15263CC0D94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042-4885-4188-8EFB-EC1F42311B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C82-C734-4EC3-AD2B-EEF3F5C0F3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80B-30D0-4D96-81E7-591195579E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19B-3A84-40D7-A0BD-B864F98A42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CA90-8DBC-42DF-BAAD-B7B23F6CB2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53A-C4C9-443C-899F-B24AACD980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291-3120-46F9-B59A-F58E9FADF5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F31-191C-448C-B6FC-FF4CE5A1946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Electrocardiography</a:t>
            </a:r>
            <a:br>
              <a:rPr sz="3600"/>
            </a:b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Part-2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218960" y="4933440"/>
            <a:ext cx="7086600" cy="15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entury Gothic"/>
              </a:rPr>
              <a:t>Dr. Pallav Shekhar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Asstt. Professo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Veterinary Medicin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Bihar Veterinary Colleg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Bihar Animal Sciences University, Patn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Text Box 8"/>
          <p:cNvSpPr/>
          <p:nvPr/>
        </p:nvSpPr>
        <p:spPr>
          <a:xfrm>
            <a:off x="2514600" y="4191120"/>
            <a:ext cx="3049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10" descr="heart_beating"/>
          <p:cNvPicPr/>
          <p:nvPr/>
        </p:nvPicPr>
        <p:blipFill>
          <a:blip r:embed="rId1"/>
          <a:stretch/>
        </p:blipFill>
        <p:spPr>
          <a:xfrm>
            <a:off x="3581280" y="1828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1" descr="ecg"/>
          <p:cNvPicPr/>
          <p:nvPr/>
        </p:nvPicPr>
        <p:blipFill>
          <a:blip r:embed="rId2"/>
          <a:stretch/>
        </p:blipFill>
        <p:spPr>
          <a:xfrm>
            <a:off x="2057400" y="3809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2" descr="ecg"/>
          <p:cNvPicPr/>
          <p:nvPr/>
        </p:nvPicPr>
        <p:blipFill>
          <a:blip r:embed="rId3"/>
          <a:stretch/>
        </p:blipFill>
        <p:spPr>
          <a:xfrm>
            <a:off x="2819520" y="3809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3" descr="ecg"/>
          <p:cNvPicPr/>
          <p:nvPr/>
        </p:nvPicPr>
        <p:blipFill>
          <a:blip r:embed="rId4"/>
          <a:stretch/>
        </p:blipFill>
        <p:spPr>
          <a:xfrm>
            <a:off x="3581280" y="3809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4" descr="ecg"/>
          <p:cNvPicPr/>
          <p:nvPr/>
        </p:nvPicPr>
        <p:blipFill>
          <a:blip r:embed="rId5"/>
          <a:stretch/>
        </p:blipFill>
        <p:spPr>
          <a:xfrm>
            <a:off x="4343400" y="3809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5" descr="ecg"/>
          <p:cNvPicPr/>
          <p:nvPr/>
        </p:nvPicPr>
        <p:blipFill>
          <a:blip r:embed="rId6"/>
          <a:stretch/>
        </p:blipFill>
        <p:spPr>
          <a:xfrm>
            <a:off x="5105520" y="3809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6" descr="ecg"/>
          <p:cNvPicPr/>
          <p:nvPr/>
        </p:nvPicPr>
        <p:blipFill>
          <a:blip r:embed="rId7"/>
          <a:stretch/>
        </p:blipFill>
        <p:spPr>
          <a:xfrm>
            <a:off x="5867280" y="3840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7" descr="ecg"/>
          <p:cNvPicPr/>
          <p:nvPr/>
        </p:nvPicPr>
        <p:blipFill>
          <a:blip r:embed="rId8"/>
          <a:stretch/>
        </p:blipFill>
        <p:spPr>
          <a:xfrm>
            <a:off x="6659640" y="38098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2"/>
          <p:cNvSpPr/>
          <p:nvPr/>
        </p:nvSpPr>
        <p:spPr>
          <a:xfrm>
            <a:off x="6711120" y="5105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Unit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3" descr=""/>
          <p:cNvPicPr/>
          <p:nvPr/>
        </p:nvPicPr>
        <p:blipFill>
          <a:blip r:embed="rId9"/>
          <a:stretch/>
        </p:blipFill>
        <p:spPr>
          <a:xfrm>
            <a:off x="609480" y="1112760"/>
            <a:ext cx="1536840" cy="118116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"/>
          <p:cNvPicPr/>
          <p:nvPr/>
        </p:nvPicPr>
        <p:blipFill>
          <a:blip r:embed="rId10"/>
          <a:stretch/>
        </p:blipFill>
        <p:spPr>
          <a:xfrm>
            <a:off x="6946920" y="1219320"/>
            <a:ext cx="16621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Q wav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9" name="Picture 2" descr="Pathologic Q Waves - ECGpedia"/>
          <p:cNvPicPr/>
          <p:nvPr/>
        </p:nvPicPr>
        <p:blipFill>
          <a:blip r:embed="rId1"/>
          <a:stretch/>
        </p:blipFill>
        <p:spPr>
          <a:xfrm>
            <a:off x="1805040" y="1523880"/>
            <a:ext cx="4862520" cy="2514600"/>
          </a:xfrm>
          <a:prstGeom prst="rect">
            <a:avLst/>
          </a:prstGeom>
          <a:ln w="0">
            <a:noFill/>
          </a:ln>
        </p:spPr>
      </p:pic>
      <p:sp>
        <p:nvSpPr>
          <p:cNvPr id="1220" name="TextBox 3"/>
          <p:cNvSpPr/>
          <p:nvPr/>
        </p:nvSpPr>
        <p:spPr>
          <a:xfrm>
            <a:off x="1523880" y="4572000"/>
            <a:ext cx="586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w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on the electrocardiogram (ECG) is an initially negative deflection of the QRS complex. Technically, a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w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indicates that the net direction of early ventricular depolarization (QRS) electrical forces projects toward the negative pole of the lead axis i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represents septal acti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1" name="Straight Arrow Connector 5"/>
          <p:cNvCxnSpPr/>
          <p:nvPr/>
        </p:nvCxnSpPr>
        <p:spPr>
          <a:xfrm flipV="1">
            <a:off x="3352320" y="3580920"/>
            <a:ext cx="1080" cy="9151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pic>
        <p:nvPicPr>
          <p:cNvPr id="1222" name="Picture 4" descr="ELECTRICAL PROPERTIES OF THE HEART - ppt video online download"/>
          <p:cNvPicPr/>
          <p:nvPr/>
        </p:nvPicPr>
        <p:blipFill>
          <a:blip r:embed="rId2"/>
          <a:stretch/>
        </p:blipFill>
        <p:spPr>
          <a:xfrm>
            <a:off x="4191120" y="1523880"/>
            <a:ext cx="3093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R Wav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4" name="Picture 2" descr="The R Wave - Sinus Rhythm - Normal Function of the Heart ..."/>
          <p:cNvPicPr/>
          <p:nvPr/>
        </p:nvPicPr>
        <p:blipFill>
          <a:blip r:embed="rId1"/>
          <a:stretch/>
        </p:blipFill>
        <p:spPr>
          <a:xfrm>
            <a:off x="990720" y="1600200"/>
            <a:ext cx="7772400" cy="396252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"/>
          <p:cNvSpPr/>
          <p:nvPr/>
        </p:nvSpPr>
        <p:spPr>
          <a:xfrm>
            <a:off x="914400" y="5410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rgest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in the QRS complex is the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w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w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represents the electrical stimulus as it passes through the main portion of the ventricular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S Wav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3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4343400" cy="190476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4"/>
          <p:cNvSpPr/>
          <p:nvPr/>
        </p:nvSpPr>
        <p:spPr>
          <a:xfrm>
            <a:off x="114300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deflection below the base line  following ‘R’ is called as ‘S’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T Wav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1" name="Picture 2" descr="QT interval - Wikipedia"/>
          <p:cNvPicPr/>
          <p:nvPr/>
        </p:nvPicPr>
        <p:blipFill>
          <a:blip r:embed="rId1"/>
          <a:stretch/>
        </p:blipFill>
        <p:spPr>
          <a:xfrm>
            <a:off x="2590920" y="16002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232" name="TextBox 3"/>
          <p:cNvSpPr/>
          <p:nvPr/>
        </p:nvSpPr>
        <p:spPr>
          <a:xfrm>
            <a:off x="685800" y="44956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 wave any positive or negative deflection is called as ‘T’ 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la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ent, Positive, Negative or Bipha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 wave represents repolarization of ventr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T waves Morphologi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4" name="Picture 2" descr="Image may contain: text"/>
          <p:cNvPicPr/>
          <p:nvPr/>
        </p:nvPicPr>
        <p:blipFill>
          <a:blip r:embed="rId1"/>
          <a:stretch/>
        </p:blipFill>
        <p:spPr>
          <a:xfrm>
            <a:off x="1944720" y="2133720"/>
            <a:ext cx="6345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371600" y="623520"/>
            <a:ext cx="69343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Measuring waves and intervals in ECG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6" name="Picture 2" descr="Long QT Syndrome Knowledge Base: Diagnosis &amp; Evaluation ..."/>
          <p:cNvPicPr/>
          <p:nvPr/>
        </p:nvPicPr>
        <p:blipFill>
          <a:blip r:embed="rId1"/>
          <a:stretch/>
        </p:blipFill>
        <p:spPr>
          <a:xfrm>
            <a:off x="1143000" y="14479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T ypical ECG of normal person | Download Scientific Diagram"/>
          <p:cNvPicPr/>
          <p:nvPr/>
        </p:nvPicPr>
        <p:blipFill>
          <a:blip r:embed="rId1"/>
          <a:stretch/>
        </p:blipFill>
        <p:spPr>
          <a:xfrm>
            <a:off x="838080" y="685800"/>
            <a:ext cx="7925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25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5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8096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47560" y="623880"/>
            <a:ext cx="7086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Significance of waves and Interval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TextBox 4"/>
          <p:cNvSpPr/>
          <p:nvPr/>
        </p:nvSpPr>
        <p:spPr>
          <a:xfrm>
            <a:off x="1222200" y="18288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P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5"/>
          <p:cNvSpPr/>
          <p:nvPr/>
        </p:nvSpPr>
        <p:spPr>
          <a:xfrm>
            <a:off x="3200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al depolarization. Normally positive in lead II,III and a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6"/>
          <p:cNvSpPr/>
          <p:nvPr/>
        </p:nvSpPr>
        <p:spPr>
          <a:xfrm>
            <a:off x="1371600" y="3048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R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7"/>
          <p:cNvSpPr/>
          <p:nvPr/>
        </p:nvSpPr>
        <p:spPr>
          <a:xfrm>
            <a:off x="2971800" y="3200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om onset of atrial muscle depolarization through  conduction over AV node, Bundle of His and Purkinjee fi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8"/>
          <p:cNvSpPr/>
          <p:nvPr/>
        </p:nvSpPr>
        <p:spPr>
          <a:xfrm>
            <a:off x="1143000" y="4572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RS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9"/>
          <p:cNvSpPr/>
          <p:nvPr/>
        </p:nvSpPr>
        <p:spPr>
          <a:xfrm>
            <a:off x="3048120" y="449568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olarization of ventricular muscle. Q is first negative deflection , ‘R’ the first positive deflection and ‘S’  the second negative  de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676520" y="62352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200" spc="-1" strike="noStrike">
                <a:solidFill>
                  <a:srgbClr val="262626"/>
                </a:solidFill>
                <a:latin typeface="Century Gothic"/>
              </a:rPr>
              <a:t>Recording of Electrocardiogra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837720" y="21333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strain and Position: Right lateral recumben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lacement of Electrodes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)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oximal to the olecranon on   the caudal aspect of the right  and left fore limb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) Right hind limb (RL) and  left hind limb (LL) electrodes   are  attached over patellar ligamen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TextBox 3"/>
          <p:cNvSpPr/>
          <p:nvPr/>
        </p:nvSpPr>
        <p:spPr>
          <a:xfrm>
            <a:off x="1528200" y="14479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4"/>
          <p:cNvSpPr/>
          <p:nvPr/>
        </p:nvSpPr>
        <p:spPr>
          <a:xfrm>
            <a:off x="3429000" y="13716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QRS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"/>
          <p:cNvSpPr/>
          <p:nvPr/>
        </p:nvSpPr>
        <p:spPr>
          <a:xfrm>
            <a:off x="1371600" y="2438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Box 6"/>
          <p:cNvSpPr/>
          <p:nvPr/>
        </p:nvSpPr>
        <p:spPr>
          <a:xfrm>
            <a:off x="3429000" y="251460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of phase-2 of action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Box 7"/>
          <p:cNvSpPr/>
          <p:nvPr/>
        </p:nvSpPr>
        <p:spPr>
          <a:xfrm>
            <a:off x="175464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Box 8"/>
          <p:cNvSpPr/>
          <p:nvPr/>
        </p:nvSpPr>
        <p:spPr>
          <a:xfrm>
            <a:off x="3429000" y="34290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muscle re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1705680" y="5181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T inter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Box 10"/>
          <p:cNvSpPr/>
          <p:nvPr/>
        </p:nvSpPr>
        <p:spPr>
          <a:xfrm>
            <a:off x="37339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ime of ventricular depolarization and re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terpret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TextBox 2"/>
          <p:cNvSpPr/>
          <p:nvPr/>
        </p:nvSpPr>
        <p:spPr>
          <a:xfrm>
            <a:off x="1389600" y="20574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1. Calculation of 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3"/>
          <p:cNvSpPr/>
          <p:nvPr/>
        </p:nvSpPr>
        <p:spPr>
          <a:xfrm>
            <a:off x="1295280" y="32004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unt no of Complexes  Square in 3 sec                    </a:t>
            </a: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(speed=25mm/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Box 4"/>
          <p:cNvSpPr/>
          <p:nvPr/>
        </p:nvSpPr>
        <p:spPr>
          <a:xfrm>
            <a:off x="1295280" y="41590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3/0.04= 75 small box              or           15 larg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6"/>
          <p:cNvSpPr/>
          <p:nvPr/>
        </p:nvSpPr>
        <p:spPr>
          <a:xfrm>
            <a:off x="1371600" y="5486400"/>
            <a:ext cx="685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eart Rate = No. of Complexes   X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600200" y="623520"/>
            <a:ext cx="693432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800" spc="-1" strike="noStrike">
                <a:solidFill>
                  <a:srgbClr val="262626"/>
                </a:solidFill>
                <a:latin typeface="Century Gothic"/>
              </a:rPr>
              <a:t>Calculate Heart Rate</a:t>
            </a:r>
            <a:br>
              <a:rPr sz="2800"/>
            </a:br>
            <a:r>
              <a:rPr b="1" lang="en-IN" sz="2800" spc="-1" strike="noStrike">
                <a:solidFill>
                  <a:srgbClr val="262626"/>
                </a:solidFill>
                <a:latin typeface="Century Gothic"/>
              </a:rPr>
              <a:t> 25mm/sec,    10mm/mV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1" name="Picture 2" descr="https://cdn.sanity.io/images/0vv8moc6/dvm360/9a0d82956f76d1cd18660dba4c8e4ea435eb0665-956x252.jpg"/>
          <p:cNvPicPr/>
          <p:nvPr/>
        </p:nvPicPr>
        <p:blipFill>
          <a:blip r:embed="rId1"/>
          <a:stretch/>
        </p:blipFill>
        <p:spPr>
          <a:xfrm>
            <a:off x="914400" y="2751120"/>
            <a:ext cx="76201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0106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Determine cardiac rhyth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3" name="Picture 4" descr="Ecg"/>
          <p:cNvPicPr/>
          <p:nvPr/>
        </p:nvPicPr>
        <p:blipFill>
          <a:blip r:embed="rId1"/>
          <a:stretch/>
        </p:blipFill>
        <p:spPr>
          <a:xfrm>
            <a:off x="368280" y="2514600"/>
            <a:ext cx="831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Determine irregulariti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5" name="Picture 2" descr="https://cdn.sanity.io/images/0vv8moc6/dvm360/9670de9879646ea68eef4abe1d464ae8ef7aeb44-2491x502.jpg"/>
          <p:cNvPicPr/>
          <p:nvPr/>
        </p:nvPicPr>
        <p:blipFill>
          <a:blip r:embed="rId1"/>
          <a:stretch/>
        </p:blipFill>
        <p:spPr>
          <a:xfrm>
            <a:off x="609480" y="2438280"/>
            <a:ext cx="8229600" cy="2590920"/>
          </a:xfrm>
          <a:prstGeom prst="rect">
            <a:avLst/>
          </a:prstGeom>
          <a:ln w="0">
            <a:noFill/>
          </a:ln>
        </p:spPr>
      </p:pic>
      <p:sp>
        <p:nvSpPr>
          <p:cNvPr id="1266" name="Right Arrow 7"/>
          <p:cNvSpPr/>
          <p:nvPr/>
        </p:nvSpPr>
        <p:spPr>
          <a:xfrm>
            <a:off x="838080" y="3200400"/>
            <a:ext cx="978120" cy="304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eft Arrow 8"/>
          <p:cNvSpPr/>
          <p:nvPr/>
        </p:nvSpPr>
        <p:spPr>
          <a:xfrm>
            <a:off x="2060640" y="3352680"/>
            <a:ext cx="977760" cy="152640"/>
          </a:xfrm>
          <a:prstGeom prst="leftArrow">
            <a:avLst>
              <a:gd name="adj1" fmla="val 50000"/>
              <a:gd name="adj2" fmla="val 49881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4-Point Star 9"/>
          <p:cNvSpPr/>
          <p:nvPr/>
        </p:nvSpPr>
        <p:spPr>
          <a:xfrm>
            <a:off x="6553080" y="32004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Straight Arrow Connector 11"/>
          <p:cNvCxnSpPr/>
          <p:nvPr/>
        </p:nvCxnSpPr>
        <p:spPr>
          <a:xfrm flipV="1">
            <a:off x="6324120" y="3047400"/>
            <a:ext cx="1080" cy="198180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371240" y="623880"/>
            <a:ext cx="716292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entury Gothic"/>
              </a:rPr>
              <a:t>Measure the amplitude  and duration  of waves  (‘P’, ‘QRS’, ‘T’)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380880" y="1371600"/>
          <a:ext cx="8534520" cy="5587920"/>
        </p:xfrm>
        <a:graphic>
          <a:graphicData uri="http://schemas.openxmlformats.org/drawingml/2006/table">
            <a:tbl>
              <a:tblPr/>
              <a:tblGrid>
                <a:gridCol w="3834000"/>
                <a:gridCol w="4700520"/>
              </a:tblGrid>
              <a:tr h="30780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ctrocardiographic  par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ange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98280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art Rate (beats/min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mall/ toy  breed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arge breed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uppies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- 170     b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- 170     b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-160      b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-220    b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24516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’ amplitude ( 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15-0.40 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4624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’ duration   (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2-0.04 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3476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’ amplitude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mall/ toy br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arge br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90- 2.8  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9- 2.4  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20- 2.8  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3692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RS’ duration (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mall br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arge br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3-0.05 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3-0.04 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4-.0.05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24588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’ amplitude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15-0.50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4516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’ duration (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4-0.08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24624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-R interval 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8-0.12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8100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-T’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-T  segment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s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pression 0.05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vation    0.05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04 – 0.1 sec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30780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-T’ interval (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11-0.23 seconds   depending on heart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08160"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-R’  interval (se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35 -0.8 seconds depending on heart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523880" y="623880"/>
            <a:ext cx="701064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200" spc="-1" strike="noStrike">
                <a:solidFill>
                  <a:srgbClr val="262626"/>
                </a:solidFill>
                <a:latin typeface="Century Gothic"/>
              </a:rPr>
              <a:t>P wave abnormality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3" name="Content Placeholder 3" descr=""/>
          <p:cNvPicPr/>
          <p:nvPr/>
        </p:nvPicPr>
        <p:blipFill>
          <a:blip r:embed="rId1"/>
          <a:stretch/>
        </p:blipFill>
        <p:spPr>
          <a:xfrm>
            <a:off x="838080" y="1407960"/>
            <a:ext cx="73152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QRS’ Complex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5" name="Content Placeholder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-T segment/ J point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7" name="Content Placeholder 3" descr=""/>
          <p:cNvPicPr/>
          <p:nvPr/>
        </p:nvPicPr>
        <p:blipFill>
          <a:blip r:embed="rId1"/>
          <a:stretch/>
        </p:blipFill>
        <p:spPr>
          <a:xfrm>
            <a:off x="838080" y="1689120"/>
            <a:ext cx="7620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-R interval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7621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crease ( &gt;0.13 sec.)                                   Ist degree heart block   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TextBox 4"/>
          <p:cNvSpPr/>
          <p:nvPr/>
        </p:nvSpPr>
        <p:spPr>
          <a:xfrm>
            <a:off x="2144160" y="335268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Arial"/>
              </a:rPr>
              <a:t>Q-T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5"/>
          <p:cNvSpPr/>
          <p:nvPr/>
        </p:nvSpPr>
        <p:spPr>
          <a:xfrm>
            <a:off x="380880" y="403848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ng (&gt; 0.25 sec.)                                             Hypocalcaemia, hypotherm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kalaemia, CNS disord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hypertroph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 (&lt; 0.15 sec.)                                             Hypercalcaemia, hyperkalaem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is 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V lead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5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L (r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):   at 5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right intercostal space near edge of sternum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6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L (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):  at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left intercostal space near edge of sternum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6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U (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4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): at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left intercostal space at costo-chondral junction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electrode  is attached over dorsal spinous process of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thoracic vertebra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T wave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83" name="Content Placeholder 3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R-R Interv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762120" y="1523520"/>
            <a:ext cx="77724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ariable                                                                 Arrhyth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ause between R-R &lt; twice of                              Sinus Bloc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ormal R-R interv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ause between R-R &gt; twice of                               Sinus Arres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ormal R-R interv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2" descr="golf_courses_csg035_augusta_national-georgia_12th_gr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7" name="TextBox 4"/>
          <p:cNvSpPr/>
          <p:nvPr/>
        </p:nvSpPr>
        <p:spPr>
          <a:xfrm>
            <a:off x="0" y="5029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6600"/>
                </a:solidFill>
                <a:latin typeface="Forte"/>
                <a:ea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828440" y="623520"/>
            <a:ext cx="67057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Artifac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Electrical interferenc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tretch/>
        </p:blipFill>
        <p:spPr>
          <a:xfrm>
            <a:off x="1282680" y="2867040"/>
            <a:ext cx="7256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Muscle trem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Content Placeholder 3" descr=""/>
          <p:cNvPicPr/>
          <p:nvPr/>
        </p:nvPicPr>
        <p:blipFill>
          <a:blip r:embed="rId1"/>
          <a:stretch/>
        </p:blipFill>
        <p:spPr>
          <a:xfrm>
            <a:off x="719280" y="2057400"/>
            <a:ext cx="7586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Wandering base line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1943280" y="2544840"/>
            <a:ext cx="65912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371240" y="623520"/>
            <a:ext cx="71629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Conduction and Electrocardiogram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2" name="Picture 2" descr="12 Lead ECG Placement | AED Superstore Resource Center"/>
          <p:cNvPicPr/>
          <p:nvPr/>
        </p:nvPicPr>
        <p:blipFill>
          <a:blip r:embed="rId1"/>
          <a:stretch/>
        </p:blipFill>
        <p:spPr>
          <a:xfrm>
            <a:off x="1523880" y="1676520"/>
            <a:ext cx="6034320" cy="3276360"/>
          </a:xfrm>
          <a:prstGeom prst="rect">
            <a:avLst/>
          </a:prstGeom>
          <a:ln w="0">
            <a:noFill/>
          </a:ln>
        </p:spPr>
      </p:pic>
      <p:sp>
        <p:nvSpPr>
          <p:cNvPr id="1203" name="TextBox 6"/>
          <p:cNvSpPr/>
          <p:nvPr/>
        </p:nvSpPr>
        <p:spPr>
          <a:xfrm>
            <a:off x="685800" y="5257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Depolarization of Rt.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7"/>
          <p:cNvSpPr/>
          <p:nvPr/>
        </p:nvSpPr>
        <p:spPr>
          <a:xfrm>
            <a:off x="7771680" y="1676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P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5" name="Straight Arrow Connector 9"/>
          <p:cNvCxnSpPr/>
          <p:nvPr/>
        </p:nvCxnSpPr>
        <p:spPr>
          <a:xfrm flipV="1">
            <a:off x="4952880" y="2045520"/>
            <a:ext cx="2820240" cy="13834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6" name="Straight Arrow Connector 11"/>
          <p:cNvCxnSpPr/>
          <p:nvPr/>
        </p:nvCxnSpPr>
        <p:spPr>
          <a:xfrm flipH="1">
            <a:off x="2057040" y="3581280"/>
            <a:ext cx="2743920" cy="19058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sp>
        <p:nvSpPr>
          <p:cNvPr id="1207" name="TextBox 16"/>
          <p:cNvSpPr/>
          <p:nvPr/>
        </p:nvSpPr>
        <p:spPr>
          <a:xfrm>
            <a:off x="6031080" y="548640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Depolarization of Lft.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8" name="Straight Arrow Connector 18"/>
          <p:cNvCxnSpPr/>
          <p:nvPr/>
        </p:nvCxnSpPr>
        <p:spPr>
          <a:xfrm>
            <a:off x="5029200" y="3581280"/>
            <a:ext cx="1905840" cy="19058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R Seg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Picture 10" descr="ST Segment Basics – The Premier EKG Resource for Medical Professionals"/>
          <p:cNvPicPr/>
          <p:nvPr/>
        </p:nvPicPr>
        <p:blipFill>
          <a:blip r:embed="rId1"/>
          <a:stretch/>
        </p:blipFill>
        <p:spPr>
          <a:xfrm>
            <a:off x="304920" y="1371600"/>
            <a:ext cx="3849480" cy="34290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4" descr="Lesson title = Pericarditis"/>
          <p:cNvPicPr/>
          <p:nvPr/>
        </p:nvPicPr>
        <p:blipFill>
          <a:blip r:embed="rId2"/>
          <a:stretch/>
        </p:blipFill>
        <p:spPr>
          <a:xfrm>
            <a:off x="4876920" y="1376280"/>
            <a:ext cx="3851280" cy="3424320"/>
          </a:xfrm>
          <a:prstGeom prst="rect">
            <a:avLst/>
          </a:prstGeom>
          <a:ln w="0">
            <a:noFill/>
          </a:ln>
        </p:spPr>
      </p:pic>
      <p:sp>
        <p:nvSpPr>
          <p:cNvPr id="1212" name="TextBox 7"/>
          <p:cNvSpPr/>
          <p:nvPr/>
        </p:nvSpPr>
        <p:spPr>
          <a:xfrm>
            <a:off x="45720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is the flat line between the end of the P-wave and the start of the QRS complex. The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reflects the time delay between atrial and ventricular activation. The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also serves as the baseline (reference line or isoelectric line) of the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cur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Straight Arrow Connector 9"/>
          <p:cNvCxnSpPr/>
          <p:nvPr/>
        </p:nvCxnSpPr>
        <p:spPr>
          <a:xfrm flipV="1">
            <a:off x="1676160" y="4495320"/>
            <a:ext cx="1080" cy="5342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R Interv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5" name="Content Placeholder 3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715000" cy="2971800"/>
          </a:xfrm>
          <a:prstGeom prst="rect">
            <a:avLst/>
          </a:prstGeom>
          <a:ln w="0">
            <a:noFill/>
          </a:ln>
        </p:spPr>
      </p:pic>
      <p:sp>
        <p:nvSpPr>
          <p:cNvPr id="1216" name="TextBox 4"/>
          <p:cNvSpPr/>
          <p:nvPr/>
        </p:nvSpPr>
        <p:spPr>
          <a:xfrm>
            <a:off x="1600200" y="57150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-R interval  is the measurement  of total time required for both atrial depolarization as well as  delay in AV no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Straight Arrow Connector 6"/>
          <p:cNvCxnSpPr/>
          <p:nvPr/>
        </p:nvCxnSpPr>
        <p:spPr>
          <a:xfrm flipH="1" flipV="1">
            <a:off x="2590200" y="3504960"/>
            <a:ext cx="229320" cy="20577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ijayakumar</dc:creator>
  <dc:description/>
  <dc:language>en-US</dc:language>
  <cp:lastModifiedBy>Windows User</cp:lastModifiedBy>
  <dcterms:modified xsi:type="dcterms:W3CDTF">2020-04-28T11:19:13Z</dcterms:modified>
  <cp:revision>326</cp:revision>
  <dc:subject/>
  <dc:title>Major credit seminar  on Prostatic disorders in dogs - An overview</dc:title>
</cp:coreProperties>
</file>