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E03-F414-4850-A2C8-65169A3B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E6D-9B11-4D7A-9700-9ECC6830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788-6C8B-4EE3-A914-2366C841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8D7-EC85-4CEE-890E-2B53F096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029-6AB6-45F4-8739-DD84F639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0DF-32EF-4A06-8C4F-2802C57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9D0-1C60-4C92-AC7C-7B89BAF3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887-E360-44B0-BF5F-FBE198D2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574-960E-43BC-913E-1708640B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0B3-889E-4BB3-B810-46A89B9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DBC-BE46-42E5-A688-2F82D7B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2A8-9BBA-456E-9211-029EAF7B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F64C-505F-4E30-B690-BEB30E85C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01000" cy="14479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HEALTH MANAGEMENT OF COMMERCIAL POULT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. S. P. SAH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sistant Profess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partment of LP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har Veterinary College, Patna- 800 01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ater:</a:t>
            </a:r>
            <a:r>
              <a:rPr b="0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roughs: A source of contamination from the nasal and oral secretion and faeces;  and must be cleaned regularly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pple drinkers are much cleaner but pressure must not be too high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endous numbers of bacteria can build up drinking cups or trough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iodic or constant water-sanitizing program and descaling may be follow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Indoors Chicken Farm, Chicken Feeding, Farm For Growing Broiler ..."/>
          <p:cNvPicPr/>
          <p:nvPr/>
        </p:nvPicPr>
        <p:blipFill>
          <a:blip r:embed="rId1"/>
          <a:stretch/>
        </p:blipFill>
        <p:spPr>
          <a:xfrm>
            <a:off x="457200" y="939960"/>
            <a:ext cx="83818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ir: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germ-free air is a very important part of a healthy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ventilation system to dilute and carry away dust and microorganisms and keep the pen d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393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etaker:</a:t>
            </a: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infection to birds on their hands, clothes, boots and equipme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germs from one group to another on the farm or bring germs in from outside the far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er clothing and footwear should be changed between buildings and hands washed in disinfectant, If the same person is looking after more than one building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ossible, separate workers should care for chicks, young birds and adul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Prevention by Iso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 the microorganisms that cause disease from contacting the chick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croorganisms which cause a disease are eliminated from an area or country, the disease is said to be eradic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or not a disease can be prevented by isolation 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6840" y="7621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re the microorganisms that cause the disease live?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rganisms are widespread in the environment and  difficult to prevent birds from contacting them (</a:t>
            </a:r>
            <a:r>
              <a:rPr b="0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crotic enteritis, Staphylococcosis, Coccidiosis, 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. col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rganisms are found primarily in chickens (sick birds or healthy carriers) and live outside the bird's body for only a short time (</a:t>
            </a:r>
            <a:r>
              <a:rPr b="0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ycoplasm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may live </a:t>
            </a:r>
            <a:r>
              <a:rPr b="0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r days, weeks or month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nvironment, depending on the organism and the conditions (moisture, temperature, etc.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way the disease organism is spr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irect cont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wind (only over short distance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echanical transfer (people, eggs, egg cases, trucks, feed, water, rats, dogs, insects etc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or more separate objects involved in the spread of organisms from one flock to another (chickens to eggs, to egg cases, to people, back to chicken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nfected wild bir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cts (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eukocytozoon, Plasmodium et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ertical spread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egg from the adult to the chi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ereally or by Artificial Insemination in semen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Mycoplas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 that are easier to control by isolation are those where the causative agent survives outside the body for only a short tim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agent is egg-transmitted, the breeder flock must also be free of the dise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is not only the cheapest but the best way to control many contagious disea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solation is equivalent to quaranti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09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ease 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3480"/>
            <a:ext cx="8305920" cy="53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 with  live microorganis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Bacteria, Virus, Mycoplasma, Parasit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us Disea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ontagious diseases: Spread from one chicken to another  (Staphylococcus inf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Non-contagious diseases: Aspergill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Arrow 3"/>
          <p:cNvSpPr/>
          <p:nvPr/>
        </p:nvSpPr>
        <p:spPr>
          <a:xfrm rot="5400000">
            <a:off x="4044960" y="1974960"/>
            <a:ext cx="596880" cy="4572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mportant Features of an Isolation Program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30240"/>
            <a:ext cx="82296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rs must be trained to carry out the sanitation and isolation procedu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also understand why the rules are set up and why disease prevention is import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age group on the farm (an all-in, all-out program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s over 100 meters apart for proper isolation and sanitation procedures are follow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930240"/>
            <a:ext cx="82296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chicks/replacements from a disease-free, single source or raise replacements in a different area with separate caretak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no neighboring poultry buildings or free ranging chickens within 300 me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sanitize buildings and equipment between crop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 down litter before removal to protect neighboring poultry and do not store or spread litter near poultry buil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0520" y="685800"/>
            <a:ext cx="861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buildings against wild birds, rats, cats, dogs and control insect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dead birds from the pens at least twice a day and dispose off sick and dead birds at least 100 m from the poultry building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dogs, cats and wild birds or animals cannot carry dead chickens to the farm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 the movement of workers from one building to another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0520" y="380520"/>
            <a:ext cx="8610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in only new/sterilized egg cases and fla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out visitors or provide boots and protective cloth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infect necessary vehicles (feed trucks) and restrict them to the loading and unloading are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poultry service crews disinfect equipment, shower and change clothing before entering the poultry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er and change clothing after taking chickens to market or meeting with poultry workers from other fa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3. Prevention by Vacci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ltry have a good immune response to many diseases and vaccin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so pass immunity to offspring through the egg. Breeders require a special vaccination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ccination schedule for commercial broi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3276720"/>
          <a:ext cx="7848720" cy="3146400"/>
        </p:xfrm>
        <a:graphic>
          <a:graphicData uri="http://schemas.openxmlformats.org/drawingml/2006/table">
            <a:tbl>
              <a:tblPr/>
              <a:tblGrid>
                <a:gridCol w="1981080"/>
                <a:gridCol w="3489480"/>
                <a:gridCol w="2378160"/>
              </a:tblGrid>
              <a:tr h="524520">
                <a:tc>
                  <a:txBody>
                    <a:bodyPr lIns="33480" rIns="33480" tIns="33480" bIns="3348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c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ute of adm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452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rst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ek’s  disease (at hatche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/C at n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716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V 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 or I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452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D Vac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 or I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452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V La S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inking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452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D Vaccine (Boost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inking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480" marR="33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ccination schedule for commercial lay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066680"/>
          <a:ext cx="8229600" cy="5429520"/>
        </p:xfrm>
        <a:graphic>
          <a:graphicData uri="http://schemas.openxmlformats.org/drawingml/2006/table">
            <a:tbl>
              <a:tblPr/>
              <a:tblGrid>
                <a:gridCol w="2133720"/>
                <a:gridCol w="4760640"/>
                <a:gridCol w="1335240"/>
              </a:tblGrid>
              <a:tr h="68904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c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032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ek’s Disease Vaccine (HV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/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ikhet Disease Vaccine- RDVF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780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4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us Bursal Disease Vac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/N or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780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2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us Bronch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/N or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176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27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 Vaccine Boo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068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-3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 vaccine Booster- La So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1066680"/>
          <a:ext cx="8229600" cy="5059440"/>
        </p:xfrm>
        <a:graphic>
          <a:graphicData uri="http://schemas.openxmlformats.org/drawingml/2006/table">
            <a:tbl>
              <a:tblPr/>
              <a:tblGrid>
                <a:gridCol w="1676520"/>
                <a:gridCol w="5217840"/>
                <a:gridCol w="1335240"/>
              </a:tblGrid>
              <a:tr h="66204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c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188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wl Pox Vaccine / Infectious Coryza Vac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044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 vaccine- RDVK or R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/C or I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152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wl Pox Vac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g w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980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 Boo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188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 Booster- RDVK or R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/C or I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5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 La Sota repeated every once in 2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0" rIns="32400" tIns="32400" bIns="32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Prevention by Medication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. Preventive medication: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iseases can be prevented by medicatio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ve medication is most useful when protection is only required for a limited time as in broiler chickens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mmunity does not develop such as in necrotic enteriti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ccidiosis:</a:t>
            </a:r>
            <a:r>
              <a:rPr b="0" lang="en-US" sz="3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occidial medication is very widely used in broilers till the birds are ready for processing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strains of coccidia may develop and anticoccidials may have to be switched regularly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ty may or may not develop and anticoccidials that allow immunity are bes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crotic enteritis (NE):</a:t>
            </a:r>
            <a:r>
              <a:rPr b="0" lang="en-US" sz="3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evel antibiotic in the feed is used to prevent N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cteria must be sensitive to the drugs being us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redisposing factors such as coccidia infection are present, they must also be correct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1203480"/>
            <a:ext cx="792468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fections can be prevented b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Prevention by San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Prevention by Iso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Prevention by Vacc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Prevention by Med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6840" y="4568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. Therapeutic medic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rapeutic medication can be considered preventive when it is used to control the spread of serious infectious diseases such as Coryza or Chole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coryza should not start until 1/3 of the flock is infected or the disease may recur following trea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 developing bacteria: Different drugs used for contro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ections do not usually respond to medicine, although the medicine may prevent bacterial infection secondary to disease caused by vir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568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nes given by injection should not be given into the abdomen or leg. Only given under the skin of the back or into the muscle of the breas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ne in the drinking water: Must watch daily consumption and reduced in hot wea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eventive medicine is often added to the feed at the feed pla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disease outbreak, medicine can be added to the water until medicated feed is availabl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ing birds drink about 3 times as much water compared to the amount of feed they eat. Adults about 2 times as much (by weigh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1457280" y="1096920"/>
            <a:ext cx="64548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1203480"/>
            <a:ext cx="792468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762120" y="23796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Prevention by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590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anit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duce the numbers of disease organisms which the chicken contacts to the level where they will no longer cause diseases and to provide a clean and healthy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nk 3" descr=""/>
          <p:cNvPicPr/>
          <p:nvPr/>
        </p:nvPicPr>
        <p:blipFill>
          <a:blip r:embed="rId1"/>
          <a:stretch/>
        </p:blipFill>
        <p:spPr>
          <a:xfrm>
            <a:off x="11871360" y="3597120"/>
            <a:ext cx="31680" cy="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anitation  can be achiev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leaning and disinfec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dequate ventilation to reduce the number of organisms in the 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reducing contact with other chickens by keeping them in cag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nk 3" descr=""/>
          <p:cNvPicPr/>
          <p:nvPr/>
        </p:nvPicPr>
        <p:blipFill>
          <a:blip r:embed="rId1"/>
          <a:stretch/>
        </p:blipFill>
        <p:spPr>
          <a:xfrm>
            <a:off x="11871360" y="3597120"/>
            <a:ext cx="31680" cy="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ildings and Equipments: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g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birds out of contact with their droppings, spilled feed and water (source of bacteria and bacterial growth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 contr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floor operations, an adequate amount of dry litter helps to control microbial grow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cleanout, remove dust from walls, ceiling, fans and equip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 down and remove litter, clean the building and equipment using detergent and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with a good disinfec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rt flood cannot be disinfec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er: Spread at least 100m away from the poultry buil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ed:</a:t>
            </a:r>
            <a:r>
              <a:rPr b="0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flocks, clean out feed in the bins both inside and outside the building and remove it from the build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leftover feeds to chickens of a similar age or reprocess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storage bins must be checked for spoiled or moldy feed not adhering to the inside the empty bi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ers: Constructed and set so that feed is not spilled out into the lit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 p sahu</dc:creator>
  <dc:description/>
  <dc:language>en-US</dc:language>
  <cp:lastModifiedBy>s p sahu</cp:lastModifiedBy>
  <dcterms:modified xsi:type="dcterms:W3CDTF">2020-04-11T16:10:35Z</dcterms:modified>
  <cp:revision>49</cp:revision>
  <dc:subject/>
  <dc:title>HEALTH MANAGEMENT OF COMMERCIAL POULTRY</dc:title>
</cp:coreProperties>
</file>