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media/image13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E335-EE5C-462E-8B90-5C46BE302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6FBD-DD11-4EF7-A608-6A362087B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DF6D-2683-4E58-9D70-AF3D10E2C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ABC1-C21D-47FE-A16E-E5B7B382C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2776-B337-47CA-877A-DD5A665D5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0725-C9C0-4E16-A51E-1D03DDD99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5626-E832-4C46-9910-7DF003D3B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2F77-82F6-4F43-9BDC-4837F8A59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B351-D2F4-48BD-B25F-E7EF11B93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3D4A-2326-4153-8B7E-B23000280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E77-75D6-410A-A2C3-DDBCB57A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D43-A2DC-45B6-9BD8-61194C4D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AC76-EB7A-4488-BBC8-AB336278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45F7-7A48-4FC7-B2C6-717FF855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3B77-2547-48E1-A880-B6DD698D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9E72-0BAF-4537-A502-AD1954B9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E9C-3C65-415B-A15B-23A6974E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882-0FB9-4209-906E-7629BC55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24AC-D209-4689-9E31-B6EB39CB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CE7-DB1E-4895-8766-721FED80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6D3-630C-43EE-A3FC-C5CC8A96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2DF-5876-4F64-9E18-97FDB15D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E24F-2D32-42DD-BA11-9E2242461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ff"/>
                </a:solidFill>
                <a:latin typeface="Arial"/>
              </a:rPr>
              <a:t>Hardness of Wat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5840" y="1908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7699320" y="0"/>
            <a:ext cx="14288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192240" y="1752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k’s Textbook of Preventive and Social Medic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 K. Park, Banarsidas Bhanot Publis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228600" y="304920"/>
            <a:ext cx="8763120" cy="715680"/>
          </a:xfrm>
          <a:prstGeom prst="rect">
            <a:avLst/>
          </a:prstGeom>
          <a:solidFill>
            <a:srgbClr val="f8fb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TextBox 3" descr=""/>
          <p:cNvPicPr/>
          <p:nvPr/>
        </p:nvPicPr>
        <p:blipFill>
          <a:blip r:embed="rId1"/>
          <a:stretch/>
        </p:blipFill>
        <p:spPr>
          <a:xfrm>
            <a:off x="2212920" y="3681360"/>
            <a:ext cx="51022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2625840" y="684720"/>
            <a:ext cx="36356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ap destroying p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06280" y="1470600"/>
            <a:ext cx="6054840" cy="5343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buClr>
                <a:srgbClr val="ff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mpor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arbonates):        Ca/Mg bicarbo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Permanen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(non-carbonates): Ca/Mg sulph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lor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tr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less impor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66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66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ounds but non-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ff66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pres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Milliequivalents per liter (mEq/li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mEq/liter = 50 mg Ca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50ppm) in 1 liter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Using Soap to Test for Hard Water - YouTube"/>
          <p:cNvPicPr/>
          <p:nvPr/>
        </p:nvPicPr>
        <p:blipFill>
          <a:blip r:embed="rId1"/>
          <a:stretch/>
        </p:blipFill>
        <p:spPr>
          <a:xfrm>
            <a:off x="6261120" y="4110120"/>
            <a:ext cx="2689200" cy="273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Soap Foam Water Play - Craftulate"/>
          <p:cNvPicPr/>
          <p:nvPr/>
        </p:nvPicPr>
        <p:blipFill>
          <a:blip r:embed="rId2"/>
          <a:stretch/>
        </p:blipFill>
        <p:spPr>
          <a:xfrm>
            <a:off x="6242040" y="1492200"/>
            <a:ext cx="2725920" cy="2617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15840" y="1908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4"/>
          <a:stretch/>
        </p:blipFill>
        <p:spPr>
          <a:xfrm>
            <a:off x="7699320" y="0"/>
            <a:ext cx="14288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-32040" y="1908360"/>
            <a:ext cx="6903000" cy="2727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Class of water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mEq/liter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Hardness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arbon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Soft water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   &lt; 1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50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rately ha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-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-150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Hard water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    3-6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150-300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ha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&gt;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300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-25560" y="4628520"/>
            <a:ext cx="6909120" cy="1849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nking water should be moderately h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with &gt;3 mEq hardness needs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3200400" y="609480"/>
            <a:ext cx="289548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910560" y="1933560"/>
            <a:ext cx="2260440" cy="4545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15840" y="1908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7699320" y="0"/>
            <a:ext cx="14288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480" y="1557000"/>
            <a:ext cx="5976720" cy="5277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soap or detergen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heating carbonates precipitates ca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ing of boilers which ca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fuel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 of efficien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il of explo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rse effect on coo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loss of natural colour and appea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life of clo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suitable for many indust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en the life of pipes and fix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271680" y="685800"/>
            <a:ext cx="269064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Inside Kettle Stock Photos, Images &amp; Photography | Shutterstock"/>
          <p:cNvPicPr/>
          <p:nvPr/>
        </p:nvPicPr>
        <p:blipFill>
          <a:blip r:embed="rId1"/>
          <a:stretch/>
        </p:blipFill>
        <p:spPr>
          <a:xfrm>
            <a:off x="5977080" y="1477800"/>
            <a:ext cx="3166920" cy="266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The Effects Of Hard Water On Your Home"/>
          <p:cNvPicPr/>
          <p:nvPr/>
        </p:nvPicPr>
        <p:blipFill>
          <a:blip r:embed="rId2"/>
          <a:stretch/>
        </p:blipFill>
        <p:spPr>
          <a:xfrm>
            <a:off x="5977080" y="4173480"/>
            <a:ext cx="3166920" cy="266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15840" y="1908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4"/>
          <a:stretch/>
        </p:blipFill>
        <p:spPr>
          <a:xfrm>
            <a:off x="7699320" y="0"/>
            <a:ext cx="14288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1910520" y="1510560"/>
            <a:ext cx="527868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Removal of Hardness of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762120" y="2784600"/>
            <a:ext cx="7810560" cy="17020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Temporary hardness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                   Permanent har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il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Addition of N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 of li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Base exchang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 of N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5840" y="1908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7699320" y="0"/>
            <a:ext cx="14288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304920" y="2426400"/>
            <a:ext cx="5029200" cy="2270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oxygen expul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ium carbonate 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(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 for large scal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660120" y="1447200"/>
            <a:ext cx="148212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Boiling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It is not enough to boil water - Zeolites"/>
          <p:cNvPicPr/>
          <p:nvPr/>
        </p:nvPicPr>
        <p:blipFill>
          <a:blip r:embed="rId1"/>
          <a:stretch/>
        </p:blipFill>
        <p:spPr>
          <a:xfrm>
            <a:off x="5867280" y="2438280"/>
            <a:ext cx="3143520" cy="2246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15840" y="1908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7699320" y="0"/>
            <a:ext cx="14288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733320" y="1664640"/>
            <a:ext cx="7677360" cy="2270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z  quick lime / 700 gallons water /degree hard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.25 ppm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ption of carbon 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ipitation of calcium carbon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(OH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a (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Ca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164400" y="811080"/>
            <a:ext cx="286452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ddition of l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Key Factors to Lime Slurry Usage in Water Treatment Processes"/>
          <p:cNvPicPr/>
          <p:nvPr/>
        </p:nvPicPr>
        <p:blipFill>
          <a:blip r:embed="rId1"/>
          <a:stretch/>
        </p:blipFill>
        <p:spPr>
          <a:xfrm>
            <a:off x="1371600" y="4191120"/>
            <a:ext cx="666756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840" y="1908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7699320" y="0"/>
            <a:ext cx="14288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1896120" y="837360"/>
            <a:ext cx="534996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ddition of Sodium carbonate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228600" y="2152800"/>
            <a:ext cx="5867280" cy="2976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s both temporary and permanent har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a (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a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N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N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Why Does Water Dissolve Salt? | Chapter 5: The Water Molecule and ..."/>
          <p:cNvPicPr/>
          <p:nvPr/>
        </p:nvPicPr>
        <p:blipFill>
          <a:blip r:embed="rId1"/>
          <a:stretch/>
        </p:blipFill>
        <p:spPr>
          <a:xfrm>
            <a:off x="6248520" y="2209680"/>
            <a:ext cx="2819160" cy="285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15840" y="1908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>
            <a:off x="7699320" y="0"/>
            <a:ext cx="14288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90000" y="4496040"/>
            <a:ext cx="4184280" cy="1618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ter is soften to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e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r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utit is regener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d sodium chloride/br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2367720" y="702720"/>
            <a:ext cx="433224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Base exchange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1509840"/>
            <a:ext cx="6324480" cy="2280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s both temporary and permanent hard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ium permuti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dium aluminium sil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Na</a:t>
            </a:r>
            <a:r>
              <a:rPr b="1" lang="en-US" sz="18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l</a:t>
            </a:r>
            <a:r>
              <a:rPr b="1" lang="en-US" sz="18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i</a:t>
            </a:r>
            <a:r>
              <a:rPr b="1" lang="en-US" sz="18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.H</a:t>
            </a:r>
            <a:r>
              <a:rPr b="1" lang="en-US" sz="1800" spc="-1" strike="noStrike" baseline="-25000">
                <a:solidFill>
                  <a:srgbClr val="0066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dium is exchanged with Ca/M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ion of Ca/Mg permuti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4287960" y="27432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1600200" y="510552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Hotel Engineering notes for Hotel Management Students: UNIT 5 ..."/>
          <p:cNvPicPr/>
          <p:nvPr/>
        </p:nvPicPr>
        <p:blipFill>
          <a:blip r:embed="rId1"/>
          <a:stretch/>
        </p:blipFill>
        <p:spPr>
          <a:xfrm>
            <a:off x="4440240" y="3757680"/>
            <a:ext cx="462744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2"/>
          <a:stretch/>
        </p:blipFill>
        <p:spPr>
          <a:xfrm>
            <a:off x="15840" y="1908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/>
          <p:cNvPicPr/>
          <p:nvPr/>
        </p:nvPicPr>
        <p:blipFill>
          <a:blip r:embed="rId3"/>
          <a:stretch/>
        </p:blipFill>
        <p:spPr>
          <a:xfrm>
            <a:off x="7699320" y="0"/>
            <a:ext cx="14288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anjayvet@gmail.com</cp:lastModifiedBy>
  <dcterms:modified xsi:type="dcterms:W3CDTF">2020-04-11T11:21:28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