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E768-6FE4-4248-94CA-3B0B5C47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31E1-B311-4BBC-B30B-7AD38915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34723-8F5C-4994-AF3B-A968BBF2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FC454-3EA8-4911-ADF3-D1A45B41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C3D1A-0005-43C4-B0EF-F037C689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FE92F-04D4-4AEA-AAE0-D24E5C6E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0C112-B60A-4754-82B3-213B55B1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B13CB-B2BB-4567-8F50-3CFB43DD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4C371-9933-403E-8205-D2963AB5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519CF-3D44-47A4-AF52-75F1DE36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83D26-67F0-4768-8E53-4F010AD2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89B01-737E-4748-91AD-DBEA263F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F366-55D2-48A1-930B-F1CF21DD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18E21-75E0-4D20-9A76-815C0B1A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FFA36-3B0E-4222-A224-9D248E4B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254B6-461F-41AD-999D-EEB871D3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0C931-6597-42B8-AD54-EA63B389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46D78-8640-4E00-B79A-A3E23459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2E6C0-A955-4A52-88DE-36E08FFB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96F66-B583-411A-86A7-336989B2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80FE8-66C7-427D-A2CD-FD3BA75E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ABF98-3465-478C-8721-41FC8F9A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F3EE3-F614-4EE1-B497-316F9413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BD22-9789-4BAE-AC5E-B55F9288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35B49-EAEB-40BB-9499-AFFB1C16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7E273-85D3-4ADD-B48B-C4FBECB0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CD54C-6C67-4574-8DC3-38E4DCDE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4A39C-C2C8-436E-9345-707588DE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F7F2F-201F-4017-8B50-4A048E92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D0169-6450-45D8-A8B2-7FEB72B6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84ED2-B6EC-42DB-A040-65002956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1FF00-BDCC-4052-B266-A13B7E07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1E6E5-9894-48DF-B3BB-B4FFA10E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EF710-EB5F-4FB5-974C-525C0410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3008-2938-4FB4-A7D9-5F1D751B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0715C-9982-41B7-B25A-04FBE910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40FA7-2CE1-4992-8F6F-D97C2BCE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A91BB-1BB2-4A97-885C-1E6FCCCF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149A4-ACB5-41EA-B7A8-453E1DBD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63638-2CF2-41F5-B09A-9EBEBB9B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5ED93-5FB5-45D4-8036-16F4A286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38917-3C0D-4E71-94CF-C49FD42A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0FAAB-35AF-4604-9C27-F58D33E4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6DA13-3472-4F5B-BEAC-23D5400A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35411-C201-495C-B0B5-0DC44DA2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CB50-DCFA-4674-AB10-431D24BE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1BC11-06D4-4C4F-B71A-AADAAB8F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5A500-4B11-4A71-AB9B-1A54AC3E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DAD9E-6FAA-4297-8F91-E445EB07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B60DA-663D-411A-B2EA-9A80AF1B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823DB-F984-4C94-91D4-B295B624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57712A-DA7A-4ACE-A578-352997BF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7ED24F-EB2C-4376-A7F6-F2E20E74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4CC605-E375-443D-8E7C-EF63D8FC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5D964C-27AA-460C-AD0C-C52B2BBF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888E7D-9015-4DAB-A14C-8914AF35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6AA2-B781-4278-8450-311EC94F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1CFCF-0C22-47BC-96A8-00261E91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FCD48-E648-43F2-8759-F0540EC1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714618-1B20-4D76-BC1F-DCCFF5EA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077417-92B0-4E6A-9317-A4832A64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74D8B3-1048-4F99-A876-EA90DF04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6041A7-6CCC-41EA-BC5C-AB3179F2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5104BC-1A56-47E6-93F4-E32EF605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97EDF2-D3B5-4C7B-9EAC-4D815680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D814E0-6542-48BE-B58F-6FECC60B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C15974-DCFA-4D8F-8E2E-9A25C04F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101F-2C52-4009-8FAE-88059FB7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4C6D58-777D-490E-A0A9-BBBBB410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5D25CA-2452-44F6-9D0C-3D98CDA5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190745-7542-4AC7-9BB8-ABEB4CB6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84C190-0A29-4E50-9F13-90BBF581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C28D7B-5569-4E16-9470-1802575A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A8AF17-4ACA-48EE-9AA1-CF07A5CA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D9D055-9770-4FFA-9068-B81C9A0C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8C1C83-76D1-4405-956F-70A8F3F9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4612DE-84DA-42F0-B622-83020ED5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5597D5-0E8E-4D4D-B127-4D42CBD8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FEE2-182F-4315-9A17-2088AA14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06A5A9-667E-4185-A6C3-21A88CA2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F76516-5759-49E1-A4FF-11CF7A2E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48E3CF-BD1F-43FC-B0AC-D4B0E044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1669A5-B41C-4B90-A0D0-0D4A8EA3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3EA7A2-1D9A-47F4-B5B4-648F777F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8CDD9E-62E3-491B-A06E-6C079DE9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1BB912-6EED-46D6-BC4E-50882D43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BB5A05-2629-4A39-B6F9-05A21950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9BE139-F2C9-49B3-B419-DE703A59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53D220-010F-4E0E-A86A-C6603DA6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67B2-79AD-46FE-9ACF-4CEDA706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C31F02-88BA-4498-9AE1-39B81958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8C2466-2B80-4C5F-9C4F-99257B8B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391357-A1CA-4175-A010-19FBA8D1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4A6A47-51BD-4A7F-A25D-7FFB32E6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7BCACD-D461-4AC2-ABA3-2F241678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B10ED4-E27E-41BC-A0CB-7CB15BF4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2FE01C-3E27-4740-8EBB-E3FB2D83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2ACC63-2393-4D86-B8FC-EFA00358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F6512E-F165-41EF-AE32-B1F694BC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5FBD7F-024B-4ADC-AFE5-BDB79A8D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4BC2-07E9-487E-B669-4DE5D3EC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913DA5-71B0-44DF-824F-C3C32F9B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F67193-4BC3-488E-9611-C37273CC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1A3482-0B88-4541-A6F5-D0BC22B4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518BCA-6BF1-4DC8-AB9A-DAC04517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C7613F-4BFD-4FF1-9794-9004E571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0BA0AB-2627-44B3-86BD-29FF15BD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75BDAD-196D-4686-AEEF-EEB5A5B1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E38C7A-F4DD-4C8A-B4C8-B0CA94BB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870D7B-FA76-45FE-A546-4A3482D3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87DE5E-68D2-465A-8B92-058DC33A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74EB-0E3A-411F-B50F-C8D1BEA5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8D1A-C1B4-4940-9ECF-FCC76C22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FB3BAD-1F6F-425C-8A3F-EB49C088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D8968C-4942-4A80-B992-8A42A2ED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53BF14-C315-46B1-88EB-1167C0F0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AEF71F-D18A-48B9-BB65-19501C5C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259670-F871-4A26-99A7-31EC3558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E678-58E0-4172-8701-7638BAF6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BCDD-D09F-4623-A5CD-81ADD862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A9CD-6E0E-4F94-BC80-5E5167EA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8D36-D6DF-4405-9B27-7F27E0F8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D6217-299B-4ED5-AC90-0A400A85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A5649-D1A1-445D-ADE1-D3EC9B80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C6EA1-5570-4893-8FE8-99465045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3023B-BC83-49C5-9C95-5FB2DE41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E05FE-45F1-4192-BE7D-BD59F248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38FE-376A-4584-B222-D00BE04A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88886-DB36-4F90-8588-EEC3E33C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61DFB-2A51-4C98-98FD-8FF79ACB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22D53-B132-4B6D-82FE-CC8FD19C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028CD-168A-41BB-A123-D5FC592D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6A4C4-7D92-4AD0-B0A5-1DE11F7A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270DF-6E56-40D3-9E6C-5185A3C3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8D432-92DA-48B7-AF5A-DECB13E1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71687-9309-45A1-AD03-54FA1DB8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75A53-354A-4662-85DE-88EF16F8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DE31F-EB80-42E9-BEC7-43331F66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14D9-D1D8-48F1-8061-EB1BDE88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629E8-2B56-4254-A7DF-13970C7A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FC4AE-9001-49E7-A32B-8AAB830D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418D1-1B7A-44E2-BFB2-452B1557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57CF7-5EE0-4631-8311-A39F49D3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13D14-926B-4D62-A6B4-DF8A0D11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25697-98EF-40B3-8242-B35ECBAA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219C5-247E-410C-91CA-C28C57C9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3030D-1EA5-49DB-A82E-99B290D8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61154-6501-40B4-8916-E23BC784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D9990-07E5-4CC5-A982-7B6DEAFE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3A83-879B-4A2A-A95F-2A326070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49B6D-C3CD-4400-B2FC-CF6AFB04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B101F-F5DC-4D60-AD3D-C4352DBA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4B730-6111-4B98-AEED-4FA262CB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D7287-B521-45ED-8231-26653945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7E0CF-ED0F-4CEA-AF71-6BBA80D5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635CA-7B1F-4A32-81C9-7CAE3126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2302F-9160-40B4-BB3D-399550DE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403C2-4C5C-42C1-978B-4BB104BB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C263E-6E04-4117-81F3-FC401A13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25D76-A088-4171-9B3C-F6472AF8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0668-8B6F-4896-9A56-223DA3B3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921B7-E7F9-44F4-8CE1-80C0C90C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DE151-5A65-4B23-AE84-DEBA0EF8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A44E2-2A43-4A5E-8E56-2EEA6CE1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AD1D3-B3D7-46AF-A810-8DEE4DBB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DA3CB-C2B2-4C17-B897-580AD936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125E4-4602-4EFF-9E55-B6144405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7AA35-2C76-454F-93B1-8BDBC5CA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78EE0-5A6D-473F-9469-96C1C9F4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C59B4-7FB1-4D6E-ADE7-B563BA87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6F264-5383-4D8D-9BCB-4081DF21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CE96-AFA5-4703-BA0F-2CF2F69C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E675E-A957-4409-B12A-574BC1E8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674E6-039F-4E00-9D6D-9913CF28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70EA9-BCE7-4705-B932-F78456A8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C4C6F-ACEF-48C1-8EBA-0945150E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DAE4D-2091-4D2D-97CA-95B845E6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3669B-C516-4D65-8F84-BF689626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67090-8883-4946-8227-264C66B3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6CB90-4D16-48D6-8E2A-9A7F933F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630FB-99B1-4A26-BB4B-914216C4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B7762-11CC-469E-9B13-4A5A7EC7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944E-BAA2-4E46-A24A-7FDB2B5A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FC452-DB1E-4327-9E93-89362218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1BEB8-0942-40B2-93AC-7CA76759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42379-78E9-4847-ACF7-A27AF0A2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D4821-72D4-41B8-92D6-96935F48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5CCE7-9120-40DD-92FF-B439E586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3E113-B2D8-42C3-8FD3-D41A9042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C2E1A-E438-412E-9242-BE16B21A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424AB-9DA1-44DB-B70C-4009FBAD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1F3D6-70C5-4D32-8D87-D906FDBC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04679-0A71-41C1-8CCA-6FFD18F1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9908-A58A-4D99-9733-3731782A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BE03F-D475-4BBB-82B5-DE9DE880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A28D1-B269-4339-B205-A9AF1A6D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D301C-8801-4602-81A8-5C7E3BC1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6EC49-B845-4A45-90AF-FBF6CEE7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F0368-98B0-45E6-A30F-2F278B97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098D5-996C-41EC-AF00-D1BB65A4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F44CE-B07C-4CC4-A8E8-882193D1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09A33-0FE3-42CE-9489-338BBBFF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3071A-4D81-4451-9E5B-AB58FF10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05AB3-8D42-4BC6-BD37-2B26D8EC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E1D2-6B6A-4967-9810-3F5462DCC1F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7B4D-F6AD-4030-AA7E-2E937CEB88A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E774-6E66-44B8-A591-D22202831C1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5CAF-7B0C-4275-AF6B-34B14BC15FB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D038-E6E8-42D4-9BE5-7B217BBFF15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B42C-F468-46BD-A7F6-706108DA649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CA9E-6955-4392-A005-54285C4A963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4ED9-3FFF-47C6-A9B3-D63A25BEAFE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36C1-A70E-4012-B1E9-CA465A6A7E7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3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E262-887F-4935-98DB-1BCBC9A40CD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2087-9915-4D29-B339-117B8E9227A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0FF7-C284-4767-A77A-E8BC12CCC85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4085-9FDE-48EC-B3D8-416F084D728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1D3C-45A1-4793-BC9D-1F491D5E1DB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A4FF-9AFF-4D00-905F-06757729DBC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A498-7B16-45E1-A1F1-0EDDF8B31F3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793D-0AF6-4E9F-87F6-3160D60793C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39944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   </a:t>
            </a:r>
            <a:br>
              <a:rPr sz="4000"/>
            </a:br>
            <a:br>
              <a:rPr sz="4000"/>
            </a:b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Century Gothic"/>
              </a:rPr>
              <a:t>     </a:t>
            </a:r>
            <a:r>
              <a:rPr b="1" lang="en-US" sz="2400" spc="-1" strike="noStrike">
                <a:solidFill>
                  <a:srgbClr val="262626"/>
                </a:solidFill>
                <a:latin typeface="Century Gothic"/>
              </a:rPr>
              <a:t>Indication and Physical Examination of Cardiac Diseases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(Unit-2)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1942920" y="4776480"/>
            <a:ext cx="659916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Dr. Pallav Shekhar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sstt. Professor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Veterinary Medicine, BVC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78" name="Picture 1" descr=""/>
          <p:cNvPicPr/>
          <p:nvPr/>
        </p:nvPicPr>
        <p:blipFill>
          <a:blip r:embed="rId1"/>
          <a:stretch/>
        </p:blipFill>
        <p:spPr>
          <a:xfrm>
            <a:off x="5189400" y="3505320"/>
            <a:ext cx="3665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ont.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1523880" y="1599840"/>
            <a:ext cx="701064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000" spc="-1" strike="noStrike">
                <a:solidFill>
                  <a:srgbClr val="404040"/>
                </a:solidFill>
                <a:latin typeface="Century Gothic"/>
              </a:rPr>
              <a:t>The pulse usually reflects left ventricular stroke volume and contractility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000" spc="-1" strike="noStrike">
                <a:solidFill>
                  <a:srgbClr val="404040"/>
                </a:solidFill>
                <a:latin typeface="Century Gothic"/>
              </a:rPr>
              <a:t>A very weak pulse is found in dilated cardiomyopathy, but not necessarily so with mitral valve disease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Physical Examinat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Postur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Rate and rhythm of respiratio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Dependent Ventral edem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Cardiac Examinat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Examination of Head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Examination of Neck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Palpatio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Percussion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Auscultatio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Palpat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1523880" y="1676160"/>
            <a:ext cx="701064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PMI: Left Side between 4</a:t>
            </a:r>
            <a:r>
              <a:rPr b="0" lang="en-IN" sz="1800" spc="-1" strike="noStrike" baseline="30000">
                <a:solidFill>
                  <a:srgbClr val="404040"/>
                </a:solidFill>
                <a:latin typeface="Century Gothic"/>
              </a:rPr>
              <a:t>th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 and 6</a:t>
            </a:r>
            <a:r>
              <a:rPr b="0" lang="en-IN" sz="1800" spc="-1" strike="noStrike" baseline="30000">
                <a:solidFill>
                  <a:srgbClr val="404040"/>
                </a:solidFill>
                <a:latin typeface="Century Gothic"/>
              </a:rPr>
              <a:t>th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 Intercostal space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Shifting of PMI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Decrease Intensit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Thrills (Large Cardiac murmur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Check for ascite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Check for hepatomegaly splenomegal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Skin for anasarc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Femoral pulse: Rate and Rhythm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Puls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1219320" y="2133360"/>
            <a:ext cx="731520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Pulse for every heart be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Pulse deficits: Arrhythmias indicating incomplete ventricular filling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Weak puls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Water hammer puls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7" name="Recorded Sound" descr=""/>
          <p:cNvPicPr/>
          <p:nvPr/>
        </p:nvPicPr>
        <p:blipFill>
          <a:blip r:embed="rId1"/>
          <a:stretch/>
        </p:blipFill>
        <p:spPr>
          <a:xfrm>
            <a:off x="4327560" y="3184560"/>
            <a:ext cx="487440" cy="487440"/>
          </a:xfrm>
          <a:prstGeom prst="rect">
            <a:avLst/>
          </a:prstGeom>
          <a:ln w="0">
            <a:noFill/>
          </a:ln>
        </p:spPr>
      </p:pic>
      <p:sp>
        <p:nvSpPr>
          <p:cNvPr id="1208" name="TextBox 8"/>
          <p:cNvSpPr/>
          <p:nvPr/>
        </p:nvSpPr>
        <p:spPr>
          <a:xfrm>
            <a:off x="2743200" y="57913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1" descr=""/>
          <p:cNvPicPr/>
          <p:nvPr/>
        </p:nvPicPr>
        <p:blipFill>
          <a:blip r:embed="rId2"/>
          <a:stretch/>
        </p:blipFill>
        <p:spPr>
          <a:xfrm>
            <a:off x="5254560" y="3809880"/>
            <a:ext cx="29844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Percuss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11" name="Content Placeholder 3" descr=""/>
          <p:cNvPicPr/>
          <p:nvPr/>
        </p:nvPicPr>
        <p:blipFill>
          <a:blip r:embed="rId1"/>
          <a:stretch/>
        </p:blipFill>
        <p:spPr>
          <a:xfrm>
            <a:off x="1284120" y="2176560"/>
            <a:ext cx="3856320" cy="3727440"/>
          </a:xfrm>
          <a:prstGeom prst="rect">
            <a:avLst/>
          </a:prstGeom>
          <a:ln w="0">
            <a:noFill/>
          </a:ln>
        </p:spPr>
      </p:pic>
      <p:sp>
        <p:nvSpPr>
          <p:cNvPr id="1212" name=""/>
          <p:cNvSpPr txBox="1"/>
          <p:nvPr/>
        </p:nvSpPr>
        <p:spPr>
          <a:xfrm>
            <a:off x="5337000" y="2136240"/>
            <a:ext cx="3197520" cy="37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Elicits a hollow sound over the lung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Elicits a dull sound over solid structure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Auscultat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Most Helpfu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Animal should be standing positio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15" name="Picture 6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6248520" cy="3473280"/>
          </a:xfrm>
          <a:prstGeom prst="rect">
            <a:avLst/>
          </a:prstGeom>
          <a:ln w="0">
            <a:noFill/>
          </a:ln>
        </p:spPr>
      </p:pic>
      <p:sp>
        <p:nvSpPr>
          <p:cNvPr id="1216" name="TextBox 7"/>
          <p:cNvSpPr/>
          <p:nvPr/>
        </p:nvSpPr>
        <p:spPr>
          <a:xfrm>
            <a:off x="5802840" y="9144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P= Pulmonic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7" name="Straight Arrow Connector 9"/>
          <p:cNvCxnSpPr/>
          <p:nvPr/>
        </p:nvCxnSpPr>
        <p:spPr>
          <a:xfrm flipV="1">
            <a:off x="3429000" y="1283400"/>
            <a:ext cx="2363040" cy="412668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triangle" w="med"/>
          </a:ln>
        </p:spPr>
      </p:cxnSp>
      <p:sp>
        <p:nvSpPr>
          <p:cNvPr id="1218" name="TextBox 11"/>
          <p:cNvSpPr/>
          <p:nvPr/>
        </p:nvSpPr>
        <p:spPr>
          <a:xfrm>
            <a:off x="6327000" y="190512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A= Aortic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9" name="Straight Arrow Connector 13"/>
          <p:cNvCxnSpPr/>
          <p:nvPr/>
        </p:nvCxnSpPr>
        <p:spPr>
          <a:xfrm flipV="1">
            <a:off x="3733560" y="2285640"/>
            <a:ext cx="2515320" cy="282024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triangle" w="med"/>
          </a:ln>
        </p:spPr>
      </p:cxnSp>
      <p:sp>
        <p:nvSpPr>
          <p:cNvPr id="1220" name="TextBox 14"/>
          <p:cNvSpPr/>
          <p:nvPr/>
        </p:nvSpPr>
        <p:spPr>
          <a:xfrm>
            <a:off x="6438960" y="242712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M= Mitral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1" name="Straight Arrow Connector 16"/>
          <p:cNvCxnSpPr/>
          <p:nvPr/>
        </p:nvCxnSpPr>
        <p:spPr>
          <a:xfrm flipV="1">
            <a:off x="3962160" y="2819160"/>
            <a:ext cx="2477160" cy="259128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triangle" w="med"/>
          </a:ln>
        </p:spPr>
      </p:cxnSp>
      <p:sp>
        <p:nvSpPr>
          <p:cNvPr id="1222" name="TextBox 17"/>
          <p:cNvSpPr/>
          <p:nvPr/>
        </p:nvSpPr>
        <p:spPr>
          <a:xfrm>
            <a:off x="7162920" y="35053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T=Tricuspid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3" name="Straight Arrow Connector 19"/>
          <p:cNvCxnSpPr/>
          <p:nvPr/>
        </p:nvCxnSpPr>
        <p:spPr>
          <a:xfrm flipV="1">
            <a:off x="6248160" y="3874680"/>
            <a:ext cx="1027800" cy="123120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25" name="czfar-nXyXA" descr=""/>
          <p:cNvPicPr/>
          <p:nvPr/>
        </p:nvPicPr>
        <p:blipFill>
          <a:blip r:embed="rId1"/>
          <a:stretch/>
        </p:blipFill>
        <p:spPr>
          <a:xfrm>
            <a:off x="2133720" y="2276640"/>
            <a:ext cx="493380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27" name="Content Placeholder 3" descr=""/>
          <p:cNvPicPr/>
          <p:nvPr/>
        </p:nvPicPr>
        <p:blipFill>
          <a:blip r:embed="rId1"/>
          <a:stretch/>
        </p:blipFill>
        <p:spPr>
          <a:xfrm>
            <a:off x="1944720" y="2133720"/>
            <a:ext cx="65898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Area of Auscultat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29" name=""/>
          <p:cNvGraphicFramePr/>
          <p:nvPr/>
        </p:nvGraphicFramePr>
        <p:xfrm>
          <a:off x="457200" y="1447920"/>
          <a:ext cx="7924680" cy="4805280"/>
        </p:xfrm>
        <a:graphic>
          <a:graphicData uri="http://schemas.openxmlformats.org/drawingml/2006/table">
            <a:tbl>
              <a:tblPr/>
              <a:tblGrid>
                <a:gridCol w="2743200"/>
                <a:gridCol w="2590920"/>
                <a:gridCol w="2590560"/>
              </a:tblGrid>
              <a:tr h="65088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N" sz="2400" spc="-1" strike="noStrike">
                          <a:solidFill>
                            <a:srgbClr val="330000"/>
                          </a:solidFill>
                          <a:latin typeface="Georgia"/>
                          <a:ea typeface="Times New Roman"/>
                        </a:rPr>
                        <a:t>Are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9e9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N" sz="2400" spc="-1" strike="noStrike">
                          <a:solidFill>
                            <a:srgbClr val="330000"/>
                          </a:solidFill>
                          <a:latin typeface="Georgia"/>
                          <a:ea typeface="Times New Roman"/>
                        </a:rPr>
                        <a:t>Equin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9e9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N" sz="2400" spc="-1" strike="noStrike">
                          <a:solidFill>
                            <a:srgbClr val="330000"/>
                          </a:solidFill>
                          <a:latin typeface="Georgia"/>
                          <a:ea typeface="Times New Roman"/>
                        </a:rPr>
                        <a:t>Ruminants</a:t>
                      </a:r>
                      <a:r>
                        <a:rPr b="1" lang="en-IN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9e9"/>
                    </a:solidFill>
                  </a:tcPr>
                </a:tc>
              </a:tr>
              <a:tr h="650880"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N" sz="1800" spc="-1" strike="noStrike">
                          <a:solidFill>
                            <a:srgbClr val="660000"/>
                          </a:solidFill>
                          <a:latin typeface="Georgia"/>
                          <a:ea typeface="Times New Roman"/>
                        </a:rPr>
                        <a:t>Base</a:t>
                      </a: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From 2</a:t>
                      </a:r>
                      <a:r>
                        <a:rPr b="1" lang="en-IN" sz="14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nd</a:t>
                      </a: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to 6</a:t>
                      </a:r>
                      <a:r>
                        <a:rPr b="1" lang="en-IN" sz="14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th</a:t>
                      </a: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intercostal spac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From 3</a:t>
                      </a:r>
                      <a:r>
                        <a:rPr b="1" lang="en-IN" sz="14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rd</a:t>
                      </a: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to 6</a:t>
                      </a:r>
                      <a:r>
                        <a:rPr b="1" lang="en-IN" sz="14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th</a:t>
                      </a: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ri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N" sz="1600" spc="-1" strike="noStrike">
                          <a:solidFill>
                            <a:srgbClr val="660000"/>
                          </a:solidFill>
                          <a:latin typeface="Georgia"/>
                          <a:ea typeface="Times New Roman"/>
                        </a:rPr>
                        <a:t>Ape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N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Half an inch from the last sternal seg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N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One inch from the diaphrag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N" sz="1600" spc="-1" strike="noStrike">
                          <a:solidFill>
                            <a:srgbClr val="660000"/>
                          </a:solidFill>
                          <a:latin typeface="Georgia"/>
                          <a:ea typeface="Times New Roman"/>
                        </a:rPr>
                        <a:t>Posterior border</a:t>
                      </a:r>
                      <a:r>
                        <a:rPr b="1" lang="en-IN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N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Opposite to the 6</a:t>
                      </a:r>
                      <a:r>
                        <a:rPr b="1" lang="en-IN" sz="16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th</a:t>
                      </a:r>
                      <a:r>
                        <a:rPr b="1" lang="en-IN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ri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N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Opposite to the 5</a:t>
                      </a:r>
                      <a:r>
                        <a:rPr b="1" lang="en-IN" sz="16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th</a:t>
                      </a:r>
                      <a:r>
                        <a:rPr b="1" lang="en-IN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ri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noFill/>
                  </a:tcPr>
                </a:tc>
              </a:tr>
              <a:tr h="1098720"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N" sz="1600" spc="-1" strike="noStrike">
                          <a:solidFill>
                            <a:srgbClr val="660000"/>
                          </a:solidFill>
                          <a:latin typeface="Georgia"/>
                          <a:ea typeface="Times New Roman"/>
                        </a:rPr>
                        <a:t>Left surface</a:t>
                      </a:r>
                      <a:r>
                        <a:rPr b="1" lang="en-IN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N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Composed of left ventricle and extends from 3</a:t>
                      </a:r>
                      <a:r>
                        <a:rPr b="1" lang="en-IN" sz="16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rd</a:t>
                      </a:r>
                      <a:r>
                        <a:rPr b="1" lang="en-IN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to 6</a:t>
                      </a:r>
                      <a:r>
                        <a:rPr b="1" lang="en-IN" sz="16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th</a:t>
                      </a:r>
                      <a:r>
                        <a:rPr b="1" lang="en-IN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ri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N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Extends from 3</a:t>
                      </a:r>
                      <a:r>
                        <a:rPr b="1" lang="en-IN" sz="16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rd</a:t>
                      </a:r>
                      <a:r>
                        <a:rPr b="1" lang="en-IN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to 4</a:t>
                      </a:r>
                      <a:r>
                        <a:rPr b="1" lang="en-IN" sz="16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th</a:t>
                      </a:r>
                      <a:r>
                        <a:rPr b="1" lang="en-IN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ri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N" sz="1600" spc="-1" strike="noStrike">
                          <a:solidFill>
                            <a:srgbClr val="660000"/>
                          </a:solidFill>
                          <a:latin typeface="Georgia"/>
                          <a:ea typeface="Times New Roman"/>
                        </a:rPr>
                        <a:t>Right surface</a:t>
                      </a:r>
                      <a:r>
                        <a:rPr b="1" lang="en-IN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N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Extends from 3</a:t>
                      </a:r>
                      <a:r>
                        <a:rPr b="1" lang="en-IN" sz="16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rd</a:t>
                      </a:r>
                      <a:r>
                        <a:rPr b="1" lang="en-IN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to 4</a:t>
                      </a:r>
                      <a:r>
                        <a:rPr b="1" lang="en-IN" sz="16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th</a:t>
                      </a:r>
                      <a:r>
                        <a:rPr b="1" lang="en-IN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ri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N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Not examin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447560" y="623520"/>
            <a:ext cx="708660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Introduct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0" name="Content Placeholder 3" descr=""/>
          <p:cNvPicPr/>
          <p:nvPr/>
        </p:nvPicPr>
        <p:blipFill>
          <a:blip r:embed="rId1"/>
          <a:stretch/>
        </p:blipFill>
        <p:spPr>
          <a:xfrm>
            <a:off x="1212840" y="1450800"/>
            <a:ext cx="7334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1002960" y="1643040"/>
            <a:ext cx="7623000" cy="32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3000" spc="-1" strike="noStrike" u="sng">
                <a:solidFill>
                  <a:srgbClr val="4b866e"/>
                </a:solidFill>
                <a:uFillTx/>
                <a:latin typeface="Century Gothic"/>
              </a:rPr>
              <a:t>VERTEBRAL HEART SCORE TEST </a:t>
            </a: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1"/>
          <a:stretch/>
        </p:blipFill>
        <p:spPr>
          <a:xfrm>
            <a:off x="4294080" y="2593800"/>
            <a:ext cx="4124520" cy="3252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2"/>
          <p:cNvSpPr>
            <a:spLocks noGrp="1"/>
          </p:cNvSpPr>
          <p:nvPr>
            <p:ph type="title"/>
          </p:nvPr>
        </p:nvSpPr>
        <p:spPr>
          <a:xfrm>
            <a:off x="1942920" y="2514600"/>
            <a:ext cx="65991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54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Content Placeholder 3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763120" cy="5176800"/>
          </a:xfrm>
          <a:prstGeom prst="rect">
            <a:avLst/>
          </a:prstGeom>
          <a:ln w="0">
            <a:noFill/>
          </a:ln>
        </p:spPr>
      </p:pic>
      <p:sp>
        <p:nvSpPr>
          <p:cNvPr id="1234" name="Rectangle 1"/>
          <p:cNvSpPr/>
          <p:nvPr/>
        </p:nvSpPr>
        <p:spPr>
          <a:xfrm>
            <a:off x="1828800" y="589284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The average VHS in the dog </a:t>
            </a:r>
            <a:r>
              <a:rPr b="0" lang="en-IN" sz="1800" spc="-1" strike="noStrike">
                <a:solidFill>
                  <a:srgbClr val="ff0000"/>
                </a:solidFill>
                <a:latin typeface="Arial"/>
                <a:ea typeface="Arial"/>
              </a:rPr>
              <a:t>is 9.7v( 8.5-10.5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2" descr="golf_courses_csg035_augusta_national-georgia_12th_gre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6" name="TextBox 4"/>
          <p:cNvSpPr/>
          <p:nvPr/>
        </p:nvSpPr>
        <p:spPr>
          <a:xfrm>
            <a:off x="0" y="50292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6600"/>
                </a:solidFill>
                <a:latin typeface="Forte"/>
                <a:ea typeface="Arial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Basic anatomy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2" name="Picture 2" descr="10 Facts About the Human Heart | Human heart diagram, Anatomy ..."/>
          <p:cNvPicPr/>
          <p:nvPr/>
        </p:nvPicPr>
        <p:blipFill>
          <a:blip r:embed="rId1"/>
          <a:stretch/>
        </p:blipFill>
        <p:spPr>
          <a:xfrm>
            <a:off x="1981080" y="2133720"/>
            <a:ext cx="64008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Special Examinat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4" name="Content Placeholder 3" descr=""/>
          <p:cNvPicPr/>
          <p:nvPr/>
        </p:nvPicPr>
        <p:blipFill>
          <a:blip r:embed="rId1"/>
          <a:stretch/>
        </p:blipFill>
        <p:spPr>
          <a:xfrm>
            <a:off x="1695600" y="2133720"/>
            <a:ext cx="6875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History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1447560" y="15998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Age: Young and Old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Breed: Congenital heart defects more common in specific breed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Large breed dog: More prone for dilated Cardiomyopath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Small breeds of dogs are susceptible to mitral regurgitatio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Siamese cats are prone to cardiomyopath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Weight: Pickwickian syndrome??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7" name="Recorded Sound" descr=""/>
          <p:cNvPicPr/>
          <p:nvPr/>
        </p:nvPicPr>
        <p:blipFill>
          <a:blip r:embed="rId1"/>
          <a:stretch/>
        </p:blipFill>
        <p:spPr>
          <a:xfrm>
            <a:off x="4343400" y="297180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              </a:t>
            </a: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History?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Helps to differentiate cardiac and respiratory problem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Exercise intoleranc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Nature of coughing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Dyspnoe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0" name="Recorded Sound" descr=""/>
          <p:cNvPicPr/>
          <p:nvPr/>
        </p:nvPicPr>
        <p:blipFill>
          <a:blip r:embed="rId1"/>
          <a:stretch/>
        </p:blipFill>
        <p:spPr>
          <a:xfrm>
            <a:off x="432756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Indication of Cardiac Diseas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294920" y="1904760"/>
            <a:ext cx="7239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600" spc="-1" strike="noStrike">
                <a:solidFill>
                  <a:srgbClr val="404040"/>
                </a:solidFill>
                <a:latin typeface="Century Gothic"/>
              </a:rPr>
              <a:t>Exercise intolerance, weakness, lethargy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600" spc="-1" strike="noStrike">
                <a:solidFill>
                  <a:srgbClr val="404040"/>
                </a:solidFill>
                <a:latin typeface="Century Gothic"/>
              </a:rPr>
              <a:t>Cough, retch (or vomit)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600" spc="-1" strike="noStrike">
                <a:solidFill>
                  <a:srgbClr val="404040"/>
                </a:solidFill>
                <a:latin typeface="Century Gothic"/>
              </a:rPr>
              <a:t>Faint/syncope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600" spc="-1" strike="noStrike">
                <a:solidFill>
                  <a:srgbClr val="404040"/>
                </a:solidFill>
                <a:latin typeface="Century Gothic"/>
              </a:rPr>
              <a:t>Breathing difficulties, stridor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600" spc="-1" strike="noStrike">
                <a:solidFill>
                  <a:srgbClr val="404040"/>
                </a:solidFill>
                <a:latin typeface="Century Gothic"/>
              </a:rPr>
              <a:t>Swollen abdomen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600" spc="-1" strike="noStrike">
                <a:solidFill>
                  <a:srgbClr val="404040"/>
                </a:solidFill>
                <a:latin typeface="Century Gothic"/>
              </a:rPr>
              <a:t>Cyanosi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600" spc="-1" strike="noStrike">
                <a:solidFill>
                  <a:srgbClr val="404040"/>
                </a:solidFill>
                <a:latin typeface="Century Gothic"/>
              </a:rPr>
              <a:t>Stunted/poor growth or weight loss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300" spc="-1" strike="noStrike">
                <a:solidFill>
                  <a:srgbClr val="404040"/>
                </a:solidFill>
                <a:latin typeface="Century Gothic"/>
              </a:rPr>
              <a:t>	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ont.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1447560" y="1523520"/>
            <a:ext cx="7086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000" spc="-1" strike="noStrike">
                <a:solidFill>
                  <a:srgbClr val="404040"/>
                </a:solidFill>
                <a:latin typeface="Century Gothic"/>
              </a:rPr>
              <a:t>Cyanotic mucous membranes may be due to decreased oxyhaemoglobin, e.g. severe respiratory tract disease or a right to left shunting congenital cardiac defect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IN" sz="2000" spc="-1" strike="noStrike">
                <a:solidFill>
                  <a:srgbClr val="404040"/>
                </a:solidFill>
                <a:latin typeface="Century Gothic"/>
              </a:rPr>
              <a:t>A sluggish capillary refill time may indicate reduced cardiac output, i.e. forward failure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ont.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1143000" y="16002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000" spc="-1" strike="noStrike">
                <a:solidFill>
                  <a:srgbClr val="404040"/>
                </a:solidFill>
                <a:latin typeface="Century Gothic"/>
              </a:rPr>
              <a:t>The jugular veins should be inspected and the neck will usually need to be clipped for adequate visualisation. Distension/pulsation is associated with right-sided congestive heart failure (CHF)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IN" sz="2000" spc="-1" strike="noStrike">
                <a:solidFill>
                  <a:srgbClr val="404040"/>
                </a:solidFill>
                <a:latin typeface="Century Gothic"/>
              </a:rPr>
              <a:t>Distended jugular veins in a dog with ascites will almost certainly mean the cause is cardiac in origin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vijayakumar</dc:creator>
  <dc:description/>
  <dc:language>en-US</dc:language>
  <cp:lastModifiedBy>Windows User</cp:lastModifiedBy>
  <dcterms:modified xsi:type="dcterms:W3CDTF">2020-04-14T14:00:00Z</dcterms:modified>
  <cp:revision>261</cp:revision>
  <dc:subject/>
  <dc:title>Major credit seminar  on Prostatic disorders in dogs - An overview</dc:title>
</cp:coreProperties>
</file>