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5DE-5C35-45F3-B6FE-9A521DFA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699-5651-415B-B5DF-F559A103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228-C724-4558-923F-6ECE98DF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742-5921-48A4-A55D-089C9746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B24-C197-452A-8A54-CAA4225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A93-6309-4FE3-BE4A-5CCEC014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53B-E5CF-415C-9109-29F69B5D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B57-77B6-43B6-9175-F7EF75FD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381-0EBE-49F2-9B3F-53723575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82D-CACF-4616-B897-423418F7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A23-8671-415F-AF41-133818D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9E7-F4E1-4A42-B326-DD4227E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EFD0-D665-47A5-BD0F-DEC69232A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8440" y="5562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Veterinary &amp; A. H. Extension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har Veterinary College, Patna-1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1"/>
          <a:stretch/>
        </p:blipFill>
        <p:spPr>
          <a:xfrm>
            <a:off x="590400" y="1889280"/>
            <a:ext cx="7986960" cy="379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Dr. Saroj New 1 W bkt 21.02.2016\LOGO\New Logo\BASU LOGO copy.jpg"/>
          <p:cNvPicPr/>
          <p:nvPr/>
        </p:nvPicPr>
        <p:blipFill>
          <a:blip r:embed="rId2"/>
          <a:stretch/>
        </p:blipFill>
        <p:spPr>
          <a:xfrm>
            <a:off x="2666880" y="0"/>
            <a:ext cx="3772080" cy="17924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3"/>
          <a:stretch/>
        </p:blipFill>
        <p:spPr>
          <a:xfrm>
            <a:off x="6595920" y="438120"/>
            <a:ext cx="240192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ing information through writte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mph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 News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ins: Technical and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3429000" y="152280"/>
            <a:ext cx="21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int Med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m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o Jour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o is most popular mass media, among majority of rural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ay be used for illiterates, remote villagers and quick display of information'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hould be listenable as well as read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vision has unique advantages over other mass media. While it provides sound, vision and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reach largest number of people in shortes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derstan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ly well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ct the attention of vie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2743200" y="380880"/>
            <a:ext cx="410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levision Journ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dience research manned by professional researchers, is involved in studies on various aspects of broadca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so operates a system of rating on D.D. Program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so monitors the voluntary feedback from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data bank at National and Kendra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2286000" y="304920"/>
            <a:ext cx="3648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dience Resear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blic Radio            : By Gove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ivate Radio          : By Individuals /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mmunity Radio   : By Community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124080" y="304920"/>
            <a:ext cx="26672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adi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broadcasting organization established to provide communication support for the social, economic and cultural development of a community within a geograph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wned and operated by the community on a non- profit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819520" y="304920"/>
            <a:ext cx="3305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ty Radi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ship Issues         : Educational, Institution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U can get lic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ssues        : Ministry of I&amp;B allowed Univ.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ma Bhwa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Lumb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209680" y="457200"/>
            <a:ext cx="5105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erationalization of C.R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286000" y="380880"/>
            <a:ext cx="4352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gramme Produc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581280" y="3581280"/>
            <a:ext cx="213372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57600" y="1143000"/>
            <a:ext cx="2133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/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04920" y="3124080"/>
            <a:ext cx="2133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Offic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304920" y="5105520"/>
            <a:ext cx="2133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781680" y="5105520"/>
            <a:ext cx="2133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u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629400" y="2971800"/>
            <a:ext cx="2133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 Prog.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.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 flipV="1">
            <a:off x="1523880" y="159984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5867280" y="1523880"/>
            <a:ext cx="198144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2438280" y="36576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2514600" y="5638680"/>
            <a:ext cx="41148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 flipV="1">
            <a:off x="1523880" y="46483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715000" y="38095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V="1">
            <a:off x="457200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 flipV="1">
            <a:off x="762120" y="4038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H="1" flipV="1">
            <a:off x="5638320" y="46483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 flipV="1">
            <a:off x="8381880" y="3809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c00000"/>
                </a:solidFill>
                <a:latin typeface="Aardvark"/>
              </a:rPr>
              <a:t>LECTURE 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ardvark"/>
              </a:rPr>
              <a:t>TRADITIONAL FOLK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pp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utan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r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et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k 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k S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 P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2438280" y="228600"/>
            <a:ext cx="385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dional Folk Med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c00000"/>
                </a:solidFill>
                <a:latin typeface="Aardvark"/>
              </a:rPr>
              <a:t>LECTURE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ardvark"/>
              </a:rPr>
              <a:t>PROBLEMS IN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ardvark"/>
              </a:rPr>
              <a:t>TYPES OF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ardvark"/>
              </a:rPr>
              <a:t>ESSENTIALS OF SENDER/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c00000"/>
                </a:solidFill>
                <a:latin typeface="Aardvark"/>
              </a:rPr>
              <a:t>LECTURE 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ardvark"/>
              </a:rPr>
              <a:t>DIFFUSION VS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219320" y="1447920"/>
            <a:ext cx="655308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ffu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semin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 to make full use of an innovation as the best course of action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3276720" y="304920"/>
            <a:ext cx="2743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op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828800" y="15228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eps of Adoption Proces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362320" y="13716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362320" y="25146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362320" y="358128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362320" y="472428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286000" y="586728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358128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3505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350532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34290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 a mental state towards extent of readiness to any idea, practice or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3505320" y="685800"/>
            <a:ext cx="149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titu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nno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arly Adop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arly Maj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ate Maj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Lagg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2209680" y="304920"/>
            <a:ext cx="386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opters Categor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c00000"/>
                </a:solidFill>
                <a:latin typeface="Aardvark"/>
              </a:rPr>
              <a:t>LECTURE -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ardvark"/>
              </a:rPr>
              <a:t>PROCESS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676520" y="1600200"/>
            <a:ext cx="6019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cess Document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velopment process in agriculture and allied sectors have been initiated since last five decades intensively in the Indian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projects and development schemes have been the channel for routing the initiatives in all the s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generated over the years indicated a varied response of success in some spots and failures at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cerned effort to document the whole process of development systematically has been lacking, thereby limiting the lessons to be integrated in to the next phase of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rient the participants to the concept of process docu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n understanding of the methodologies and steps involved in process docu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819520" y="3505320"/>
            <a:ext cx="3352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26668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4572000" y="41911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905120" y="51055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181480" y="502920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i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ffici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o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ahead of Audience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Em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gnoring the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ju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inued…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object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cific time fr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tuation specif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consume resources (Man, Money, Time, Materials et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responsibilities/Job assigned to do/ perform I certain period of time &amp; identified topic/areas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AS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: Without specific object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osed: With specific object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something to show something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SK---------------- vi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 ------------ Invisible:  required document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S OF TASK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tage of preparation 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age of action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ge of review 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Diagram 4"/>
          <p:cNvGrpSpPr/>
          <p:nvPr/>
        </p:nvGrpSpPr>
        <p:grpSpPr>
          <a:xfrm>
            <a:off x="4755600" y="2516040"/>
            <a:ext cx="1922400" cy="1905120"/>
            <a:chOff x="4755600" y="2516040"/>
            <a:chExt cx="1922400" cy="1905120"/>
          </a:xfrm>
        </p:grpSpPr>
        <p:sp>
          <p:nvSpPr>
            <p:cNvPr id="135" name="_s1028"/>
            <p:cNvSpPr/>
            <p:nvPr/>
          </p:nvSpPr>
          <p:spPr>
            <a:xfrm>
              <a:off x="5170320" y="2516040"/>
              <a:ext cx="1093320" cy="13539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353960"/>
                <a:gd name="textAreaBottom" fmla="*/ 135432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29"/>
            <p:cNvSpPr/>
            <p:nvPr/>
          </p:nvSpPr>
          <p:spPr>
            <a:xfrm rot="7200000">
              <a:off x="5189040" y="2966400"/>
              <a:ext cx="1353600" cy="1093320"/>
            </a:xfrm>
            <a:custGeom>
              <a:avLst/>
              <a:gdLst>
                <a:gd name="textAreaLeft" fmla="*/ 0 w 1353600"/>
                <a:gd name="textAreaRight" fmla="*/ 1353960 w 1353600"/>
                <a:gd name="textAreaTop" fmla="*/ 0 h 1093320"/>
                <a:gd name="textAreaBottom" fmla="*/ 1093680 h 109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0"/>
            <p:cNvSpPr/>
            <p:nvPr/>
          </p:nvSpPr>
          <p:spPr>
            <a:xfrm rot="14400000">
              <a:off x="4890240" y="2966400"/>
              <a:ext cx="1353600" cy="1092960"/>
            </a:xfrm>
            <a:custGeom>
              <a:avLst/>
              <a:gdLst>
                <a:gd name="textAreaLeft" fmla="*/ 0 w 1353600"/>
                <a:gd name="textAreaRight" fmla="*/ 1353960 w 1353600"/>
                <a:gd name="textAreaTop" fmla="*/ 0 h 1092960"/>
                <a:gd name="textAreaBottom" fmla="*/ 1092960 h 109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1"/>
            <p:cNvSpPr/>
            <p:nvPr/>
          </p:nvSpPr>
          <p:spPr>
            <a:xfrm>
              <a:off x="6016680" y="2763360"/>
              <a:ext cx="4384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2"/>
            <p:cNvSpPr/>
            <p:nvPr/>
          </p:nvSpPr>
          <p:spPr>
            <a:xfrm>
              <a:off x="5497560" y="3877920"/>
              <a:ext cx="4384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3"/>
            <p:cNvSpPr/>
            <p:nvPr/>
          </p:nvSpPr>
          <p:spPr>
            <a:xfrm>
              <a:off x="4977720" y="2763360"/>
              <a:ext cx="4384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Diagram 12"/>
          <p:cNvGrpSpPr/>
          <p:nvPr/>
        </p:nvGrpSpPr>
        <p:grpSpPr>
          <a:xfrm>
            <a:off x="6820200" y="2590920"/>
            <a:ext cx="1905120" cy="1858320"/>
            <a:chOff x="6820200" y="2590920"/>
            <a:chExt cx="1905120" cy="1858320"/>
          </a:xfrm>
        </p:grpSpPr>
        <p:sp>
          <p:nvSpPr>
            <p:cNvPr id="142" name="_s1036"/>
            <p:cNvSpPr/>
            <p:nvPr/>
          </p:nvSpPr>
          <p:spPr>
            <a:xfrm>
              <a:off x="7225200" y="2590920"/>
              <a:ext cx="1094400" cy="1321560"/>
            </a:xfrm>
            <a:custGeom>
              <a:avLst/>
              <a:gdLst>
                <a:gd name="textAreaLeft" fmla="*/ 0 w 1094400"/>
                <a:gd name="textAreaRight" fmla="*/ 1094760 w 1094400"/>
                <a:gd name="textAreaTop" fmla="*/ 0 h 1321560"/>
                <a:gd name="textAreaBottom" fmla="*/ 1321920 h 13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7"/>
            <p:cNvSpPr/>
            <p:nvPr/>
          </p:nvSpPr>
          <p:spPr>
            <a:xfrm rot="7200000">
              <a:off x="7259760" y="3015000"/>
              <a:ext cx="1321560" cy="109476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94760"/>
                <a:gd name="textAreaBottom" fmla="*/ 1095120 h 10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038"/>
            <p:cNvSpPr/>
            <p:nvPr/>
          </p:nvSpPr>
          <p:spPr>
            <a:xfrm rot="14400000">
              <a:off x="6963480" y="3015360"/>
              <a:ext cx="1321560" cy="109476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94760"/>
                <a:gd name="textAreaBottom" fmla="*/ 1095120 h 109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9"/>
            <p:cNvSpPr/>
            <p:nvPr/>
          </p:nvSpPr>
          <p:spPr>
            <a:xfrm>
              <a:off x="8071920" y="2831760"/>
              <a:ext cx="4392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40"/>
            <p:cNvSpPr/>
            <p:nvPr/>
          </p:nvSpPr>
          <p:spPr>
            <a:xfrm>
              <a:off x="7552800" y="3918600"/>
              <a:ext cx="4392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41"/>
            <p:cNvSpPr/>
            <p:nvPr/>
          </p:nvSpPr>
          <p:spPr>
            <a:xfrm>
              <a:off x="7032600" y="2831760"/>
              <a:ext cx="4392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Diagram 20"/>
          <p:cNvGrpSpPr/>
          <p:nvPr/>
        </p:nvGrpSpPr>
        <p:grpSpPr>
          <a:xfrm>
            <a:off x="3074760" y="2589120"/>
            <a:ext cx="2157120" cy="1958760"/>
            <a:chOff x="3074760" y="2589120"/>
            <a:chExt cx="2157120" cy="1958760"/>
          </a:xfrm>
        </p:grpSpPr>
        <p:sp>
          <p:nvSpPr>
            <p:cNvPr id="149" name="_s1044"/>
            <p:cNvSpPr/>
            <p:nvPr/>
          </p:nvSpPr>
          <p:spPr>
            <a:xfrm>
              <a:off x="3512160" y="2589120"/>
              <a:ext cx="1281960" cy="1392840"/>
            </a:xfrm>
            <a:custGeom>
              <a:avLst/>
              <a:gdLst>
                <a:gd name="textAreaLeft" fmla="*/ 0 w 1281960"/>
                <a:gd name="textAreaRight" fmla="*/ 1282320 w 128196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45"/>
            <p:cNvSpPr/>
            <p:nvPr/>
          </p:nvSpPr>
          <p:spPr>
            <a:xfrm rot="7200000">
              <a:off x="3632040" y="2973600"/>
              <a:ext cx="1392840" cy="1281960"/>
            </a:xfrm>
            <a:custGeom>
              <a:avLst/>
              <a:gdLst>
                <a:gd name="textAreaLeft" fmla="*/ 0 w 1392840"/>
                <a:gd name="textAreaRight" fmla="*/ 1393200 w 1392840"/>
                <a:gd name="textAreaTop" fmla="*/ 0 h 1281960"/>
                <a:gd name="textAreaBottom" fmla="*/ 1282320 h 128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46"/>
            <p:cNvSpPr/>
            <p:nvPr/>
          </p:nvSpPr>
          <p:spPr>
            <a:xfrm rot="14400000">
              <a:off x="3281400" y="2974680"/>
              <a:ext cx="1392840" cy="1281960"/>
            </a:xfrm>
            <a:custGeom>
              <a:avLst/>
              <a:gdLst>
                <a:gd name="textAreaLeft" fmla="*/ 0 w 1392840"/>
                <a:gd name="textAreaRight" fmla="*/ 1393200 w 1392840"/>
                <a:gd name="textAreaTop" fmla="*/ 0 h 1281960"/>
                <a:gd name="textAreaBottom" fmla="*/ 1282320 h 128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47"/>
            <p:cNvSpPr/>
            <p:nvPr/>
          </p:nvSpPr>
          <p:spPr>
            <a:xfrm>
              <a:off x="4504320" y="2844360"/>
              <a:ext cx="5144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8"/>
            <p:cNvSpPr/>
            <p:nvPr/>
          </p:nvSpPr>
          <p:spPr>
            <a:xfrm>
              <a:off x="3895920" y="3988800"/>
              <a:ext cx="5144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49"/>
            <p:cNvSpPr/>
            <p:nvPr/>
          </p:nvSpPr>
          <p:spPr>
            <a:xfrm>
              <a:off x="3287520" y="2844360"/>
              <a:ext cx="5144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28"/>
          <p:cNvSpPr/>
          <p:nvPr/>
        </p:nvSpPr>
        <p:spPr>
          <a:xfrm flipV="1">
            <a:off x="4191120" y="31240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 flipV="1">
            <a:off x="5791320" y="32004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 flipV="1">
            <a:off x="7848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4251240" y="47610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4785480" y="4761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IS A CYCLIC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o be achieved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                      Goal / Objective/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ring task clarity to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1752480" y="1371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TO GROUP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r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ATION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part of our activity but it is not done syste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collection and recording of f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very effective tool for us for personal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OF DOCUMENTATION PROCES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P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ication of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s of failure /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 experience for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O BE DOC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process of a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on/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s/ resolution of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s/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rity of th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happening in P.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ng the facts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ing th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d -------- We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 contributed to success/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wil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rs/ group of 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par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OF P.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/ list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/ Audio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pho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iews/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group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F P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let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D. / Video/ Still phot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 REQUIRED FOR A GOOD DOCUMEN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tive /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municati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sizing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good understanding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interpretati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ological knowledge of P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organize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oism, Over - 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ption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Direction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 to expression and bod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s of Sender/ Commun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Credibility                   - Builds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urtesy                    - Improves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larity                        - Makes Comprehension Eas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Correctness               - Builds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Consistency               - Introduces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oncreteness             - Reinforces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Consciousness          - Sav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2514600" y="1143000"/>
            <a:ext cx="3505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 c's and 4 s'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hortness                    - Econo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implicity                     - Imp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Strength                       - Con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Sincerity                       -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267080" y="533520"/>
            <a:ext cx="82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s'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ardvark"/>
              </a:rPr>
              <a:t>MASS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ardvark"/>
              </a:rPr>
              <a:t>PRINT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ardvark"/>
              </a:rPr>
              <a:t>TELEVISION JOURN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means or devices of communication used to  reach large no. of audience at a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Media-  Written, Spoken and Visual carry information from its source to receivers- Readers, Listeners, and Vie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3200400" y="380880"/>
            <a:ext cx="221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ss Med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08:20:03Z</dcterms:created>
  <dc:creator>coputer</dc:creator>
  <dc:description/>
  <dc:language>en-US</dc:language>
  <cp:lastModifiedBy>Dr. Saroj</cp:lastModifiedBy>
  <dcterms:modified xsi:type="dcterms:W3CDTF">2020-04-28T13:37:37Z</dcterms:modified>
  <cp:revision>29</cp:revision>
  <dc:subject/>
  <dc:title>Slide 1</dc:title>
</cp:coreProperties>
</file>