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8AE-1FF2-436B-B0C5-94156A151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892-78B4-43CD-8661-F0493748BC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619-3204-4B7A-8C47-E0C94569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785-FF40-4B60-AB1C-04EC8D7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39D-89DE-46DF-9478-BE5F8F97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0BB-7193-4815-9FB3-D49DC65C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067-EB91-4D00-85B2-8540D127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9E6E-E250-4B2B-9598-6C498FA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A29-3591-4C9C-84B9-AD01FDC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F642-0C28-4756-B4A8-F5532D53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6B10-D25B-4C7F-BA01-0EE01E57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1BC3-2685-4FEB-A128-8EC65AD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CE97-EC28-444C-A58F-745A754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F95-95AC-4F9B-888E-C0B835D2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B599-717A-4355-97D4-4E94977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1BD-CD6A-4A4A-9764-1CE80F3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C285-BA5C-49C6-BFA1-19A0DDC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D2A1-44BE-4ADC-AA42-2B4397D4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1216-9D97-498E-9750-7B840D4A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6C32-D084-443B-B379-15244987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CA5F-3D32-445C-9E42-9CB0E2D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2CA7-0B9C-4B39-93E2-74C3A637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EAFC-0BED-423D-9AF7-548F9000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0C0D-6B36-47C6-9423-386ADAE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A90-2F39-4414-9B0C-047CA101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4308-258E-47DF-A520-4C6168D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DDE7-E0D7-453D-B437-0671152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70AD-4E82-46B8-8B85-2360C70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5774-6DE1-4545-82FC-A2C0C74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C6D4-4373-4D4E-9731-6F7A9784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B756-2974-4719-8A4F-4B1B1791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61E3-04B6-4A19-9891-C1207831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0501-DAEB-4664-8C79-BBB48787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187DA-CB1C-45E3-A2BD-81A0B2E1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B41F-F3BD-4597-A1C5-F817F41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EB3-9208-4C79-B04A-0A760FE2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873F-244D-4AC6-90D1-C091A0C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1CCC-18EF-4E64-8A06-2142DEC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4084-E9A9-4283-ADF9-F6B81022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36218-DF73-4314-BC04-0053184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DC2E-82E1-4289-BD95-7C7CB404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F593-C741-4D73-8939-891427E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5201-E7D5-4F37-A2AA-D91CA69D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92C4-4316-4AC6-A5E8-17C32EAF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0A08-F22D-40B2-852F-852543C5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C503-06BE-4C7D-87AC-E26069FE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FED-529F-4FFB-B57A-E8DC767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7593-9A3B-44E2-9F87-CFFDF7EE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B4CE-808A-4D65-819A-FEF913D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9244-4ED0-44DD-9AFD-51B185EC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00A6-C260-4309-BFEC-2BBE5CE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A71D-9D61-4898-B209-E157C3F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E6AE-52DE-42C6-80B4-0E661FB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72D00-583F-4114-B1AA-45A459B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64D4-0A17-4059-82B3-2897A6DD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DC10-13B1-4A1B-BA4E-A65E4C8E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F2D1-3398-448F-B66D-D1842A62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BF6-3714-4BB4-A7A0-2F8DD89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08C0-C992-49C0-9176-1292AE2C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1305-7540-4CB7-96F3-0D11D9E4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63E4-ECB3-4679-B26D-DF9B756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272B-B4E7-4020-954B-E846F156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A2EC-3998-4EAB-9C3A-B06AEEE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25E1-77E1-49E9-9B36-02724CB5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7AEB-17DE-4820-8FA6-EE94B321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7FD1-6D7D-46D7-AB55-298A0B6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6092-5E20-46E8-82CC-B255289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FA496-77ED-4FEB-BBF3-4441E307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E11-F33E-465F-A895-7C47BAF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84A7-1AD7-41B0-9B77-44C4199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106C-B0AD-47FC-B463-AF696735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18E28-1554-4DBA-AC30-ED40405C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DB17-20BB-48CE-9EC7-955D5AAC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5B027-DDF6-4F7F-A653-3A584FC0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CE79C-0706-4418-BF60-D617B89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8B9D-655F-4459-AC1E-2124DE7D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AF76-0B62-411F-A041-978653C2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D33F-D99A-4874-9BC4-B672E08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F235-CD38-4957-A14E-6774E55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CE4-1F4F-43E0-8D57-5F4AEAF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DF70-7880-4E64-A023-BCBB8C6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4A28-9FD1-4BE9-95CF-9F5CF04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FD4BE-DCB4-49DB-BDDB-D21F93A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0FD14-39F0-40F4-B33F-AAFA35B5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ABA7-0B91-4DDD-AE47-4527357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888-B82E-4140-B481-C26B142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B0F-992E-4CA6-B606-FD576843FA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33ED-A5C1-42A0-9D94-59FD1517DB0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E2A-49B2-4A73-B47C-CC50A9EC3D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82A-B4EF-4811-89A1-06298DA0997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6B42-AB6C-4585-AEC4-783FC047B1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D1D-4D61-41CA-AB6D-3A5020880E9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ADD-D4FA-49A0-BD3B-EC141F32375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hinosporidiosis.jpg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Content Placeholder 2"/>
          <p:cNvGrpSpPr/>
          <p:nvPr/>
        </p:nvGrpSpPr>
        <p:grpSpPr>
          <a:xfrm>
            <a:off x="1225440" y="2273400"/>
            <a:ext cx="7613640" cy="3120840"/>
            <a:chOff x="1225440" y="2273400"/>
            <a:chExt cx="7613640" cy="3120840"/>
          </a:xfrm>
        </p:grpSpPr>
        <p:pic>
          <p:nvPicPr>
            <p:cNvPr id="32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25440" y="2273400"/>
              <a:ext cx="761364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95280" y="2590920"/>
              <a:ext cx="74678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IT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onotic disease’</a:t>
              </a:r>
              <a:endParaRPr b="0" lang="en-US" sz="67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8260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redit Hours-3+1)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Picture 14" descr="Our Clients | Jivesna Tech"/>
          <p:cNvPicPr/>
          <p:nvPr/>
        </p:nvPicPr>
        <p:blipFill>
          <a:blip r:embed="rId2"/>
          <a:stretch/>
        </p:blipFill>
        <p:spPr>
          <a:xfrm>
            <a:off x="1447920" y="533520"/>
            <a:ext cx="1828800" cy="1842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6" descr="Bihar Veterinary College - Wikipedia"/>
          <p:cNvPicPr/>
          <p:nvPr/>
        </p:nvPicPr>
        <p:blipFill>
          <a:blip r:embed="rId3"/>
          <a:stretch/>
        </p:blipFill>
        <p:spPr>
          <a:xfrm>
            <a:off x="7238880" y="533520"/>
            <a:ext cx="1517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6098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ther subcutaneous mycos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888840"/>
          <a:ext cx="8705880" cy="5969160"/>
        </p:xfrm>
        <a:graphic>
          <a:graphicData uri="http://schemas.openxmlformats.org/drawingml/2006/table">
            <a:tbl>
              <a:tblPr/>
              <a:tblGrid>
                <a:gridCol w="2228760"/>
                <a:gridCol w="1752840"/>
                <a:gridCol w="2209680"/>
                <a:gridCol w="2514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yc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usative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ymptoms In 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cetoma/Maduromycosis/Madura 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myce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teria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nomyce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idental trauma/ injury,  carryingwood on back, use of ear wi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efaction,-tumor like swelling,  multiple draining sin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moblasto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atiaceous (pigmented)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seca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p.      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ialophora verruc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saprobes enter the skin by traumatic impla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ty cutaneous nodules which resembles flouts of cauliflower -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rucous dermat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eohypho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atiaceous fungi,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ria, Bipol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only found in immunodeficient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cutaneous or intramuscular lesions with abscess or cy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bo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azia lobo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olves exposed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ce of macule, papule, keloid, verrucous, nodular lesions or plaques &amp; tum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434960" y="990360"/>
            <a:ext cx="7499520" cy="52578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subcutaneous mycosis in temperate regions is ________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first-line recommended treatment for sporotrichosis is ________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raconazo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damyc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oteric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stat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Content Placeholder 2"/>
          <p:cNvGrpSpPr/>
          <p:nvPr/>
        </p:nvGrpSpPr>
        <p:grpSpPr>
          <a:xfrm>
            <a:off x="2236680" y="2664000"/>
            <a:ext cx="5969160" cy="1304640"/>
            <a:chOff x="2236680" y="2664000"/>
            <a:chExt cx="5969160" cy="1304640"/>
          </a:xfrm>
        </p:grpSpPr>
        <p:pic>
          <p:nvPicPr>
            <p:cNvPr id="33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236680" y="2664000"/>
              <a:ext cx="596916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438280" y="2819520"/>
              <a:ext cx="54864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cutaneous myco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2895840" cy="563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360" y="914040"/>
            <a:ext cx="792468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mycoses fungi -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i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o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ge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the skin or subcutaneous tissue -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umat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oculation with contaminated mater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ions becom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anulomat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and slowly from the area of implant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via the lymphatics draining the lesion is slow except in sporotrichosi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 cases they become systemic and produce life-threatening dise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Mycetoma/Maduromycosis/Madura fo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orotrich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hinosporidi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romoblastomyc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haeohyphomyc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bomyc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298440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Sporotrichosi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6680" y="990720"/>
            <a:ext cx="7848720" cy="53337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ative ag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othrix schenck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orses, dogs, cats, camels &amp; m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Most common subcutaneous mycoses of tropical re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agent Pre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the Environment (Soil or on  plants, thorns &amp; timb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try of  agent the bo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ough broken ski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isk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ersons who work in the fields, gardens or soil and who handle plant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2908440" cy="56376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66680" y="837720"/>
            <a:ext cx="7848720" cy="58676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characteriz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nodules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ngitis, corded lymphatic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on of nodules with pus dischar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characteristics ar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nodu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ed lymphatics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ollen lymph n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on of noduels with pus discharg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seminated form: Other internal organs may also be aff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Content Placeholder 3" descr=""/>
          <p:cNvPicPr/>
          <p:nvPr/>
        </p:nvPicPr>
        <p:blipFill>
          <a:blip r:embed="rId1"/>
          <a:stretch/>
        </p:blipFill>
        <p:spPr>
          <a:xfrm>
            <a:off x="6022800" y="3279600"/>
            <a:ext cx="2578320" cy="18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user\Desktop\images (1).jpg"/>
          <p:cNvPicPr/>
          <p:nvPr/>
        </p:nvPicPr>
        <p:blipFill>
          <a:blip r:embed="rId2"/>
          <a:stretch/>
        </p:blipFill>
        <p:spPr>
          <a:xfrm>
            <a:off x="5943600" y="762120"/>
            <a:ext cx="27129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066320" y="990360"/>
            <a:ext cx="7497720" cy="5638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of the fungu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In the clinical material/ and cultural examination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seminated form: serological tests are helpfu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143000" y="32004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ulcers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tincture of iod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etoconazole &amp; potassium iod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seminated for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Amphotericin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143000" y="480060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ful handling of infectious mater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reatment of cuts and abrasions are effective measures for prevention and control of the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162920" y="106668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1303200" cy="1219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4874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, Prevention &amp;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3517920" cy="563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Rhinosporidiosi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66680" y="914040"/>
            <a:ext cx="784872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characterized by the development of polyps on the nasal mucos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cal ag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nosporidium seeber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n, cattle, bufflaoes, dogs, horses &amp; mules are mainly affec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eval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dia &amp; Sri Lank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t am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 persons who swim &amp; work in stagnant wate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mall group of protists, mostly parasites of fish and other anima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ection occ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rough the entry of the etiological agent from contaminated water through abraded nasal mucosa &amp; other orga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1841760" cy="6397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seas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914040"/>
            <a:ext cx="7867800" cy="57150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imal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polyps on the nasal mucos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 breath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purulent discharge from the nostril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s develop frequently: nasal mucosa and e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just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ly on ears, larynx and genital par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230px-Rhinosporidi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4950000"/>
            <a:ext cx="1981080" cy="14508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C:\Users\user\Desktop\download.jpg"/>
          <p:cNvPicPr/>
          <p:nvPr/>
        </p:nvPicPr>
        <p:blipFill>
          <a:blip r:embed="rId3"/>
          <a:stretch/>
        </p:blipFill>
        <p:spPr>
          <a:xfrm>
            <a:off x="4267080" y="4876920"/>
            <a:ext cx="1908360" cy="1450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Ocular Rhinosporidiosis Presenting As A Rapidly Growing ..."/>
          <p:cNvPicPr/>
          <p:nvPr/>
        </p:nvPicPr>
        <p:blipFill>
          <a:blip r:embed="rId4"/>
          <a:stretch/>
        </p:blipFill>
        <p:spPr>
          <a:xfrm>
            <a:off x="6705720" y="4876920"/>
            <a:ext cx="1828800" cy="14508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:\Users\user\Desktop\B9781416061304000689_f068-001-9781416061304.jpg"/>
          <p:cNvPicPr/>
          <p:nvPr/>
        </p:nvPicPr>
        <p:blipFill>
          <a:blip r:embed="rId5"/>
          <a:stretch/>
        </p:blipFill>
        <p:spPr>
          <a:xfrm>
            <a:off x="2895480" y="2517840"/>
            <a:ext cx="1981440" cy="1444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C:\Users\user\Desktop\1-Figure1-1.png"/>
          <p:cNvPicPr/>
          <p:nvPr/>
        </p:nvPicPr>
        <p:blipFill>
          <a:blip r:embed="rId6"/>
          <a:stretch/>
        </p:blipFill>
        <p:spPr>
          <a:xfrm>
            <a:off x="5486400" y="2517840"/>
            <a:ext cx="17557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867800" cy="4874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Diagnosis, Treatment Prevention &amp;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42640" y="914040"/>
            <a:ext cx="7791480" cy="533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s are helpful in the diagnosi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of fungus in the nasal exud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ffected tissues confirms the diagno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removal of the polyps is recommen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exposure to contaminated stagnant water prevents inf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ranjayvet@gmail.com</cp:lastModifiedBy>
  <dcterms:modified xsi:type="dcterms:W3CDTF">2020-04-07T08:08:58Z</dcterms:modified>
  <cp:revision>22</cp:revision>
  <dc:subject/>
  <dc:title>Slide 1</dc:title>
</cp:coreProperties>
</file>