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wmf" ContentType="image/x-wmf"/>
  <Override PartName="/ppt/media/image18.png" ContentType="image/pn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0F87-AA1E-4868-BC0A-66B4DE81C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Endoscopy" TargetMode="External"/><Relationship Id="rId2" Type="http://schemas.openxmlformats.org/officeDocument/2006/relationships/hyperlink" Target="https://en.wikipedia.org/wiki/Biopsy" TargetMode="External"/><Relationship Id="rId3" Type="http://schemas.openxmlformats.org/officeDocument/2006/relationships/hyperlink" Target="https://en.wikipedia.org/wiki/PAS_stain" TargetMode="External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, gastrointestinal, and esophageal candidiasis require an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endoscop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diagn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graph of esophageal candidiasis showing hyphae,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biops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men,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PAS s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8AFE-38C5-4D15-AF4B-7B1EB3AC45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8DA-AB48-4A6B-9115-A6ED9FD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495-8724-45C0-B425-6AF5FCB4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CE4-87F9-41E3-A1D9-D3A38AEB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48B-4AEB-43D5-8A75-C8B7FC2C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043-1772-49D6-8B40-7F9103DA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C04F-3E33-4B20-8B4E-BB84635A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4547-64F0-4CF9-A89D-522246B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9628-D3C2-45D4-BE1A-D7B8AD4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0FB2-67A7-44A8-A453-1C5B713C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8DD-351C-4F27-974A-E63EF1DE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3001-A705-4DD6-A6E1-6667964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504-9168-4290-9A63-E32D6E1F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E391-E6D0-472A-9176-94405D1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89BE-7144-4FDE-A44D-E9D8B0B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243E-0CB0-4109-A3CE-165718F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F723-9C1E-4C7F-AFA4-C84A2615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3AE3-2F4B-422F-956E-613F8C76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E309-CC31-4003-8A1E-BCD83BF3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348D-4612-49D5-AB09-372BED07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4ED1-327C-40B7-9121-378EB30C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6C2A-28A9-4AD0-B92A-8D311938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6DED-7A80-4AC1-92AB-0816C3E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CF0-FAEF-40BB-A3FF-EB2D827F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C583-6689-4BF7-8972-6A85A313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2A41-7DDC-4751-A1A1-B5B03FD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C29B-88FA-4FD0-AEE8-AF6BA19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4176-2A31-43B4-B96B-88601F56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30E5-1F08-40EE-871B-FCEF134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4256-32ED-43AC-B78D-E894A7E4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C8A6-63DF-4953-99DA-817F4B88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1000-ABCB-47A9-9B55-19A92CAD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8243-DEAE-4656-914A-47D270C3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7645-A19A-4114-A8F6-5197EA8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533-6198-4CE8-95AC-A4CA0E09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F18A-B381-42D9-91AB-E82A22E4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9869-0A43-4748-8D3F-1A9F1D96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3833-F708-4501-9CBD-D7E26CD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5A2E-F90B-4EF6-A97E-62D680C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B42B-DCEF-4051-A9D7-7E2E2FA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D636-A807-4622-BCBD-8667856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29983-0ADC-487B-B72C-964191D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4F620-3E2D-46B8-AA70-82272411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39E0-DB4A-47D5-B55F-33FEBC76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730D-B446-499D-A343-BE698919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86A-54C3-494C-81B4-897C0AE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E57B-3E7D-4445-A715-20932BD5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91F7-2A99-467C-8674-0321B48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35D2-29E3-46E0-8BCC-281BA68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56207-149E-4F16-A292-E8C83CC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E3B8-27AB-4600-8423-26EEB4D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38AF-5395-473A-BF22-71984F6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65C3-FACE-4FC7-ADD1-E88A8A1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42C5-34B1-4C1C-977B-15B23AE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F11A-5121-416B-B6C0-B1353AD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88B8-95C8-4BBF-8D20-E7E0BE69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432-99F0-48C1-B8AC-C434AF73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EF90-59EF-49E8-9F1C-56311CAC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1A9D-8D4A-4481-8F55-CC60A165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B2D0C-C121-4946-9109-2FE0A972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82E9-278B-40D9-BC35-064B41A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20060-0244-419E-9CAD-8CEB353D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67FB-7155-4CEA-8F55-A707C72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678D-A278-4EAB-9E87-50523E7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30A45-ED1A-4554-A31B-522456D2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5AC2-28D9-4FBA-A47D-94035B2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5730-98D2-4BED-BB77-EA3F87D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BFC-7BF0-43B7-9855-C247CD5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C71A-4245-40B8-AF9C-C5FEB60B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D7DD-D997-48FC-882E-376FE5A5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BFE2-FC12-4A82-8FE4-92F4E823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2CBC5-4BB6-470B-B6DE-1A079400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56745-E048-4034-AEDE-4D90C0AF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E2E70-0E71-432A-A98D-8B367D1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34AF-25B7-405C-BFA6-1A2BB03C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8E77F-ADC3-4BFF-B4D5-0F8F3B4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2E9C3-14B1-477B-8375-0BB19189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FAFF4-B211-46EB-ADC3-CE46C3A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250-F8D8-4990-A6FD-02DB631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43B4-DF90-4E16-B28A-4854263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BC3A4-FA25-49BD-89A1-39E0811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F5C40-DE48-438C-AD9A-3BA6B481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0B12-8261-44F5-8B2D-D19A3959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D3D34-36F7-4CCE-99DE-F284EC7D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670-F388-421C-9C6A-4E96DB4F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F36B-A3F4-4C8B-9C27-15B6CACE9E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687-37C7-44EC-989F-F25351F8DE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7ABF-851B-4FE5-9B0E-7A46A7849D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060-4F6F-49F7-B89C-E9B79F3CD0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25DE-C74B-4ACE-8D61-4AB5414C8D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83C4-A340-418D-AE7D-0A98A602E31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3E6-040D-4B1A-8C61-466DADF9AD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File:Candida_albicans_PHIL_3192_lores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Content Placeholder 2"/>
          <p:cNvGrpSpPr/>
          <p:nvPr/>
        </p:nvGrpSpPr>
        <p:grpSpPr>
          <a:xfrm>
            <a:off x="1298520" y="1511280"/>
            <a:ext cx="7613640" cy="3121200"/>
            <a:chOff x="1298520" y="1511280"/>
            <a:chExt cx="7613640" cy="3121200"/>
          </a:xfrm>
        </p:grpSpPr>
        <p:pic>
          <p:nvPicPr>
            <p:cNvPr id="32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298520" y="1511280"/>
              <a:ext cx="761364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371600" y="1828800"/>
              <a:ext cx="74674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T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oonotic disease’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redit Hours-3+1)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1219320"/>
            <a:ext cx="7499520" cy="50292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ay involve mucous membranes, skin, nails and internal organ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nical signs vary according to the parts aff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forms of the disease include pulmonary conditions, endocarditis, septicaemia, and meningit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168912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2" descr="Image result for oral candidiasis in infants"/>
          <p:cNvPicPr/>
          <p:nvPr/>
        </p:nvPicPr>
        <p:blipFill>
          <a:blip r:embed="rId1"/>
          <a:stretch/>
        </p:blipFill>
        <p:spPr>
          <a:xfrm>
            <a:off x="1981080" y="4114800"/>
            <a:ext cx="2019600" cy="1905120"/>
          </a:xfrm>
          <a:prstGeom prst="rect">
            <a:avLst/>
          </a:prstGeom>
          <a:ln w="0">
            <a:noFill/>
          </a:ln>
        </p:spPr>
      </p:pic>
      <p:pic>
        <p:nvPicPr>
          <p:cNvPr id="354" name="Content Placeholder 5" descr="Image result for veginal candidiasis"/>
          <p:cNvPicPr/>
          <p:nvPr/>
        </p:nvPicPr>
        <p:blipFill>
          <a:blip r:embed="rId2"/>
          <a:stretch/>
        </p:blipFill>
        <p:spPr>
          <a:xfrm>
            <a:off x="4495680" y="4267080"/>
            <a:ext cx="1900440" cy="16002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5" name="Picture 4" descr="Image result for invasive candidiasis in human"/>
          <p:cNvPicPr/>
          <p:nvPr/>
        </p:nvPicPr>
        <p:blipFill>
          <a:blip r:embed="rId3"/>
          <a:stretch/>
        </p:blipFill>
        <p:spPr>
          <a:xfrm>
            <a:off x="6781680" y="4114800"/>
            <a:ext cx="196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259056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</a:t>
            </a:r>
            <a:r>
              <a:rPr b="1" lang="en-US" sz="3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3000" y="685800"/>
            <a:ext cx="7639200" cy="60199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icroscopic &amp; cultural examina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clinical material and by serological test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Content Placeholder 3" descr="https://upload.wikimedia.org/wikipedia/commons/thumb/d/da/Candida_albicans_PHIL_3192_lores.jpg/220px-Candida_albicans_PHIL_3192_lores.jpg">
            <a:hlinkClick r:id="rId1"/>
          </p:cNvPr>
          <p:cNvPicPr/>
          <p:nvPr/>
        </p:nvPicPr>
        <p:blipFill>
          <a:blip r:embed="rId2"/>
          <a:srcRect l="13091" t="0" r="0" b="0"/>
          <a:stretch/>
        </p:blipFill>
        <p:spPr>
          <a:xfrm>
            <a:off x="1752480" y="32767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4648320" y="388620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to cream-coloured smooth, glabrous, yeast-li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upload.wikimedia.org/wikipedia/commons/thumb/d/d5/Esophageal_candidiasis_%282%29_PAS_stain.jpg/220px-Esophageal_candidiasis_%282%29_PAS_stain.jpg"/>
          <p:cNvPicPr/>
          <p:nvPr/>
        </p:nvPicPr>
        <p:blipFill>
          <a:blip r:embed="rId3"/>
          <a:stretch/>
        </p:blipFill>
        <p:spPr>
          <a:xfrm>
            <a:off x="1828800" y="5105520"/>
            <a:ext cx="2362320" cy="1530360"/>
          </a:xfrm>
          <a:prstGeom prst="rect">
            <a:avLst/>
          </a:prstGeom>
          <a:ln w="0">
            <a:noFill/>
          </a:ln>
        </p:spPr>
      </p:pic>
      <p:pic>
        <p:nvPicPr>
          <p:cNvPr id="361" name="Straight Arrow Connector 6" descr=""/>
          <p:cNvPicPr/>
          <p:nvPr/>
        </p:nvPicPr>
        <p:blipFill>
          <a:blip r:embed="rId4"/>
          <a:stretch/>
        </p:blipFill>
        <p:spPr>
          <a:xfrm>
            <a:off x="3462480" y="6156360"/>
            <a:ext cx="1645920" cy="4460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5193360" y="6095880"/>
            <a:ext cx="153864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gal cel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https://upload.wikimedia.org/wikipedia/commons/thumb/3/38/Vaginal_wet_mount_of_candidal_vulvovaginitis.jpg/220px-Vaginal_wet_mount_of_candidal_vulvovaginitis.jpg"/>
          <p:cNvPicPr/>
          <p:nvPr/>
        </p:nvPicPr>
        <p:blipFill>
          <a:blip r:embed="rId5"/>
          <a:stretch/>
        </p:blipFill>
        <p:spPr>
          <a:xfrm>
            <a:off x="1752480" y="1676520"/>
            <a:ext cx="2210040" cy="1523880"/>
          </a:xfrm>
          <a:prstGeom prst="rect">
            <a:avLst/>
          </a:prstGeom>
          <a:ln w="0">
            <a:noFill/>
          </a:ln>
        </p:spPr>
      </p:pic>
      <p:pic>
        <p:nvPicPr>
          <p:cNvPr id="364" name="Straight Arrow Connector 18" descr=""/>
          <p:cNvPicPr/>
          <p:nvPr/>
        </p:nvPicPr>
        <p:blipFill>
          <a:blip r:embed="rId6"/>
          <a:stretch/>
        </p:blipFill>
        <p:spPr>
          <a:xfrm>
            <a:off x="3614760" y="2193840"/>
            <a:ext cx="1573200" cy="5986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1"/>
          <p:cNvSpPr/>
          <p:nvPr/>
        </p:nvSpPr>
        <p:spPr>
          <a:xfrm>
            <a:off x="5114880" y="2438280"/>
            <a:ext cx="19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gal pseudohyph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Treatment, Prevention &amp; contro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&amp; oesophageal candidia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azole formulations  (Ketoconazole fluconazole and itraconazo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ing the predisposing facto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statin can be used for control and prophylactic 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600" y="380520"/>
            <a:ext cx="2984760" cy="8384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Histoplasm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lasma capsulat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/as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arling dise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5876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averan disease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hio valley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ticuloendothelial cytomycosis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ingo Mario fe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ily a pulmonary &amp; occasionally a fatal disseminated disease in man and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the most commonly affected anim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s have been recorded in horses, cattle, and pigs but the disease is rare in farm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17650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66320" y="990720"/>
            <a:ext cx="7867800" cy="58672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in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cough, diarrhoea, fever &amp; loss of weight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vanced stages: hepatomegaly, spleenomegaly, ulcerations of the buccal mucosa &amp; nasal mucos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% of the cases the infe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0% (depending upon the organs involved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ly flu-like symptoms are observed but in more severe forms other symptoms may be associa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seminates 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epatomegaly, spleenomegaly, anaemia, leukopenia, &amp;  weight loss occur. Such a disease may become fatal if not promptly attended to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cases: pulmonary invasion may occur causing cavitary histoplasm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121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73" name="Rectangle 5"/>
          <p:cNvSpPr/>
          <p:nvPr/>
        </p:nvSpPr>
        <p:spPr>
          <a:xfrm>
            <a:off x="0" y="685800"/>
            <a:ext cx="4572000" cy="1873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Indian patients, skin and muc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the most commonly invol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s, with or  without syste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l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dc76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histoplasmosis-retina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75" name="Text Box 7"/>
          <p:cNvSpPr/>
          <p:nvPr/>
        </p:nvSpPr>
        <p:spPr>
          <a:xfrm>
            <a:off x="0" y="3708360"/>
            <a:ext cx="4572000" cy="31809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 small fraction of individuals for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car tissue in the retina many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the original histoplasm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f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carring can obscure the mac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 to loss of central 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irst signs -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small “histo spo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457200" y="3276720"/>
            <a:ext cx="365760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OCCULAR HISTOPLASM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"/>
          <p:cNvPicPr/>
          <p:nvPr/>
        </p:nvPicPr>
        <p:blipFill>
          <a:blip r:embed="rId3"/>
          <a:srcRect l="0" t="13637" r="0" b="0"/>
          <a:stretch/>
        </p:blipFill>
        <p:spPr>
          <a:xfrm>
            <a:off x="4572000" y="380880"/>
            <a:ext cx="4572000" cy="1447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295280" y="1143000"/>
            <a:ext cx="7639200" cy="54100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of fungus/ Isolation/ Serological te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lasmin skin te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immuno assay: for detection of histoplasmin antigen from urine of infected hu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251460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10" descr="arq01fig01a"/>
          <p:cNvPicPr/>
          <p:nvPr/>
        </p:nvPicPr>
        <p:blipFill>
          <a:blip r:embed="rId1"/>
          <a:stretch/>
        </p:blipFill>
        <p:spPr>
          <a:xfrm>
            <a:off x="1600200" y="2895480"/>
            <a:ext cx="3367080" cy="3429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381" name="Picture 8" descr="arq01fig01b"/>
          <p:cNvPicPr/>
          <p:nvPr/>
        </p:nvPicPr>
        <p:blipFill>
          <a:blip r:embed="rId2"/>
          <a:srcRect l="0" t="0" r="0" b="20295"/>
          <a:stretch/>
        </p:blipFill>
        <p:spPr>
          <a:xfrm>
            <a:off x="5257800" y="2895480"/>
            <a:ext cx="3043080" cy="35053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Treatment, Prevention &amp; control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, itraconazole and amphotericin B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voiding exposure to du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pecially at the sites of habitats of bats and  birds, like pigeons &amp; chicke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clean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reas, it is advisable to wet the surface, decontaminate the are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formali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wear protective mask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397512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Cryptococcosi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8960" y="914040"/>
            <a:ext cx="771516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yptococcus neoforma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ffects man and a  variety of mam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nyms 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rulosis, Torula meningitis, European Blastomycosis,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sse-Buchke’s disease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habit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gestive tract of bi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igeon fecal matter: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urce of N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s a saprophy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soil, nests &amp; other sites contaminated with excreta of pigeons, parrots and canar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occurs throug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halation &amp; sometimes through direct inoculation of the sk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, buffaloes &amp; goa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mmary glands may be infected due to entry of the organism through teat can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transmi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one host to an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990720" y="837720"/>
            <a:ext cx="7943760" cy="57913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dic ca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neralised form or as a granulomatous meningoencephalitis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s, cats &amp;  hor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ningiti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 and buffalo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pizootic outbreak of mastitis &amp; crptococcal pneumonia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ealthy person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 disease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mmunocompromis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: cause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taneous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 formation of papules, abscess &amp; subsequent ulcera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lmonary form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Cryptococcoma” in lu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, cough, chest pain &amp; hemoptysi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176544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Content Placeholder 2"/>
          <p:cNvGrpSpPr/>
          <p:nvPr/>
        </p:nvGrpSpPr>
        <p:grpSpPr>
          <a:xfrm>
            <a:off x="2139840" y="2736720"/>
            <a:ext cx="5632560" cy="1311480"/>
            <a:chOff x="2139840" y="2736720"/>
            <a:chExt cx="5632560" cy="1311480"/>
          </a:xfrm>
        </p:grpSpPr>
        <p:pic>
          <p:nvPicPr>
            <p:cNvPr id="32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139840" y="2736720"/>
              <a:ext cx="56325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209680" y="2895480"/>
              <a:ext cx="5486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ic myco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371600" y="762120"/>
            <a:ext cx="7562880" cy="57909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seminated form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, brain, bon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rebral form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ingitis or meningoencephalitis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ing for weeks &amp; month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 &amp; visual disturb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usion, personality changes, agitation, lethar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not properly trea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3124080" cy="3812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  </a:t>
            </a: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In man: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0" name="Picture 2" descr="C:\Documents and Settings\Administrator\Desktop\crypto\figures\r_cryptococcosis_w300.jpg"/>
          <p:cNvPicPr/>
          <p:nvPr/>
        </p:nvPicPr>
        <p:blipFill>
          <a:blip r:embed="rId1"/>
          <a:stretch/>
        </p:blipFill>
        <p:spPr>
          <a:xfrm>
            <a:off x="1981080" y="4038480"/>
            <a:ext cx="2667240" cy="2300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>
            <a:lum bright="10000"/>
          </a:blip>
          <a:srcRect l="56083" t="16324" r="18850" b="53740"/>
          <a:stretch/>
        </p:blipFill>
        <p:spPr>
          <a:xfrm>
            <a:off x="5638680" y="38098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295280" y="914040"/>
            <a:ext cx="7639200" cy="57913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ntration of yeast cells in the clinical specimens &amp;  their isolation are useful in 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ogical diagnosis- MRI, CT sc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diagnosis: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LIS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blood/ ur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fungal chemotherapy: to avoid spread of the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 B, ketoconazole, fluconazole &amp; itraconazo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use of: corticosteroi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igeon popul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pigeon excrement, followed by chemical decontamin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63920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&amp; control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rcRect l="7048" t="61159" r="38248" b="5684"/>
          <a:stretch/>
        </p:blipFill>
        <p:spPr>
          <a:xfrm>
            <a:off x="6858000" y="1828800"/>
            <a:ext cx="179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283212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066680"/>
            <a:ext cx="7499520" cy="54864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/as mucormycosis or phycomycosis/entomophthoromyco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 is caused by a variety of fungi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idia corymbifer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obolus coronatu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mucor pusillu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arrhiz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microspor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stic pathogens: immunocompromised per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rophytes &amp; grow in soil/ on organic matter in n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disease : In man, domestic animals &amp; oth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entry: Inhalation, ingestion, and inoculation of the organis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is not transmissible from host to h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4" descr="C:\Users\user\Desktop\download (1).jpg"/>
          <p:cNvPicPr/>
          <p:nvPr/>
        </p:nvPicPr>
        <p:blipFill>
          <a:blip r:embed="rId1"/>
          <a:stretch/>
        </p:blipFill>
        <p:spPr>
          <a:xfrm>
            <a:off x="5410080" y="19051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142640" y="914040"/>
            <a:ext cx="7791480" cy="57150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omatous lesions in mesenteric &amp; mediastinal L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to other organs like kidney, liver, and bra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igs &amp; young calv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mycosis of the alimentary canal is common like, gastroenteritis, vomition, diarrhoea, &amp; ulc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ucromycoses assume different forms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 algn="just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 algn="just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nocerebral  subcutaneou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36520" algn="just">
              <a:lnSpc>
                <a:spcPct val="80000"/>
              </a:lnSpc>
              <a:spcBef>
                <a:spcPts val="400"/>
              </a:spcBef>
              <a:buClr>
                <a:srgbClr val="c32d2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dema and disfiguring of fac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36520" algn="just">
              <a:lnSpc>
                <a:spcPct val="80000"/>
              </a:lnSpc>
              <a:spcBef>
                <a:spcPts val="400"/>
              </a:spcBef>
              <a:buClr>
                <a:srgbClr val="c32d2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 algn="just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ntestinal form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 algn="just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form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 algn="just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cutaneous form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spreading to brain causing death in two-thirds of the cas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1" name="Picture 4" descr="C:\Users\user\Desktop\37322tn.jpg"/>
          <p:cNvPicPr/>
          <p:nvPr/>
        </p:nvPicPr>
        <p:blipFill>
          <a:blip r:embed="rId1"/>
          <a:stretch/>
        </p:blipFill>
        <p:spPr>
          <a:xfrm>
            <a:off x="5486400" y="1752480"/>
            <a:ext cx="2362320" cy="3619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Users\user\Desktop\download.jpg"/>
          <p:cNvPicPr/>
          <p:nvPr/>
        </p:nvPicPr>
        <p:blipFill>
          <a:blip r:embed="rId2"/>
          <a:stretch/>
        </p:blipFill>
        <p:spPr>
          <a:xfrm>
            <a:off x="1447920" y="175248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295280" y="1523520"/>
            <a:ext cx="7499520" cy="40388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mophthoromyc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diobolus haptospore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granulomas with eosinophilic infiltration in S/c tiss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: Buttock or thig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1841760" cy="102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218960" y="1143000"/>
            <a:ext cx="7715160" cy="51055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ng of organisms in clinical material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solation and identification of the ag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ssium iodide, amphotiricin B and ketoconazo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per sulph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rinking water is effective in controlling the infection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the use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ldy ha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feed may help in prevention of the disease 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and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3060720" cy="7156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Blastomyc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218960" y="1066680"/>
            <a:ext cx="7715160" cy="55627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astomyces dermatitidi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/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rth American Blastomyco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icago dis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ilchrist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orphic fung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ffects mainly man and dogs, and occasionally c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observed in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a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rael, South Africa, Tanzania, Tunisia, Uganda, The US, and the former Zai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is contracted main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inhal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po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mbient humid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vor the release of spor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i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rivers/ waterways favors the grow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142640" y="914040"/>
            <a:ext cx="7791480" cy="53341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d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ids are the most aff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ly dogs and then c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is sporad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cases recorded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281952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ccurrenc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42640" y="914040"/>
            <a:ext cx="7791480" cy="57150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ases observed: up to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yrs of ag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 dep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ype of disease (localized disseminated)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ympto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ight loss, Pyrexia, Chronic cough, dyspnoea, skin lesions, anorexia &amp;  debilit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on of ey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ad to blindnes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ion also localized i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ung,  lymph nodes, eyes, skin, bones and joints t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en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similar manifest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3" name="Picture 5" descr="fungal diseases in humans and animals"/>
          <p:cNvPicPr/>
          <p:nvPr/>
        </p:nvPicPr>
        <p:blipFill>
          <a:blip r:embed="rId1"/>
          <a:srcRect l="0" t="20846" r="0" b="0"/>
          <a:stretch/>
        </p:blipFill>
        <p:spPr>
          <a:xfrm>
            <a:off x="5257800" y="4191120"/>
            <a:ext cx="3346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2832120" cy="5637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Aspergillo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42640" y="914040"/>
            <a:ext cx="779148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tic inf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organs of the body are inf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usative agents belongs to the genu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umigat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the most common spec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pecies of importance ar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lav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idula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i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erre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occurs in man &amp; a variety of animals like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tt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ee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ig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or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ul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ganism is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quit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rce of inf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ogenous fungus present in soil or organic mater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of organis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imarily through the respiratory tr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2" descr="http://www.pfdb.net/photo/mirhendi_h/box020909/standard/a_fumigatus_s.jpg"/>
          <p:cNvPicPr/>
          <p:nvPr/>
        </p:nvPicPr>
        <p:blipFill>
          <a:blip r:embed="rId1"/>
          <a:stretch/>
        </p:blipFill>
        <p:spPr>
          <a:xfrm>
            <a:off x="4419720" y="2971800"/>
            <a:ext cx="1698480" cy="121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218960" y="1066680"/>
            <a:ext cx="7715160" cy="55627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sporadic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bation perio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-10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y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 may occur in systemic form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sympto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brile disease, arthralgia, myalgia, and pleuritic pa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start wi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ry cough, haemoptysis, chest pain, &amp; weight los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ng primarily lungs &amp; dissemination to other organs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bones, joints, andski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form with mild symptoms and affection of ski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104840" indent="-4572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ruciform lesions: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 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with  Irregular bor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04840" indent="-4572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ly shaped scabby ulcer with raised bor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Users\user\Desktop\images.jpg"/>
          <p:cNvPicPr/>
          <p:nvPr/>
        </p:nvPicPr>
        <p:blipFill>
          <a:blip r:embed="rId1"/>
          <a:stretch/>
        </p:blipFill>
        <p:spPr>
          <a:xfrm>
            <a:off x="5334120" y="2286000"/>
            <a:ext cx="2867040" cy="2590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Blastomycosis, Skin Infection Images"/>
          <p:cNvPicPr/>
          <p:nvPr/>
        </p:nvPicPr>
        <p:blipFill>
          <a:blip r:embed="rId2"/>
          <a:stretch/>
        </p:blipFill>
        <p:spPr>
          <a:xfrm>
            <a:off x="1752480" y="2286000"/>
            <a:ext cx="2895840" cy="26668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175284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218960" y="1143000"/>
            <a:ext cx="7715160" cy="54100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ic examination of clinical material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utum, le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athological examination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ast for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causative agent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logical methods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ID, CFT &amp;  ELI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s: Amphotericin B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man: Itraconazo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 handling of infected anim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from dog bites &amp; avoiding accidental inocul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contamination of open woun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and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1" name="Picture 4" descr="C:\Users\user\Desktop\5b9d47d33c00004c000a1676.jpeg"/>
          <p:cNvPicPr/>
          <p:nvPr/>
        </p:nvPicPr>
        <p:blipFill>
          <a:blip r:embed="rId1"/>
          <a:stretch/>
        </p:blipFill>
        <p:spPr>
          <a:xfrm>
            <a:off x="6880320" y="4114800"/>
            <a:ext cx="1931760" cy="1600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Fun With Microbiology (What's Buggin' You?): Blastomyces dermatitidis"/>
          <p:cNvPicPr/>
          <p:nvPr/>
        </p:nvPicPr>
        <p:blipFill>
          <a:blip r:embed="rId2"/>
          <a:stretch/>
        </p:blipFill>
        <p:spPr>
          <a:xfrm>
            <a:off x="6881760" y="2208240"/>
            <a:ext cx="1905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4508640" cy="792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Coccidioidomyc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142640"/>
            <a:ext cx="7499520" cy="52578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ccidioides immit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/as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ada”s Disease, San joaquin Valley fever, Desert fe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hasic fungus: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ycelium and spherule for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rimarily a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iratory disea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 animals, such as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ts, horses, pigs, sheep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t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other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distrib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mited to</a:t>
            </a:r>
            <a:r>
              <a:rPr b="0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America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a soil as a saprophyte in arid &amp; semi arid reg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into the body of the  host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ugh inhal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cutaneous infections may also occur due to contamination of wou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Coccidioides immitis, cause of coccidioidomycosis, aka Valley ..."/>
          <p:cNvPicPr/>
          <p:nvPr/>
        </p:nvPicPr>
        <p:blipFill>
          <a:blip r:embed="rId1"/>
          <a:stretch/>
        </p:blipFill>
        <p:spPr>
          <a:xfrm>
            <a:off x="6858000" y="190512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Photomicrographs of C. immitis strain RS mycelium and spherules ..."/>
          <p:cNvPicPr/>
          <p:nvPr/>
        </p:nvPicPr>
        <p:blipFill>
          <a:blip r:embed="rId2"/>
          <a:srcRect l="38701" t="0" r="34685" b="6595"/>
          <a:stretch/>
        </p:blipFill>
        <p:spPr>
          <a:xfrm>
            <a:off x="6858000" y="327672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066680"/>
            <a:ext cx="7499520" cy="55627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Asymptomatic infection/ acute  dissemian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nical signs: Cough, diarrhoea, poor condition, loss of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&amp; fever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s generally benign: limited to </a:t>
            </a:r>
            <a:r>
              <a:rPr b="1" lang="en-US" sz="22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bronch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mediastinal lymph no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Rarely</a:t>
            </a:r>
            <a:r>
              <a:rPr b="0" lang="en-US" sz="20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: lungs, submaxillary &amp; retrophryngeal lymph n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5" descr="Coccidioidomycosis: A Southwestern Hazard - Whole Dog Journal"/>
          <p:cNvPicPr/>
          <p:nvPr/>
        </p:nvPicPr>
        <p:blipFill>
          <a:blip r:embed="rId1"/>
          <a:stretch/>
        </p:blipFill>
        <p:spPr>
          <a:xfrm>
            <a:off x="3809880" y="4495680"/>
            <a:ext cx="2362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434960" y="914040"/>
            <a:ext cx="749952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orad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bation perio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-4 wk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cases: Asymptomatic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diagnosed by Intradermal test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ca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enza like sympto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944640" indent="-343080" algn="just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p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rong &amp; pleuri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ity rate: High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compromis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s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fection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944640" indent="-34308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localization is th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44640" indent="-34308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: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ruciform granulom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ually on face), erythematous plaques &amp; nodu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44640" indent="-34308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menningi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44640" indent="-343080" algn="just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ningi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Life"/>
          <p:cNvPicPr/>
          <p:nvPr/>
        </p:nvPicPr>
        <p:blipFill>
          <a:blip r:embed="rId1"/>
          <a:stretch/>
        </p:blipFill>
        <p:spPr>
          <a:xfrm>
            <a:off x="1905120" y="1906560"/>
            <a:ext cx="2600280" cy="20574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5" name="Picture 4" descr="Coccidioidomycosis and the skin: a comprehensive review"/>
          <p:cNvPicPr/>
          <p:nvPr/>
        </p:nvPicPr>
        <p:blipFill>
          <a:blip r:embed="rId2"/>
          <a:stretch/>
        </p:blipFill>
        <p:spPr>
          <a:xfrm>
            <a:off x="5334120" y="2009880"/>
            <a:ext cx="246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and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18960" y="1143000"/>
            <a:ext cx="7715160" cy="51055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i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tion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logical examination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issu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dermal sensitivity tes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cidiodin (mycelial phase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erulin (parasitic phase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gical tes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FT &amp;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diffusion test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 B, ketoconazole and itraconazole are usefu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voiding exposure to dusty environm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f wounds while handling infected animal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: Formalin inactivated spherule: trial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8" name="Picture 5" descr="Histopathological Diagnosis of Fungal Infections of 21st century"/>
          <p:cNvPicPr/>
          <p:nvPr/>
        </p:nvPicPr>
        <p:blipFill>
          <a:blip r:embed="rId1"/>
          <a:srcRect l="0" t="7622" r="51102" b="0"/>
          <a:stretch/>
        </p:blipFill>
        <p:spPr>
          <a:xfrm>
            <a:off x="6248520" y="1523880"/>
            <a:ext cx="2333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176544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47560" y="990360"/>
            <a:ext cx="7497720" cy="5638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invade lungs then are disseminated to other vital organs in the bod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s: similar to thos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n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ughing, sneezing, nasal discharge and fever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placentitis leading t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or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ffaloes, mares &amp; sow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oul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/ chronic pulmonary affecting initially bronchi and later  other vital organ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rds  show loss of condition, rapid breathing, diarrhoea, fever and restlessne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sporadic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ily involves lungs with subsequent dissemination to other orga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 usually indicate  the existence of respiratory inf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18960" y="1066680"/>
            <a:ext cx="7715160" cy="5486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monstration of fungi in tissues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the causative ag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gical tes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570920" y="342900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actophenol Cotton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http://1.bp.blogspot.com/-_doAikoMH0o/Tfp-bUyLmNI/AAAAAAAAA-M/TTxSAZ9_aAY/s400/IMAG0971.jpg"/>
          <p:cNvPicPr/>
          <p:nvPr/>
        </p:nvPicPr>
        <p:blipFill>
          <a:blip r:embed="rId1"/>
          <a:stretch/>
        </p:blipFill>
        <p:spPr>
          <a:xfrm>
            <a:off x="2057400" y="46483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5078160" y="56386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. Fumigat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038.jpg                                                        000222B9Macintosh HD                   B191BFFC:"/>
          <p:cNvPicPr/>
          <p:nvPr/>
        </p:nvPicPr>
        <p:blipFill>
          <a:blip r:embed="rId2"/>
          <a:stretch/>
        </p:blipFill>
        <p:spPr>
          <a:xfrm>
            <a:off x="1981080" y="2819520"/>
            <a:ext cx="2090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Treatment, Prevention and Contro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 &amp; itraconazole (in man the success rates with these agents vari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properly processed mould-free feed and litter to the animal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 disposal: contaminated litter &amp; disinfection of animal sheds, poultry pens and equip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 farm workers should avoid exposure to contaminated mater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283212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Candidia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42640" y="1066320"/>
            <a:ext cx="7791480" cy="57913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 known a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iliasi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us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mostly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dida albican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ccasionally by other species of the gen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iasis occurs as a systemic/ as a cutaneous infe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for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inly affects man but is rare 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mic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Man and a wide variety of animals (chickens, turkeys, ducks, pigeons, cattle, sheep, dogs, cats, buffaloes &amp; many oth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2" descr="Image result for colony characteristics of candida albicans in SDA"/>
          <p:cNvPicPr/>
          <p:nvPr/>
        </p:nvPicPr>
        <p:blipFill>
          <a:blip r:embed="rId1"/>
          <a:stretch/>
        </p:blipFill>
        <p:spPr>
          <a:xfrm>
            <a:off x="2666880" y="4114800"/>
            <a:ext cx="4977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321336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Epidemiolog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inhabitant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us membran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an &amp; animals beside air and soi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ay result from the endogenous fungi in the predisposed hos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disposing factor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ed administr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road-spectrum antibiotics &amp; corticosteroi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 immun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ue to other diseases, such as HIV infection (AIDS) &amp; deficiencies 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betes, obesity, chronic alcoholism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conditio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isture, occlusion, maceration or continual immersion in water) can predispose man to cutaneous candidia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168912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mmals, the disease affects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estive tra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ternal organs, skin, or other parts of the b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y diarrhoea,  anorexia, dehydration, prostration, and dea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pneumonia in cattle has also been repor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i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st cases 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digestiv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t is involved (particularly in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rds show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atis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less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feat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appet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dranjayvet@gmail.com</cp:lastModifiedBy>
  <dcterms:modified xsi:type="dcterms:W3CDTF">2020-04-21T06:51:22Z</dcterms:modified>
  <cp:revision>54</cp:revision>
  <dc:subject/>
  <dc:title>Slide 1</dc:title>
</cp:coreProperties>
</file>