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919B-61CE-4F8A-9D9F-BF7F4137F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Endoscopy" TargetMode="External"/><Relationship Id="rId2" Type="http://schemas.openxmlformats.org/officeDocument/2006/relationships/hyperlink" Target="https://en.wikipedia.org/wiki/Biopsy" TargetMode="External"/><Relationship Id="rId3" Type="http://schemas.openxmlformats.org/officeDocument/2006/relationships/hyperlink" Target="https://en.wikipedia.org/wiki/PAS_stain" TargetMode="External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, gastrointestinal, and esophageal candidiasis require an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endoscop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o diagn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graph of esophageal candidiasis showing hyphae,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biops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men,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PAS s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D29E-0092-42E3-B9C7-328BE904E5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2F9D-4E13-461E-B706-294F3D24E5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FF7-F231-4D89-BF68-EE46B95D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924-A6E7-4E8F-A69D-EA9C6019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C31-FCFB-49B4-AB51-08D273DB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57B-8B5F-45F3-81F1-4C0A46CF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B166-9D43-4A77-918A-E04D17D5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9BE7-44ED-45AB-9051-DAEC67C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36A7-F5DB-4F8D-9FD0-CB3BF988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6558-1F99-4E3F-AF74-61696D5C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1C28-2F42-4CD9-9291-F57C4A3D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32A8-0CD2-4243-9A6A-B561A9DC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CBFE-74D9-4A4E-8281-ACC19D55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273-F1E8-46D0-A5CA-0E71C6E9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C98C-4EE9-4BCB-890E-E8BD7383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673D-BCBA-456D-81FC-518D2439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DDDB-2029-4C6D-83A6-70E7DE48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0427-5F55-47E4-8831-7864FFE7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E8A6-F159-480A-9A32-7E8A8285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13BF-9E97-4AF8-8126-BA98A37E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1B7F-6C6C-44FF-B8E0-97278848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41BD-CCB8-49E5-AE8E-443CAD96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8F7A-02D9-4B2E-8539-4D535873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C291-68EF-421B-81DE-B16DF1AD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CFE-D99C-4071-ABF3-D7F87A29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A995-3BCD-4FEF-B6F9-D9C26857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B586-D94C-4BE7-BCA0-4F377356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FC03-98DB-47CC-A3AD-8F59117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8763-A327-439B-BA7A-0ECBD46C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A130-B75B-42D4-9077-28C71728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89D1-4FF0-417B-A1D7-DF6722FA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AC9C-56B7-4B5D-9224-BEE04394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4B0B-BD65-4731-B014-8770DA7D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E51E-9BFE-4BFD-AF26-D39BEDD8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D6857-0FB7-4151-98A2-A097F8E7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D0B-62BD-4F7A-A5B6-08EABF1B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9C31-4F15-4740-810F-87EF4C5C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9C6D-AB03-427F-AE71-45F7DFB9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DA0B-6E45-404D-8944-EDD46ADB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94586-F3FE-4C86-B16B-C40F5ABE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6940E-94EC-4329-A849-5326BB90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7D6BA-934F-46BE-9CDC-1C13E14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33AE-2D6A-47FE-9BCE-830D7451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375D-55CC-4743-98A0-37739175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EDB1-29A5-40D4-B947-08A8A0E0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B9AB0-0072-4DF4-8E87-D98CEA85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E40-6C29-44BD-9379-67B9F587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620B9-5CF0-4B4F-A42C-907FF489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3A5FD-E45E-478F-AB45-D908AABA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CB85E-20D5-4CD0-880F-338D30D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9B9C1-2713-4DFA-AC83-E38F5696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8C4A8-320A-4D9F-A691-B642283E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C47AE-456F-42F2-8538-766657C8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5DFFC-6282-42A8-967D-06D783D8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7E490-0075-4D94-9D66-0D3B1F4F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2AD6D-81F0-49F3-B2A6-53C6E210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BE283-31A8-4ABF-BEB6-AF80A5F4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B00-3E58-4E45-9920-AE1AD590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072AE-BFA1-4433-9769-836BD6E7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F75BA-606F-4D0F-9458-BC48F90B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90A33-8373-4E12-9C74-97E27ED6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7A1BF-EB4A-4D0D-ADEB-8CF6357F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D9029-E1A3-42A2-BBD0-A20DEF83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F6D00-08E8-40C3-830B-6AD74293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0E83-9338-4456-A6BF-4EC69738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68A57-3E81-45EC-86E3-5BAD1E30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A0C65-D41B-41FF-A94E-7FBE1E4A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A826-A28E-4FE7-803A-478DDE58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1F4-BFB5-49FF-9467-61701705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60EF2-B74A-4F6A-9AEA-D54C4FFC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CA672-7D18-4C10-9067-CE4EED2E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4F84E-EC38-453A-B65C-BB6FD28C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C5377-7FAB-4E7A-BC5E-37107ACD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0BA0C-01F2-4767-B9A7-AD368544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BBC5A-082C-49C4-8D3B-BD571BF4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5A0FB-6347-4449-8C76-B1E09140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06DE1-7C5B-4B3C-956C-DFB950B5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EAE14-0A10-4926-AE49-EAD59C31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762DD-0A6C-4B4C-8959-A34B9BBA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1E4-CF64-4542-9A46-22F274D2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22C60-D26F-43A4-B243-B8F17237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6806C-C8C7-4B78-8C7E-0154F67D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137AA-FE89-4E19-9DAE-8EDBF5E1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61854-DB4A-4D41-8109-6F45A770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F53AE-5879-4021-A716-D262B899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909-A49E-4323-BC9A-C9A6C2D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11A3-E9F8-4139-828D-68D01F90DDB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32BE-A040-4801-B836-FA528B476EB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070C-C236-4B85-9F23-63D7F26DA3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E3BA-2604-4F57-99F8-DF9D67F3834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B33B-98AD-4B99-B363-787D0A72447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CDFA-E3CB-4072-ABC2-AE2D3D4260F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3700-D7D9-413F-BAE6-A4E0F2B83C2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File:Candida_albicans_PHIL_3192_lores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Content Placeholder 2"/>
          <p:cNvGrpSpPr/>
          <p:nvPr/>
        </p:nvGrpSpPr>
        <p:grpSpPr>
          <a:xfrm>
            <a:off x="1359000" y="2651040"/>
            <a:ext cx="7613640" cy="3121200"/>
            <a:chOff x="1359000" y="2651040"/>
            <a:chExt cx="7613640" cy="3121200"/>
          </a:xfrm>
        </p:grpSpPr>
        <p:pic>
          <p:nvPicPr>
            <p:cNvPr id="32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359000" y="2651040"/>
              <a:ext cx="761364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434960" y="2971800"/>
              <a:ext cx="746784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T-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8260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‘</a:t>
              </a: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oonotic disease’</a:t>
              </a:r>
              <a:endParaRPr b="0" lang="en-US" sz="67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8260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redit Hours-3+1)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Picture 14" descr="Our Clients | Jivesna Tech"/>
          <p:cNvPicPr/>
          <p:nvPr/>
        </p:nvPicPr>
        <p:blipFill>
          <a:blip r:embed="rId2"/>
          <a:stretch/>
        </p:blipFill>
        <p:spPr>
          <a:xfrm>
            <a:off x="1434960" y="339840"/>
            <a:ext cx="1828800" cy="1842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6" descr="Bihar Veterinary College - Wikipedia"/>
          <p:cNvPicPr/>
          <p:nvPr/>
        </p:nvPicPr>
        <p:blipFill>
          <a:blip r:embed="rId3"/>
          <a:stretch/>
        </p:blipFill>
        <p:spPr>
          <a:xfrm>
            <a:off x="7385040" y="339840"/>
            <a:ext cx="15177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434960" y="1219320"/>
            <a:ext cx="7499520" cy="50292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may involve mucous membranes, skin, nails and internal organs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nical signs vary according to the parts affec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forms of the disease include pulmonary conditions, endocarditis, septicaemia, and meningit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168912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5" name="Picture 2" descr="Image result for oral candidiasis in infants"/>
          <p:cNvPicPr/>
          <p:nvPr/>
        </p:nvPicPr>
        <p:blipFill>
          <a:blip r:embed="rId1"/>
          <a:stretch/>
        </p:blipFill>
        <p:spPr>
          <a:xfrm>
            <a:off x="1981080" y="4114800"/>
            <a:ext cx="2019600" cy="1905120"/>
          </a:xfrm>
          <a:prstGeom prst="rect">
            <a:avLst/>
          </a:prstGeom>
          <a:ln w="0">
            <a:noFill/>
          </a:ln>
        </p:spPr>
      </p:pic>
      <p:pic>
        <p:nvPicPr>
          <p:cNvPr id="356" name="Content Placeholder 5" descr="Image result for veginal candidiasis"/>
          <p:cNvPicPr/>
          <p:nvPr/>
        </p:nvPicPr>
        <p:blipFill>
          <a:blip r:embed="rId2"/>
          <a:stretch/>
        </p:blipFill>
        <p:spPr>
          <a:xfrm>
            <a:off x="4495680" y="4267080"/>
            <a:ext cx="1900440" cy="16002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7" name="Picture 4" descr="Image result for invasive candidiasis in human"/>
          <p:cNvPicPr/>
          <p:nvPr/>
        </p:nvPicPr>
        <p:blipFill>
          <a:blip r:embed="rId3"/>
          <a:stretch/>
        </p:blipFill>
        <p:spPr>
          <a:xfrm>
            <a:off x="6781680" y="4114800"/>
            <a:ext cx="196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259056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</a:t>
            </a:r>
            <a:r>
              <a:rPr b="1" lang="en-US" sz="3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3000" y="685800"/>
            <a:ext cx="7639200" cy="60199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microscopic &amp; cultural examina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clinical material and by serological test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Content Placeholder 3" descr="https://upload.wikimedia.org/wikipedia/commons/thumb/d/da/Candida_albicans_PHIL_3192_lores.jpg/220px-Candida_albicans_PHIL_3192_lores.jpg">
            <a:hlinkClick r:id="rId1"/>
          </p:cNvPr>
          <p:cNvPicPr/>
          <p:nvPr/>
        </p:nvPicPr>
        <p:blipFill>
          <a:blip r:embed="rId2"/>
          <a:srcRect l="13091" t="0" r="0" b="0"/>
          <a:stretch/>
        </p:blipFill>
        <p:spPr>
          <a:xfrm>
            <a:off x="1752480" y="327672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4"/>
          <p:cNvSpPr/>
          <p:nvPr/>
        </p:nvSpPr>
        <p:spPr>
          <a:xfrm>
            <a:off x="4648320" y="388620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to cream-coloured smooth, glabrous, yeast-lik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s://upload.wikimedia.org/wikipedia/commons/thumb/d/d5/Esophageal_candidiasis_%282%29_PAS_stain.jpg/220px-Esophageal_candidiasis_%282%29_PAS_stain.jpg"/>
          <p:cNvPicPr/>
          <p:nvPr/>
        </p:nvPicPr>
        <p:blipFill>
          <a:blip r:embed="rId3"/>
          <a:stretch/>
        </p:blipFill>
        <p:spPr>
          <a:xfrm>
            <a:off x="1828800" y="5105520"/>
            <a:ext cx="2362320" cy="1530360"/>
          </a:xfrm>
          <a:prstGeom prst="rect">
            <a:avLst/>
          </a:prstGeom>
          <a:ln w="0">
            <a:noFill/>
          </a:ln>
        </p:spPr>
      </p:pic>
      <p:pic>
        <p:nvPicPr>
          <p:cNvPr id="363" name="Straight Arrow Connector 6" descr=""/>
          <p:cNvPicPr/>
          <p:nvPr/>
        </p:nvPicPr>
        <p:blipFill>
          <a:blip r:embed="rId4"/>
          <a:stretch/>
        </p:blipFill>
        <p:spPr>
          <a:xfrm>
            <a:off x="3462480" y="6156360"/>
            <a:ext cx="1645920" cy="446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5193360" y="6095880"/>
            <a:ext cx="153864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gal cell w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https://upload.wikimedia.org/wikipedia/commons/thumb/3/38/Vaginal_wet_mount_of_candidal_vulvovaginitis.jpg/220px-Vaginal_wet_mount_of_candidal_vulvovaginitis.jpg"/>
          <p:cNvPicPr/>
          <p:nvPr/>
        </p:nvPicPr>
        <p:blipFill>
          <a:blip r:embed="rId5"/>
          <a:stretch/>
        </p:blipFill>
        <p:spPr>
          <a:xfrm>
            <a:off x="1752480" y="1676520"/>
            <a:ext cx="2210040" cy="1523880"/>
          </a:xfrm>
          <a:prstGeom prst="rect">
            <a:avLst/>
          </a:prstGeom>
          <a:ln w="0">
            <a:noFill/>
          </a:ln>
        </p:spPr>
      </p:pic>
      <p:pic>
        <p:nvPicPr>
          <p:cNvPr id="366" name="Straight Arrow Connector 18" descr=""/>
          <p:cNvPicPr/>
          <p:nvPr/>
        </p:nvPicPr>
        <p:blipFill>
          <a:blip r:embed="rId6"/>
          <a:stretch/>
        </p:blipFill>
        <p:spPr>
          <a:xfrm>
            <a:off x="3614760" y="2193840"/>
            <a:ext cx="1573200" cy="5986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1"/>
          <p:cNvSpPr/>
          <p:nvPr/>
        </p:nvSpPr>
        <p:spPr>
          <a:xfrm>
            <a:off x="5114880" y="2438280"/>
            <a:ext cx="19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gal pseudohyph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Treatment, Prevention &amp; contro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&amp; oesophageal candidias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ous azole formulations  (Ketoconazole fluconazole and itraconazol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ing the predisposing facto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statin can be used for control and prophylactic 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600" y="380520"/>
            <a:ext cx="2984760" cy="8384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Histoplasmosi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294920"/>
            <a:ext cx="7499520" cy="49532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plasma capsulat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K/as-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arling dise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5876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averan disease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Ohio valley disea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eticuloendothelial cytomycosis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ingo Mario fe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ily a pulmonary &amp; occasionally a fatal disseminated disease in man and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 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the most commonly affected anim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s have been recorded in horses, cattle, and pigs but the disease is rare in farm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176508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320" y="990720"/>
            <a:ext cx="7867800" cy="58672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nin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cough, diarrhoea, fever &amp; loss of weight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vanced stages: hepatomegaly, spleenomegaly, ulcerations of the buccal mucosa &amp; nasal mucos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0% of the cases the infec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0% (depending upon the organs involved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for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ly flu-like symptoms are observed but in more severe forms other symptoms may be associa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seminates 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epatomegaly, spleenomegaly, anaemia, leukopenia, &amp;  weight loss occur. Such a disease may become fatal if not promptly attended to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me cases: pulmonary invasion may occur causing cavitary histoplasm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121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75" name="Rectangle 5"/>
          <p:cNvSpPr/>
          <p:nvPr/>
        </p:nvSpPr>
        <p:spPr>
          <a:xfrm>
            <a:off x="0" y="685800"/>
            <a:ext cx="4572000" cy="18730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Indian patients, skin and muco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the most commonly invol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s, with or  without syste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ol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8dc76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6" descr="histoplasmosis-retina"/>
          <p:cNvPicPr/>
          <p:nvPr/>
        </p:nvPicPr>
        <p:blipFill>
          <a:blip r:embed="rId2"/>
          <a:stretch/>
        </p:blipFill>
        <p:spPr>
          <a:xfrm>
            <a:off x="4572000" y="3048120"/>
            <a:ext cx="457200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77" name="Text Box 7"/>
          <p:cNvSpPr/>
          <p:nvPr/>
        </p:nvSpPr>
        <p:spPr>
          <a:xfrm>
            <a:off x="0" y="3708360"/>
            <a:ext cx="4572000" cy="31809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 small fraction of individuals form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car tissue in the retina many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fter the original histoplasm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f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carring can obscure the mac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d  to loss of central 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irst signs -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  <a:ea typeface="Arial"/>
              </a:rPr>
              <a:t>small “histo spo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457200" y="3276720"/>
            <a:ext cx="365760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  <a:ea typeface="Arial"/>
              </a:rPr>
              <a:t>OCCULAR HISTOPLASM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1" descr=""/>
          <p:cNvPicPr/>
          <p:nvPr/>
        </p:nvPicPr>
        <p:blipFill>
          <a:blip r:embed="rId3"/>
          <a:srcRect l="0" t="13637" r="0" b="0"/>
          <a:stretch/>
        </p:blipFill>
        <p:spPr>
          <a:xfrm>
            <a:off x="4572000" y="380880"/>
            <a:ext cx="4572000" cy="1447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295280" y="1143000"/>
            <a:ext cx="7639200" cy="51055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 of fungus/ Isolation/ Serological te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plasmin skin te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-Immunoasssay- Detection of Histoplasma antigen in patients ur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251460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2" name="Picture 10" descr="arq01fig01a"/>
          <p:cNvPicPr/>
          <p:nvPr/>
        </p:nvPicPr>
        <p:blipFill>
          <a:blip r:embed="rId1"/>
          <a:stretch/>
        </p:blipFill>
        <p:spPr>
          <a:xfrm>
            <a:off x="1717560" y="2895480"/>
            <a:ext cx="3367080" cy="3429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383" name="Picture 8" descr="arq01fig01b"/>
          <p:cNvPicPr/>
          <p:nvPr/>
        </p:nvPicPr>
        <p:blipFill>
          <a:blip r:embed="rId2"/>
          <a:srcRect l="0" t="0" r="0" b="20295"/>
          <a:stretch/>
        </p:blipFill>
        <p:spPr>
          <a:xfrm>
            <a:off x="5334120" y="2743200"/>
            <a:ext cx="3043080" cy="35053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Treatment, Prevention &amp; control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oconazole, itraconazole and amphotericin B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voiding exposure to du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pecially at the sites of habitats of bats and  birds, like pigeons &amp; chicke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cleani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reas, it is advisable to wet the surface, decontaminate the are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formali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wear protective mask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397512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Cryptococcosis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218960" y="914040"/>
            <a:ext cx="7715160" cy="5715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yptococcus neoforma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ffects man and a  variety of mam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onyms 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rulosis, Torula meningitis, European Blastomycosis,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sse-Buchke’s disease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habit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gestive tract of bi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as a saprophy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soil, nests &amp; other sites contaminated with excreta of pigeons, parrots and canari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ection occurs throug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halation &amp; sometimes through direct inoculation of the sk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ttle, buffaloes &amp; goa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mmary glands may be infected due to entry of the organism through teat canal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3427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transmissi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one host to anoth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990720" y="837720"/>
            <a:ext cx="7943760" cy="57913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 fontScale="99000"/>
          </a:bodyPr>
          <a:p>
            <a:pPr marL="361080" indent="-27972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: generalised form or as a granulomatous meningoencephalitis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ogs, cats &amp;  hor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veral cases of meningitis have been recorded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ttle and buffalo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mmary tissue and adjacent lymph nodes are most commonly involved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ealthy persons: not cause disease 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immunocompromised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s: localised infection develop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me case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Disseminate to other organs like viscera, skin and  bone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s of severe immunopathies  (like AIDS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fection may reach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nervous system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 of the disease vary depending upon the organs affected.   It may become lethal in severe case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176544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Content Placeholder 2"/>
          <p:cNvGrpSpPr/>
          <p:nvPr/>
        </p:nvGrpSpPr>
        <p:grpSpPr>
          <a:xfrm>
            <a:off x="2139840" y="2736720"/>
            <a:ext cx="5632560" cy="1311480"/>
            <a:chOff x="2139840" y="2736720"/>
            <a:chExt cx="5632560" cy="1311480"/>
          </a:xfrm>
        </p:grpSpPr>
        <p:pic>
          <p:nvPicPr>
            <p:cNvPr id="33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139840" y="2736720"/>
              <a:ext cx="56325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209680" y="2895480"/>
              <a:ext cx="5486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temic mycos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Documents and Settings\Administrator\Desktop\crypto\figures\r_cryptococcosis_w300.jpg"/>
          <p:cNvPicPr/>
          <p:nvPr/>
        </p:nvPicPr>
        <p:blipFill>
          <a:blip r:embed="rId1"/>
          <a:stretch/>
        </p:blipFill>
        <p:spPr>
          <a:xfrm>
            <a:off x="1523880" y="380880"/>
            <a:ext cx="3657600" cy="24526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6"/>
          <p:cNvSpPr/>
          <p:nvPr/>
        </p:nvSpPr>
        <p:spPr>
          <a:xfrm>
            <a:off x="6106680" y="27432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taneou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>
            <a:lum bright="10000"/>
          </a:blip>
          <a:srcRect l="48302" t="16324" r="11069" b="48194"/>
          <a:stretch/>
        </p:blipFill>
        <p:spPr>
          <a:xfrm>
            <a:off x="1219320" y="312408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371600" y="1066680"/>
            <a:ext cx="7562880" cy="5639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sntration of yeast cells in the clinical specimens &amp;  their isolation are useful in diagn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ogical diagnosis- MRI, CT sca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fungal chemotherapy is recommended to avoid spread of the disea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otericin B, ketoconazole, fluconazole and itraconazo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 measures are similar to those  described for histoplasm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63920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Treatment, Prevention &amp; control</a:t>
            </a: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rcRect l="7048" t="61159" r="38248" b="5684"/>
          <a:stretch/>
        </p:blipFill>
        <p:spPr>
          <a:xfrm>
            <a:off x="6553080" y="1828800"/>
            <a:ext cx="17938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2832120" cy="71604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Zygomycosi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066680"/>
            <a:ext cx="7499520" cy="548640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k/as mucormycosis or phycomyco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 is caused by a variety of fungi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idia corymbifera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obolus coronatus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mucor pusillu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 arrhiz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 microspor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stic pathoge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rophytes &amp; grow in soil/ on organic matter in n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disease : In man, domestic animals &amp; oth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entry: Inhalation, ingestion, and inoculation of the organis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ection is not transmissible from host to ho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142640" y="914040"/>
            <a:ext cx="7791480" cy="571500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t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omatous lesions in mesenteric &amp; mediastinal L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to other organs like kidney, liver, and brai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igs &amp; young cal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mycosis of the alimentary canal is common like, gastroenteritis, vomition, diarrhoea, &amp; ulc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may  assume different form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nocerebral  subcutaneou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form causing oedema and disfiguring of fac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nocerebral zygomycosis is more common in which infection of the sinuses takes pla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ly spreading to brain causing death in two-thirds of the ca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175248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218960" y="1143000"/>
            <a:ext cx="7715160" cy="510552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ng of organisms in clinical material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solation and identification of the ag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assium iodide, amphotiricin B and ketoconazo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per sulphat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rinking water is effective in controlling the infection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the use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ldy ha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feed may help in prevention of the disease in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71604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Treatment, Prevention and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3060720" cy="7156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Blastomycosi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18960" y="1066680"/>
            <a:ext cx="7715160" cy="556272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astomyces dermatitidis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ffects mainly man and dogs, and occasionally ca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ection is contracted mainl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inhala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por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142640" y="914040"/>
            <a:ext cx="7791480" cy="571500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o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s dep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ype of disease (localized disseminated) 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sympto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yrexia, cough, dyspnoea, skin lesions &amp;  debilit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ion of ey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ad to blindnes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disseminat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ones and joints to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en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similar manifest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sporadic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 may occur in systemic form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ing primarily lungs &amp; dissemination to other organs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bones, joints and sk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 form with mild symptoms and affection of ski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175248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218960" y="1143000"/>
            <a:ext cx="7715160" cy="54100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copic examination of clinical material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 of causative ag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logical methods: agar-gel immunodiffusion &amp;  ELIS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ogs: Amphotericin B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 man: Itraconazo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ful handling of infected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ty from dog bites &amp; avoiding accidental inocul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contamination of open woun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71604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Treatment, Prevention and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4508640" cy="792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Coccidioidomycosi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ccidioides immit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rimarily a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iratory diseas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man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estic animals, such as, dogs, cats, horses, pigs, sheep, cattle and other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ganism is  asoil as a saprophy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 into the body of the  host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ugh inhal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cutaneous infections may also occur due to contamination of woun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175248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066680"/>
            <a:ext cx="7499520" cy="518184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Asymptomatic infection/ acute  dissemian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nical signs: Cough, diarrhoea, poor condition, loss of 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&amp; fever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ttle: disease is generally benig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ection 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orad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 as an asymptomatic infection / respiratory disea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infection- Result in visceral or meningeal disea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2832120" cy="56376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Aspergillo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42640" y="914040"/>
            <a:ext cx="7791480" cy="5715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tic inf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organs of the body are infec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usative agents belongs to the genu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fumigatu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the most common speci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pecies of importance ar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flav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nidulan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nig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terre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occurs in man &amp; a variety of animals like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tt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hee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igs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o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ors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oult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ganism is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biquito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rce of infe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xogenous fungus present in soil or organic materi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 of organis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imarily through the respiratory tr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2" descr="http://www.pfdb.net/photo/mirhendi_h/box020909/standard/a_fumigatus_s.jpg"/>
          <p:cNvPicPr/>
          <p:nvPr/>
        </p:nvPicPr>
        <p:blipFill>
          <a:blip r:embed="rId1"/>
          <a:stretch/>
        </p:blipFill>
        <p:spPr>
          <a:xfrm>
            <a:off x="4419720" y="2971800"/>
            <a:ext cx="1698480" cy="121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71604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Treatment, Prevention and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218960" y="1143000"/>
            <a:ext cx="7715160" cy="510552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cop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logical examina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issu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dermal sensitivity te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n extract of the fungus (coccidiodin) has been us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gical te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FT &amp; immunodiffusion tes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otericin B, ketoconazole and itraconazole are usefu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voiding exposure to dusty environmen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tion of wounds while handling infected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176544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47560" y="990360"/>
            <a:ext cx="7497720" cy="5638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invade lungs then are disseminated to other vital organs in the bod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s: similar to thos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eumon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ughing, sneezing, nasal discharge and fever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placentitis leading to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or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ffaloes, mares &amp; sow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oul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/ chronic pulmonary affecting initially bronchi and later  other vital organ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rds  show loss of condition, rapid breathing, diarrhoea, fever and restlessne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sporadic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ily involves lungs with subsequent dissemination to other organ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s usually indicate  the existence of respiratory infe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</a:t>
            </a: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18960" y="1066680"/>
            <a:ext cx="7715160" cy="5486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monstration of fungi in tissues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 of the causative agen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logical tes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4570920" y="342900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actophenol Cotton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http://1.bp.blogspot.com/-_doAikoMH0o/Tfp-bUyLmNI/AAAAAAAAA-M/TTxSAZ9_aAY/s400/IMAG0971.jpg"/>
          <p:cNvPicPr/>
          <p:nvPr/>
        </p:nvPicPr>
        <p:blipFill>
          <a:blip r:embed="rId1"/>
          <a:stretch/>
        </p:blipFill>
        <p:spPr>
          <a:xfrm>
            <a:off x="2057400" y="46483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5078160" y="563868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. Fumigatu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S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" descr="038.jpg                                                        000222B9Macintosh HD                   B191BFFC:"/>
          <p:cNvPicPr/>
          <p:nvPr/>
        </p:nvPicPr>
        <p:blipFill>
          <a:blip r:embed="rId2"/>
          <a:stretch/>
        </p:blipFill>
        <p:spPr>
          <a:xfrm>
            <a:off x="1981080" y="2819520"/>
            <a:ext cx="2090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446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Treatment, Prevention and Contro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otericin &amp; itraconazole (in man the success rates with these agents varie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properly processed mould-free feed and litter to the animal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 disposal: contaminated litter &amp; disinfection of animal sheds, poultry pens and equipmen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 farm workers should avoid exposure to contaminated materi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283212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Candidiasi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142640" y="1066320"/>
            <a:ext cx="7791480" cy="57913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ly known as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iliasi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us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mostly by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dida albicans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ccasionally by other species of the gen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iasis occurs as a systemic/ as a cutaneous infec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 for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inly affects man but is rare in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mic for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Man and a wide variety of animals (chickens, turkeys, ducks, pigeons, cattle, sheep, dogs, cats, buffaloes &amp; many oth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2" descr="Image result for colony characteristics of candida albicans in SDA"/>
          <p:cNvPicPr/>
          <p:nvPr/>
        </p:nvPicPr>
        <p:blipFill>
          <a:blip r:embed="rId1"/>
          <a:stretch/>
        </p:blipFill>
        <p:spPr>
          <a:xfrm>
            <a:off x="2666880" y="4114800"/>
            <a:ext cx="4977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321336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Epidemiolog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inhabitant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us membran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an &amp; animals beside air and soi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may result from the endogenous fungi in the predisposed hos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disposing factors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ed administra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road-spectrum antibiotics &amp; corticosteroi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 immun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ue to other diseases, such as HIV infection (AIDS) &amp; deficiencies in m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disorder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betes, obesity, chronic alcoholism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condition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isture, occlusion, maceration or continual immersion in water) can predispose man to cutaneous candidia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1689120" cy="7160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in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mmals, the disease affects 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gestive tra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ternal organs, skin, or other parts of the bod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s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y diarrhoea,  anorexia, dehydration, prostration, and dea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pneumonia in cattle has also been repor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i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ost cases 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per digestiv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t is involved (particularly in 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o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rds show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atisfact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lessn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feath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appeti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dranjayvet@gmail.com</cp:lastModifiedBy>
  <dcterms:modified xsi:type="dcterms:W3CDTF">2020-04-11T07:02:37Z</dcterms:modified>
  <cp:revision>29</cp:revision>
  <dc:subject/>
  <dc:title>Slide 1</dc:title>
</cp:coreProperties>
</file>