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38.jpeg" ContentType="image/jpeg"/>
  <Override PartName="/ppt/media/image23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4.png" ContentType="image/png"/>
  <Override PartName="/ppt/media/image3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9.jpeg" ContentType="image/jpeg"/>
  <Override PartName="/ppt/media/image36.png" ContentType="image/png"/>
  <Override PartName="/ppt/media/image40.png" ContentType="image/png"/>
  <Override PartName="/ppt/media/image11.jpeg" ContentType="image/jpeg"/>
  <Override PartName="/ppt/media/image44.jpeg" ContentType="image/jpeg"/>
  <Override PartName="/ppt/media/image45.png" ContentType="image/png"/>
  <Override PartName="/ppt/media/image10.png" ContentType="image/png"/>
  <Override PartName="/ppt/media/image6.jpeg" ContentType="image/jpeg"/>
  <Override PartName="/ppt/media/image51.jpeg" ContentType="image/jpeg"/>
  <Override PartName="/ppt/media/image58.png" ContentType="image/png"/>
  <Override PartName="/ppt/media/image41.png" ContentType="image/png"/>
  <Override PartName="/ppt/media/image53.jpeg" ContentType="image/jpeg"/>
  <Override PartName="/ppt/media/image47.jpeg" ContentType="image/jpeg"/>
  <Override PartName="/ppt/media/image55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35.png" ContentType="image/pn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9.jpeg" ContentType="image/jpeg"/>
  <Override PartName="/ppt/media/image4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3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4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 type="sldNum" idx="4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EC0-34D0-435A-B69F-FD0DEC35E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ECC-C261-413E-902A-CCDD471FD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445-B72B-48D1-8775-735A0960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6D6-45F0-40EE-894D-CB135AE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28A0-A2BB-45E3-B233-8DBCDC30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B75A2-D535-4A4B-9FB3-79C09ADC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F59C8-CCB3-43A2-8A38-7CDA7C6B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B4E80-66FE-40B1-A5B6-9B3D2C0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11FDB-358F-433E-A8AC-43F2516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A0906-9EE3-4CA8-BD77-81BBB57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F114-7448-4CD6-BD3B-5EAE78E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6EF06-60DC-442F-B453-7EEF1D38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BAB5C-CBE1-40EA-AEAE-1D731013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D5FDD-A601-4B97-80CD-CA0B38EA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B51-BEA6-4CD0-B013-D4D975B5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90E78-2407-417F-B9A9-8217B23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B577E-E426-4F82-8886-F318330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BF06E-3F03-4858-9616-78F6DBE3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5260F-2E88-46A7-9A88-B457491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2B51A-219F-43E3-8B02-5CC5A348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61C79-9E73-4733-881A-5C8B4F43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528F4-24D0-455D-92EB-8CD0868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1286-9AE8-42EE-BF34-C9DFAD0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C70C-1019-46B5-A684-06F6FA79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3A9E6-B76B-4684-B940-361D871D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FAE-32E1-48A9-ADB0-A0EA58CE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82C3-8E9E-45EF-BED0-EB6423E8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83589-7BD4-4308-BD52-37D8EC6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35C5-6B7D-41C5-AB03-7697D5F0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F1784-1657-4C3D-BB45-C724243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90147-10ED-46A5-812D-72CE504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FC2F8-514A-463F-A565-F3728AC0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E61EB-420F-403B-84E7-15C6ADDF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EF1B-6C8E-4283-9C2C-13930E9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F8403-EF16-422E-A40A-416EB9C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5325F-AA46-4274-AE60-F317C83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15AC-82A3-43AB-AC33-98AC9E04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C1D76-968C-4229-877D-A544B0F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714C6-BFF0-4DAF-94E2-CF5D1E06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2620B-9902-46E9-B6CB-421BF226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EE18E-A7B6-4B8B-8D37-86B8707B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3D595-AE92-40A5-B30B-647900F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96229-FF60-4BFE-BE4B-0A792B7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7C526-48FF-4F1A-863A-16BB4C7F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9C8E-D990-4969-B89C-AEE133B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01373-D64A-40F7-9B8F-C870D01E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34941-B530-4E8A-B103-F76B33B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D0E5-29F0-47A5-9E0F-DD94470D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02D1-A32F-44BD-922F-CB8A662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4F384-6ED6-4AAA-B2D7-140BE9A1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CFE4A-912E-4DF9-A78B-BBFD45FF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190EF-9CC6-47BA-BEA1-3666DDBE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0F896-02AE-4CF7-A31D-EF92D9FF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A6FD6D-9CE2-4B24-812C-EB99563DCA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C833D0-56AD-4EC9-91FA-8947AC343F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8CDB8-9672-4591-818B-6942D680F47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454951-A8EB-4ED3-BD99-1153C23E90A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D93E48-A987-448B-A209-3D3C9515D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563-A931-4518-87A3-9205AF8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52161D-25B9-4BEA-929F-D548189C0B7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6E20C-99C4-44D0-A69B-F80755D5692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ABBB1F-904D-4774-8E47-0B8F0FB773A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36EBE6-2F92-412D-9B5F-4E3BD92A416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49B1B1-72AC-4ADF-A53C-03CD42C829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8C9B22-F6EE-490D-9BC3-04A52AFB2F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E89BE7-3672-4C1F-9B10-42318AC702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76FB-A95E-47EC-B39F-5ED54E28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E98-3F72-49F0-ACC3-038AD648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2831-4467-4891-98F7-4CC4145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C42-7AE4-4FAF-AA18-C232417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C13-5218-4940-8419-906D88EA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D720-F962-4B3E-8D4C-B3F0BEC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8530-EC2B-48AC-8DBD-CA7FA2F7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C085-BFC3-4EFB-8425-EEA00F34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4B63-12AF-443E-9A33-D7B46957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637C-6A2A-4203-BC14-1C58097C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119D-2B26-49BC-B153-57E96DBA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38D4-6807-495D-8B14-75E53F89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E1AE-C5FE-4BDC-8813-006E12C6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13B4-8CDA-4D04-8247-3EE3FD1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249A-9747-460A-A52F-A29B60E2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79F-4CFD-456F-8AAF-272ACED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2276-916A-4A99-8858-B81088B7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CB2D-0CAC-4C82-BD00-03EDEB4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FFFF-DE25-4FA3-92AA-D2E4FC4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98B0-4B29-4022-9D98-7A38395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2976-B51D-4692-90BF-D7E6099A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6221-E10A-47A7-A8B4-6DD3F50B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03D4-5E8A-44E4-BD1F-AD73FDB9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07F7-E03B-4A59-824B-249F928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6B615-85FC-4E61-ACE3-A044889A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BC71-3022-483B-8EDE-D86B29D7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F08-7E03-48AA-B688-0E07B74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7E49-5AAB-410D-B702-ED7AED9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238B-B2BA-4FA6-9975-58A5197B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A110-9209-4645-92C1-21DD3B1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C432-7BAB-4D90-8E51-7A7D248C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8A60-447B-4B3F-871F-9D7CE30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21CD-8E4A-46F7-A95A-2664B71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B4C3-C672-474A-9B4F-656223F8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7852-A05A-4BD7-B147-254DD4EE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2098-F65C-4F01-8F72-F35D7CB4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4961-2AF1-4E52-B377-DA56A201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E2D-AA2A-451E-93E0-4AB82A7F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BA9FA-34DA-4303-81AF-556719AC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0857-28FA-4268-88D3-98987559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2561-96A9-4BCE-876E-8AED0A9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D946-EDD6-4317-8FA5-340011DF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E20E-DF63-4C8A-926A-EAE3F0E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D075-4B39-4482-B3FA-5A3B753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6303E-86FC-4CE8-AE21-0419594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AE9A-1495-449C-B221-D4B3247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E3F2-48DF-47BE-95FB-8F6F79A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2F8C7-41D4-4FF5-B4DD-B9DFB3D4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7A3-5449-4938-AAE5-070DF48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B4AB-C6A6-48A1-A844-4972C0F2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543D4-1AB6-43BD-BE58-3E2261EC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F619-B246-4FEC-BD52-590A313D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ABFFC-EB8C-4E2A-94FD-0C81F83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D980-808F-4C92-9828-F54D99F9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B4A6-70B1-48A8-BBCE-79AB4C3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79BDB-20F9-4B9C-9686-104BD033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708A0-0230-4555-8408-0EE36D8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B90F3-5638-479C-AE3D-F9ED820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4A3AC-CFD0-45E1-A5A0-74A38315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D5C-A0E0-4D46-B5EC-5565E41A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79FC-5FC4-4754-AB1B-D5FDF91D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B871-E4CB-47B3-8FAC-B8536D48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9D3EE-9D51-47FB-A740-A276C722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BA1C-DC28-4C2A-BA35-8D969F1B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3C473-7712-420D-809B-A8E1DF83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2A47-0381-46CB-BB6C-4EB6870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CEC18-1462-4AE0-A33A-4654103A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3D6B-C478-4BED-A7FB-3AC4A6F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E0B1D-EC2C-460E-9AD3-CD4A82C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1EA0-981A-4AE0-9734-ED5B795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B81-4C2C-4170-8FCB-95F22B6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D625-E50C-41B8-A061-7AF0722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2FB0-9F6E-4F1A-B8C2-3608EE7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7062-9B19-405D-8B12-062ADEBB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1395-56AB-4D90-848D-B3DE5C01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845D-0501-47EA-9801-DE0007C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8D27E-0BF7-4380-8AE8-BC9F7A60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7161-DCAA-4BAA-AF3C-16C0AA9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7E13-8A4B-4A6F-B646-596918E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4DDA-23EA-4122-9DA6-D781756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B1F49-F6F6-4A3A-93ED-F51277B1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403-A5A3-49E6-B72B-E57B793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8391-17C1-44B4-A21C-1B6E70E8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90983-A555-4668-BF56-9BAD8F86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5333E-44B0-4D61-B409-DBC1940F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C30BC-AC1C-43FB-B8A6-0AB0CA09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6C45D-7ADD-4336-B313-FB403B1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72E4-8EFF-4349-9967-FB7523DC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A4E1D-464C-4F06-A088-13391EBF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EED5-1E21-4415-9325-6522D5E8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8D713-348A-4688-A82F-B706670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A6778-3A5F-46FE-8776-806B7C47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2296-9F87-4965-B650-9CFBDF17E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95EA-54E4-4E5E-B434-B3D8D89AD8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CA8-C9A0-480F-B1D4-EBE780D076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7AA2-AC56-492C-AB62-B84CFA7C6B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ftr" idx="3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8540-65AB-4BF9-8082-9A08E16EB2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035B-6A12-4356-A26C-D2E646D83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274-82A5-4FDF-B473-02D089ECE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B691-ED68-452A-AE8F-FA5AF26366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CEF7-08F5-40CE-9BD5-9DBF54AC3E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8419-FC3B-4CA1-B2D8-029AB928A2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6B91-FD74-47CA-BB46-C2EC53807E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4AD-E291-4C57-BD64-4C16699756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The McGraw-Hill Companies, Inc. Permission required for reproduction or display</a:t>
            </a:r>
            <a:r>
              <a:rPr b="0" lang="en-US" sz="1000" spc="-1" strike="noStrike">
                <a:solidFill>
                  <a:srgbClr val="00ffff"/>
                </a:solidFill>
                <a:latin typeface="Times New Roman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36E-157C-49B3-8F24-B52EC96075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IN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. Sonia Kuma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tt.Prof cum Jr.Scient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iry Microbi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GIDT,BAS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tna-80001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886D-4D76-4768-99D4-4DA43483D9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3" descr="C:\My Documents\My Pictures\fig2.3.jpg"/>
          <p:cNvPicPr/>
          <p:nvPr/>
        </p:nvPicPr>
        <p:blipFill>
          <a:blip r:embed="rId1"/>
          <a:stretch/>
        </p:blipFill>
        <p:spPr>
          <a:xfrm>
            <a:off x="457200" y="380880"/>
            <a:ext cx="8026560" cy="549144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2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CCB5-087F-4ABE-8A22-25FF158ED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" descr="C:\My Documents\My Pictures\fig2.4.jpg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ility of a lens to separate or distinguish small objects that are close toge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velength of light used is major factor in resolu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horter wavelength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greater resolu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5ACA-1F36-4681-9D89-083F2198D3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F5D-D7F9-4EAC-8E40-FECBD3C9A4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2" descr="C:\My Documents\My Pictures\table2.2.jpg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3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64646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6DF-FD12-4E1D-B346-FE28E814C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2" descr="C:\My Documents\My Pictures\fig2.5.jpg"/>
          <p:cNvPicPr/>
          <p:nvPr/>
        </p:nvPicPr>
        <p:blipFill>
          <a:blip r:embed="rId1"/>
          <a:stretch/>
        </p:blipFill>
        <p:spPr>
          <a:xfrm>
            <a:off x="533520" y="146844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EB6-9FD1-40E8-B21B-463FAE6D93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C:\My Documents\My Pictures\fig2.6.jpg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3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es a bright image of the object against a dark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observe living, unstained prepar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90FF-80CB-417C-A8CA-25ED2C9F2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E82-CB6B-4B5F-B266-6AAED09C93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C:\My Documents\My Pictures\fig2.7b.jpg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hances the contrast between intracellular structures having slight differences in refractive inde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llent way to observe living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216-2D24-4E4E-8797-00F373A53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5B9-3B5B-4F5B-98A9-EB66DE6BEC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" descr="C:\My Documents\My Pictures\fig2.9.jpg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The Study of Microbial Structure: Microscopy and Specimen Prepa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2D4-570D-4805-8FA0-E1974232DF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7C1-2529-4ADF-A826-E1B843A243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2" descr="C:\My Documents\My Pictures\fig2.10.jpg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3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s image by detecting differences in refractive indices and thickness of different parts of speci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llent way to observe living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47C9-D942-47D1-92CC-C19756F2C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oses specimen to ultraviolet, violet, or blue l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mens usually stained with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luorochro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ws a bright image of the object resulting from the fluorescent light emitted by the speci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223-2CD2-45CD-AE1D-F9A689233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FF7-8832-4362-9A12-01A0045AAB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2" descr="C:\My Documents\My Pictures\fig2.12.jpg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FB7-0B1B-46B6-9801-5BF63631D3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2" descr="C:\My Documents\My Pictures\fig2.13cd.jpg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3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reases visibility of speci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centuates specific morphological fea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rves speci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6AB-4B67-4399-9AA9-DC29968D2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rocess by which internal and external structures are preserved and fixed in posi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process by which organism is killed and firmly attached to microscope slid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eat fix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eserves overall morphology but not internal structur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emical fix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8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tects fine cellular substructure and morphology of larger, more delicate organism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5833-6B29-4397-9894-9A9D13E09C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y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ke internal and external structures of cell more visible by increasing contrast with backgr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ave two common featu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chromophore group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chemical groups with conjugated double bonds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give dye its color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bility to bind cel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9FED-8572-43FA-8DEA-69967CDE6C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imple st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ingle staining agent is us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6"/>
                </a:solidFill>
                <a:latin typeface="Lucida Sans Unicode"/>
              </a:rPr>
              <a:t>basic dye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are frequently us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yes with positive charg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, crystal viole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165-F622-467D-B88A-660B4C362B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s microorganisms into groups based on their staining proper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, Gram st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, acid-fast stai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C291-2F06-4636-A084-5A355E49BF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9B3-B69F-4188-A83E-82FB018B2E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E:\foundations\micrscopy\0102.JPG"/>
          <p:cNvPicPr/>
          <p:nvPr/>
        </p:nvPicPr>
        <p:blipFill>
          <a:blip r:embed="rId2"/>
          <a:stretch/>
        </p:blipFill>
        <p:spPr>
          <a:xfrm>
            <a:off x="2614680" y="609480"/>
            <a:ext cx="3914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widely used differential staining proced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s Bacteria into two groups based on differences in cell wall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FB0-ECCE-4C8D-BB87-947801E2A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658D-FEC4-4188-B586-93B1195B64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2" descr="C:\My Documents\My Pictures\fig2.14.jpg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3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def5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1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def5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AEA-7F34-4253-9550-9D239D0955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4" descr="C:\My Documents\My Pictures\fig2.15c.jpg"/>
          <p:cNvPicPr/>
          <p:nvPr/>
        </p:nvPicPr>
        <p:blipFill>
          <a:blip r:embed="rId1"/>
          <a:stretch/>
        </p:blipFill>
        <p:spPr>
          <a:xfrm>
            <a:off x="609480" y="102384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5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cularly useful for staining members of the genu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Mycobacteri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, </a:t>
            </a: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Mycobacterium tuberculosis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causes tuberculosi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, </a:t>
            </a: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Mycobacterium leprae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– causes lepros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gh lipid content in cell walls is responsible for their staining characterist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08E-6073-46A6-8E57-A2C7741B1D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Negative st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ften used to visualize capsules surrounding bacter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psules are colorless against a stained backgrou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88C-B867-404C-B646-EA104C1BE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pore st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uble staining techniqu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terial endospore is one color and vegetative cell is a different colo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lagella st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dant applied to increase thickness of flage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A20-079E-4B8C-8620-F433D89195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beams of electrons are used to produce image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wavelength of electron beam is much shorter than light, resulting in much higher resolu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6" name="Picture 9" descr="C:\My Documents\My Pictures\fig2.20b.jpg"/>
          <p:cNvPicPr/>
          <p:nvPr/>
        </p:nvPicPr>
        <p:blipFill>
          <a:blip r:embed="rId2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727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EE05-ACD8-4171-8BF3-31237FF24C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lectrons scatter when they pass through thin sections of a speci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mitted electrons (those that do not scatter) are used to produce im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nser regions in specimen, scatter more electrons and appear dark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CE53-2E94-424D-BE1F-FF4BF45BF0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42A-4FE5-42CA-A179-BA355F35A8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Rectangle 4" descr=""/>
          <p:cNvPicPr/>
          <p:nvPr/>
        </p:nvPicPr>
        <p:blipFill>
          <a:blip r:embed="rId1"/>
          <a:stretch/>
        </p:blipFill>
        <p:spPr>
          <a:xfrm>
            <a:off x="0" y="60948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2" descr="C:\My Documents\My Pictures\fig2.23b.jpg"/>
          <p:cNvPicPr/>
          <p:nvPr/>
        </p:nvPicPr>
        <p:blipFill>
          <a:blip r:embed="rId2"/>
          <a:stretch/>
        </p:blipFill>
        <p:spPr>
          <a:xfrm>
            <a:off x="2962440" y="457200"/>
            <a:ext cx="5181480" cy="533412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3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alogous to procedures used for light microsco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transmission electron microscopy, specimens must be cut very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mens are chemically fixed and stained with electron dense mater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A1F-3A55-4354-A5AC-9075AF5260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ony van Leeuwenhoek (1632-172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rst person to observe and describe micro-organisms accurate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0" name="Picture 4" descr="C:\My Documents\My Pictures\fig1.1.jpg"/>
          <p:cNvPicPr/>
          <p:nvPr/>
        </p:nvPicPr>
        <p:blipFill>
          <a:blip r:embed="rId2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6E4-171D-49F5-8772-A84BB31DD0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hadow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ating specimen with a thin film of a heavy meta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reeze-etch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reeze specimen then fracture along lines of greatest weakness (e.g., membran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C982-8390-4519-852B-036F16AD35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5B2-91C1-44B9-8B52-D014C6231D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Rectangle 4" descr=""/>
          <p:cNvPicPr/>
          <p:nvPr/>
        </p:nvPicPr>
        <p:blipFill>
          <a:blip r:embed="rId1"/>
          <a:stretch/>
        </p:blipFill>
        <p:spPr>
          <a:xfrm>
            <a:off x="0" y="60948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" descr="E:\foundations\micrscopy\21-13b-mutantfruitfly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electrons reflected from the surface of a specimen to create im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es a 3-dimensional image of specimen’s surface fea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FF8-0DA4-4304-BE29-70430DB48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104A-C00F-43D7-AA76-DF2E7E60A6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C:\My Documents\My Pictures\fig2.27.jpg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3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confocal microscop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scanning probe microscop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have extremely high resol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n be used to observe individual ato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2" name="Picture 6" descr="C:\My Documents\My Pictures\fig2.20b.jpg"/>
          <p:cNvPicPr/>
          <p:nvPr/>
        </p:nvPicPr>
        <p:blipFill>
          <a:blip r:embed="rId2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75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672-48C2-494F-A23A-79F451244B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nfocal scanning laser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aser beam used to illuminate spots on speci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r compiles images created from each point to generate a 3-dimensional im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8509-E3F9-4931-BE52-8C433023CA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16B1-C504-4E80-B41E-FF194BC391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" descr="C:\My Documents\My Pictures\fig2.29.jpg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5ED9-92A5-4EC2-9E7F-342807918A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C:\My Documents\My Pictures\fig2.30.jpg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4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canning tunneling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eady current (tunneling current) maintained between microscope probe and speci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p and down movement of probe as it maintains current is detected and used to create image of surface of speci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F38E-2B3D-4221-9988-E9176ED661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tomic force microsco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harp probe moves over surface of specimen at constant dist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up and down movement of probe as it maintains constant distance is detected and used to create im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8BE3-4A72-4ABB-8DAF-7D53273F8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light is refracted (bent) when passing from one medium to another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46"/>
                </a:solidFill>
                <a:latin typeface="Lucida Sans Unicode"/>
              </a:rPr>
              <a:t>refractive index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 measure of how greatly a substance slows the velocity of ligh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direction and magnitude of bending is determined by the refractive indexes of the two media forming the interfac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B845-287B-4D65-BCEB-FBACDC4B90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Rectangle 2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77724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light rays at a specific place called the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ocal poi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ance between center of lens and focal point is the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focal leng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ength of lens related to focal leng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hort focal length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ore magnific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B9F-87BC-4A64-8F75-7D4D36E0A5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408-6C94-44F1-B624-369AA5222E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C:\My Documents\My Pictures\fig2.2.jpg"/>
          <p:cNvPicPr/>
          <p:nvPr/>
        </p:nvPicPr>
        <p:blipFill>
          <a:blip r:embed="rId1"/>
          <a:stretch/>
        </p:blipFill>
        <p:spPr>
          <a:xfrm>
            <a:off x="1447920" y="5824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2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5fa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ty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ight-field microscop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ark-field microscop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hase-contrast microscop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luorescence microscop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compound microscop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mage formed by action of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 lens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2FF-E5B6-43C6-B685-F772380A2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es a dark image against a brighter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several objective len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46"/>
                </a:solidFill>
                <a:latin typeface="Lucida Sans Unicode"/>
              </a:rPr>
              <a:t>parfocal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microscopes remain in focus when objectives are chang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total magn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duct of the magnifications of the ocular lens and the objective le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047-D831-4041-8EF2-B998D8332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Nirbhay Kumar Mishra</cp:lastModifiedBy>
  <dcterms:modified xsi:type="dcterms:W3CDTF">2020-04-02T15:25:21Z</dcterms:modified>
  <cp:revision>26</cp:revision>
  <dc:subject/>
  <dc:title>PowerPoint Presentation  -  Chapter 2</dc:title>
</cp:coreProperties>
</file>