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4780-02DF-4B49-8433-D535CEA2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5F6D-DA96-448D-8A82-1C7A4A20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0B29-A8CE-4F1E-A3B3-37BC712A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699C-1B3A-4F47-AC93-04342B51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80D-879F-489D-A69F-3AE3658F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E2A7-B9DE-4033-97ED-6F2F4F02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67A-4D2A-4222-B23D-14517018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13EE-5457-490B-AF06-50210B20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62BE-2AF4-468D-8D1C-2C339DE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8187-758F-4287-96D6-EF9E13D3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96B-2B11-42ED-950F-691B58B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81DD-1C0D-43F7-821E-FEA4CF3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BED-CCD6-4E1C-8BD1-D3F58A7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7D5-AE06-40A3-AA13-6A956E0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637-0BCE-4465-8DDD-BDF37C8A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C69-8C98-4FC6-AB92-5858E256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9B81-77FA-4231-83A1-02D11CCE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1363-7F24-4B24-B608-E5AB452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5D4C-D26B-45D1-8C1D-0A6B47D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E69B-C1A0-42EB-9DE8-D2CA0ED7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82BE-CA54-4CE5-A1E0-5D2033E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F8F4-F602-41B8-B0BA-3923C8D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3E60-E908-468A-B57F-D67F525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3CEA-F3F5-4F92-A4CA-CD9B91D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6E0-4335-4BA0-9502-C0F4708A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F46-4D23-4844-9167-1999B4A8F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Genomic DNA &amp; cDNA Librari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371600" y="762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ffffff"/>
                </a:solidFill>
                <a:latin typeface="Arial"/>
              </a:rPr>
              <a:t>VBC-321</a:t>
            </a:r>
            <a:br>
              <a:rPr sz="4000"/>
            </a:br>
            <a:r>
              <a:rPr b="0" lang="en-IN" sz="4000" spc="-1" strike="noStrike">
                <a:solidFill>
                  <a:srgbClr val="ffffff"/>
                </a:solidFill>
                <a:latin typeface="Arial"/>
              </a:rPr>
              <a:t>Animal Bio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ting A cDNA Library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is point the (ss)cDNA needs to be converted to the double strand cD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RNA cDNA complex is treated with an alkali which hydrolyzes the mRNA, but not the cD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by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erminal transfer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ich is a DNA polymerase that adds deoxynucleotides to free 3  ends without the need of template (this will add poly G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is a synthetic poly C is hybridized which is used as primer for the synthesis of the complementary strand of the cD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5" descr="ch7f15"/>
          <p:cNvPicPr/>
          <p:nvPr/>
        </p:nvPicPr>
        <p:blipFill>
          <a:blip r:embed="rId5"/>
          <a:stretch/>
        </p:blipFill>
        <p:spPr>
          <a:xfrm>
            <a:off x="5715000" y="1371600"/>
            <a:ext cx="255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cking the cD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step is to ligate to each end of the cDNA a sho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triction-site link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which are prepared by bactiophage T4).  This will produce blunt end at the end of the D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it is necessary to protect the cDNA from unwanted digestion by restriction enzymes.  Therefore the cDNA is treated with a modification enzyme that methylates specific bases within the restriction enzyme sequ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xt step is to treat the cDNA with restriction enzymes that are specific to the blunt ends.  This will result with sticky 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ch7f5"/>
          <p:cNvPicPr/>
          <p:nvPr/>
        </p:nvPicPr>
        <p:blipFill>
          <a:blip r:embed="rId4"/>
          <a:stretch/>
        </p:blipFill>
        <p:spPr>
          <a:xfrm>
            <a:off x="4495680" y="2514600"/>
            <a:ext cx="4419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cking the cDNA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step is to ligate the sticky ends of the cDNA with th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phage arms that have complementary sticky ends, thereby inserting the Double strand cDNA into the v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6" descr="ch7f15"/>
          <p:cNvPicPr/>
          <p:nvPr/>
        </p:nvPicPr>
        <p:blipFill>
          <a:blip r:embed="rId2"/>
          <a:stretch/>
        </p:blipFill>
        <p:spPr>
          <a:xfrm>
            <a:off x="5791320" y="1600200"/>
            <a:ext cx="2438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ncbi.nlm.nih.gov/books/bv.fcgi?call=bv.View..ShowSection&amp;rid=mcb.section.16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cular Clon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aboratory Manu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 Sambrook, David W. Russ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1066680" y="2666880"/>
            <a:ext cx="630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Genomic DNA libr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 representative copies of all the genetic material of an individual 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 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constructed from any tissue of organism contain same DNA fra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generated from different organism will b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constructed at different age of an organism will b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omic library contain all DNA sequence: expressed genes, non expressed genes, exons and introns, promoter, terminator regions and intervening DNA sequ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lib06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lib06"/>
          <p:cNvPicPr/>
          <p:nvPr/>
        </p:nvPicPr>
        <p:blipFill>
          <a:blip r:embed="rId2"/>
          <a:stretch/>
        </p:blipFill>
        <p:spPr>
          <a:xfrm>
            <a:off x="990720" y="152280"/>
            <a:ext cx="739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Cleaving of 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S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 Enzyme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er and ad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ampl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oli genome- 4.6 Mb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ctor – 20 Kb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. of clone= Genome size/ fragmen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600/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 ln (1-P)/ln (1-1/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ting A Genomic Libr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sequence the entire genome it is necessary to produce overlapping seque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 technique called chromosome walking, it is possible to order to genomic cl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ch7f13"/>
          <p:cNvPicPr/>
          <p:nvPr/>
        </p:nvPicPr>
        <p:blipFill>
          <a:blip r:embed="rId1"/>
          <a:stretch/>
        </p:blipFill>
        <p:spPr>
          <a:xfrm>
            <a:off x="533520" y="762120"/>
            <a:ext cx="838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ting A cDNA Libr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eukaryotes have an mRNA.  Each specialized cell have a specific mRNA that encodes information for a specific pro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formation can be transformed back into DNA or in other words a DNA copy of mRNA (using reverse transcriptase).  This cDNA can be stored in plasmids or ph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NA contains only the expressed genetic information which allows us to study the amino acid sequence directly from the D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ting A cDNA Library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tep in creating a cDNA library is to isolate mRNA from the c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RNA have a poly A tail (unlike tRNA and rRNA that don’t).  By using a column that contains a short poly T sequence it is possible to isolate the mRNA for both tRNA and r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ch7f14"/>
          <p:cNvPicPr/>
          <p:nvPr/>
        </p:nvPicPr>
        <p:blipFill>
          <a:blip r:embed="rId3"/>
          <a:stretch/>
        </p:blipFill>
        <p:spPr>
          <a:xfrm>
            <a:off x="5535720" y="1600200"/>
            <a:ext cx="2693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ting A cDNA Library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mRNA is isolated it is treated with an enzyme reverse transcriptase (which is found in retro viruses like HIV). This enzyme will create a (ss)cDNA intermediate from the m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ybridizing the poly A of the mRNA with oligo T’d  a primer is created.  Reverse transcriptase recognizes this template and will add bases to 3’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5:01:51Z</dcterms:created>
  <dc:creator>tal</dc:creator>
  <dc:description/>
  <dc:language>en-US</dc:language>
  <cp:lastModifiedBy>Dell</cp:lastModifiedBy>
  <dcterms:modified xsi:type="dcterms:W3CDTF">2020-04-25T06:00:43Z</dcterms:modified>
  <cp:revision>16</cp:revision>
  <dc:subject/>
  <dc:title>Genomic DNA &amp; cDNA Libraries</dc:title>
</cp:coreProperties>
</file>