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6"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155F-30A7-4D34-B353-CFAFB755E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507E-8198-4D4E-98DF-5B5D1CE6BD6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505CB-93CB-4CBA-A901-80E347071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466F-7C40-49BD-B95E-9D25ADEE3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A2DD1-E1E3-412F-AFD8-A6DDFB00D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4D60C-F9AF-4827-A7D4-B45BD3AF7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E36A2-4B6A-4734-83E6-E55F288FA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B7FAD-2ED8-4D6C-83EB-2DC42A279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2EBB8-845D-4457-862B-9949AABC6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F976D-5080-47B8-A53A-047F5027E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B1EAC-3723-4448-B84C-17399CEED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FEB4E-25F4-4BB8-91C2-4E8B44D2C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F5760-A652-4A4D-A89F-7B0881963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7AE5C-B4FB-467A-88A4-3900798EE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5E84C-8137-4BBB-AED1-E7FC94E0C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8FF46-DB5C-4551-B2E9-8B2E1A0C5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4EDC8-E0D5-4C62-92DB-640E25320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89681-836F-4ED5-A1EE-F70ED9CE7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B7609-1198-4531-8565-A943CBF3C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A067275-144C-47E4-A7A8-F9E091BF26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BD060E-918F-451D-85A1-5D179E893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B4EE66-0DB7-461A-A368-AADDADBB1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823640-40D1-4F40-AC24-42F71B965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882488-94C7-4662-BEF6-28ED3DEA7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1D6E4-7D40-4D92-8B37-87CA08A63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AB1885-DCDE-4077-902A-4D1A22220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1569B4-73B0-4404-AB3E-FC9285C01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0C4D31-3069-4F13-93A6-D464FA0B5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E1827A-B8E1-4C9C-AA65-87C2CA70D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F5F6E5-53A5-4465-B850-DA40AE87C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1CF92BE-016D-4C92-9F34-098FBBFD6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2F25D4-E60D-466E-A77F-5F2183B7C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9C5B7C-32BA-47AD-88E3-D73F457854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16684-5283-41E5-83B7-DA5D9A593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2579CB-28C6-4E2B-8876-39AB89750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08D10-F3DB-4913-8386-5FA4D9E5C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682A6-C2D3-4879-B59C-BE9E1EF604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3D43A-AB69-4A50-B3F6-E1FB1D3E2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4ADB5-6F00-4DC2-8627-FBE628645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E82D0-29E5-4E35-88D1-CA68E1F6B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63A98-15A4-48AC-A9D4-FF58F290E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87BA3-F709-47EA-B2E4-1AD8376C2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034B20-6856-43D6-B14B-AC0FCF6D6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BE1239-096F-4939-B2E4-424C4D6ECE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823720-EF6F-4C39-948A-BC07AB9AF6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13088F0-003B-479C-88CE-D817CC166D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CD989-87CE-49EA-8E4B-C777A47D9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6C83BD-0867-44D8-8143-A4979C7ACA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8B3CC5-7264-4148-9909-96ED0E053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81690E-BF7E-4AE4-AEC6-60B51F79C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64526E5-F760-4C22-B6A8-412DB3D46B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B00C35-3491-4F7A-A563-5968A21CB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38A5B4-42A9-4146-BA0A-624C5C147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6424E4-58E0-474F-8119-A959D96A1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596053-6EF0-461C-88AF-4EEF6737F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C2F4FE-498C-495A-BC70-F02F7D8BD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4B70EB-2B6A-4CAF-99F2-D345A41875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3B6EA-3112-4342-A9EA-BC7927D78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03A617-AF7B-4974-A602-F3EE056A35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93C224F-AF0F-4781-8112-6F0D362EB5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893C531-4ED5-4A3F-8B70-C1FA20B373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84568F9-F03A-4E99-8CC7-8EF6945397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BC2E5C6-C5F1-4474-864C-DF747EA37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0ECAA0-DAED-4E1B-B71E-8E56C31B8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340A795-5982-4568-B65F-4B0D67E23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7AB1F7-5A9E-4CF4-BD36-D32DDBEC0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8BD129-13D6-4170-B2CE-0240861FA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FBC5364-03E5-4740-B815-6441C75C5D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20EFA-400F-44FB-8B76-0FB462BD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78EE500-0EE2-414B-A80F-5B65A1AAAC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CA485DC-F635-4808-AB72-CE34A17EBB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FF1DFCE-F52B-4A0B-9EE3-C73CEA3F51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7780F46-1572-4138-9E34-030574A03E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BB67320-8EB3-40FB-AECE-7091F155C5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70191FC-E019-4F6B-924B-AD2307E85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EE6B9E-A099-4353-BDCC-E2290CF6C7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305ECB-B12B-42E3-8A79-1113A5392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4E9249B-556B-4D19-845C-B139B77587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7A9EB5-F66B-4E34-A2B7-EE428E069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B6F7-5C73-480A-80BE-F1D5A10CB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514C89-525A-4266-BB16-B5CE6A2496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9164CF-D37D-43E4-AE1A-CBE6AC32D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0B98584-4429-4F29-AE14-DFC34B55B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0A85419-70FB-4319-91DB-5CE0305ADB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112BC33-F86C-41BB-BDD5-4762D46F61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1FAA9-B34D-42A8-8E74-985D70A5C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3F75-EDE9-4368-A7D9-F7BB67838D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92F5-7496-430F-B7F4-FFCEACCE6B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F129-9CF3-4184-9802-6ED2F22E09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353F-BB06-42B0-AEC7-C87DF5E8F4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320A-4F83-47E1-9C67-E631CCC612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590E-0FDC-4E57-AB9F-588A39BD4E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1061-C1C0-4BBA-B2EB-4F358808D9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23520"/>
            <a:ext cx="777240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a:solidFill>
                  <a:srgbClr val="00b050"/>
                </a:solidFill>
                <a:latin typeface="Times New Roman"/>
                <a:ea typeface="Times New Roman"/>
              </a:rPr>
              <a:t>ZINC DEFICIENCY</a:t>
            </a:r>
            <a:endParaRPr b="0" lang="en-US" sz="7700" spc="-1" strike="noStrike">
              <a:solidFill>
                <a:srgbClr val="575f6d"/>
              </a:solidFill>
              <a:latin typeface="Century Schoolbook"/>
            </a:endParaRPr>
          </a:p>
        </p:txBody>
      </p:sp>
      <p:pic>
        <p:nvPicPr>
          <p:cNvPr id="359" name="Picture 4" descr="Visceral Leishmaniasis"/>
          <p:cNvPicPr/>
          <p:nvPr/>
        </p:nvPicPr>
        <p:blipFill>
          <a:blip r:embed="rId1"/>
          <a:stretch/>
        </p:blipFill>
        <p:spPr>
          <a:xfrm>
            <a:off x="2666880" y="3200400"/>
            <a:ext cx="3426120" cy="2590920"/>
          </a:xfrm>
          <a:prstGeom prst="rect">
            <a:avLst/>
          </a:prstGeom>
          <a:ln w="0">
            <a:noFill/>
          </a:ln>
        </p:spPr>
      </p:pic>
      <p:sp>
        <p:nvSpPr>
          <p:cNvPr id="360" name="TextBox 1"/>
          <p:cNvSpPr/>
          <p:nvPr/>
        </p:nvSpPr>
        <p:spPr>
          <a:xfrm>
            <a:off x="4302720" y="12193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rPr>
              <a:t>UNIT-3</a:t>
            </a:r>
            <a:endParaRPr b="0" lang="en-US" sz="1800" spc="-1" strike="noStrike">
              <a:solidFill>
                <a:srgbClr val="000000"/>
              </a:solidFill>
              <a:latin typeface="Verdana"/>
            </a:endParaRPr>
          </a:p>
        </p:txBody>
      </p:sp>
      <p:sp>
        <p:nvSpPr>
          <p:cNvPr id="361" name="TextBox 2"/>
          <p:cNvSpPr/>
          <p:nvPr/>
        </p:nvSpPr>
        <p:spPr>
          <a:xfrm>
            <a:off x="6248520" y="41148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rPr>
              <a:t>Dr. Vivek Kr Singh</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rPr>
              <a:t>Asstt. Professo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rPr>
              <a:t>VCC (Vety.Med), BV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MPORTANT ORGAN SYSTEMS AFFECTED BY ZINC DEFICIENCY</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piderma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strointestinal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mune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keletal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productive System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ZINC DEFICIENCY AND GROWTH</a:t>
            </a:r>
            <a:endParaRPr b="0" lang="en-US" sz="3000" spc="-1" strike="noStrike">
              <a:solidFill>
                <a:srgbClr val="575f6d"/>
              </a:solidFill>
              <a:latin typeface="Century Schoolbook"/>
            </a:endParaRPr>
          </a:p>
        </p:txBody>
      </p:sp>
      <p:sp>
        <p:nvSpPr>
          <p:cNvPr id="381" name=""/>
          <p:cNvSpPr txBox="1"/>
          <p:nvPr/>
        </p:nvSpPr>
        <p:spPr>
          <a:xfrm>
            <a:off x="456840" y="16765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ads to reduced growth in anima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Oval 3"/>
          <p:cNvSpPr/>
          <p:nvPr/>
        </p:nvSpPr>
        <p:spPr>
          <a:xfrm>
            <a:off x="2819520" y="2133720"/>
            <a:ext cx="2133360" cy="914400"/>
          </a:xfrm>
          <a:prstGeom prst="ellipse">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Zn Deficiency</a:t>
            </a:r>
            <a:endParaRPr b="0" lang="en-US" sz="1800" spc="-1" strike="noStrike">
              <a:solidFill>
                <a:srgbClr val="000000"/>
              </a:solidFill>
              <a:latin typeface="Verdana"/>
            </a:endParaRPr>
          </a:p>
        </p:txBody>
      </p:sp>
      <p:sp>
        <p:nvSpPr>
          <p:cNvPr id="383" name="Down Arrow 4"/>
          <p:cNvSpPr/>
          <p:nvPr/>
        </p:nvSpPr>
        <p:spPr>
          <a:xfrm>
            <a:off x="3657600" y="3124080"/>
            <a:ext cx="484200" cy="685800"/>
          </a:xfrm>
          <a:prstGeom prst="downArrow">
            <a:avLst>
              <a:gd name="adj1" fmla="val 50000"/>
              <a:gd name="adj2" fmla="val 4999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Down Arrow 5"/>
          <p:cNvSpPr/>
          <p:nvPr/>
        </p:nvSpPr>
        <p:spPr>
          <a:xfrm rot="3715200">
            <a:off x="2737080" y="2958120"/>
            <a:ext cx="486000" cy="452520"/>
          </a:xfrm>
          <a:prstGeom prst="downArrow">
            <a:avLst>
              <a:gd name="adj1" fmla="val 44991"/>
              <a:gd name="adj2" fmla="val 5000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5" name="Down Arrow 6"/>
          <p:cNvSpPr/>
          <p:nvPr/>
        </p:nvSpPr>
        <p:spPr>
          <a:xfrm rot="18306000">
            <a:off x="4685400" y="2902320"/>
            <a:ext cx="484200" cy="504720"/>
          </a:xfrm>
          <a:prstGeom prst="downArrow">
            <a:avLst>
              <a:gd name="adj1" fmla="val 50000"/>
              <a:gd name="adj2" fmla="val 49986"/>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6" name="Rounded Rectangle 7"/>
          <p:cNvSpPr/>
          <p:nvPr/>
        </p:nvSpPr>
        <p:spPr>
          <a:xfrm>
            <a:off x="533520" y="3352680"/>
            <a:ext cx="2286000" cy="91440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Imperfect use of nutrients from feedstuff</a:t>
            </a:r>
            <a:endParaRPr b="0" lang="en-US" sz="1800" spc="-1" strike="noStrike">
              <a:solidFill>
                <a:srgbClr val="000000"/>
              </a:solidFill>
              <a:latin typeface="Verdana"/>
            </a:endParaRPr>
          </a:p>
        </p:txBody>
      </p:sp>
      <p:sp>
        <p:nvSpPr>
          <p:cNvPr id="387" name="Rounded Rectangle 8"/>
          <p:cNvSpPr/>
          <p:nvPr/>
        </p:nvSpPr>
        <p:spPr>
          <a:xfrm>
            <a:off x="5029200" y="3429000"/>
            <a:ext cx="2666880" cy="91440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Disorders of protein and energy metabolism</a:t>
            </a:r>
            <a:endParaRPr b="0" lang="en-US" sz="1800" spc="-1" strike="noStrike">
              <a:solidFill>
                <a:srgbClr val="000000"/>
              </a:solidFill>
              <a:latin typeface="Verdana"/>
            </a:endParaRPr>
          </a:p>
        </p:txBody>
      </p:sp>
      <p:sp>
        <p:nvSpPr>
          <p:cNvPr id="388" name="Rounded Rectangle 9"/>
          <p:cNvSpPr/>
          <p:nvPr/>
        </p:nvSpPr>
        <p:spPr>
          <a:xfrm>
            <a:off x="3124080" y="3886200"/>
            <a:ext cx="1676520" cy="91440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Loss of Appetite</a:t>
            </a:r>
            <a:endParaRPr b="0" lang="en-US" sz="1800" spc="-1" strike="noStrike">
              <a:solidFill>
                <a:srgbClr val="000000"/>
              </a:solidFill>
              <a:latin typeface="Verdana"/>
            </a:endParaRPr>
          </a:p>
        </p:txBody>
      </p:sp>
      <p:sp>
        <p:nvSpPr>
          <p:cNvPr id="389" name="Down Arrow 10"/>
          <p:cNvSpPr/>
          <p:nvPr/>
        </p:nvSpPr>
        <p:spPr>
          <a:xfrm>
            <a:off x="3809880" y="4876920"/>
            <a:ext cx="484200" cy="380880"/>
          </a:xfrm>
          <a:prstGeom prst="downArrow">
            <a:avLst>
              <a:gd name="adj1" fmla="val 50000"/>
              <a:gd name="adj2" fmla="val 5000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0" name="Down Arrow 11"/>
          <p:cNvSpPr/>
          <p:nvPr/>
        </p:nvSpPr>
        <p:spPr>
          <a:xfrm rot="18598200">
            <a:off x="2176560" y="4062240"/>
            <a:ext cx="484200" cy="1332000"/>
          </a:xfrm>
          <a:prstGeom prst="downArrow">
            <a:avLst>
              <a:gd name="adj1" fmla="val 50000"/>
              <a:gd name="adj2" fmla="val 50001"/>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1" name="Down Arrow 12"/>
          <p:cNvSpPr/>
          <p:nvPr/>
        </p:nvSpPr>
        <p:spPr>
          <a:xfrm rot="3168000">
            <a:off x="5450400" y="4126680"/>
            <a:ext cx="484200" cy="1301760"/>
          </a:xfrm>
          <a:prstGeom prst="downArrow">
            <a:avLst>
              <a:gd name="adj1" fmla="val 50000"/>
              <a:gd name="adj2" fmla="val 4999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2" name="Rounded Rectangle 13"/>
          <p:cNvSpPr/>
          <p:nvPr/>
        </p:nvSpPr>
        <p:spPr>
          <a:xfrm>
            <a:off x="2590920" y="5334120"/>
            <a:ext cx="3047760" cy="114300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Reduced Growth</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ZINC DEFICIENCY AND REPRODUCTION</a:t>
            </a: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Zinc deficiency can cause </a:t>
            </a:r>
            <a:r>
              <a:rPr b="1" lang="en-US" sz="2400" spc="-1" strike="noStrike">
                <a:solidFill>
                  <a:srgbClr val="ff0000"/>
                </a:solidFill>
                <a:latin typeface="Century Schoolbook"/>
              </a:rPr>
              <a:t>retarded testicular development</a:t>
            </a:r>
            <a:r>
              <a:rPr b="0" lang="en-US" sz="2400" spc="-1" strike="noStrike">
                <a:solidFill>
                  <a:srgbClr val="000000"/>
                </a:solidFill>
                <a:latin typeface="Century Schoolbook"/>
              </a:rPr>
              <a:t> in bull calves and ram lambs with complete </a:t>
            </a:r>
            <a:r>
              <a:rPr b="1" lang="en-US" sz="2400" spc="-1" strike="noStrike">
                <a:solidFill>
                  <a:srgbClr val="00b0f0"/>
                </a:solidFill>
                <a:latin typeface="Century Schoolbook"/>
              </a:rPr>
              <a:t>cessation of spermatogenesi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ZINC DEFICIENCY AND SKIN DISORDERS</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Zinc deficiency causes parakeratosis due to failure of proper keratinization</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akeratosis is a late sign of zinc deficiency</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aired protein synthesis in zinc deficiency can be attributed to parakeratosi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862110"/>
                </a:solidFill>
                <a:latin typeface="Century Schoolbook"/>
              </a:rPr>
              <a:t>Parakeratosis is a disorder involving epidermal layer of skin characterised by thickening, hardening and fissuring of skin</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NICAL FINDINGS</a:t>
            </a: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ig  Zn deficiency produces parakeratosis</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nical symptoms of Zn deficiency is not common in ruminants</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t affected ruminants revealed parakeratosis,  reduced feed intake, , decreased feed utilization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n def. is very common in young chicks and is characterized by reduced feed intake, scaling of skin, enlarged hock joint</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C:\Users\acer\Desktop\Photographs for Thesis\Zn def\Fig 20 Buffalo with zn deficiency showing bronzing of skin..jpg"/>
          <p:cNvPicPr/>
          <p:nvPr/>
        </p:nvPicPr>
        <p:blipFill>
          <a:blip r:embed="rId1"/>
          <a:stretch/>
        </p:blipFill>
        <p:spPr>
          <a:xfrm>
            <a:off x="685800" y="1828800"/>
            <a:ext cx="4040280" cy="3030480"/>
          </a:xfrm>
          <a:prstGeom prst="rect">
            <a:avLst/>
          </a:prstGeom>
          <a:ln w="0">
            <a:noFill/>
          </a:ln>
        </p:spPr>
      </p:pic>
      <p:sp>
        <p:nvSpPr>
          <p:cNvPr id="400" name="TextBox 3"/>
          <p:cNvSpPr/>
          <p:nvPr/>
        </p:nvSpPr>
        <p:spPr>
          <a:xfrm>
            <a:off x="533520" y="5029200"/>
            <a:ext cx="327636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Verdana"/>
            </a:endParaRPr>
          </a:p>
        </p:txBody>
      </p:sp>
      <p:pic>
        <p:nvPicPr>
          <p:cNvPr id="401" name="Picture 4" descr="C:\Users\hp\Desktop\gem\untitled-14CB5DF322C15AD2CD6-thumb400.png"/>
          <p:cNvPicPr/>
          <p:nvPr/>
        </p:nvPicPr>
        <p:blipFill>
          <a:blip r:embed="rId2"/>
          <a:stretch/>
        </p:blipFill>
        <p:spPr>
          <a:xfrm>
            <a:off x="4800600" y="1828800"/>
            <a:ext cx="4038480" cy="3048120"/>
          </a:xfrm>
          <a:prstGeom prst="rect">
            <a:avLst/>
          </a:prstGeom>
          <a:ln w="0">
            <a:noFill/>
          </a:ln>
        </p:spPr>
      </p:pic>
      <p:sp>
        <p:nvSpPr>
          <p:cNvPr id="402" name="TextBox 6"/>
          <p:cNvSpPr/>
          <p:nvPr/>
        </p:nvSpPr>
        <p:spPr>
          <a:xfrm>
            <a:off x="685800" y="5181480"/>
            <a:ext cx="327672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Verdana"/>
            </a:endParaRPr>
          </a:p>
        </p:txBody>
      </p:sp>
      <p:sp>
        <p:nvSpPr>
          <p:cNvPr id="403" name="TextBox 7"/>
          <p:cNvSpPr/>
          <p:nvPr/>
        </p:nvSpPr>
        <p:spPr>
          <a:xfrm>
            <a:off x="304920" y="5029200"/>
            <a:ext cx="4419360" cy="368280"/>
          </a:xfrm>
          <a:prstGeom prst="rect">
            <a:avLst/>
          </a:prstGeom>
          <a:solidFill>
            <a:srgbClr val="00b0f0"/>
          </a:solidFill>
          <a:ln w="9360">
            <a:solidFill>
              <a:srgbClr val="fe863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uffalo showing the signs of Zn deficiency</a:t>
            </a:r>
            <a:endParaRPr b="0" lang="en-US" sz="1800" spc="-1" strike="noStrike">
              <a:solidFill>
                <a:srgbClr val="000000"/>
              </a:solidFill>
              <a:latin typeface="Verdana"/>
            </a:endParaRPr>
          </a:p>
        </p:txBody>
      </p:sp>
      <p:sp>
        <p:nvSpPr>
          <p:cNvPr id="404" name="TextBox 8"/>
          <p:cNvSpPr/>
          <p:nvPr/>
        </p:nvSpPr>
        <p:spPr>
          <a:xfrm>
            <a:off x="4876920" y="5029200"/>
            <a:ext cx="3962160" cy="368280"/>
          </a:xfrm>
          <a:prstGeom prst="rect">
            <a:avLst/>
          </a:prstGeom>
          <a:solidFill>
            <a:srgbClr val="00b0f0"/>
          </a:solid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keratosis in pi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EATMENT</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outbreak of parakeratosis in swine</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Zinc should be added to diet @50gm/kg DM (200mg of zinc sulphate or carbonate per kg of feed)</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cattle, the feeding of zinc sulfate 2-4g daily is recommended as an emergency measure</a:t>
            </a:r>
            <a:r>
              <a:rPr b="0" lang="en-US" sz="1400" spc="-1" strike="noStrike">
                <a:solidFill>
                  <a:srgbClr val="000000"/>
                </a:solidFill>
                <a:latin typeface="Times New Roman"/>
                <a:ea typeface="Times New Roman"/>
              </a:rPr>
              <a:t>.</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ICK FACTS</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Zinc is associated with more than 300 enzym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Zinc is involved in the maintenance of gut structure and function, bone formation, biosynthesis of fatty acids, metabolism of vit. A, formation of insulin and keratinization of mucous membrane, skin and skin derivativ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sheep and cattle 80 to 120 </a:t>
            </a:r>
            <a:r>
              <a:rPr b="0" lang="el-GR" sz="2400" spc="-1" strike="noStrike">
                <a:solidFill>
                  <a:srgbClr val="000000"/>
                </a:solidFill>
                <a:latin typeface="Century Schoolbook"/>
              </a:rPr>
              <a:t>μ</a:t>
            </a:r>
            <a:r>
              <a:rPr b="0" lang="en-US" sz="2400" spc="-1" strike="noStrike">
                <a:solidFill>
                  <a:srgbClr val="000000"/>
                </a:solidFill>
                <a:latin typeface="Century Schoolbook"/>
              </a:rPr>
              <a:t>g/dl (12.2 to18.2 </a:t>
            </a:r>
            <a:r>
              <a:rPr b="0" lang="el-GR" sz="2400" spc="-1" strike="noStrike">
                <a:solidFill>
                  <a:srgbClr val="000000"/>
                </a:solidFill>
                <a:latin typeface="Century Schoolbook"/>
              </a:rPr>
              <a:t>μ</a:t>
            </a:r>
            <a:r>
              <a:rPr b="0" lang="en-US" sz="2400" spc="-1" strike="noStrike">
                <a:solidFill>
                  <a:srgbClr val="000000"/>
                </a:solidFill>
                <a:latin typeface="Century Schoolbook"/>
              </a:rPr>
              <a:t>mol/L) is the normal is the normal serum Zn level.</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a:t>
            </a:r>
            <a:endParaRPr b="0" lang="en-US" sz="3000" spc="-1" strike="noStrike">
              <a:solidFill>
                <a:srgbClr val="575f6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onogastric animals Cd, Ca, Mg, P, Cu, chelating agents such as EDTA, vitamin D and phytic acid have much influence on zinc absorption</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ncreatic secretion is the major route of zinc excretion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C:\Users\hp\Desktop\gem\unnamed.png"/>
          <p:cNvPicPr/>
          <p:nvPr/>
        </p:nvPicPr>
        <p:blipFill>
          <a:blip r:embed="rId1"/>
          <a:stretch/>
        </p:blipFill>
        <p:spPr>
          <a:xfrm>
            <a:off x="609480" y="609480"/>
            <a:ext cx="7239240" cy="586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533520" y="2298600"/>
            <a:ext cx="8153280" cy="947160"/>
          </a:xfrm>
          <a:prstGeom prst="rect">
            <a:avLst/>
          </a:prstGeom>
          <a:solidFill>
            <a:srgbClr val="0d0d0d"/>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FangSong"/>
              </a:rPr>
              <a:t>Skin Disorder of Zinc Deficiency is Known as “Parakeratosis”</a:t>
            </a:r>
            <a:endParaRPr b="0" lang="en-US" sz="2800" spc="-1" strike="noStrike">
              <a:solidFill>
                <a:srgbClr val="000000"/>
              </a:solidFill>
              <a:latin typeface="Verdana"/>
            </a:endParaRPr>
          </a:p>
        </p:txBody>
      </p:sp>
      <p:sp>
        <p:nvSpPr>
          <p:cNvPr id="363" name="Text Box 3"/>
          <p:cNvSpPr/>
          <p:nvPr/>
        </p:nvSpPr>
        <p:spPr>
          <a:xfrm>
            <a:off x="1676520" y="685800"/>
            <a:ext cx="5257800" cy="581400"/>
          </a:xfrm>
          <a:prstGeom prst="rect">
            <a:avLst/>
          </a:prstGeom>
          <a:solidFill>
            <a:srgbClr val="fff39d"/>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Times New Roman"/>
              </a:rPr>
              <a:t>                </a:t>
            </a:r>
            <a:r>
              <a:rPr b="1" lang="en-US" sz="3200" spc="-1" strike="noStrike">
                <a:solidFill>
                  <a:srgbClr val="000000"/>
                </a:solidFill>
                <a:latin typeface="Times New Roman"/>
                <a:ea typeface="Times New Roman"/>
              </a:rPr>
              <a:t>SYNONYM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4560"/>
            <a:ext cx="7696080" cy="68580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TRODUCTION</a:t>
            </a:r>
            <a:endParaRPr b="0" lang="en-US" sz="3600" spc="-1" strike="noStrike">
              <a:solidFill>
                <a:srgbClr val="575f6d"/>
              </a:solidFill>
              <a:latin typeface="Century Schoolbook"/>
            </a:endParaRPr>
          </a:p>
        </p:txBody>
      </p:sp>
      <p:sp>
        <p:nvSpPr>
          <p:cNvPr id="365" name=""/>
          <p:cNvSpPr txBox="1"/>
          <p:nvPr/>
        </p:nvSpPr>
        <p:spPr>
          <a:xfrm>
            <a:off x="380520" y="1143000"/>
            <a:ext cx="8534520" cy="5486400"/>
          </a:xfrm>
          <a:prstGeom prst="rect">
            <a:avLst/>
          </a:prstGeom>
          <a:noFill/>
          <a:ln w="9360">
            <a:solidFill>
              <a:srgbClr val="fe8637"/>
            </a:solidFill>
            <a:miter/>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ea typeface="Times New Roman"/>
              </a:rPr>
              <a:t>Zinc is a trace  minéral essential to all forms of  life because of its fundamental role in gene expression, cell development and replication</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are about </a:t>
            </a:r>
            <a:r>
              <a:rPr b="0" lang="en-US" sz="2000" spc="-1" strike="noStrike">
                <a:solidFill>
                  <a:srgbClr val="ff0000"/>
                </a:solidFill>
                <a:latin typeface="Times New Roman"/>
                <a:ea typeface="Times New Roman"/>
              </a:rPr>
              <a:t>three hundred </a:t>
            </a:r>
            <a:r>
              <a:rPr b="0" lang="en-US" sz="2000" spc="-1" strike="noStrike">
                <a:solidFill>
                  <a:srgbClr val="000000"/>
                </a:solidFill>
                <a:latin typeface="Times New Roman"/>
                <a:ea typeface="Times New Roman"/>
              </a:rPr>
              <a:t>zinc-dependent enzymes in all the major biochemical pathways in the body</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ortant Zn containing metalloenzymes include </a:t>
            </a:r>
            <a:r>
              <a:rPr b="1" lang="en-US" sz="2000" spc="-1" strike="noStrike">
                <a:solidFill>
                  <a:srgbClr val="ff0000"/>
                </a:solidFill>
                <a:latin typeface="Times New Roman"/>
                <a:ea typeface="Times New Roman"/>
              </a:rPr>
              <a:t>Cu-Zn-superoxide dismutase</a:t>
            </a:r>
            <a:r>
              <a:rPr b="0" lang="en-US" sz="2000" spc="-1" strike="noStrike">
                <a:solidFill>
                  <a:srgbClr val="000000"/>
                </a:solidFill>
                <a:latin typeface="Times New Roman"/>
                <a:ea typeface="Times New Roman"/>
              </a:rPr>
              <a:t>, </a:t>
            </a:r>
            <a:r>
              <a:rPr b="1" lang="en-US" sz="2000" spc="-1" strike="noStrike">
                <a:solidFill>
                  <a:srgbClr val="c00000"/>
                </a:solidFill>
                <a:latin typeface="Times New Roman"/>
                <a:ea typeface="Times New Roman"/>
              </a:rPr>
              <a:t>carbonic anhydrase</a:t>
            </a:r>
            <a:r>
              <a:rPr b="0" lang="en-US" sz="2000" spc="-1" strike="noStrike">
                <a:solidFill>
                  <a:srgbClr val="000000"/>
                </a:solidFill>
                <a:latin typeface="Times New Roman"/>
                <a:ea typeface="Times New Roman"/>
              </a:rPr>
              <a:t>, </a:t>
            </a:r>
            <a:r>
              <a:rPr b="1" lang="en-US" sz="2000" spc="-1" strike="noStrike">
                <a:solidFill>
                  <a:srgbClr val="0070c0"/>
                </a:solidFill>
                <a:latin typeface="Times New Roman"/>
                <a:ea typeface="Times New Roman"/>
              </a:rPr>
              <a:t>alcohol dehydrogenase</a:t>
            </a:r>
            <a:r>
              <a:rPr b="0" lang="en-US" sz="2000" spc="-1" strike="noStrike">
                <a:solidFill>
                  <a:srgbClr val="000000"/>
                </a:solidFill>
                <a:latin typeface="Times New Roman"/>
                <a:ea typeface="Times New Roman"/>
              </a:rPr>
              <a:t>, </a:t>
            </a:r>
            <a:r>
              <a:rPr b="1" lang="en-US" sz="2000" spc="-1" strike="noStrike">
                <a:solidFill>
                  <a:srgbClr val="862110"/>
                </a:solidFill>
                <a:latin typeface="Times New Roman"/>
                <a:ea typeface="Times New Roman"/>
              </a:rPr>
              <a:t>carboxypeptidase</a:t>
            </a:r>
            <a:r>
              <a:rPr b="0" lang="en-US" sz="2000" spc="-1" strike="noStrike">
                <a:solidFill>
                  <a:srgbClr val="000000"/>
                </a:solidFill>
                <a:latin typeface="Times New Roman"/>
                <a:ea typeface="Times New Roman"/>
              </a:rPr>
              <a:t>, </a:t>
            </a:r>
            <a:r>
              <a:rPr b="1" lang="en-US" sz="2000" spc="-1" strike="noStrike">
                <a:solidFill>
                  <a:srgbClr val="00b050"/>
                </a:solidFill>
                <a:latin typeface="Times New Roman"/>
                <a:ea typeface="Times New Roman"/>
              </a:rPr>
              <a:t>alkaline phosphatase</a:t>
            </a:r>
            <a:r>
              <a:rPr b="0" lang="en-US" sz="2000" spc="-1" strike="noStrike">
                <a:solidFill>
                  <a:srgbClr val="000000"/>
                </a:solidFill>
                <a:latin typeface="Times New Roman"/>
                <a:ea typeface="Times New Roman"/>
              </a:rPr>
              <a:t>, and </a:t>
            </a:r>
            <a:r>
              <a:rPr b="1" lang="en-US" sz="2000" spc="-1" strike="noStrike">
                <a:solidFill>
                  <a:srgbClr val="ff0000"/>
                </a:solidFill>
                <a:latin typeface="Times New Roman"/>
                <a:ea typeface="Times New Roman"/>
              </a:rPr>
              <a:t>RNA polymerase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E MOST IMPORTANT ZINC-DEPENDENT BIOCHEMICAL MECHANISMS IN PHYSIOLOGICAL FUNCTIONS </a:t>
            </a:r>
            <a:br>
              <a:rPr sz="2900"/>
            </a:br>
            <a:endParaRPr b="0" lang="en-US" sz="2400" spc="-1" strike="noStrike">
              <a:solidFill>
                <a:srgbClr val="575f6d"/>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ellular respira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NA and RNA express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intenance of cell membrane integrit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questration of free radical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tection against lipidperoxida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TIOLOGY AND RISK FACTORS</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functional reserve or body store of available Z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nce a regular adequate dietary  supply is requir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ENERAL CAUSES OF ZINC DEFICIENCY</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adequate Intak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d require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labsorption</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ytates (constituent of plant protein eg. soyabean) in feed affects the availability of Zn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ciency  Cu in diet reduces Zn</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ss of Ca in feed reduces Z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d Los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aired Utilisa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OTHER FACTORS</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level of nitrogen and phosphorus in the soil</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pH of soil</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urity of the crops as the concentration  of Zn decreases with the maturity</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ary deficiency in ruminants occurs due to high sulphur content  in feed</a:t>
            </a:r>
            <a:r>
              <a:rPr b="0" lang="en-US" sz="1600" spc="-1" strike="noStrike">
                <a:solidFill>
                  <a:srgbClr val="000000"/>
                </a:solidFill>
                <a:latin typeface="Times New Roman"/>
                <a:ea typeface="Times New Roman"/>
              </a:rPr>
              <a:t>.</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PIDEMIOLOGY</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de spread in country</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nical occurrence is  sporadic in ruminants and high in pigs</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keratosis can occur in cattle if fed on pasture low in Zn and High Ca.</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isease occurs most commonly during the period of rapid growth , after weaning and between 7-10 weeks of age of pigs.</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gns of deficiency occurs at 4-8 weeks of age due to inability to absorb Zn from intestine</a:t>
            </a:r>
            <a:r>
              <a:rPr b="0" lang="en-US" sz="1000" spc="-1" strike="noStrike">
                <a:solidFill>
                  <a:srgbClr val="000000"/>
                </a:solidFill>
                <a:latin typeface="Times New Roman"/>
                <a:ea typeface="Times New Roman"/>
              </a:rPr>
              <a:t>.</a:t>
            </a:r>
            <a:endParaRPr b="0" lang="en-US" sz="1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ATHOGENESI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ue to the multitude of basic biochemical functions of Zinc in the cells of animal body there are broad range of physiological signs of zinc deficienc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13:21:52Z</dcterms:created>
  <dc:creator>Polhemusme</dc:creator>
  <dc:description/>
  <dc:language>en-US</dc:language>
  <cp:lastModifiedBy>Windows User</cp:lastModifiedBy>
  <dcterms:modified xsi:type="dcterms:W3CDTF">2020-04-01T06:53:09Z</dcterms:modified>
  <cp:revision>99</cp:revision>
  <dc:subject/>
  <dc:title>Leishmaniasis</dc:title>
</cp:coreProperties>
</file>