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612-9AED-4675-AFCF-1E5B693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0A9-3D1D-4F51-ABA8-646FE3BF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422-F584-4AF2-9F53-23297D1A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36E-EC4D-426E-BC33-DFB9CA26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3D1C-F95C-41EB-8DB4-37B9D68A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9FB-DF68-49E7-847B-DCA9236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59FA-5D18-4F86-9F07-F5A17F2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DB0B-29DA-4FB9-9A62-D2B3422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2EAB-B1DD-4152-A02F-FA8F8F3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B1CF-7FFE-4FCD-BBE9-C49A623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009-0729-4BBD-A9DC-F1E357A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379-8D83-4793-AF71-B0DFACE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E2D-B20E-4C95-8441-3DD74F8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D898-87EB-4BBC-A977-782CE81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C88-FCA1-482E-AE35-29BE408C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2894-8A1A-42A7-9A0E-547283A7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4127-D3CD-4AF5-AF7C-C5EFBEBD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EFF3-6914-46F3-9D79-5FBC95D1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322E-4C08-4EBB-B290-DE7DFBC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7BBA-84DB-40B7-9767-D151C0C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A89D-B5BB-4727-8EEC-5A338E88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DB98-0FDB-4373-B0A5-318C816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2F2-E743-42EB-A0EA-3B9C5C1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5495-0499-4787-9FF7-94687BBA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E748-10B2-489D-8DAC-CD9802E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540C-71F2-4A6C-8FD8-FFF07A2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1C15-28A2-4A46-B4D5-B543A8A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DF50-E936-4498-9B09-CF5D28FA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0E0C-E1A6-4AAB-A39A-8A2136DE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8F71-D008-404E-8F41-B045C77A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E2FD-C88A-4246-86D3-77003AED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DB5D-30B0-4652-A9E5-235A27F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FA1F1-D717-4EE4-A373-D39ADBD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993-9059-4370-AB09-A68E749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8923D-7309-4B0B-9382-369864BA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C904-4AA4-4415-ADF3-6E82B4A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8759-539D-4636-81F2-395282FB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738B-5D35-4E1B-8901-A561A4E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320E-1E14-42D9-9609-F3ED87AE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16C6-B579-4A04-8791-CE28B90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34BC-3589-4C9F-8601-3BB2B2F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3EF0-8407-435F-B6E4-76496B99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D5EE-F066-446E-9A97-1A29F1C2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E7DF-E474-401D-BC81-D85DFD06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A87-4811-43A0-BB25-6F64E9B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0E00-6D6F-44B7-B649-7504FBC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746A-0351-4AD0-B7DD-F2C1DB8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36FA-AC60-4B8D-AB19-9EC56368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EEF8-0C99-4513-A3FA-3D7F9C0C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4013-BBE3-4788-8617-9CEA44A8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7E1C-EA31-48E5-AC60-3D136E1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3805-86F6-4B1A-A8AF-30791B6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D324-247B-4175-91D5-C9DCBBF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E48D-1051-4CD6-9A29-5D3F7327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ADCB-B51C-43BB-BE05-29A2AB58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2EE-57E1-473C-8ED1-99D0FC9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0F86-3C01-4354-B9D0-526F448E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667-70D3-4180-8CF0-F9482090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34F-69B5-4EB9-9A4F-87870EB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3BB-3721-45BC-9BC9-3D7AC52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4F5-BCEC-43B9-ACD3-0AF316FCF986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F76A-AA60-48B2-A20C-849810C09B40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D2EF-2421-408D-9EAD-334D2616C213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A47-F9C4-4F4C-8759-597943618E5F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E09F-D92D-4C97-9AEA-02FB936C4560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3" descr=""/>
          <p:cNvPicPr/>
          <p:nvPr/>
        </p:nvPicPr>
        <p:blipFill>
          <a:blip r:embed="rId1"/>
          <a:stretch/>
        </p:blipFill>
        <p:spPr>
          <a:xfrm>
            <a:off x="365040" y="1006560"/>
            <a:ext cx="86137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80726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858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3" descr=""/>
          <p:cNvPicPr/>
          <p:nvPr/>
        </p:nvPicPr>
        <p:blipFill>
          <a:blip r:embed="rId1"/>
          <a:stretch/>
        </p:blipFill>
        <p:spPr>
          <a:xfrm>
            <a:off x="920880" y="811080"/>
            <a:ext cx="72295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8929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28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3" descr=""/>
          <p:cNvPicPr/>
          <p:nvPr/>
        </p:nvPicPr>
        <p:blipFill>
          <a:blip r:embed="rId1"/>
          <a:stretch/>
        </p:blipFill>
        <p:spPr>
          <a:xfrm>
            <a:off x="1994040" y="2182680"/>
            <a:ext cx="394308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0726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, Frozen, Dried, Concentrated And DVS StarterCultures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21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85726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9:17Z</dcterms:created>
  <dc:creator>HP</dc:creator>
  <dc:description/>
  <dc:language>en-US</dc:language>
  <cp:lastModifiedBy>HP</cp:lastModifiedBy>
  <dcterms:modified xsi:type="dcterms:W3CDTF">2020-04-23T19:16:32Z</dcterms:modified>
  <cp:revision>14</cp:revision>
  <dc:subject/>
  <dc:title>Liquid, Frozen, Dried, Concentrated And DVS Cultures</dc:title>
</cp:coreProperties>
</file>