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9513-08A3-483B-97EA-6EF7CC30917E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6C11-A9AA-46B2-8524-D4D3DD725986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0FF-B21A-48E6-9A87-9A189552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8B6-7407-49FA-9E8D-316E7C3D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9B2C0-FE18-443B-8B2D-4ED10DAC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BEFF1-C7A7-4BF5-9F8A-38681240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45303-AE9A-496D-AFAF-C55AF4A3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F8625-AB66-4F8D-B3E5-5CDE9347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F238A-CEB1-43AF-BCA4-623DFE05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F8850-48E3-4BEE-B57F-FA8721AE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6B984-8755-4D20-BAE9-4C18BC02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50999-7012-4193-9BB1-5425F2A1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E3B66-2A94-4446-974A-B500FF99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F3E00-0117-48E0-84CD-F9417F39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370-9ADA-4869-94C9-239C7A96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58D6B-BDBF-48E5-9761-19998D1C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7A5C6-F3BB-432D-9954-5DF0B84B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4F1CB-9C38-4D08-B9DC-BC95EC64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B5CAB-BC10-402A-8EC6-4FBBE34F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02585-2B54-4F77-851D-4A1B46E9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8CFA4-765A-42D0-BFCD-5456A7AC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E7BA5-0D70-4CB9-86AB-03C52EFF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A2611-E216-42D0-8EE2-0953AEB2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1AFE2-8A81-4639-91F3-7A2E2AAA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B8396-9B42-4DB6-9961-CD0E5F28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4A1-2681-42E3-903E-63FD449E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DF61E-05E7-486B-95EF-990768A4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68C53-7DE9-47C0-9F70-82CD8127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7ACF1-D1CD-4287-8F43-8D79F556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D528A-AF6D-42BD-A8AB-6372011D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AE9FF-E620-4381-AA88-CC02311E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2B8AE-5A0A-4A51-B25C-8DEB744A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677D2-50A2-4CB6-B99C-EC403DD2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5B407-7511-476F-A294-29173289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C89A1-6CA7-489C-B670-48C2D173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E3F48-E915-432E-9527-5FBB6898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46F8-4DCF-4DE6-BACC-EAFE2FCB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CDF72-9B10-4058-9FFE-28450CFF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A1821-81FF-4946-ADDE-5B6869FA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57F29-357D-43AA-BA58-1210D712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1E425-CC4B-4503-A6F3-3FBEBFEC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7109C-6F11-4B3E-BFC8-1FD7D174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EF1D6-B369-4C0B-896D-25530A31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2A4E1-244D-4C14-98D4-70BAE657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CD7B1-27C9-43EC-BCCC-7A6B18E6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17FF1-C6E6-478A-890F-9CA31CB5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8FA68-9F12-4185-B1D0-16840C59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DF54-901C-4991-A383-6B68FE1D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472A6-466B-46D9-AE9A-9A2CBED8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06616-9658-46BD-B2B4-92945C50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94685-124B-4BBD-9669-4EB8F237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22DA0-0255-4875-8D30-7E0D7FCE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CDEF0-5187-4840-9E0E-DE32F84A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F15BE-4014-4F97-A8B2-A8C1B489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96A99-B09A-4A8B-93FC-E54A48DD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10990-E4F3-42D0-B764-4A4910A3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D8661-FF6D-43E8-B5D1-A49C20A7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63781-21B9-4B74-B1CF-20E7A0F2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3489-588B-44E7-8D0D-B95705DB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DCA62-738F-40C1-B021-32DCA832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ADBE0-B933-47B9-B230-5AEF2DA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6AE42-7710-48DC-BF8E-9C1DE9E1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9B41D-55A5-43DA-BDE7-2A5E1980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CC883-E945-47AB-9E70-4B4A7996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87EE3-BB60-4C38-A002-E06B933E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3DDD0-9084-45F6-BD43-7B41196D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8B1DFD-2726-48F5-8E38-989E6914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D5DB1-EC64-4A71-B202-404E63B5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6E5AC-C0A5-485B-8892-A80ABE94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CCC2-C30E-41DD-806B-35F672DF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D32C6-E8E3-4BF5-ABD9-F0110B99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00B59-368D-49C9-8E98-462332E8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F7AE29-E6F0-4367-98E1-4325B866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643FE-EAB9-4B09-B1FC-F47F44C4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5501C-C1EE-49B6-BF4B-E0580BBD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9BBFE-0693-4F2E-A6EB-6894DD6F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7A431-9B6D-4849-9D8D-AB5539BE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C32B5-7E6E-403A-A1AA-F5760A78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9DAD1-FD34-4657-8A1A-5DDE51B4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D8D590-E845-4BC7-B87F-EDF794E9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2271-947D-4063-9945-17CF820B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BD9FDD-A0BC-468B-9E00-C9CBBE46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8173E-034A-4FF2-9DC1-6BE330D5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94ED2-6CFC-4DC1-94A9-FAFD41FF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4CBE2-7E2C-48B3-84A7-3B49AF1E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87644-D138-4FC8-9BBC-BFEB741E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35BA7-D607-460C-A005-2A619C71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6B6A7-94A4-46E4-A351-451BA25F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C4AD3-7B43-4791-8C94-5BD9CF4D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DF6A7-C3F5-4A18-810A-8287C4D3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F035A0-4351-4D8A-8366-5D292102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A8D2-778D-4D44-8A86-B4FD77D4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567E9-C151-4C6D-93B2-0B3DF9EC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BCE20-909D-4857-877C-8DF3D6FA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A8FCD-018E-42B3-8C98-C90A426B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7B69B6-1F31-470E-A841-1411C695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EEF061-6329-49E2-B42A-B1F91B09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FF3515-6C65-4B8F-9B1E-87BD53D0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5910F-9081-4982-AF04-1D9956E4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197FA-CB99-4DEC-A0F6-5072FAAA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CD1FB-D68E-4818-B3A3-AD321FE9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AD355-48F3-41B2-841F-599F0DA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87EB-1D73-4E67-A9A4-8C0D194A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239DC-C606-46EC-A7AA-9397DD43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F3DC2C-622C-4AD1-AC43-F650F119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10660-7255-4125-92F4-02DB8B40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4AE2B-46FA-4312-B554-06949C87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11D53-4F6E-459F-8009-37A434D3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C7549-BBA7-4669-BAB2-9DCA7B6D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C8E1C-D6DA-47D0-A1F9-7CA68BA4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54D26F-3F9F-4786-BB87-DD71CF54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5664DA-4B09-4231-93E0-716BD6F7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0799C-63B5-4756-850D-1D074D30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1E8-8509-4A14-861C-4B1FB393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F466-52E3-441B-AB8E-18FCB38D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93909-E83B-45C1-9492-2CAA55E4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F2E193-28BE-433F-8EEB-2310DBDE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31F99-C055-4E08-95FE-B53978FE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9B504-089C-4D6E-84CE-8A4B91D5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EFBF3-94E4-4EE7-BD19-7EC1DF30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089FB8-FE1A-4161-A732-C1E7C79E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749F31-45C9-48E1-A10C-40C48C36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6DF424-55EA-4305-AEC7-369F879E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E05AD-5774-47A9-B0F8-C9D2301B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5F590-B6F9-4FEC-9936-B79C4ACE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6D55-7B3D-462D-92DC-5597D419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7BBA1B-7BBD-477A-AF6F-D6C50834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6F22E-2E48-4D79-BB2E-4E389BAD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0C64E-81E1-4996-ABFC-C56B71B8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72C56-674C-4951-8FD5-4B121066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9AE006-9E04-4AB8-A9DD-D44F53AF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F6092-AFC3-4272-BD0A-1B74515B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D47A1-E656-453B-81AB-1E068240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7674-34CF-4318-99A3-C858C448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7914-6F62-4D37-8EB5-8009A6EA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B844-900D-490A-85DE-C0E086FF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F1C8D-C91D-4CF3-92EE-8FA6874C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74C4-4755-47EE-8038-5F48C993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A628-9B1F-4C18-9233-008F477A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D97E5-1D3E-44DF-B1C5-1B1AA5C1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E556-6B8F-4CA9-BF8C-DED49451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92A-BA4E-422C-B76E-D4CDA5B8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25831-C647-4BF9-83A7-4D7FCEF7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5E5C7-AE4D-4CD1-B972-977BAA82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60C0-CD78-4E10-9D32-0BE4745A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86B4-A6AA-456E-9912-64640866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273AD-9F48-4D6E-B5DA-6ACC8FFC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57F4-175B-4A9F-85D4-77490D06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C5F3-9EA4-4EB4-8F09-466EBA2A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91F47-E0B3-467B-899C-4E0E4A0A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EAD6-05E2-470F-B5A0-A49049EE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2BC8F-64BA-4094-900E-8CC7C51A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4C7-6A1F-4545-B3C8-998C3A14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668B2-AB78-45B8-AFEE-C94CF6C8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44C8D-7C88-4DD9-9C0A-A9954BA0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704DE-8A13-49A0-8D6F-AD7E8EF2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E3141-0F13-465B-BA1F-B2EF7758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C5A1B-3034-4E62-9065-FF0ACEE4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CA872-509A-4EFD-8788-0D02A8E4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26CA-47B4-4EBA-9CE6-A4E1EBC4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FBA7E-A2B9-47C3-A39A-E1355DEE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974A3-1D3F-4164-8322-BF0116BF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721F9-DF4E-412F-82C2-15C9A387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517-DC13-4FB9-9EB9-F363F5D7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E50F4-F098-4156-9D83-20DFCE2C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263E7-9219-431E-B9C5-4E34E497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08DF-1C2C-4648-BBFC-AEDCF9C2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7DF4D-0FCB-4065-AD5C-4807FB32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3D5B-2520-4E68-8A81-5565FF2B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08626-939F-4D75-A43C-A3FFEC62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EE17-E931-49DB-A6F1-FC7A959B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8F242-C046-454A-ABFB-6A5FF42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319A-AB42-4389-A7E2-0915F0E1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41666-1A6C-4218-BAB5-EA6CEDF9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B25-E0A5-45C3-B3C2-0B3EDFC9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CA00D-73E8-44B8-A12C-7907E687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4C1E0-A3A1-4744-A1F4-A2BDC5D4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76CE2-699F-4F4A-B153-110909AC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83A0-377D-4706-95BB-C2B1D774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A14F0-7E05-4183-9F92-723EE7A1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EF484-D7C1-4E9D-B622-132E1D56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31EFC-0DF5-46AD-9206-4DD3BF50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154C7-11DD-497D-A6DF-B7958076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CA729-9DDE-4FC0-8F03-D4EA44DA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A7B7-B234-4F97-8B42-30754E15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825-13E4-4722-AD4F-89226D3F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5C4B5-E913-46C8-9C59-B990EE84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40560-DFFC-46A9-A1F7-48010E6F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874AA-40D1-4FB0-B027-DC85946A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3C021-C731-4CEE-B1C8-D2983208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3C0BA-E24C-45DA-8C02-55543404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44CB0-6549-4BEF-A78D-2239B5B7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BB106-EFDC-4B0E-A1F7-06B9958D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179F4-C023-4D2C-A10B-699DDFB8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9B72B-EF3B-4F85-950B-939AA061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47A63-9E92-4914-94F5-FE1694E3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11D-B092-41FA-9029-3BD1186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0F1C4-74D5-46DB-9025-F05DD3E9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197E0-9D3D-42D5-9D9C-548A781E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44CD6-2E2D-4982-900F-8198F9BF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F55D7-A412-4FC5-8296-55075A75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42959-83E3-4033-B5E1-0EE5F342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24BB4-F091-4744-B2E1-6CDC4C5E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C900A-E5C0-4847-B32E-F0C922DE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F134A-0C2A-4645-9FD7-B4054FE6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68255-673F-48A7-B663-12F0375A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AC7F3-7BB9-4D8B-8F59-7AE922E1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788-2F66-46DF-9D13-10B32ADC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9EA55-768F-4661-94B8-408296FF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C69C6-C3CB-48B5-9FFF-D3460497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D8CBF-069B-4353-BD8C-4BBBE9CE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4C771-726C-4655-80CF-7A5FE03A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627A5-2220-4AEE-BA53-4C80E28F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F92E4-56C2-4C35-8FA6-38E81748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B4382-44FD-4F6E-81E3-C354B5FD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11FC7-242F-45F6-87A9-5411B8DD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025F4-773F-4103-AA11-997233DD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4F59C-DB6C-4D63-8D4F-C576A24C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8D64-2012-4B03-A53F-548A2094067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58E7-15F6-496A-A268-F3848172C6F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97D2-38A2-489B-BFA7-A76AF213B55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9AC3-0F13-460B-939A-C6BC0D08F60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43CF-E0FE-4F17-9CA5-78BCF38C0E2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8C0B-0D68-4FB1-9BAC-8732BA6F46F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831A-421A-49DB-BBB3-E6A92C913C5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8929-165B-40C4-8D59-1C65B3316CE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E321-EC69-49B3-8732-FEF4947503D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D5B2-E583-4BB0-9D5C-1CADD0855B8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5A8B-23F0-4675-8C96-2CA2EBDB5E8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CBC1-8255-495E-AD3F-169ADF12391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7135-6229-46B4-BA32-AA961359755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34D3-5206-4C31-849C-B781AE3282A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9A93-D726-4B3D-A185-79C8D630E1C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A891-07B6-4313-BD64-EC88DAD01ED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7D22-027E-4665-9D01-691938D677C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0C9F-F14D-4CFE-8F9C-887FB32D1C4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077480" y="1987560"/>
            <a:ext cx="7201080" cy="3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228600" y="3546360"/>
            <a:ext cx="87501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3" name="Picture 3" descr=""/>
          <p:cNvPicPr/>
          <p:nvPr/>
        </p:nvPicPr>
        <p:blipFill>
          <a:blip r:embed="rId1"/>
          <a:stretch/>
        </p:blipFill>
        <p:spPr>
          <a:xfrm>
            <a:off x="596880" y="1336680"/>
            <a:ext cx="1536840" cy="118116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4" descr=""/>
          <p:cNvPicPr/>
          <p:nvPr/>
        </p:nvPicPr>
        <p:blipFill>
          <a:blip r:embed="rId2"/>
          <a:stretch/>
        </p:blipFill>
        <p:spPr>
          <a:xfrm>
            <a:off x="7356600" y="1482840"/>
            <a:ext cx="1252440" cy="806400"/>
          </a:xfrm>
          <a:prstGeom prst="rect">
            <a:avLst/>
          </a:prstGeom>
          <a:ln w="0">
            <a:noFill/>
          </a:ln>
        </p:spPr>
      </p:pic>
      <p:sp>
        <p:nvSpPr>
          <p:cNvPr id="1255" name="Rectangle 6"/>
          <p:cNvSpPr/>
          <p:nvPr/>
        </p:nvSpPr>
        <p:spPr>
          <a:xfrm>
            <a:off x="2133720" y="1073160"/>
            <a:ext cx="505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art Fail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8"/>
          <p:cNvSpPr/>
          <p:nvPr/>
        </p:nvSpPr>
        <p:spPr>
          <a:xfrm>
            <a:off x="2286000" y="3371760"/>
            <a:ext cx="45720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partment of Veterinary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ihar Veterinary College, Pa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Bihar Animal Sciences University, Patna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13"/>
          <p:cNvSpPr/>
          <p:nvPr/>
        </p:nvSpPr>
        <p:spPr>
          <a:xfrm flipV="1" rot="10800000">
            <a:off x="2286000" y="3540600"/>
            <a:ext cx="45720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Pallav Shekh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tt. Profess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15"/>
          <p:cNvSpPr/>
          <p:nvPr/>
        </p:nvSpPr>
        <p:spPr>
          <a:xfrm>
            <a:off x="2403360" y="5645160"/>
            <a:ext cx="433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Box 2"/>
          <p:cNvSpPr/>
          <p:nvPr/>
        </p:nvSpPr>
        <p:spPr>
          <a:xfrm>
            <a:off x="2141640" y="5867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VCM -6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tiology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837720" y="2133360"/>
            <a:ext cx="7696440" cy="3778200"/>
          </a:xfrm>
          <a:prstGeom prst="rect">
            <a:avLst/>
          </a:prstGeom>
          <a:solidFill>
            <a:srgbClr val="c8bbaa"/>
          </a:solidFill>
          <a:ln cap="rnd" w="9360">
            <a:solidFill>
              <a:srgbClr val="987d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entury Gothic"/>
              </a:rPr>
              <a:t>Valvular disea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entury Gothic"/>
              </a:rPr>
              <a:t>Endocarditis resulting in either valvular stenosis or valvular insufficienc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entury Gothic"/>
              </a:rPr>
              <a:t>Congenital valvular defects – most </a:t>
            </a:r>
            <a:r>
              <a:rPr b="0" lang="en-IN" sz="1800" spc="-1" strike="noStrike">
                <a:solidFill>
                  <a:srgbClr val="000000"/>
                </a:solidFill>
                <a:latin typeface="Century Gothic"/>
              </a:rPr>
              <a:t>commonly valvular stenosis,  Rupture of valve or valve chorda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685800" y="1447920"/>
            <a:ext cx="7848720" cy="4464000"/>
          </a:xfrm>
          <a:prstGeom prst="rect">
            <a:avLst/>
          </a:prstGeom>
          <a:solidFill>
            <a:srgbClr val="ebbba3"/>
          </a:solidFill>
          <a:ln cap="rnd" w="9360">
            <a:solidFill>
              <a:srgbClr val="d4781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entury Gothic"/>
              </a:rPr>
              <a:t>Myocardial disea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entury Gothic"/>
              </a:rPr>
              <a:t>Myocarditis - bacterial, viral, parasitic or</a:t>
            </a:r>
            <a:r>
              <a:rPr b="0" lang="en-IN" sz="1800" spc="-1" strike="noStrike">
                <a:solidFill>
                  <a:srgbClr val="000000"/>
                </a:solidFill>
                <a:latin typeface="Century Gothic"/>
              </a:rPr>
              <a:t> toxi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entury Gothic"/>
              </a:rPr>
              <a:t>Myocardial degeneration - nutritiona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entury Gothic"/>
              </a:rPr>
              <a:t>toxi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RP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entury Gothic"/>
              </a:rPr>
              <a:t>Congenital or hereditar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Vascular resistance or impedanc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ardiac shun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Extracardiac shun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Heart worm disea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Types of CHF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9" name="Content Placeholder 3" descr=""/>
          <p:cNvPicPr/>
          <p:nvPr/>
        </p:nvPicPr>
        <p:blipFill>
          <a:blip r:embed="rId1"/>
          <a:stretch/>
        </p:blipFill>
        <p:spPr>
          <a:xfrm>
            <a:off x="901800" y="2044800"/>
            <a:ext cx="779760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LEFT CONGESTIVE HEART FAILUR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ff0000"/>
                </a:solidFill>
                <a:latin typeface="Century Gothic"/>
              </a:rPr>
              <a:t>Left backward failure will result in increased pulmonary venous pressures and ultimately pulmonary oedema</a:t>
            </a:r>
            <a:r>
              <a:rPr b="1" lang="en-IN" sz="1800" spc="-1" strike="noStrike">
                <a:solidFill>
                  <a:srgbClr val="ff000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ff0000"/>
                </a:solidFill>
                <a:latin typeface="Century Gothic"/>
              </a:rPr>
              <a:t>Breathlessness is therefore a very sensitive index of left backward failur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28653"/>
                </a:solidFill>
                <a:latin typeface="Century Gothic"/>
              </a:rPr>
              <a:t>RIGHT CONGESTIVE HEART FAILUR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728653"/>
                </a:solidFill>
                <a:latin typeface="Century Gothic"/>
              </a:rPr>
              <a:t> </a:t>
            </a:r>
            <a:r>
              <a:rPr b="1" lang="en-IN" sz="1800" spc="-1" strike="noStrike">
                <a:solidFill>
                  <a:srgbClr val="728653"/>
                </a:solidFill>
                <a:latin typeface="Century Gothic"/>
              </a:rPr>
              <a:t>Right backward failure will result in increased pressure in the vena cava, jugular distension, liver congestion, ascites and pleural effusion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1" name="Picture 2" descr="Which diagram is correct for the circulation of bl toppr.com"/>
          <p:cNvPicPr/>
          <p:nvPr/>
        </p:nvPicPr>
        <p:blipFill>
          <a:blip r:embed="rId1"/>
          <a:stretch/>
        </p:blipFill>
        <p:spPr>
          <a:xfrm>
            <a:off x="1344600" y="1371600"/>
            <a:ext cx="7189920" cy="5029200"/>
          </a:xfrm>
          <a:prstGeom prst="rect">
            <a:avLst/>
          </a:prstGeom>
          <a:ln w="0">
            <a:noFill/>
          </a:ln>
        </p:spPr>
      </p:pic>
      <p:sp>
        <p:nvSpPr>
          <p:cNvPr id="1282" name="Left Arrow 3"/>
          <p:cNvSpPr/>
          <p:nvPr/>
        </p:nvSpPr>
        <p:spPr>
          <a:xfrm>
            <a:off x="8077320" y="4343400"/>
            <a:ext cx="9144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ight Arrow 4"/>
          <p:cNvSpPr/>
          <p:nvPr/>
        </p:nvSpPr>
        <p:spPr>
          <a:xfrm>
            <a:off x="5334120" y="3581280"/>
            <a:ext cx="533160" cy="2286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ight Arrow 6"/>
          <p:cNvSpPr/>
          <p:nvPr/>
        </p:nvSpPr>
        <p:spPr>
          <a:xfrm>
            <a:off x="5257800" y="579132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5" name="Picture 2" descr="Right versus Left sided heart failure (With images) | Cardiac ..."/>
          <p:cNvPicPr/>
          <p:nvPr/>
        </p:nvPicPr>
        <p:blipFill>
          <a:blip r:embed="rId1"/>
          <a:stretch/>
        </p:blipFill>
        <p:spPr>
          <a:xfrm>
            <a:off x="1393920" y="762120"/>
            <a:ext cx="7521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944360" y="699840"/>
            <a:ext cx="658980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200" spc="-1" strike="noStrike">
                <a:solidFill>
                  <a:srgbClr val="262626"/>
                </a:solidFill>
                <a:latin typeface="Century Gothic"/>
              </a:rPr>
              <a:t>Right Congestive Heart Failure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533160" y="1523520"/>
            <a:ext cx="80010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The right atrium receives systemic and cardiac venous and lymphatic drainage via the cranial and caudal vena cavae and the coronary sinu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Right atrial pressure increases as right heart disease worsens due to diseases such as tricuspid valve insufficiency and pulmonary hypertens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solidFill>
            <a:srgbClr val="9f8351"/>
          </a:solidFill>
          <a:ln cap="rnd" w="15840">
            <a:solidFill>
              <a:srgbClr val="745f39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Backward Failur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89" name="Picture 2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solidFill>
            <a:srgbClr val="de7e18"/>
          </a:solidFill>
          <a:ln cap="rnd" w="15840">
            <a:solidFill>
              <a:srgbClr val="a35b0e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Backward Failur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1942920" y="2133720"/>
            <a:ext cx="6591240" cy="1371600"/>
          </a:xfrm>
          <a:prstGeom prst="rect">
            <a:avLst/>
          </a:prstGeom>
          <a:solidFill>
            <a:srgbClr val="728653"/>
          </a:solidFill>
          <a:ln cap="rnd" w="22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ffffff"/>
                </a:solidFill>
                <a:latin typeface="Century Gothic"/>
              </a:rPr>
              <a:t>Backward (congestive) failure refers to the damming back of blood behind the failing heart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74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Introduc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VS comprises of Heart Vein and arterie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V and Semilunar Valves Keeps blood flowing in one direc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More than 10% all domestic animals have CVD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Clinical Sig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1218960" y="2209680"/>
            <a:ext cx="69339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Distended Jugular Vei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leural effus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Hepatomegal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scit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ff0000"/>
                </a:solidFill>
                <a:latin typeface="Century Gothic"/>
              </a:rPr>
              <a:t>Left backward failure will result in increased pulmonary venous pressures and ultimately pulmonary oedema</a:t>
            </a:r>
            <a:r>
              <a:rPr b="1" lang="en-IN" sz="18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IN" sz="1800" spc="-1" strike="noStrike">
                <a:solidFill>
                  <a:srgbClr val="ff0000"/>
                </a:solidFill>
                <a:latin typeface="Century Gothic"/>
              </a:rPr>
              <a:t>Breathlessness is therefore a very sensitive index of left backward failur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5" name="TextBox 1"/>
          <p:cNvSpPr/>
          <p:nvPr/>
        </p:nvSpPr>
        <p:spPr>
          <a:xfrm>
            <a:off x="1676520" y="9907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ff0000"/>
                </a:solidFill>
                <a:latin typeface="Arial"/>
                <a:ea typeface="Arial"/>
              </a:rPr>
              <a:t>LEFT CONGESTIVE HEAR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24040"/>
          </a:xfrm>
          <a:prstGeom prst="rect">
            <a:avLst/>
          </a:prstGeom>
          <a:solidFill>
            <a:srgbClr val="9f8351"/>
          </a:solidFill>
          <a:ln cap="rnd" w="15840">
            <a:solidFill>
              <a:srgbClr val="745f39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Backward   Failur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97" name="Picture 2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solidFill>
            <a:srgbClr val="de7e18"/>
          </a:solidFill>
          <a:ln cap="rnd" w="15840">
            <a:solidFill>
              <a:srgbClr val="a35b0e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Forward Failur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1942920" y="2133720"/>
            <a:ext cx="6591240" cy="2286000"/>
          </a:xfrm>
          <a:prstGeom prst="rect">
            <a:avLst/>
          </a:prstGeom>
          <a:solidFill>
            <a:srgbClr val="9f8351"/>
          </a:solidFill>
          <a:ln cap="rnd" w="15840">
            <a:solidFill>
              <a:srgbClr val="745f3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ffffff"/>
                </a:solidFill>
                <a:latin typeface="Century Gothic"/>
              </a:rPr>
              <a:t>Forward failure refers to the inability of the heart to pump blood in a forward direction, i.e. out through the aorta. This results in a reduction in systemic blood pressure, which acts as the primary stimulus to inciting the reflex compensatory mechanism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747720"/>
          </a:xfrm>
          <a:prstGeom prst="rect">
            <a:avLst/>
          </a:prstGeom>
          <a:solidFill>
            <a:srgbClr val="de7e18"/>
          </a:solidFill>
          <a:ln cap="rnd" w="15840">
            <a:solidFill>
              <a:srgbClr val="a35b0e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nical Sig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Mainly pulmonary components, which on exertion cause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ough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aroxysmal dyspnea or cardiac asthma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yanosi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Hemoptysi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Varying degrees of pulmonary edema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N" sz="16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Diagnosi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4568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Histor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Clinical Sign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Physical Examination                     </a:t>
            </a:r>
            <a:r>
              <a:rPr b="1" lang="en-IN" sz="2400" spc="-1" strike="noStrike">
                <a:solidFill>
                  <a:srgbClr val="ff0000"/>
                </a:solidFill>
                <a:latin typeface="Century Gothic"/>
              </a:rPr>
              <a:t>SRR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EC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X r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Echocardiograph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671400"/>
          </a:xfrm>
          <a:prstGeom prst="rect">
            <a:avLst/>
          </a:prstGeom>
          <a:solidFill>
            <a:srgbClr val="de7e18"/>
          </a:solidFill>
          <a:ln cap="rnd" w="15840">
            <a:solidFill>
              <a:srgbClr val="a35b0e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reat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a53010"/>
              </a:buClr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educe cardiac work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a53010"/>
              </a:buClr>
              <a:buFont typeface="Century Gothic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educe excessive volume overload (preload) and cardiac dilation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(3) Improve cardiac efficiency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600200" y="623520"/>
            <a:ext cx="6934320" cy="671400"/>
          </a:xfrm>
          <a:prstGeom prst="rect">
            <a:avLst/>
          </a:prstGeom>
          <a:solidFill>
            <a:srgbClr val="de7e18"/>
          </a:solidFill>
          <a:ln cap="rnd" w="15840">
            <a:solidFill>
              <a:srgbClr val="a35b0e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educe cardiac Work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45720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Res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ardiac work can be reduced by rest, reducing arterial pressure (afterload) by counteracting the excessive vasoconstriction and reducing the filling pressure (preload)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rterial and venous pressures can be reduced by the use of vasodilator drugs, e.g. hydralazine, nitroglycerine (glyceryl trinitrate), enalapril or benazepril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reload is also reduced by reducing the volume overload, e.g. by diuresi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Vasodilator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609480" y="17521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Vasodilators exert a positive effect in CHF through dilating  systemic arterioles and Vein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Nitrates( Nitroglycerin, Sodium nitroprusside)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Dramatically reduce Preload and after loa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Sodium nitroprusside is used as 5mcg/kg/h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mlodipine(Calcium Channel Blockers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                  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Eg; Atenolol: 6.25-12.5mg/kg/d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671400"/>
          </a:xfrm>
          <a:prstGeom prst="rect">
            <a:avLst/>
          </a:prstGeom>
          <a:solidFill>
            <a:srgbClr val="9f8351"/>
          </a:solidFill>
          <a:ln cap="rnd" w="15840">
            <a:solidFill>
              <a:srgbClr val="745f39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educing Volume Overload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990360" y="21333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These can be reduced by cutting sodium intake, e.g. low salt diets, diuresis and inhibition of angiotensin converting enzyme (thus production of angiotensin II and aldosterone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CE inhibito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Enalapril    0.5mg/kg orally  twic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Benazepril  0.25mg-0.5mg/kg/d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47560" y="623520"/>
            <a:ext cx="7086600" cy="824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Evaluation of Heart Diseas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914040" y="2057040"/>
            <a:ext cx="762012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Heart sound and Murmu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rterial Pul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Degree of Juglar Vein distens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Strength and location of the apex be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EC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adiograph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ardiac biomarke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Echocardiograph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Diuretic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609480" y="1295280"/>
            <a:ext cx="79250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Useful in Oedema and Effusion in HF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Loop Diuretic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Furosemid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IV onset of action is 5 min, oral 60 mi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Emergency treatment of Pulmonary edema require high doses IV or IM 4-8mg/kg for dogs and 2-4mg/kg for cat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Spironolactone: 1-3 mg/kg body Wt. one or twic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294920" y="623520"/>
            <a:ext cx="7239240" cy="824040"/>
          </a:xfrm>
          <a:prstGeom prst="rect">
            <a:avLst/>
          </a:prstGeom>
          <a:solidFill>
            <a:srgbClr val="de7e18"/>
          </a:solidFill>
          <a:ln cap="rnd" w="15840">
            <a:solidFill>
              <a:srgbClr val="a35b0e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mproving myocardial efficiency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1219320" y="2057040"/>
            <a:ext cx="731520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Improving myocardial efficiency may be attempted with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ositive inotropic drug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ositive lusitrop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ntiarrhthymic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Positive inotrop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1143000" y="1905120"/>
            <a:ext cx="73915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imobendan: AV valve insufficiency and DCM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0.2-0.3mg/kg body wt bi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Digoxin: Weak positive inotrop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0.003-0.005mg/kg body weigh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 txBox="1"/>
          <p:nvPr/>
        </p:nvSpPr>
        <p:spPr>
          <a:xfrm>
            <a:off x="990720" y="1294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In general larger the species slower the rate of discharge from SA and slower the Hear Rat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Norepinehrine-Symapthetic nerves-B 1 Cell of SA node- Increase in Discharg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( B adrenergic blocker- Atenolol, propranolol etc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arasympathetic (Vagus)-Acetycholine-binds to cholinergic receptor – Decrease the discharge of SA ton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(Vagolytic compound-Atropine, Glycopyrollate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ff0000"/>
                </a:solidFill>
                <a:latin typeface="Century Gothic"/>
              </a:rPr>
              <a:t>RSA-  Inspiration-Decreased Vagal Activity-Inc H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ff0000"/>
                </a:solidFill>
                <a:latin typeface="Century Gothic"/>
              </a:rPr>
              <a:t>          </a:t>
            </a:r>
            <a:r>
              <a:rPr b="1" lang="en-IN" sz="1800" spc="-1" strike="noStrike">
                <a:solidFill>
                  <a:srgbClr val="ff0000"/>
                </a:solidFill>
                <a:latin typeface="Century Gothic"/>
              </a:rPr>
              <a:t>Expiration-Inc Vagal activity- Dec HR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ff0000"/>
                </a:solidFill>
                <a:latin typeface="Century Gothic"/>
              </a:rPr>
              <a:t>          </a:t>
            </a:r>
            <a:r>
              <a:rPr b="1" lang="en-IN" sz="1800" spc="-1" strike="noStrike">
                <a:solidFill>
                  <a:srgbClr val="ff0000"/>
                </a:solidFill>
                <a:latin typeface="Century Gothic"/>
              </a:rPr>
              <a:t>(Respiratory Sinus Arrhythmia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Merey Reflex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         </a:t>
            </a: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Heart Failur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685800" y="2133360"/>
            <a:ext cx="78487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eart failure is not  a specific diseas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t is a syndrome in which severe dysfunction results in failure of the cardiovascular system to maintain adequate blood circulation.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 txBox="1"/>
          <p:nvPr/>
        </p:nvSpPr>
        <p:spPr>
          <a:xfrm>
            <a:off x="4568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eart failure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, the blood flow is insufficient to supply organs with enough oxygenated blood for proper func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epending on the degree of severity, signs of heart failure may appear while the dog is at res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uring mild exertion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O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uring moderate or extreme exercis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Heart Failur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990360" y="213336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hronic Heart Failur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cute Heart Failur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Content Placeholder 3" descr=""/>
          <p:cNvPicPr/>
          <p:nvPr/>
        </p:nvPicPr>
        <p:blipFill>
          <a:blip r:embed="rId1"/>
          <a:stretch/>
        </p:blipFill>
        <p:spPr>
          <a:xfrm>
            <a:off x="1447920" y="1227240"/>
            <a:ext cx="6933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Chronic Heart Failur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6854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Heart failure is the most common clinical presentation of dogs and cats with heart diseas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ongestive heart failure (CHF) implies that there is a </a:t>
            </a:r>
            <a:r>
              <a:rPr b="1" lang="en-IN" sz="1800" spc="-1" strike="noStrike">
                <a:solidFill>
                  <a:srgbClr val="ff0000"/>
                </a:solidFill>
                <a:latin typeface="Century Gothic"/>
              </a:rPr>
              <a:t>damming back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of blood behind the failing heart, into the </a:t>
            </a:r>
            <a:r>
              <a:rPr b="1" lang="en-IN" sz="1800" spc="-1" strike="noStrike">
                <a:solidFill>
                  <a:srgbClr val="ff0000"/>
                </a:solidFill>
                <a:latin typeface="Century Gothic"/>
              </a:rPr>
              <a:t>pulmonary or systemic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irculations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ongestive heart failure is a sequel to many of the various causes of heart failur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ijayakumar</dc:creator>
  <dc:description/>
  <dc:language>en-US</dc:language>
  <cp:lastModifiedBy>Windows User</cp:lastModifiedBy>
  <dcterms:modified xsi:type="dcterms:W3CDTF">2020-05-20T15:51:00Z</dcterms:modified>
  <cp:revision>301</cp:revision>
  <dc:subject/>
  <dc:title>Major credit seminar  on Prostatic disorders in dogs - An overview</dc:title>
</cp:coreProperties>
</file>