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98B-3A55-4D58-8CE3-D9399752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39E-3683-47A1-8135-B9A98880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533-65B1-4140-9904-3ECA4417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FE2-AD69-45B3-B563-69A8B53F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589-94D6-445D-B21F-FA05CFD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05E-6833-4E17-A883-61CDC1B9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A54-87B1-443B-84CF-B6266DCE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EEE-F351-4F68-A4DF-798196F7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946-1518-4069-AB07-98733CD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1BE-495B-4BC6-9099-76B8F8B8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6A2-D0C9-4F69-A998-1619D49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6FF-C4BE-46EF-8275-B65E984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6994-F6CE-4953-B03A-3338BE27AA9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2084400" y="2792520"/>
            <a:ext cx="30002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1279440" y="1457280"/>
            <a:ext cx="6797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h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356840"/>
            <a:ext cx="84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FA rules (2006), defines dahi or curd as : ―It is the product obtained from pasteurized or PFA rules (2006), defines dahi or curd as : ―It is the product obtained from pasteurized or  milk boiled milk by souring, natural or otherwise, by aharmless lactic acid or other bacterial  culture. Dahi may contain added canesug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071800" y="2142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assification of DA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5T17:24:30Z</dcterms:created>
  <dc:creator>HP</dc:creator>
  <dc:description/>
  <dc:language>en-US</dc:language>
  <cp:lastModifiedBy>HP</cp:lastModifiedBy>
  <dcterms:modified xsi:type="dcterms:W3CDTF">2020-05-15T19:37:35Z</dcterms:modified>
  <cp:revision>7</cp:revision>
  <dc:subject/>
  <dc:title>Slide 1</dc:title>
</cp:coreProperties>
</file>