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13.png" ContentType="image/png"/>
  <Override PartName="/ppt/media/image12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9.wmf" ContentType="image/x-wmf"/>
  <Override PartName="/ppt/media/image1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E96D6-CCC7-4589-96F0-A5AAD412C1DF}" type="slidenum">
              <a:rPr b="0" lang="en-I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367C8-097B-4E64-B8AB-A1081B7F0CA4}" type="slidenum">
              <a:rPr b="0" lang="en-I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BAF41-0A75-4C93-AEE9-17FBE2C58965}" type="slidenum">
              <a:rPr b="0" lang="en-I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515DE-2EDB-423C-82AE-F220A30A6770}" type="slidenum">
              <a:rPr b="0" lang="en-I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E14D4-65E5-409F-BA8A-085D51594232}" type="slidenum">
              <a:rPr b="0" lang="en-I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3798E-869B-4613-A8B2-5637B0F5997F}" type="slidenum">
              <a:rPr b="0" lang="en-I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99181-AEA4-4FD6-82DF-34B41D3FD104}" type="slidenum">
              <a:rPr b="0" lang="en-I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E1D0B-2B42-4905-B112-5DB969A5892E}" type="slidenum">
              <a:rPr b="0" lang="en-I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8647D-45E5-4920-B87F-3854745E9183}" type="slidenum">
              <a:rPr b="0" lang="en-I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1C31-4D55-4A0E-934B-9CF45BFEF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CD54-962E-4ABB-A9D6-39CFAE364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1AFB-6AB5-4171-885F-B34FE6F42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5DF3-4F3C-4317-89E8-747497521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F014A-34B6-4225-8970-F18FF9DA2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8DB03-6ED0-4E12-892B-F14B1824B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EE431-0DDA-4AC5-B89B-6829330EB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5A21D-0F62-40D6-A3E0-4B3EAF3C8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483AD-5931-4A99-8FD5-1CDBAF2C7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638D9-3BE4-4944-A96A-BB445CDB7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16DC8-AB96-478E-B92F-1A4E7E5FD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85A2-23A7-4EDA-ABC8-915EA9A4E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1925C-2F34-4BDB-A905-8986DACD8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5CF0D-1257-4B8F-BED6-0135D54CA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5D5D7-4075-44AA-8DB3-78CD59231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4B979-0081-4096-A118-5D1A57BC2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4F625-FBBC-4660-8DA9-2F05FAAE5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7FE6-9C12-4458-89F2-DAFFDB5D0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0F67-5973-46F4-BF83-007AA4A8A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2B42-0755-4A73-9636-B75E2D923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C0BA-BA1A-4DAA-9B30-03B351213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07D6-A648-4D09-8E40-C32EA14D9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3ED7-3686-4629-A98A-44C970594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6CF9-1B63-49B0-8E1E-EEA8236ED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681DE-DB32-4281-8DB9-D230993A5DD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16DF2-3482-4BAB-BA42-B9468D4B22F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04560" y="1584360"/>
            <a:ext cx="8450280" cy="3416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648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cording to the law, animals should be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stunn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or unconsciousness prior to their slaughter to ensure a quick, relatively painless death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65040" indent="-282600" algn="just">
              <a:spcBef>
                <a:spcPts val="6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65040" indent="-282600" algn="just">
              <a:spcBef>
                <a:spcPts val="6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unning has two purpose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          </a:t>
            </a: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1. To induce an immediate state of insensibilit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          </a:t>
            </a: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2.To produce sufficient immobility to facilitat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             </a:t>
            </a:r>
            <a:r>
              <a:rPr b="0" lang="en-US" sz="2400" spc="-1" strike="noStrike">
                <a:solidFill>
                  <a:srgbClr val="990000"/>
                </a:solidFill>
                <a:latin typeface="Comic Sans MS"/>
              </a:rPr>
              <a:t>the sticking process to initiate bleeding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Rectangle 1"/>
          <p:cNvSpPr/>
          <p:nvPr/>
        </p:nvSpPr>
        <p:spPr>
          <a:xfrm>
            <a:off x="2004120" y="533520"/>
            <a:ext cx="530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65040" indent="-282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32b03"/>
                </a:solidFill>
                <a:latin typeface="Arial"/>
              </a:rPr>
              <a:t>Humane Slaugh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5" descr=""/>
          <p:cNvPicPr/>
          <p:nvPr/>
        </p:nvPicPr>
        <p:blipFill>
          <a:blip r:embed="rId1"/>
          <a:stretch/>
        </p:blipFill>
        <p:spPr>
          <a:xfrm>
            <a:off x="77760" y="142920"/>
            <a:ext cx="1523880" cy="10177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"/>
          <p:cNvPicPr/>
          <p:nvPr/>
        </p:nvPicPr>
        <p:blipFill>
          <a:blip r:embed="rId2"/>
          <a:stretch/>
        </p:blipFill>
        <p:spPr>
          <a:xfrm>
            <a:off x="7585200" y="128520"/>
            <a:ext cx="142848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chanism of ac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85345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mediate &amp; permanent insensibility by destruction of cortex &amp; deeper parts of brai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pid rise and fall in intracranial pressu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dden jerk due to energy bolt imparts to head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celeration concuss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sults in depolarization of neurons in brain including that of corte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 force in producing unconsciousne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elocity of bol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eed with which it strikes brai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AutoShape 4"/>
          <p:cNvSpPr/>
          <p:nvPr/>
        </p:nvSpPr>
        <p:spPr>
          <a:xfrm>
            <a:off x="5943600" y="2666880"/>
            <a:ext cx="304920" cy="609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1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Velocity in different speci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eers , heifers &amp;cow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55 m/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ng bulls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65-70 m/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isadvantages of CB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ise produced during oper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gular maintenance requir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not be used when higher line speed is required (240-250/hr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struction of brain &amp; hence not edi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rain tissue embolism in pulmonary artery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neumatic stunn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olt activated under pressure of 80-120 ps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AutoShape 4"/>
          <p:cNvSpPr/>
          <p:nvPr/>
        </p:nvSpPr>
        <p:spPr>
          <a:xfrm>
            <a:off x="304920" y="2133720"/>
            <a:ext cx="380880" cy="38088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5"/>
          <p:cNvSpPr/>
          <p:nvPr/>
        </p:nvSpPr>
        <p:spPr>
          <a:xfrm>
            <a:off x="304920" y="4648320"/>
            <a:ext cx="380880" cy="38088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6"/>
          <p:cNvSpPr/>
          <p:nvPr/>
        </p:nvSpPr>
        <p:spPr>
          <a:xfrm>
            <a:off x="304920" y="685800"/>
            <a:ext cx="380880" cy="38088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ater jet stunning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e jet of water to penetrate skul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.5mm jet at pressure of 3500 to 4000 ba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rills through skin &amp; skull in 0.2 -0.4 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ode of action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chanically destroys brain by induction of laceration ,crushing &amp;shock wav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sults in immediate unconsciousne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uses convulsion due to destruction of brain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vented by immobilizing current of 250mA &amp; 40 vol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at of superior quality than C02/electrical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unn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2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on penetrative percussion stunner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unner with mushroom hea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d in calve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rain is edi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icking to stunning interv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n penetrative stunner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&lt;30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netrative stunn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ttle             &lt;  60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heep &amp; goat  &lt; 15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lves             &lt;  10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ypical signs in percussive stunn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mediate collapse of animal by tonic spasm lasting 10 to 15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low clonic movement of hind leg &amp;eventually vigorous hind leg movem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easing of rhythmic breath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yeball should face outward with a fixed gaze &amp; not be rotated inward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ead site for percussive stunn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696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dult cattl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middle of forehead where 2 lines taken from median canthus of eye to base of opp horn me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alve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slightly down on head than for adult catt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Bulls &amp; old cows-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1.5cm to side of ridge running down centre of forehea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Hornless sheep &amp; goa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- top of head aimed towards gull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Horned sheep &amp;goa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behind ridge running between hor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ig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-2.5cm above level of eyes &amp;fired upward cranial cavit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rned sheep &amp;goat – behind ridge running between horn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2475000" y="1905120"/>
            <a:ext cx="4114800" cy="350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ult cattle –middle of forehead where 2 lines taken from median canthus of eye to base of opp horn mee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8" name="Picture 4" descr=""/>
          <p:cNvPicPr/>
          <p:nvPr/>
        </p:nvPicPr>
        <p:blipFill>
          <a:blip r:embed="rId1"/>
          <a:stretch/>
        </p:blipFill>
        <p:spPr>
          <a:xfrm>
            <a:off x="2681280" y="2260440"/>
            <a:ext cx="3735360" cy="292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6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5943600" cy="445608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Comic Sans MS"/>
              </a:rPr>
              <a:t>Pigs -2.5cm above level of eyes &amp;fired upward cranial cavity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Gaseous or chemical stunn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2 is most commonly us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80 %to 95 % concn is most suita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igh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iff carca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flex muscular activ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cn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oor bleed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w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mproperly stunn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ng exposur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perficial congestion of ski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Line 7"/>
          <p:cNvSpPr/>
          <p:nvPr/>
        </p:nvSpPr>
        <p:spPr>
          <a:xfrm>
            <a:off x="1828800" y="40384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9"/>
          <p:cNvSpPr/>
          <p:nvPr/>
        </p:nvSpPr>
        <p:spPr>
          <a:xfrm rot="13871400">
            <a:off x="2439000" y="2818440"/>
            <a:ext cx="244440" cy="1008000"/>
          </a:xfrm>
          <a:prstGeom prst="downArrow">
            <a:avLst>
              <a:gd name="adj1" fmla="val 50000"/>
              <a:gd name="adj2" fmla="val 103093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10"/>
          <p:cNvSpPr/>
          <p:nvPr/>
        </p:nvSpPr>
        <p:spPr>
          <a:xfrm rot="18334800">
            <a:off x="2449440" y="3570120"/>
            <a:ext cx="228600" cy="1012680"/>
          </a:xfrm>
          <a:prstGeom prst="downArrow">
            <a:avLst>
              <a:gd name="adj1" fmla="val 50000"/>
              <a:gd name="adj2" fmla="val 110748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685800" y="1294920"/>
            <a:ext cx="50292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65040" indent="-282600" algn="just">
              <a:lnSpc>
                <a:spcPct val="80000"/>
              </a:lnSpc>
              <a:spcBef>
                <a:spcPts val="649"/>
              </a:spcBef>
              <a:buSzPct val="10282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Animals are transferred from </a:t>
            </a:r>
            <a:r>
              <a:rPr b="0" lang="en-US" sz="2600" spc="-1" strike="noStrike">
                <a:solidFill>
                  <a:srgbClr val="cc3300"/>
                </a:solidFill>
                <a:latin typeface="Bookman Old Style"/>
              </a:rPr>
              <a:t>lairage</a:t>
            </a: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 pens directly through race into an </a:t>
            </a:r>
            <a:r>
              <a:rPr b="0" lang="en-US" sz="2600" spc="-1" strike="noStrike">
                <a:solidFill>
                  <a:srgbClr val="cc3300"/>
                </a:solidFill>
                <a:latin typeface="Bookman Old Style"/>
              </a:rPr>
              <a:t>area of stunning and slaughtering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65040" indent="-282600" algn="just">
              <a:lnSpc>
                <a:spcPct val="80000"/>
              </a:lnSpc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65040" indent="-282600" algn="just">
              <a:lnSpc>
                <a:spcPct val="80000"/>
              </a:lnSpc>
              <a:spcBef>
                <a:spcPts val="649"/>
              </a:spcBef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For mechanical and electrical stunning animal heads is presented in such a position that the </a:t>
            </a:r>
            <a:r>
              <a:rPr b="0" lang="en-US" sz="2600" spc="-1" strike="noStrike">
                <a:solidFill>
                  <a:srgbClr val="cc3300"/>
                </a:solidFill>
                <a:latin typeface="Bookman Old Style"/>
              </a:rPr>
              <a:t>equipment can be applied easily </a:t>
            </a:r>
            <a:r>
              <a:rPr b="0" lang="en-US" sz="2600" spc="-1" strike="noStrike">
                <a:solidFill>
                  <a:srgbClr val="000000"/>
                </a:solidFill>
                <a:latin typeface="Bookman Old Style"/>
              </a:rPr>
              <a:t>(shelf type head restraint is most successful)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3" name="Rounded Rectangle 3"/>
          <p:cNvGrpSpPr/>
          <p:nvPr/>
        </p:nvGrpSpPr>
        <p:grpSpPr>
          <a:xfrm>
            <a:off x="774720" y="341280"/>
            <a:ext cx="8137440" cy="963720"/>
            <a:chOff x="774720" y="341280"/>
            <a:chExt cx="8137440" cy="963720"/>
          </a:xfrm>
        </p:grpSpPr>
        <p:pic>
          <p:nvPicPr>
            <p:cNvPr id="164" name="Rounded Rectangle 3" descr=""/>
            <p:cNvPicPr/>
            <p:nvPr/>
          </p:nvPicPr>
          <p:blipFill>
            <a:blip r:embed="rId4"/>
            <a:stretch/>
          </p:blipFill>
          <p:spPr>
            <a:xfrm>
              <a:off x="774720" y="341280"/>
              <a:ext cx="813744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944640" y="487440"/>
              <a:ext cx="778824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Bookman Old Style"/>
                </a:rPr>
                <a:t>The pre-slaughter handlin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6" name="Picture 2" descr="F:\all files\all\LPT-601\Study Materials-LPT-601\slaughter tchnique\Humane_Slaughter_Act_files\300px-CattleRestrainedForSlaughter.jpg"/>
          <p:cNvPicPr/>
          <p:nvPr/>
        </p:nvPicPr>
        <p:blipFill>
          <a:blip r:embed="rId5"/>
          <a:stretch/>
        </p:blipFill>
        <p:spPr>
          <a:xfrm>
            <a:off x="5867280" y="3962520"/>
            <a:ext cx="2971800" cy="2133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C:\prashanth\meat hygiene assgn\images\vlcsnap-2011-05-01-20h34m00s172.png"/>
          <p:cNvPicPr/>
          <p:nvPr/>
        </p:nvPicPr>
        <p:blipFill>
          <a:blip r:embed="rId6"/>
          <a:stretch/>
        </p:blipFill>
        <p:spPr>
          <a:xfrm>
            <a:off x="5867280" y="1600200"/>
            <a:ext cx="2971800" cy="2057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riod of exposure -45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overy time – 90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leeding to be done within 30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ypes of apparat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 Oval tunnel/comb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d when line speed is up to 600 pigs/h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unnel in the form of oval through which slot conveyer carries the pi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unnel sloping down at an angle of 30 to anasth chamb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tual conveyer divided into 10 compartm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igs up to 113kg can be handled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59000" y="151920"/>
            <a:ext cx="6261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Comic Sans MS"/>
              </a:rPr>
              <a:t>Oval tunnel/combi syste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9" name="Picture 4" descr="jjj"/>
          <p:cNvPicPr/>
          <p:nvPr/>
        </p:nvPicPr>
        <p:blipFill>
          <a:blip r:embed="rId1"/>
          <a:stretch/>
        </p:blipFill>
        <p:spPr>
          <a:xfrm>
            <a:off x="1676520" y="1981080"/>
            <a:ext cx="5486400" cy="37926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914760" y="-533880"/>
            <a:ext cx="59562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  Dip lif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itable to pig of any size as well as sheep &amp; calv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ge(213cm length 68cm height &amp; 53cm wid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scent to CO2 pit &amp;remain for preset tim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turn to ground level ejecting unconscious animal for shackling &amp; bleeding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itable for small meat pla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3 Compact CO2immobiliser/ferri’s whe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orizontally revolving apparatus divided into 4 to 8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partme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en 1 section is uppermost for loading the other section are rotating to submerge in gas chamb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itable when line speed up to 300 pigs/h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vantages of CO2 stunn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laxed carcass allowing easy dehairing &amp;dress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ess noise &amp;reduced labour requireme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creased blood yield by 0.75% as CO2 stimulates respiration thus favoring circulation &amp;better bleed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one fractures and muscular haemorrhages reduc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SE conditoin is reduced greatl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isadvantages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eds more room ,High capital investment &amp;hence unsuitable for small plant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Comic Sans MS"/>
              </a:rPr>
              <a:t>Apparatus for CO2 stunn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1"/>
          <a:stretch/>
        </p:blipFill>
        <p:spPr>
          <a:xfrm>
            <a:off x="1330200" y="1828800"/>
            <a:ext cx="640728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ypical signs in CO2 stunn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55640" y="2257200"/>
            <a:ext cx="7626240" cy="32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riod of increased respiratory rate followed by slow resp movement &amp;final dyspnoe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rneal &amp; palpebral reflex are abs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treme muscle flaccid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mbs &amp; jaws are consequently relax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st reliable sign of loss of sensibility is absence of respiratory activ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agging respiratory movement is the sign of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minent brain deat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lectrical stunning</a:t>
            </a: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ssing alternate electric current through brain by means of electrodes placed on either  side of head using tong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echanism of ac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uses massive depolarization of neurons of brain resulting in an epileptic form seizur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electrodes poorly positioned causes missed shock in which animal although paralyzed is fully consciou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ptly applied cause incordination of nerve cel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1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ff"/>
                </a:solidFill>
                <a:latin typeface="Comic Sans MS"/>
              </a:rPr>
              <a:t>Electrical stunning in pi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1" name="Picture 4" descr=""/>
          <p:cNvPicPr/>
          <p:nvPr/>
        </p:nvPicPr>
        <p:blipFill>
          <a:blip r:embed="rId1"/>
          <a:stretch/>
        </p:blipFill>
        <p:spPr>
          <a:xfrm>
            <a:off x="1330200" y="1371600"/>
            <a:ext cx="640728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riteria for production of genuine stu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fficient electric current to ensure animal remains insensible till bleeding or killed outright by cardiac arres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fficient application time to induce genuine electroplectic shoc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in application time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7s for low voltag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s for high voltag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rrect positioning of electrodes so that current passes through thalamus &amp; corte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lectrical resistance should be minim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eeping skin of head clean &amp; dr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eeping electrodes moist by immersion in brin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"/>
          <p:cNvSpPr/>
          <p:nvPr/>
        </p:nvSpPr>
        <p:spPr>
          <a:xfrm>
            <a:off x="594720" y="558720"/>
            <a:ext cx="83451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tting of body discouraged as it allows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ing   through surface rather than b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age of electric current facilitated if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oric intake of animal redu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 of hydration is incre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iciency of electric stunning not dependent upon 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perage &amp; time but upon energy suppl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al stunning mainly in pigs &amp;poul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ractised in cattle due to insulating effect of fine h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 high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cle haemmorh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ken b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 low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imal paralysed but consciou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35"/>
          <p:cNvSpPr/>
          <p:nvPr/>
        </p:nvSpPr>
        <p:spPr>
          <a:xfrm rot="18844800">
            <a:off x="2137320" y="4872600"/>
            <a:ext cx="1218960" cy="312480"/>
          </a:xfrm>
          <a:custGeom>
            <a:avLst/>
            <a:gdLst>
              <a:gd name="textAreaLeft" fmla="*/ 152280 w 1218960"/>
              <a:gd name="textAreaRight" fmla="*/ 1066680 w 1218960"/>
              <a:gd name="textAreaTop" fmla="*/ 78120 h 312480"/>
              <a:gd name="textAreaBottom" fmla="*/ 234360 h 312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36"/>
          <p:cNvSpPr/>
          <p:nvPr/>
        </p:nvSpPr>
        <p:spPr>
          <a:xfrm rot="2163000">
            <a:off x="2286000" y="5714640"/>
            <a:ext cx="914400" cy="355680"/>
          </a:xfrm>
          <a:custGeom>
            <a:avLst/>
            <a:gdLst>
              <a:gd name="textAreaLeft" fmla="*/ 114120 w 914400"/>
              <a:gd name="textAreaRight" fmla="*/ 800280 w 914400"/>
              <a:gd name="textAreaTop" fmla="*/ 88920 h 355680"/>
              <a:gd name="textAreaBottom" fmla="*/ 266760 h 355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09480" y="1523880"/>
            <a:ext cx="51818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In case of small animal, </a:t>
            </a:r>
            <a:r>
              <a:rPr b="0" lang="en-US" sz="2400" spc="-1" strike="noStrike">
                <a:solidFill>
                  <a:srgbClr val="ff0000"/>
                </a:solidFill>
                <a:latin typeface="Bookman Old Style"/>
              </a:rPr>
              <a:t>hydraulically-operated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 tail pusher in the back of the box is useful for restrain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Positioning of </a:t>
            </a:r>
            <a:r>
              <a:rPr b="0" lang="en-US" sz="2400" spc="-1" strike="noStrike">
                <a:solidFill>
                  <a:srgbClr val="ff0000"/>
                </a:solidFill>
                <a:latin typeface="Bookman Old Style"/>
              </a:rPr>
              <a:t>light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 above the animal’s head to attract its attention to facilitate proper stunning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In some cases </a:t>
            </a:r>
            <a:r>
              <a:rPr b="0" lang="en-US" sz="2400" spc="-1" strike="noStrike">
                <a:solidFill>
                  <a:srgbClr val="ff0000"/>
                </a:solidFill>
                <a:latin typeface="Bookman Old Style"/>
              </a:rPr>
              <a:t>manual restraining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 is also practice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6"/>
          <a:stretch/>
        </p:blipFill>
        <p:spPr>
          <a:xfrm>
            <a:off x="5791320" y="2133720"/>
            <a:ext cx="3203280" cy="3886200"/>
          </a:xfrm>
          <a:prstGeom prst="rect">
            <a:avLst/>
          </a:prstGeom>
          <a:ln w="57240">
            <a:solidFill>
              <a:srgbClr val="7f7f7f"/>
            </a:solidFill>
            <a:miter/>
          </a:ln>
        </p:spPr>
      </p:pic>
      <p:grpSp>
        <p:nvGrpSpPr>
          <p:cNvPr id="170" name="Title 5"/>
          <p:cNvGrpSpPr/>
          <p:nvPr/>
        </p:nvGrpSpPr>
        <p:grpSpPr>
          <a:xfrm>
            <a:off x="1298520" y="311040"/>
            <a:ext cx="7381800" cy="1047960"/>
            <a:chOff x="1298520" y="311040"/>
            <a:chExt cx="7381800" cy="1047960"/>
          </a:xfrm>
        </p:grpSpPr>
        <p:pic>
          <p:nvPicPr>
            <p:cNvPr id="171" name="Title 5" descr=""/>
            <p:cNvPicPr/>
            <p:nvPr/>
          </p:nvPicPr>
          <p:blipFill>
            <a:blip r:embed="rId7"/>
            <a:stretch/>
          </p:blipFill>
          <p:spPr>
            <a:xfrm>
              <a:off x="1298520" y="311040"/>
              <a:ext cx="7381800" cy="10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469880" y="461880"/>
              <a:ext cx="7029720" cy="64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Bookman Old Style"/>
                </a:rPr>
                <a:t>The pre-slaughter handling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ypes of electrical stunning syst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.  Low voltage electrical stunn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&lt;150v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  High voltage electric stunning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&gt;300v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ositioning of electrod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ad onl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lectrodes clamped around sides of head lik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armuff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led within a max interval of 30s to prevent them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gain consciousnes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ead brisket sy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igh voltage of 550v between nose &amp; neck for 3s 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un anim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ditional current between neck &amp; brisket to produ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rdiac arrest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ead to back/leg stunn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igh voltage  stunning with help of special tong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rough which current is passed both to head &amp; back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rain is anesthetized &amp; heart put to arrest &amp; cut suppl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 brain which suffers death before anaesth en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igs   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1.3A &amp; 250V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ambs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0.1A &amp; 375V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lt burn in shee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520" y="5335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GNS OF EFFECTIVE STU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mmediate collapse of animal with flexion followed by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tension of limb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piosthotonu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wnward rolling of eyeball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nic muscular spasm changing to clonic spas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uscle flaccid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se signs termed as electroplectic fi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tunning in poultr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lectrical Stunn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ral types of stunning device based on line spe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Hand stunning devi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nually operated instrument fitted with step down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ansform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irds weighing 2 kg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70v for 1-3 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urkeys (6.8-9)kg  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90v for 10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itable for low rate of kill (1000 birds/hr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utomatic stunning devi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igh voltage type 400 -1000v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rried in grid over which shackled birds are conveyed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isadvantag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re muscle contractions, fractures , Imperfect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leeding, Risk to employe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440" y="531360"/>
            <a:ext cx="6870600" cy="122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ow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voltage typ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0-60 v &amp; 50 -60 hz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atisfactory narcosis with no pain or stres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tact period –5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irds removed from line &amp; not bled recover in 2-3 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Water bath stunn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lectrically charged water bath by dragging head of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irds through water in which electrode is submerg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hackles of killing line touches earth electrode caus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lectric current to run through body of bir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urrent not less than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30 mA  in duck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20 mA in chick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50 mA in turke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YPICAL SIGNS IN BIRD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ad arched bac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yes widely ope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gs rigidly extend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ody showing repeated muscle trem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ings with flight feathers sprea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ail feathers turned u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rneal reflex may be abs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Gas stunning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0% CO2 &amp; 60% argon is us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ang the birds  &amp; cut neck  within 3 m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ill avoid defects lik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d wing tip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ing vein engorgem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morrha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dvantage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ewer broken bon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breast muscle hemorrha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celerates the PM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ll in poultry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ffects of stunning on meat quali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blem with percussive penetrative stunn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due delay in stun –stick interv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adequate penetration of bolt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Blood splash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esence of blood spot or streaks of diff size in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carcass musculatu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mon sites of splashing a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iaphrag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ner aspect of thoracic &amp;abdominal wal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i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55640" y="914400"/>
            <a:ext cx="7626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lood splashing due to increase in arterial blood pressu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ighest case in head only electrical stunn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ad to back/leg electric stunning low incidence of blood splash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actors responsi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lay between stunning &amp; stick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iolent uncoordinated muscular contrac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ng journey &amp; fatigu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imal dying of asphyxi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citement before slaught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28240" y="277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etichael hemorrha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001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igh voltage head only stunning results in petichael hemorrhage throughout loi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racture of bon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ccurs in high voltage electric stunning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ue to force of tonic convulsion induced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uring &amp; immediately after stunn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inly i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capul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ck of femu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lvi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 or 6th thoracic vertebrae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512640" y="931680"/>
            <a:ext cx="7386120" cy="1031400"/>
          </a:xfrm>
          <a:prstGeom prst="rect">
            <a:avLst/>
          </a:prstGeom>
          <a:gradFill rotWithShape="0">
            <a:gsLst>
              <a:gs pos="0">
                <a:srgbClr val="fffded"/>
              </a:gs>
              <a:gs pos="100000">
                <a:srgbClr val="fffbd7"/>
              </a:gs>
            </a:gsLst>
            <a:lin ang="5400000"/>
          </a:gradFill>
          <a:ln w="6480">
            <a:solidFill>
              <a:srgbClr val="fff6b8"/>
            </a:solidFill>
            <a:miter/>
          </a:ln>
        </p:spPr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Humane Slaughter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990360" y="2057040"/>
            <a:ext cx="69339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ern abattoir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tunnin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– Mechanica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Electrica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Chemic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Bleeding / Sticking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90720" y="579240"/>
            <a:ext cx="7943760" cy="109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tunning in Slaughter of Ruminants and Chicken (Halal method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914400" y="1980720"/>
            <a:ext cx="802008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77440" indent="-498960" algn="just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wo types of stunning methods can be used -----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Electrica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echanica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tunning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77440" indent="-498960" algn="just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77440" indent="-498960" algn="just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y a trained Muslim slaughter ma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77440" indent="-498960" algn="just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77440" indent="-498960" algn="just"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stunning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hould not kil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incur permanent injury to the animal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1066680" y="311040"/>
            <a:ext cx="7848720" cy="2508480"/>
          </a:xfrm>
          <a:prstGeom prst="rect">
            <a:avLst/>
          </a:prstGeom>
          <a:solidFill>
            <a:srgbClr val="fff9c2"/>
          </a:solidFill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799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Electrical stunn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65040" indent="-282600" algn="just"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e certification authority will control the current to be used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65040" indent="-282600" algn="just"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Only “</a:t>
            </a:r>
            <a:r>
              <a:rPr b="0" lang="en-US" sz="2600" spc="-1" strike="noStrike">
                <a:solidFill>
                  <a:srgbClr val="c00000"/>
                </a:solidFill>
                <a:latin typeface="Comic Sans MS"/>
              </a:rPr>
              <a:t>water stunning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” used in Poultry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65040" indent="-282600" algn="just"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For animals “</a:t>
            </a:r>
            <a:r>
              <a:rPr b="0" lang="en-US" sz="2600" spc="-1" strike="noStrike">
                <a:solidFill>
                  <a:srgbClr val="c00000"/>
                </a:solidFill>
                <a:latin typeface="Comic Sans MS"/>
              </a:rPr>
              <a:t>Head only stunner”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used.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1143000" y="3490920"/>
            <a:ext cx="7848720" cy="33534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Arial"/>
              </a:rPr>
              <a:t>Mechanical stu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Used only in </a:t>
            </a:r>
            <a:r>
              <a:rPr b="0" lang="en-US" sz="2600" spc="-1" strike="noStrike">
                <a:solidFill>
                  <a:srgbClr val="c00000"/>
                </a:solidFill>
                <a:latin typeface="Comic Sans MS"/>
                <a:ea typeface="Arial"/>
              </a:rPr>
              <a:t>cattle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 and </a:t>
            </a:r>
            <a:r>
              <a:rPr b="0" lang="en-US" sz="2600" spc="-1" strike="noStrike">
                <a:solidFill>
                  <a:srgbClr val="c00000"/>
                </a:solidFill>
                <a:latin typeface="Comic Sans MS"/>
                <a:ea typeface="Arial"/>
              </a:rPr>
              <a:t>buffaloes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US" sz="2600" spc="-1" strike="noStrike">
                <a:solidFill>
                  <a:srgbClr val="c00000"/>
                </a:solidFill>
                <a:latin typeface="Comic Sans MS"/>
                <a:ea typeface="Arial"/>
              </a:rPr>
              <a:t>Non-penetrative type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 (mushroom head) percussion should be allow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Stunner </a:t>
            </a:r>
            <a:r>
              <a:rPr b="0" lang="en-US" sz="2600" spc="-1" strike="noStrike">
                <a:solidFill>
                  <a:srgbClr val="c00000"/>
                </a:solidFill>
                <a:latin typeface="Comic Sans MS"/>
                <a:ea typeface="Arial"/>
              </a:rPr>
              <a:t>should not penetrate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 or </a:t>
            </a:r>
            <a:r>
              <a:rPr b="0" lang="en-US" sz="2600" spc="-1" strike="noStrike">
                <a:solidFill>
                  <a:srgbClr val="c00000"/>
                </a:solidFill>
                <a:latin typeface="Comic Sans MS"/>
                <a:ea typeface="Arial"/>
              </a:rPr>
              <a:t>break the skull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Arial"/>
              </a:rPr>
              <a:t>If  skull is found penetrated or broken, the carcass should be identified as non hal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3200400"/>
            <a:ext cx="770256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Comic Sans MS"/>
              </a:rPr>
              <a:t>BLEEDING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"/>
          <p:cNvPicPr/>
          <p:nvPr/>
        </p:nvPicPr>
        <p:blipFill>
          <a:blip r:embed="rId1"/>
          <a:stretch/>
        </p:blipFill>
        <p:spPr>
          <a:xfrm>
            <a:off x="304920" y="3886200"/>
            <a:ext cx="3504960" cy="28195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63" name="Picture 2" descr=""/>
          <p:cNvPicPr/>
          <p:nvPr/>
        </p:nvPicPr>
        <p:blipFill>
          <a:blip r:embed="rId2"/>
          <a:stretch/>
        </p:blipFill>
        <p:spPr>
          <a:xfrm>
            <a:off x="228600" y="762120"/>
            <a:ext cx="3657600" cy="285732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6"/>
          <p:cNvSpPr/>
          <p:nvPr/>
        </p:nvSpPr>
        <p:spPr>
          <a:xfrm>
            <a:off x="4038480" y="838080"/>
            <a:ext cx="5029200" cy="56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c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Bookman Old Style"/>
              </a:rPr>
              <a:t>Bilateral severance of the carotid arteries and jugular veins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- by insertion across the throat, caudal to the larynx (in ritual metho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c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Bookman Old Style"/>
              </a:rPr>
              <a:t>Insertion in the jugular furrow at the base of neck and 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sever the brachiocephalic trunk and anterior vena ca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In case of </a:t>
            </a:r>
            <a:r>
              <a:rPr b="0" lang="en-US" sz="2400" spc="-1" strike="noStrike">
                <a:solidFill>
                  <a:srgbClr val="c00000"/>
                </a:solidFill>
                <a:latin typeface="Bookman Old Style"/>
              </a:rPr>
              <a:t>pig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 knife is inserted in the middle of the neck at the depression in front of sternum  and serve the anterior vena ca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523880" y="76320"/>
            <a:ext cx="6718320" cy="71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Bookman Old Style"/>
              </a:rPr>
              <a:t>Two methods of bleed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510920" y="274320"/>
            <a:ext cx="68706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Bookman Old Style"/>
              </a:rPr>
              <a:t>Precaution must be taken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1294920" y="1066320"/>
            <a:ext cx="76201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The  knife should not be passed too far, it may puncture the pleura, blood comes out and adhere to the thoracic cavity produce </a:t>
            </a:r>
            <a:r>
              <a:rPr b="1" lang="en-US" sz="2400" spc="-1" strike="noStrike">
                <a:solidFill>
                  <a:srgbClr val="c00000"/>
                </a:solidFill>
                <a:latin typeface="Bookman Old Style"/>
              </a:rPr>
              <a:t>back bleeding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or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Bookman Old Style"/>
              </a:rPr>
              <a:t>over sticking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In case of pig over sticking may produce pocket beneath scapula (during scalding blood and water accumulate) and results cooked appearan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Bookman Old Style"/>
              </a:rPr>
              <a:t>Bleeding time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: Cattle-6 min (yield is 13.6 kg), 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 Sheep-5 min (1-2.5 kg)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Pig-6 min (2.2 kg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WordArt 6"/>
          <p:cNvSpPr txBox="1"/>
          <p:nvPr/>
        </p:nvSpPr>
        <p:spPr>
          <a:xfrm>
            <a:off x="609480" y="2955960"/>
            <a:ext cx="8229600" cy="222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21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HANK  YOU</a:t>
            </a:r>
            <a:endParaRPr b="0" lang="en-US" sz="5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228240" y="1523880"/>
            <a:ext cx="84582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tunnin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–act of making animal insensible or unconscious to pain while  killing slaughtering or stick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motes animal welfare &amp; meat quality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urpos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induce immediate state  of insensibili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produce sufficient immobility to facilitate sticking process &amp; to initiate bleed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mon methods of stunn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. Mechanical method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netrative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rcussion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n penetrative/concuss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Chemical/gaseous metho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. Electrical method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Line 14"/>
          <p:cNvSpPr/>
          <p:nvPr/>
        </p:nvSpPr>
        <p:spPr>
          <a:xfrm>
            <a:off x="3733920" y="2743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27"/>
          <p:cNvSpPr/>
          <p:nvPr/>
        </p:nvSpPr>
        <p:spPr>
          <a:xfrm rot="20204400">
            <a:off x="3200400" y="2514600"/>
            <a:ext cx="976320" cy="152280"/>
          </a:xfrm>
          <a:custGeom>
            <a:avLst/>
            <a:gdLst>
              <a:gd name="textAreaLeft" fmla="*/ 152280 w 976320"/>
              <a:gd name="textAreaRight" fmla="*/ 854280 w 97632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28"/>
          <p:cNvSpPr/>
          <p:nvPr/>
        </p:nvSpPr>
        <p:spPr>
          <a:xfrm rot="1445400">
            <a:off x="3200040" y="3048120"/>
            <a:ext cx="976320" cy="150840"/>
          </a:xfrm>
          <a:custGeom>
            <a:avLst/>
            <a:gdLst>
              <a:gd name="textAreaLeft" fmla="*/ 152280 w 976320"/>
              <a:gd name="textAreaRight" fmla="*/ 854280 w 976320"/>
              <a:gd name="textAreaTop" fmla="*/ 37800 h 150840"/>
              <a:gd name="textAreaBottom" fmla="*/ 113400 h 1508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hoice of methods of stunn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ass of anima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nded line spe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umane aspec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pital and maintena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se of oper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fety of personn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ffects on carcass and brai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ligious and legal requirem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ercussive stunn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 typ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netrative ( CBP, pneumatic &amp; water jet stunning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n penetrative ( mushroom head stunner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ptive bolt pistol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2 typ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lp of trigg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tact typ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incip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pels bolt forward by discharge of blank cartridg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utomatically recoils back into the barr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AutoShape 5"/>
          <p:cNvSpPr/>
          <p:nvPr/>
        </p:nvSpPr>
        <p:spPr>
          <a:xfrm>
            <a:off x="762120" y="2666880"/>
            <a:ext cx="228600" cy="22860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6"/>
          <p:cNvSpPr/>
          <p:nvPr/>
        </p:nvSpPr>
        <p:spPr>
          <a:xfrm>
            <a:off x="685800" y="1219320"/>
            <a:ext cx="228600" cy="22860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68706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rength of cartridg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rrect strength for different speci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78880" indent="-578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asured in grains (1 grain = 0.065 g 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78880" indent="-578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rge cattle  &amp; mature bulls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3-4 grain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mbs-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1 grai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78880" indent="-578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stly 0.22 or 0.25 grain cartridge is us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for stunning i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tl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ep &amp; calves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s effective in bulls and pig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ssive skull &amp; thic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ntal bon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4:44:40Z</dcterms:created>
  <dc:creator>www.arabswell.com</dc:creator>
  <dc:description/>
  <dc:language>en-US</dc:language>
  <cp:lastModifiedBy>dranjayvet@gmail.com</cp:lastModifiedBy>
  <dcterms:modified xsi:type="dcterms:W3CDTF">2020-05-18T08:24:56Z</dcterms:modified>
  <cp:revision>86</cp:revision>
  <dc:subject/>
  <dc:title>METHODS OF STUNNING </dc:title>
</cp:coreProperties>
</file>