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484-B95F-483D-99FF-CF615105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A13-F4E6-45FB-A253-114790F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072-D658-4A79-93E5-87CD1E38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5B9-20E4-47BD-826F-D1773F70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5F3B-6FBB-45EB-90B4-43F11990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C6F-35AA-4E9D-9E41-B5F3587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88C-2885-45A4-9B18-662EA22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A0A-D8AD-458F-BC13-D55A9F3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9B9-A8D4-4B93-86B2-D6C6A9D7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5B09-C5F2-4F4A-8EB9-D349A01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8E6-18F5-44A1-8A01-F4E76A3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C01-8306-4EBA-B521-8CAE512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A183-6A7D-4DE0-B98B-CABC47C0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910D-E06F-499A-AD50-F70E0D2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BFF6-68C9-446B-9F9D-DEC3BA4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B587-9DBC-41C8-94AD-0BD60F97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8F1-75E0-484D-BA26-9B8C5947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224-5C20-4F26-9322-863DE20F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F29-A5C4-43F3-B7C2-B646FAB6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D81-30AC-4D95-8E01-E813824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278-481E-4DB6-8B7E-FCDDA42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DF4-3EB3-4E46-91AC-4C963DC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693-B625-4D16-8D3C-8B86D1F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90D-F7ED-498A-A37B-A6F49F5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E081-6928-4B95-A6C0-8E24FBA7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C25-6443-49F2-87B2-A67D7C59AFF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eat and Muscle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6320" y="79200"/>
            <a:ext cx="1523880" cy="89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543800" y="10476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hemical composition of typical mammalian muscle.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533520" y="1523880"/>
            <a:ext cx="8457840" cy="5181840"/>
            <a:chOff x="533520" y="1523880"/>
            <a:chExt cx="8457840" cy="5181840"/>
          </a:xfrm>
        </p:grpSpPr>
        <p:grpSp>
          <p:nvGrpSpPr>
            <p:cNvPr id="99" name="Group 10"/>
            <p:cNvGrpSpPr/>
            <p:nvPr/>
          </p:nvGrpSpPr>
          <p:grpSpPr>
            <a:xfrm>
              <a:off x="540360" y="1527120"/>
              <a:ext cx="8442720" cy="5174280"/>
              <a:chOff x="540360" y="1527120"/>
              <a:chExt cx="8442720" cy="5174280"/>
            </a:xfrm>
          </p:grpSpPr>
          <p:grpSp>
            <p:nvGrpSpPr>
              <p:cNvPr id="100" name="Group 7"/>
              <p:cNvGrpSpPr/>
              <p:nvPr/>
            </p:nvGrpSpPr>
            <p:grpSpPr>
              <a:xfrm>
                <a:off x="540360" y="1527120"/>
                <a:ext cx="8442720" cy="909000"/>
                <a:chOff x="540360" y="1527120"/>
                <a:chExt cx="8442720" cy="909000"/>
              </a:xfrm>
            </p:grpSpPr>
            <p:sp>
              <p:nvSpPr>
                <p:cNvPr id="101" name="Rectangle 4"/>
                <p:cNvSpPr/>
                <p:nvPr/>
              </p:nvSpPr>
              <p:spPr>
                <a:xfrm>
                  <a:off x="640440" y="1527120"/>
                  <a:ext cx="8242560" cy="90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onent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% net weigh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6"/>
                <p:cNvSpPr/>
                <p:nvPr/>
              </p:nvSpPr>
              <p:spPr>
                <a:xfrm>
                  <a:off x="540360" y="1527120"/>
                  <a:ext cx="844272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9"/>
              <p:cNvGrpSpPr/>
              <p:nvPr/>
            </p:nvGrpSpPr>
            <p:grpSpPr>
              <a:xfrm>
                <a:off x="540360" y="2436120"/>
                <a:ext cx="8442720" cy="4265280"/>
                <a:chOff x="540360" y="2436120"/>
                <a:chExt cx="8442720" cy="4265280"/>
              </a:xfrm>
            </p:grpSpPr>
            <p:sp>
              <p:nvSpPr>
                <p:cNvPr id="104" name="Rectangle 5"/>
                <p:cNvSpPr/>
                <p:nvPr/>
              </p:nvSpPr>
              <p:spPr>
                <a:xfrm>
                  <a:off x="640440" y="2436120"/>
                  <a:ext cx="8242560" cy="426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in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a) Myofibrilla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1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) Sarcoplasmic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) Connective tissue and organelle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2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pids (fats and oils)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bohydrates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protein nitrogen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ner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tamin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c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8"/>
                <p:cNvSpPr/>
                <p:nvPr/>
              </p:nvSpPr>
              <p:spPr>
                <a:xfrm>
                  <a:off x="540360" y="2436120"/>
                  <a:ext cx="8442720" cy="426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Rectangle 11"/>
            <p:cNvSpPr/>
            <p:nvPr/>
          </p:nvSpPr>
          <p:spPr>
            <a:xfrm>
              <a:off x="533520" y="1523880"/>
              <a:ext cx="8457840" cy="5181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9528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s form the most important solid constitu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fibri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coplasm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e tissue prote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yofibrillar,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thirds of the proteins are myofibrill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typ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 and Myosin : form actomyosin complex after rigor mortis and give rigidity to the mus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teins present in variable quant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onin A, B and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Image result for myofibrillar protein"/>
          <p:cNvPicPr/>
          <p:nvPr/>
        </p:nvPicPr>
        <p:blipFill>
          <a:blip r:embed="rId1"/>
          <a:stretch/>
        </p:blipFill>
        <p:spPr>
          <a:xfrm>
            <a:off x="5943600" y="201924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Sarcoplasmi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ater soluble incl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glob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emogl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glycolytic enzy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Image result for Sarcoplasmic protein"/>
          <p:cNvPicPr/>
          <p:nvPr/>
        </p:nvPicPr>
        <p:blipFill>
          <a:blip r:embed="rId1"/>
          <a:stretch/>
        </p:blipFill>
        <p:spPr>
          <a:xfrm>
            <a:off x="4724280" y="2209680"/>
            <a:ext cx="430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nective and supportive tissu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constitu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icul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Image result for connective tissue proteins collegen elastin and reticulin"/>
          <p:cNvPicPr/>
          <p:nvPr/>
        </p:nvPicPr>
        <p:blipFill>
          <a:blip r:embed="rId1"/>
          <a:stretch/>
        </p:blipFill>
        <p:spPr>
          <a:xfrm>
            <a:off x="3809880" y="3075120"/>
            <a:ext cx="5105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Lipid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ramuscular lip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riglyce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hospholip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aturated and unsaturated fatty acid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at soluble substances including choleste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antity in meat depends up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vel of nutr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arbohydrate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gen is major carbohydrate present in the m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depends upon man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enetic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ype of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feeding of animal, ina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ypo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y other stress prior to slau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glycogen present in the muscles gets converted by glycolysis into lactic acid which leads to drop in pH from 7.2 to 5.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pH : a desirable change required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etter water-holding and emulsifying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nhancement of c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lou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duction in bacterial growth in me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Non-protein nitrogen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ree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onosine mono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arnos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amino acids and nucleotides: give meat its flavour on coo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ineral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ly cont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48320" y="2057400"/>
            <a:ext cx="2895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n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: Flesh of animals used as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ned to include organs : Butcher m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sh/Muscular system : Voluntary muscles, inter-muscular fat and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Vitamin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ly B vitamins alongwith some lipid-soluble vitamins A and 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source of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itamin B</a:t>
            </a:r>
            <a:r>
              <a:rPr b="0" lang="en-US" sz="3200" spc="-1" strike="noStrike" baseline="-30000">
                <a:solidFill>
                  <a:srgbClr val="990000"/>
                </a:solidFill>
                <a:latin typeface="Times New Roman"/>
                <a:ea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not found in vegetable fo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of vitamins reduced by c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Rigor morti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Rigor mortis.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muscle to m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volves a series of complex physico-chem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and most important chang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Rigor mort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degree of rigor mortis and development of low pH of meat during rigor are desirable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w pH of m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bacterial grow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converts connective tissue in gelatin making it more tender on co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Rigor mortis characterised by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ening and contraction of all voluntary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in transparency of the surface of the 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ffening of j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 rise in temperature by 1 - 1.5 °C or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Process of rigor morti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ath/slaughter of an 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Blood supply of the muscles c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eading to severe deficiency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d54f41"/>
                </a:solidFill>
                <a:latin typeface="Times New Roman"/>
                <a:ea typeface="Times New Roman"/>
              </a:rPr>
              <a:t>oxygen, energy and vital elements essential for cellular activ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 anaerobic environment in the muscles is c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26708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343400" y="4724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38102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Normal glycolysis in presence of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glyc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d i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triphosphate (A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19720" y="1295280"/>
            <a:ext cx="4346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bsence of oxy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avours anaerobic glycoly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lactic dehydrogen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d into lactic ac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stic reduction in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286000" y="2057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flipH="1">
            <a:off x="228528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640008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 flipH="1">
            <a:off x="6477120" y="51055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 flipH="1">
            <a:off x="6400080" y="3886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1932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ctic acid formed during the glyco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on accumulating and lowering the pH of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s from abou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7.0 till 5.3 to 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content of the muscle also starts decli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rigor concentration of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.9 micromoles/g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pH 7.0 - 7.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near 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pH 5.3-5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 of ATP : maintained for some time by resynthesis from ADP and creatinine phosph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quantity generated is very low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all level falls leading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reduction in pH due to lactic acid form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owering of 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  <a:ea typeface="Times New Roman"/>
              </a:rPr>
              <a:t>weakening in the permeability of sarcoplasmic reticul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sults into influx of Ca</a:t>
            </a:r>
            <a:r>
              <a:rPr b="0" lang="en-US" sz="2800" spc="-1" strike="noStrike" baseline="30000">
                <a:solidFill>
                  <a:srgbClr val="99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ions in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s bound to tropon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conformational changes in the tropomyos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ing in release of the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vated ATPase enzy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 flipH="1">
            <a:off x="4494960" y="274320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 flipH="1">
            <a:off x="4494960" y="9144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1932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ase enzyme acts on ATP at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tin-combining site on myo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hydroly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in myosin and actin inter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rm cross-linkage a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ctomyosin 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annot be dissocia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mplex results in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extensibility and tough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muscles making them rigid and non-contract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igidity and tough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muscles is termed as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igor morti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295280" y="1371600"/>
            <a:ext cx="7848720" cy="37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les : Multi-nucleated muscle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ncased in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rco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covering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omy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ndle of fibers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cicu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vered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Perimys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fatty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structure covered by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pimy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ss of extensibility due to actomyosin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eds slowly at first  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dela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with rapidity 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fast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on it remains at a low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set of rigor mortis : accompanied by lowering of water holding capacity of mus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9320" y="304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set patterns of rigor mortis can be classified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  <a:ea typeface="Times New Roman"/>
              </a:rPr>
              <a:t>Acid rig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haracterized (in immobilized animals) by a long delay period and a short fast phase and in struggling animals by a drastic curtailment of the dela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  <a:ea typeface="Times New Roman"/>
              </a:rPr>
              <a:t>Alkaline rig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haracterized by a rapid onset of stiffening and by marked shortening of muscl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  <a:ea typeface="Times New Roman"/>
              </a:rPr>
              <a:t>Intermediate rig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(in starved animals) by a curtailment of the delay period but not of the rapid ph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6705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ter 20-2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idity of the muscles cannot be maintained Factor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ing of AT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: it is also required to maintain the stromal integrity of the proteins. Integrity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al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atures the protei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attacked by proteases and cathepsins of mus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430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ll complex activities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ltimately increase the pH of m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ing in enhancing impermeability of sarcoplasmic reticulum to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increased accumulation of non-bound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ing from protein breakd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actors together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ead to softening of coagulated muscle fibers and rigor passes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or mort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s from muscles of head and neck and then extends to rest of the body and finally the le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ealthy animals i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s after 9-12 hou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laught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ys for 20-24 hours and then passes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general rule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ster the onset of rigor mortis, faster it passes off, and slower the onset of rigor mortis, slower does it pass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or mortis tends to affect the most and proper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urished muscles at fir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mmences at the head and neck, extending backwards to the body and limb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art, however, is affected very early in the process - normally within an hour of slaugh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36504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f"/>
                </a:solidFill>
                <a:latin typeface="Arial"/>
              </a:rPr>
              <a:t>Actin Myosin Crossbridge 3D Animation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04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1295280" y="1447920"/>
            <a:ext cx="7619760" cy="4571640"/>
            <a:chOff x="1295280" y="1447920"/>
            <a:chExt cx="7619760" cy="4571640"/>
          </a:xfrm>
        </p:grpSpPr>
        <p:grpSp>
          <p:nvGrpSpPr>
            <p:cNvPr id="162" name="Group 6"/>
            <p:cNvGrpSpPr/>
            <p:nvPr/>
          </p:nvGrpSpPr>
          <p:grpSpPr>
            <a:xfrm>
              <a:off x="1301040" y="1452960"/>
              <a:ext cx="7607160" cy="4560120"/>
              <a:chOff x="1301040" y="1452960"/>
              <a:chExt cx="7607160" cy="4560120"/>
            </a:xfrm>
          </p:grpSpPr>
          <p:grpSp>
            <p:nvGrpSpPr>
              <p:cNvPr id="163" name="Group 7"/>
              <p:cNvGrpSpPr/>
              <p:nvPr/>
            </p:nvGrpSpPr>
            <p:grpSpPr>
              <a:xfrm>
                <a:off x="1301040" y="1452960"/>
                <a:ext cx="3967560" cy="3500280"/>
                <a:chOff x="1301040" y="1452960"/>
                <a:chExt cx="3967560" cy="3500280"/>
              </a:xfrm>
            </p:grpSpPr>
            <p:grpSp>
              <p:nvGrpSpPr>
                <p:cNvPr id="164" name="Group 8"/>
                <p:cNvGrpSpPr/>
                <p:nvPr/>
              </p:nvGrpSpPr>
              <p:grpSpPr>
                <a:xfrm>
                  <a:off x="1301040" y="1452960"/>
                  <a:ext cx="3967200" cy="2844360"/>
                  <a:chOff x="1301040" y="1452960"/>
                  <a:chExt cx="3967200" cy="2844360"/>
                </a:xfrm>
              </p:grpSpPr>
              <p:sp>
                <p:nvSpPr>
                  <p:cNvPr id="165" name="Rectangle 9"/>
                  <p:cNvSpPr/>
                  <p:nvPr/>
                </p:nvSpPr>
                <p:spPr>
                  <a:xfrm>
                    <a:off x="1301040" y="1452960"/>
                    <a:ext cx="3967200" cy="55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he Animation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Rectangle 10"/>
                  <p:cNvSpPr/>
                  <p:nvPr/>
                </p:nvSpPr>
                <p:spPr>
                  <a:xfrm>
                    <a:off x="1301040" y="2237400"/>
                    <a:ext cx="3930840" cy="20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                                 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Rectangle 11"/>
                <p:cNvSpPr/>
                <p:nvPr/>
              </p:nvSpPr>
              <p:spPr>
                <a:xfrm>
                  <a:off x="1301040" y="1452960"/>
                  <a:ext cx="3967560" cy="350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2"/>
              <p:cNvGrpSpPr/>
              <p:nvPr/>
            </p:nvGrpSpPr>
            <p:grpSpPr>
              <a:xfrm>
                <a:off x="5268960" y="1452960"/>
                <a:ext cx="3639240" cy="4560120"/>
                <a:chOff x="5268960" y="1452960"/>
                <a:chExt cx="3639240" cy="4560120"/>
              </a:xfrm>
            </p:grpSpPr>
            <p:grpSp>
              <p:nvGrpSpPr>
                <p:cNvPr id="169" name="Group 13"/>
                <p:cNvGrpSpPr/>
                <p:nvPr/>
              </p:nvGrpSpPr>
              <p:grpSpPr>
                <a:xfrm>
                  <a:off x="5268960" y="1570320"/>
                  <a:ext cx="3638880" cy="3671280"/>
                  <a:chOff x="5268960" y="1570320"/>
                  <a:chExt cx="3638880" cy="3671280"/>
                </a:xfrm>
              </p:grpSpPr>
              <p:sp>
                <p:nvSpPr>
                  <p:cNvPr id="170" name="Rectangle 14"/>
                  <p:cNvSpPr/>
                  <p:nvPr/>
                </p:nvSpPr>
                <p:spPr>
                  <a:xfrm>
                    <a:off x="5268960" y="1570320"/>
                    <a:ext cx="1673280" cy="55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he Players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Rectangle 15"/>
                  <p:cNvSpPr/>
                  <p:nvPr/>
                </p:nvSpPr>
                <p:spPr>
                  <a:xfrm>
                    <a:off x="5268960" y="2237040"/>
                    <a:ext cx="3638880" cy="30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9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                              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Rectangle 16"/>
                <p:cNvSpPr/>
                <p:nvPr/>
              </p:nvSpPr>
              <p:spPr>
                <a:xfrm>
                  <a:off x="5268960" y="1452960"/>
                  <a:ext cx="3639240" cy="45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Rectangle 17"/>
            <p:cNvSpPr/>
            <p:nvPr/>
          </p:nvSpPr>
          <p:spPr>
            <a:xfrm>
              <a:off x="1295280" y="1447920"/>
              <a:ext cx="761976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0" y="4684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7701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0" y="77040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2" descr="actin"/>
          <p:cNvPicPr/>
          <p:nvPr/>
        </p:nvPicPr>
        <p:blipFill>
          <a:blip r:embed="rId1"/>
          <a:stretch/>
        </p:blipFill>
        <p:spPr>
          <a:xfrm>
            <a:off x="1828800" y="2438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legend of components in the animation"/>
          <p:cNvPicPr/>
          <p:nvPr/>
        </p:nvPicPr>
        <p:blipFill>
          <a:blip r:embed="rId2"/>
          <a:stretch/>
        </p:blipFill>
        <p:spPr>
          <a:xfrm>
            <a:off x="5722920" y="2133720"/>
            <a:ext cx="2583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Factors affecting rigor mortis.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insic fac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es of anim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s from species to spec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in active animals like horses, cat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in 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s and cattle : onset faster : pass off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Type of muscle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y with the type of musc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r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ity to ex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lation of the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nourished and active muscles are affected ear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mount of glycoge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of glycogen is directly proportional to the development of acidity in meat and the onset of rigor mor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the muscle glycogen content, more is the formation of lactic acid resulting in the marked lowering of 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5"/>
          <p:cNvGrpSpPr/>
          <p:nvPr/>
        </p:nvGrpSpPr>
        <p:grpSpPr>
          <a:xfrm>
            <a:off x="2057400" y="1795320"/>
            <a:ext cx="6400800" cy="342720"/>
            <a:chOff x="2057400" y="1795320"/>
            <a:chExt cx="6400800" cy="342720"/>
          </a:xfrm>
        </p:grpSpPr>
        <p:sp>
          <p:nvSpPr>
            <p:cNvPr id="89" name="Rectangle 2"/>
            <p:cNvSpPr/>
            <p:nvPr/>
          </p:nvSpPr>
          <p:spPr>
            <a:xfrm>
              <a:off x="2057400" y="1795320"/>
              <a:ext cx="6400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2057400" y="179532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Picture 4" descr="illu_muscle_structure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gen store : depleted du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u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gg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ive ante-mortem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etion in  glycogen content : Increase in 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ultimate pH cau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, firm and dry (DFD) meat in cattle or buffal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, soft and exudative (PSE) meat in pi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(b)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Extrinsic factors.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ospheric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emperatures accelerate the onset of rigor mor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emperature retard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set and passing off of rig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in sum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er in w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Health and condition of an animal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or mortis may be absent or scarcely present in animals affected with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brile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suffering from inanition and hypothermia also have lower levels of glycog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ggling, fights, excessive handling, travel and other stresses also deplete the glycogen content of m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on of drug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 of drugs such as sodium salicylate, alcohol and ether tend to encourage the early onset of rigor mort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ffections induced in meat during rigor mortis.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shortening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shortening is described as the excessive shortening that occurs in muscles during glycolysis when the temperature of carcass is maintained in the range of 0-10°C prerig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of meat to low temperatures immediately after slaughter results in excessive contraction of muscles (may be up to 40%) thereby resulting in pronounced increase in the toughness of mea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71240" y="304920"/>
            <a:ext cx="7620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hange usually occurs in more active muscles of le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s having incomplete development of acidity (pH usually more than 6.7) and high ATP levels are more prone to cold shorte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only in muscles with significant proportions of red muscle fibers, and thus its extent is much less in pig and rabbit musc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undesirable change in meat is attributed to release of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arcoplasmic reticulum due to its reduced efficiency in the cold and subsequent calcium activation of ATPase enzyme in rise in intracellular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vels in the mus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Thaw rigor / Freezing shorte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results when the muscle is frozen pre-rigor and subsequently thaw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ve contractions of muscles occur (up to a 50% of its initial length) when frozen and which upon thawing release substantial amount of drip resulting in tough musc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 crystals of ice formed inside the cells break the sarcoplasmic reticulum resulting in an abundant release of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aw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concentration of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s toughness in muscles on tha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080"/>
                </a:solidFill>
                <a:latin typeface="Arial"/>
                <a:ea typeface="Arial"/>
              </a:rPr>
              <a:t>Pale Soft Exudative (PSE) meat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 in pigs is caused by severe, short-term stre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ust prior to slau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off-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ing in p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 is subjected to severe anxiety and f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breakdown of muscle glyc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t becoming very p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nounced acidity (pH values of 5.4-5.6 immediately after slaught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flav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t is difficult to use and is wasted in extreme c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pigs a rest for one hour prior to slaugh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et handling will considerably reduce the risk of P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080"/>
                </a:solidFill>
                <a:latin typeface="Arial"/>
                <a:ea typeface="Arial"/>
              </a:rPr>
              <a:t>Dark Firm and Dry (DFD) meat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dition fou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tle or sh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pigs and turkeys soon after slaugh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cass meat is darker and drier than nor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er tex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29528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keletal muscle fiber is a single cylindrical muscle c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dividual skeletal muscle may be made up of hundreds, or even thousands, of muscle fibers bundled together and wrapped in a connective tissue cove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muscle is surrounded by a connective tissue sheath called the epimys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cia, connective tissue outside the epimysium, surrounds and separates the musc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371240" y="45684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glycogen : Us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slaughter strug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laughter : little lactic acid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in DFD me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ior qual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pronounced ta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col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acceptable to the consu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er shelf life due to the abnormally high pH-value of the meat (6.4-6.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Normal meat"/>
          <p:cNvPicPr/>
          <p:nvPr/>
        </p:nvPicPr>
        <p:blipFill>
          <a:blip r:embed="rId1"/>
          <a:stretch/>
        </p:blipFill>
        <p:spPr>
          <a:xfrm>
            <a:off x="3048120" y="457200"/>
            <a:ext cx="2857320" cy="1920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428280" y="25146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M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pse"/>
          <p:cNvPicPr/>
          <p:nvPr/>
        </p:nvPicPr>
        <p:blipFill>
          <a:blip r:embed="rId2"/>
          <a:stretch/>
        </p:blipFill>
        <p:spPr>
          <a:xfrm>
            <a:off x="5715000" y="3200400"/>
            <a:ext cx="2857680" cy="1965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6783840" y="5334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365560" y="5257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DFD"/>
          <p:cNvPicPr/>
          <p:nvPr/>
        </p:nvPicPr>
        <p:blipFill>
          <a:blip r:embed="rId3"/>
          <a:stretch/>
        </p:blipFill>
        <p:spPr>
          <a:xfrm>
            <a:off x="1371600" y="3124080"/>
            <a:ext cx="2857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295280" y="380880"/>
            <a:ext cx="7772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ions of the epimysium project inward to divide the muscle into compartments. Each compartment contains a bundle of muscle fib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bundle of muscle fiber is called a fasciculus and is surrounded by a layer of connective tissue called the perimys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in the fasciculus, each individual muscle cell, called a muscle fiber, is surrounded by connective tissue called the endomys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57_630200415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image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 : A valuable part of human d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ncentrated and easily assimilable nitrogenous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ing to met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ying : Delays emptying of stom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1:08:40Z</dcterms:created>
  <dc:creator>Dr  Kiran</dc:creator>
  <dc:description/>
  <dc:language>en-US</dc:language>
  <cp:lastModifiedBy>dranjayvet@gmail.com</cp:lastModifiedBy>
  <dcterms:modified xsi:type="dcterms:W3CDTF">2020-05-19T06:13:19Z</dcterms:modified>
  <cp:revision>45</cp:revision>
  <dc:subject/>
  <dc:title>Meat and Muscle </dc:title>
</cp:coreProperties>
</file>