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361E4-CEC0-4C53-902C-05CC7BFD0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8533F-15DF-4406-B6A9-4067241CD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2E5A0-3689-44F8-BB53-D155348A69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1FC2E-D45F-4880-956A-CCB2DB98C1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0DD74-DF9A-403E-A8B7-86B917C5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66460-F10D-4558-8BD2-7C1B7BC9C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611EC-E7E0-44DA-9C33-61D2F99733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F836-206B-48A0-A740-92530280A3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96EFE-4154-496B-B9A2-FA90921E0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9B44-EE2D-4269-94D9-F4772A66A4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C052F-4AA4-419F-951A-15D4E4467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081AD-2FD2-4813-858C-38DEF097D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D0B97-6FE1-4311-A7C6-16ACDFA5F3A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85720" y="822240"/>
            <a:ext cx="8442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 (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1260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solid not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ug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artially 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0 perc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0.5 percent m/m and not more than 3.0 percent I m/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weetened /Flavour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ore than 3.0 percent I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Fruit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1.5 percent in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ogical Requirement of Yoghurt according to FSSA(200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114640"/>
                <a:gridCol w="3371760"/>
                <a:gridCol w="27432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.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equ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oghurt/Da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Total Plat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0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oliform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almon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 25 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hig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east and Mold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naerobic Spor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Listeria monocyt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21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O FLORA OF YU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sential (Starter cultur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n essential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nts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Essential (starter culture) 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us delbrueckil subsp bulgaric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rmophil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n -Essent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. Acidophil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fidobacterium bifid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subsp diacety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dicoccu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Contamina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st and Moul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i form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ther bac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gal / Standards / Chemical Composition : FAO/WHO (197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at 7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Fat 0.5 to 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at &lt;0.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kan Yoghurt - 4.5 to 10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 of Produ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rred Yoghurt]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ughurt - Diluted or stirred Yoghurt (&lt;11% to 5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avou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Plain Yoghurt - Traditional Type with sharp, acidic tas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oghurt - addition of fruit &amp; sweetening asrts to plai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ored Yughurt - In which synthetic flavoring &amp; coloring agents are add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st Incubation process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ed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ze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etic Yoghurt - May include less colorie Yoghurt, low lacto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ghurt or vitamin / protein fortified Yogh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&gt;24% TS)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d Yoghurts (&gt;90-94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719360" y="2792520"/>
            <a:ext cx="3200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biology of 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14272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uis Pasteur (1822-1895), During the 1850s and 1860s showed that fermentation is initiat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957, Pasteur showed that lactic acid fermentation is caus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860, he demonstrated that bacteria cause souring in milks, his work in indentifying the role of microorganism in food spoilage led to the process of pasteur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ation is a metabolic process in which an organism converts a carbohydrate such as starch and sugar into alcohol and / or aci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ic Acid fermentation is a metabolic process by which glucose and other six carbon sugar (also, disaccharides of six carbon sugar e.g. sucrose or lactose) are converted into cellular energy and the metabolite loc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ed milk products, also known as cultured dairy food, or cultured dairy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d milk products, are dairy food that have been fermented with lactic acid bacteria such as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i, Lactococcus, Lecuconostoc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fermentation process increase the shelf life of the products while enhancing the taste and improving the digestibility of mil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out 2.3% of the total dairy product market is in the form of cultured dairy produ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has great therapeutic benefits and nutritional val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OSI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4280"/>
          <a:ext cx="8229600" cy="442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stitu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vel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ry mat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te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s. 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t less than 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ic Ac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500040" y="600120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H Range - 3.8-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Fermented Milk produ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214280"/>
            <a:ext cx="8472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rame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of culture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Type of ferm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Temperature at which prepa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ype of flavor and body-texture characteris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ype of raw material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form of the product, i.e. liquid, gel, set, drink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lassification of fermented milks  a/c ID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5840" y="1400040"/>
          <a:ext cx="8572320" cy="5403960"/>
        </p:xfrm>
        <a:graphic>
          <a:graphicData uri="http://schemas.openxmlformats.org/drawingml/2006/table">
            <a:tbl>
              <a:tblPr/>
              <a:tblGrid>
                <a:gridCol w="1785960"/>
                <a:gridCol w="2143080"/>
                <a:gridCol w="2143080"/>
                <a:gridCol w="2500200"/>
              </a:tblGrid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ype of Fer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 Fer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esophillic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hermophillic Produc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Products with intestinal bac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.Normal Flavor and Consistency: eg Cultured Butter milk, Da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b.Slimy Consistency: Nordic Fermented Milk eg.Piima,Villi,Lang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Yoghurt and Similar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ophilus milk, Bifidus milk, Yakul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+Alcohol Ferment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efir and Koumi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oncentrated type fermented mil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ellar milk, Shrikhand, Laben, Sk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ilk-Plant Fermented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ishk, Curd- 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the most popular and widespread fermented milk product in the worl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orld "Yoghurt" or "Yogurt" is derived from the turkish word " Jugurt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ughurt is a traditional food and beverage in the balkan and the middle eas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ever, its popularly has now spread to europe and many other parts of the world. The product is popular with different names is different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9680" y="1785960"/>
            <a:ext cx="81867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a coagulated milk product obtained by lactic acid fermentation through the action of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mophilus and Lactobacillus balgaricus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om milk and milk products with or without the optional additions (SHP, WMP, whey powder, etc) and find product must contain viable organism  in abundance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30T02:12:12Z</dcterms:created>
  <dc:creator>HP</dc:creator>
  <dc:description/>
  <dc:language>en-US</dc:language>
  <cp:lastModifiedBy>HP</cp:lastModifiedBy>
  <dcterms:modified xsi:type="dcterms:W3CDTF">2020-04-30T05:50:11Z</dcterms:modified>
  <cp:revision>21</cp:revision>
  <dc:subject/>
  <dc:title>Microbiology of Fermented Milk products</dc:title>
</cp:coreProperties>
</file>