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3E26A-1BE8-4771-AA6B-B378ECF2C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53858-2BF2-4F7A-B95C-96AE722DB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9270-B101-4824-AA1F-0841E9A78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2F06-153B-4764-9DAE-4AD075CAA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71CA0-9FBA-4655-B161-28A48F5A4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902F-88B0-42FF-A958-E793552C9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0C2EA-5B8B-4C97-BFAF-91B2972B7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99CC-EB74-46CB-8D7B-0B49725F0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71749-79BB-4D11-8EAD-6AB5E7F91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D4077-FBA1-4701-BEEE-8E273D112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5E79-FFC0-4EBC-8DE1-6CF2B50B4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411F6-E384-4F69-83D5-618684137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43884-0A44-4402-BEEC-0335C698654A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ectangle 3" descr=""/>
          <p:cNvPicPr/>
          <p:nvPr/>
        </p:nvPicPr>
        <p:blipFill>
          <a:blip r:embed="rId1"/>
          <a:stretch/>
        </p:blipFill>
        <p:spPr>
          <a:xfrm>
            <a:off x="585720" y="822240"/>
            <a:ext cx="844236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YOGHURT (Standard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457200" y="1600200"/>
          <a:ext cx="8229600" cy="5126040"/>
        </p:xfrm>
        <a:graphic>
          <a:graphicData uri="http://schemas.openxmlformats.org/drawingml/2006/table">
            <a:tbl>
              <a:tblPr/>
              <a:tblGrid>
                <a:gridCol w="1646280"/>
                <a:gridCol w="1646280"/>
                <a:gridCol w="1644480"/>
                <a:gridCol w="1646280"/>
                <a:gridCol w="1646280"/>
              </a:tblGrid>
              <a:tr h="3715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Product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Milk f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Milk solid not fa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Milk protei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Sugar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300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Yoghu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Not less than 8.5 in 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Not less than 3.2 percent 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Partially skimmed yoghu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Not less than 3.0 percen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Not less than 8.5 in 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Not less than 3.2 percent 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463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Skimmed Yoghu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Not less than 0.5 percent m/m and not more than 3.0 percent I m/m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Not less than 8.5 in 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Not less than 3.2 percent 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-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969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Sweetened /Flavoured Yoghu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more than 3.0 percent I 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Not less than 8.5 in 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Not less than 3.2 percent 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Not less than 6.0 percent in 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188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Fruit Yoghurt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Not less than 1.5 percent in m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Not less than 8.5 percent 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Not less than 3.2 percent 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Not less than 6.0 percent m/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icrobiological Requirement of Yoghurt according to FSSA(2006)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457200" y="1600200"/>
          <a:ext cx="8229600" cy="5029200"/>
        </p:xfrm>
        <a:graphic>
          <a:graphicData uri="http://schemas.openxmlformats.org/drawingml/2006/table">
            <a:tbl>
              <a:tblPr/>
              <a:tblGrid>
                <a:gridCol w="2114640"/>
                <a:gridCol w="3371760"/>
                <a:gridCol w="2743200"/>
              </a:tblGrid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S.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Requireme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Times New Roman"/>
                          <a:ea typeface="Calibri"/>
                        </a:rPr>
                        <a:t>Yoghurt/Dah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47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1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Total Plate Cou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Not more than 100000/g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2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Coliform Cou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Not more than 10/g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3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E.Col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Absent in 1g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4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Salmonel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Absent in  25 g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5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Shigell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Not more than 100/g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6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Staphylococcus aureu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Not more than 100/g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7.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Yeast and Mold cou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Not more than 100/g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8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Anaerobic Spore coun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Absent in 1g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45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9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Listeria monocytogene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2060"/>
                          </a:solidFill>
                          <a:latin typeface="Times New Roman"/>
                          <a:ea typeface="Calibri"/>
                        </a:rPr>
                        <a:t>Absent in 1g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ypes of Yoghur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357120" y="1214280"/>
            <a:ext cx="8229600" cy="50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MICRO FLORA OF YUGHUR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Essential (Starter culture)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Non essential </a:t>
            </a:r>
            <a:r>
              <a:rPr b="0" lang="en-IN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ntaminants </a:t>
            </a:r>
            <a:r>
              <a:rPr b="0" lang="en-IN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Essential (starter culture) </a:t>
            </a:r>
            <a:r>
              <a:rPr b="0" lang="en-I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actobacillus delbrueckil subsp bulgaricu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treptococcus thermophilus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Non -Essential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. Acidophilu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Bifidobacterium bifidu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actococcus lacti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actococcus lactis subsp diacetylacti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i="1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Pedicoccus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f6228"/>
                </a:solidFill>
                <a:latin typeface="Times New Roman"/>
                <a:ea typeface="Times New Roman"/>
              </a:rPr>
              <a:t>Contaminant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Yeast and Mould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oli forms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Other bacteri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N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ypes of Yoghu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28760" y="1285560"/>
            <a:ext cx="8229600" cy="5357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Legal / Standards / Chemical Composition : FAO/WHO (1973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ll Fat 73% fa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edium Fat 0.5 to 3% fa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ow fat &lt;0.5%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lkan Yoghurt - 4.5 to 10% fa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Method of Production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et Yoghur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irred Yoghurt]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uit Yughurt - Diluted or stirred Yoghurt (&lt;11% to 5)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Flavour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atural Plain Yoghurt - Traditional Type with sharp, acidic taste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uit Yoghurt - addition of fruit &amp; sweetening asrts to plain yoghur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lavored Yughurt - In which synthetic flavoring &amp; coloring agents are added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Past Incubation processing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Pasteurized Yoghur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rozen Yoghurt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ietetic Yoghurt - May include less colorie Yoghurt, low lactose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Yoghurt or vitamin / protein fortified Yoghurt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centrated &gt;24% TS) and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ried Yoghurts (&gt;90-94%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142920" y="0"/>
            <a:ext cx="8858160" cy="664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8929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Rectangle 3" descr=""/>
          <p:cNvPicPr/>
          <p:nvPr/>
        </p:nvPicPr>
        <p:blipFill>
          <a:blip r:embed="rId1"/>
          <a:stretch/>
        </p:blipFill>
        <p:spPr>
          <a:xfrm>
            <a:off x="1719360" y="2792520"/>
            <a:ext cx="3200400" cy="177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4296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Microbiology of Fermented Milk Produ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-360" y="2142720"/>
            <a:ext cx="89298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Louis Pasteur (1822-1895), During the 1850s and 1860s showed that fermentation is initiated by living organis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n 1957, Pasteur showed that lactic acid fermentation is caused by living organism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80000"/>
              </a:lnSpc>
              <a:spcBef>
                <a:spcPts val="700"/>
              </a:spcBef>
              <a:buClr>
                <a:srgbClr val="0070c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In 1860, he demonstrated that bacteria cause souring in milks, his work in indentifying the role of microorganism in food spoilage led to the process of pasteurization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4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Fermented Milk Produ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42876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ermentation is a metabolic process in which an organism converts a carbohydrate such as starch and sugar into alcohol and / or acid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actic Acid fermentation is a metabolic process by which glucose and other six carbon sugar (also, disaccharides of six carbon sugar e.g. sucrose or lactose) are converted into cellular energy and the metabolite locat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ermented milk products, also known as cultured dairy food, or cultured dairy product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Cultured milk products, are dairy food that have been fermented with lactic acid bacteria such as </a:t>
            </a:r>
            <a:r>
              <a:rPr b="0" i="1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Lactobacilli, Lactococcus, Lecuconostoc</a:t>
            </a: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fermentation process increase the shelf life of the products while enhancing the taste and improving the digestibility of milk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About 2.3% of the total dairy product market is in the form of cultured dairy product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It has great therapeutic benefits and nutritional value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OMPOSITION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457200" y="1214280"/>
          <a:ext cx="8229600" cy="4429440"/>
        </p:xfrm>
        <a:graphic>
          <a:graphicData uri="http://schemas.openxmlformats.org/drawingml/2006/table">
            <a:tbl>
              <a:tblPr/>
              <a:tblGrid>
                <a:gridCol w="4114800"/>
                <a:gridCol w="4114800"/>
              </a:tblGrid>
              <a:tr h="633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onstituent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evel %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31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Dry matter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14-1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33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Protein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is. 2.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21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at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Not less than 15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3324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actos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2-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18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Lactic Acid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Min 0.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3360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Carbohydrates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5-2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48" name="Rectangle 1"/>
          <p:cNvSpPr/>
          <p:nvPr/>
        </p:nvSpPr>
        <p:spPr>
          <a:xfrm>
            <a:off x="500040" y="6001200"/>
            <a:ext cx="771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pH Range - 3.8-4.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Classification of Fermented Milk product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213840" y="1214280"/>
            <a:ext cx="8472600" cy="491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00b050"/>
                </a:solidFill>
                <a:latin typeface="Times New Roman"/>
                <a:ea typeface="Times New Roman"/>
              </a:rPr>
              <a:t>Paramete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en-US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ype of cultures us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2. Type of fermentation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3. Temperature at which prepar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4. Type of flavor and body-texture characteristic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5. Type of raw materials used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6. The form of the product, i.e. liquid, gel, set, drink, etc.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 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80000"/>
              </a:lnSpc>
              <a:spcBef>
                <a:spcPts val="624"/>
              </a:spcBef>
              <a:buClr>
                <a:srgbClr val="00206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The classification of fermented milks  a/c IDF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85840" y="1400040"/>
          <a:ext cx="8572320" cy="5403960"/>
        </p:xfrm>
        <a:graphic>
          <a:graphicData uri="http://schemas.openxmlformats.org/drawingml/2006/table">
            <a:tbl>
              <a:tblPr/>
              <a:tblGrid>
                <a:gridCol w="1785960"/>
                <a:gridCol w="2143080"/>
                <a:gridCol w="2143080"/>
                <a:gridCol w="2500200"/>
              </a:tblGrid>
              <a:tr h="349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Type of Fermentation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gridSpan="3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                                             </a:t>
                      </a:r>
                      <a:r>
                        <a:rPr b="1" lang="en-US" sz="12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Examp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639720">
                <a:tc rowSpan="2"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Acid Ferment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Mesophillic Produ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Thermophillic Products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Products with intestinal bacter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0476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a.Normal Flavor and Consistency: eg Cultured Butter milk, Dah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b.Slimy Consistency: Nordic Fermented Milk eg.Piima,Villi,Langfi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Yoghurt and Similar Produ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Acidophilus milk, Bifidus milk, Yakult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Acid+Alcohol Fermentat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Kefir and Koumiss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63972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Concentrated type fermented milk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  </a:t>
                      </a: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Cellar milk, Shrikhand, Laben, Sky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087560"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Milk-Plant Fermented Product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    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3300"/>
                          </a:solidFill>
                          <a:latin typeface="Times New Roman"/>
                          <a:ea typeface="Calibri"/>
                        </a:rPr>
                        <a:t>Kishk, Curd- ric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just">
                        <a:lnSpc>
                          <a:spcPct val="150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YOGHUR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HISTORY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Yoghurt is the most popular and widespread fermented milk product in the world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The world "Yoghurt" or "Yogurt" is derived from the turkish word " Jugurt"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</a:t>
            </a:r>
            <a:r>
              <a:rPr b="0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Yughurt is a traditional food and beverage in the balkan and the middle east.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206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However, its popularly has now spread to europe and many other parts of the world. The product is popular with different names is different countries.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DEFINITION 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99680" y="1785960"/>
            <a:ext cx="8186760" cy="38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Yoghurt is a coagulated milk product obtained by lactic acid fermentation through the action of </a:t>
            </a:r>
            <a:r>
              <a:rPr b="0" i="1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Streptococcus themophilus and Lactobacillus balgaricus </a:t>
            </a:r>
            <a:r>
              <a:rPr b="0" lang="en-US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from milk and milk products with or without the optional additions (SHP, WMP, whey powder, etc) and find product must contain viable organism  in abundance."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4-30T02:12:12Z</dcterms:created>
  <dc:creator>HP</dc:creator>
  <dc:description/>
  <dc:language>en-US</dc:language>
  <cp:lastModifiedBy>HP</cp:lastModifiedBy>
  <dcterms:modified xsi:type="dcterms:W3CDTF">2020-04-30T05:50:11Z</dcterms:modified>
  <cp:revision>21</cp:revision>
  <dc:subject/>
  <dc:title>Microbiology of Fermented Milk products</dc:title>
</cp:coreProperties>
</file>