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EFB-DE2F-48BE-B259-9AB089EA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910-45C8-4118-885C-ABEF52B9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955-C29F-4584-90A2-0A190C68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612-B80F-45B0-8258-8C3C1030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AB8-D7F2-4188-AFEC-3561A8CE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BFA-0DEF-4461-A7A3-8FC1C68B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A90-99B0-4F0E-ACA0-C1CC57AE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D63-7EC3-46D4-AC4E-A18297F1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D42-5037-48C5-8A29-4FDD7922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7CD-83DE-4658-8820-46773E3A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653-3920-491D-8090-CDE17E21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992-AB48-4F69-84F2-CF674578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B357-50F2-441D-9BB4-B64304CADDB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585720" y="822240"/>
            <a:ext cx="84423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GHURT (Standa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1260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ilk f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ilk solid not f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ilk pro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ug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Partially skimmed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0 perc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kimmed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0.5 percent m/m and not more than 3.0 percent I m/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weetened /Flavoured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ore than 3.0 percent I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6.0 percent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Fruit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1.5 percent in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6.0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biological Requirement of Yoghurt according to FSSA(2006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2114640"/>
                <a:gridCol w="3371760"/>
                <a:gridCol w="2743200"/>
              </a:tblGrid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.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Requi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Yoghurt/Da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Total Plate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0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Coliform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E.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1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almon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 25 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hig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taphylococcus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7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Yeast and Mold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naerobic Spore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1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Listeria monocyt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1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s of Yoghu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120" y="121428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O FLORA OF YU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ssential (Starter cultur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on essential </a:t>
            </a:r>
            <a:r>
              <a:rPr b="0" lang="en-IN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aminants </a:t>
            </a:r>
            <a:r>
              <a:rPr b="0" lang="en-IN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Essential (starter culture) </a:t>
            </a:r>
            <a:r>
              <a:rPr b="0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bacillus delbrueckil subsp bulgaricu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eptococcus thermophil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Non -Essent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. Acidophilu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fidobacterium bifidu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coccus lact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coccus lactis subsp diacetylact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dicoccu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Contaminan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east and Mould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li form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ther bac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s of Yogh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egal / Standards / Chemical Composition : FAO/WHO (197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Fat 73% f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Fat 0.5 to 3% f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fat &lt;0.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kan Yoghurt - 4.5 to 10% f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thod of Produc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rred Yoghurt]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it Yughurt - Diluted or stirred Yoghurt (&lt;11% to 5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lavour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Plain Yoghurt - Traditional Type with sharp, acidic tas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it Yoghurt - addition of fruit &amp; sweetening asrts to plain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ored Yughurt - In which synthetic flavoring &amp; coloring agents are add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ast Incubation process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ed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zen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etic Yoghurt - May include less colorie Yoghurt, low lacto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ghurt or vitamin / protein fortified Yoghu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d &gt;24% TS) a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d Yoghurts (&gt;90-94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1719360" y="2792520"/>
            <a:ext cx="32004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crobiology of Fermented Milk Produ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2142720"/>
            <a:ext cx="8929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ouis Pasteur (1822-1895), During the 1850s and 1860s showed that fermentation is initiated by living organi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1957, Pasteur showed that lactic acid fermentation is caused by living organi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1860, he demonstrated that bacteria cause souring in milks, his work in indentifying the role of microorganism in food spoilage led to the process of pasteuriz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rmented Milk Produ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ermentation is a metabolic process in which an organism converts a carbohydrate such as starch and sugar into alcohol and / or aci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ic Acid fermentation is a metabolic process by which glucose and other six carbon sugar (also, disaccharides of six carbon sugar e.g. sucrose or lactose) are converted into cellular energy and the metabolite loc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ermented milk products, also known as cultured dairy food, or cultured dairy pro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ed milk products, are dairy food that have been fermented with lactic acid bacteria such as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bacilli, Lactococcus, Lecuconostoc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fermentation process increase the shelf life of the products while enhancing the taste and improving the digestibility of mil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bout 2.3% of the total dairy product market is in the form of cultured dairy produc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t has great therapeutic benefits and nutritional valu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OSIT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214280"/>
          <a:ext cx="8229600" cy="442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stitu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evel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ry mat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te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s. 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t less than 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cto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ctic Aci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 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rbohydra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8" name="Rectangle 1"/>
          <p:cNvSpPr/>
          <p:nvPr/>
        </p:nvSpPr>
        <p:spPr>
          <a:xfrm>
            <a:off x="500040" y="6001200"/>
            <a:ext cx="77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H Range - 3.8-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Fermented Milk produ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1214280"/>
            <a:ext cx="8472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arame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of cultures us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Type of ferment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Temperature at which prepa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Type of flavor and body-texture characteris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ype of raw materials us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The form of the product, i.e. liquid, gel, set, drink, et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lassification of fermented milks  a/c ID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85840" y="1400040"/>
          <a:ext cx="8572320" cy="5403960"/>
        </p:xfrm>
        <a:graphic>
          <a:graphicData uri="http://schemas.openxmlformats.org/drawingml/2006/table">
            <a:tbl>
              <a:tblPr/>
              <a:tblGrid>
                <a:gridCol w="1785960"/>
                <a:gridCol w="2143080"/>
                <a:gridCol w="2143080"/>
                <a:gridCol w="2500200"/>
              </a:tblGrid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Type of Fer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Ex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cid Fer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Mesophillic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Thermophillic Produc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Products with intestinal bact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.Normal Flavor and Consistency: eg Cultured Butter milk, Da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b.Slimy Consistency: Nordic Fermented Milk eg.Piima,Villi,Langf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Yoghurt and Similar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cidophilus milk, Bifidus milk, Yakul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cid+Alcohol Ferment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Kefir and Koumi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Concentrated type fermented mil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Cellar milk, Shrikhand, Laben, Sk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Milk-Plant Fermented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Kishk, Curd- 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GH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ST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oghurt is the most popular and widespread fermented milk product in the worl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world "Yoghurt" or "Yogurt" is derived from the turkish word " Jugurt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ughurt is a traditional food and beverage in the balkan and the middle eas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ever, its popularly has now spread to europe and many other parts of the world. The product is popular with different names is different count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99680" y="1785960"/>
            <a:ext cx="81867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oghurt is a coagulated milk product obtained by lactic acid fermentation through the action of </a:t>
            </a: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eptococcus themophilus and Lactobacillus balgaricus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om milk and milk products with or without the optional additions (SHP, WMP, whey powder, etc) and find product must contain viable organism  in abundance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30T02:12:12Z</dcterms:created>
  <dc:creator>HP</dc:creator>
  <dc:description/>
  <dc:language>en-US</dc:language>
  <cp:lastModifiedBy>HP</cp:lastModifiedBy>
  <dcterms:modified xsi:type="dcterms:W3CDTF">2020-04-30T05:50:11Z</dcterms:modified>
  <cp:revision>21</cp:revision>
  <dc:subject/>
  <dc:title>Microbiology of Fermented Milk products</dc:title>
</cp:coreProperties>
</file>