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4A7-9A45-4C13-B26B-117AA09CAA13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247-1D70-4496-9FD5-2EBA6A84112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570-71B4-46D8-BAF0-800BB622CA38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D9AC-1AB0-449C-9A0E-29844B0340BF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221-3359-41A5-90E4-3548566F7050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610-034C-4B38-A36E-2D0EE7BD4EFF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5A2B-1CC8-4262-B1F6-4AD7C9056D10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3BA-DC5B-44E3-9B14-7F27F6FA8483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17D-8FD0-4119-99EC-0D46C64D7DB5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70A-4D01-4909-9598-338F4AAA318D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30A-1A98-4A2F-AB63-76738B71325C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3DB1-AD8F-4026-B265-5719F5A4B297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F9F-9B7A-4274-83D3-479C534AC02C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B17A-FC8E-4DD6-99A2-C10E10AEBF8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B2C-5C5C-4F8A-ACDB-8BF5984031E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079-BECE-47B2-8A76-DB0C6E365BA6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6C19-B9E4-49A1-98DE-F9D5CCF6EFD9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EBC-EE36-4605-9AFD-5DA53ECAFFB9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619-56A4-4085-B0E7-314DDDBFF667}" type="slidenum">
              <a:rPr b="0" lang="en-I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58C-050F-4867-BA8D-A22C52D1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E81-4439-4D51-ACA6-A86DF9AC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3A90A-FE5C-468F-B42B-29C47D43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C9EA1-275A-46A4-AFF2-A550E64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6DFF7-DB16-45CB-973B-E0DDCE5A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0A5D-4E11-4593-B98F-DE2F3D3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172C-3A8F-478C-98EC-8DF873C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8F8C7-DE45-4068-9EB3-B7C2E39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A107-3718-421C-B413-87D75A1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FC4B5-4411-400A-A9D9-72DCC04D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BCFFC-7DB0-4122-93F8-911EC80D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A9F3-C1BA-4875-847D-657BE0E4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9E7-8A92-435C-ABAE-09C86E8D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9EE5F-E3CB-45AB-814A-B0E4FA4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85B1F-D43D-45CB-81B5-1F984F7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C87AF-3EBE-469D-B47E-8C2F78E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431D-1C4D-4AEB-A57B-EDBF6CD0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183EF-5712-4520-9D15-06C7CAF4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1783A-60EF-45E0-8698-F69B068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11BFE-B472-4AD0-B123-3F6A426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05BD-5BFF-48F5-9818-987AD8A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4B54F-7FC8-4A61-8B2B-D4DDDC14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72B2F-8EE1-4D52-8654-F5A84706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8E2-582D-4C69-8BE9-70544803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21198-6AE3-41C0-8DB3-7ACC6B0E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A8E8-1679-4D35-ADB1-F59E1D12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7895-C39B-4459-8040-F6379F6C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FD21-D1B0-4469-AD52-4B7C024F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A15B1-CEC7-4D25-916A-A4F0EF1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91FB6-DAE4-4856-AB57-3FA181D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D97F-C001-4E4B-B6DE-4CC39B6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4D271-F3F5-44AA-9260-C54E560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3427-45C2-4512-AF4F-C921331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0968-64A9-4064-A5B6-B347ABE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D8F-FAC0-4663-A14A-C20BD25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2BFB-E0BF-43D3-885C-3E1FB8F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C8B7-D50D-467C-B322-839F6471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CBCE0-B2E5-41D5-98CF-16EAC24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80645-66F9-44A4-8D24-894D08D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F8818-DCA7-49C0-813C-EE7A39C8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01A1C-9AF2-476B-BC9E-114CEBF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5A233-C1A3-47FE-B459-273FDCC8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4A30E-34D3-4738-8080-997C4B1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87022-942F-4AED-97AC-857384A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72D88-B755-4780-B6D5-256B41D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3F6D-7DE6-4245-8119-071A1FB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E6F62-2D38-4082-9610-4D3F348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0EDE9-94EC-4F28-AED4-DAD1D4D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78E47-BDD9-42AB-B463-5BB0C8A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9C23E-2701-43D2-8272-BFB65B82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4A24F-B45A-4730-9D4D-0B9C26C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06DC-ED56-461F-9B70-1F03394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E44-A63E-4CFB-9100-748ED7AD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93E0-B979-4985-B16B-EFA927B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2808-E5E7-419F-991F-883010B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972C-F2F6-41E4-B2B5-D7B27FB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5F6-50D6-470E-8AAB-6A2160A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13DD-A3EE-4FFF-8DF2-C6E1A63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7D7-C61B-4D46-9FA6-80A68A0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87D1-0F46-4E11-9FBA-4B1EC433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456-791A-4769-AAB0-CCD0A527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E7D-9E7A-4C76-ABED-2FAD73A9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B63A-5C56-4F6C-BC17-FFC9272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EA7F-9DCB-4456-823D-6856F59E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3599-E356-4E89-99D7-D639747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A485-70CB-4076-9282-E0A83779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A7E1-79B1-4DD3-A9A7-4BF3378D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BAA-0409-4D4A-98B9-F27D59F2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321B-2170-490D-AF76-F6F6328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BAB7-D232-4AB1-9821-C2E9BA9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78A6-8939-41DF-8083-052BCA1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D315-CA15-4BEF-A915-8E25008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3A2A-7F4C-4C1C-A2E7-D553873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A2D6-EA45-49D4-9F64-21895C6F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3CA9-A192-460F-A258-72E4968B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CA5B-5F39-4974-A877-7346F08F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FE0A-7E05-4538-A8A2-6B9A5AEE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02E8-F572-41F0-AD15-8F4E0811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0D9-89D1-4762-98CE-D64DCA6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41DD-1818-4D55-892E-2AFEB9CE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8D65-DF77-465F-A5F9-38940842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9A59-4797-47E5-93DB-6241ECC4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01CD-E735-461A-B28B-6A82C6B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B7E2-126D-49F5-8A0C-A6F4F42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69AC-8B10-4CA7-A3D4-E95D8040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FED5E-33B9-4905-B745-4B395E27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F856-6D64-4AF2-8F26-3D7BEEE1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D988-6C48-42B0-A0A8-B6D4F271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D284-6762-4DDF-ADDB-B274051C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FE3-5001-4773-9BC9-394C05E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2E36-DCA8-4CB7-BB83-8CB9EA0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F3D0-D8F9-4F88-AE1A-61E655A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68DA7-CCA3-48F4-B85A-5C6D2B8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D58A-8D16-4F3F-8D68-0B8AF27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F599-D72A-4123-8670-47D0E779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324D-3EBB-45DF-B6EC-4EAAF2E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DDFC-7794-4C21-AFE9-872C263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92F4-ED23-4716-B73B-153AD5B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E029-9262-46DB-B838-060AEF0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FF5F-1556-4AC2-B3DF-0FF2D5ED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ABD-BBFD-4415-A5CB-3A0949B4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234A-1CE8-4770-AD09-2BFCC34B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44CE-3973-43B0-ADB2-78DD5A6A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0950-8D62-4854-A1A7-36972CED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33003-AC13-49D1-AD38-860D94E3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9612-FC87-4C8F-AB95-644AF89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3568-289C-4DCF-9D63-AF68B99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B2AD-52B0-4FAE-AC26-3C9FC7D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D120-2435-4AB8-900C-8DF7CA4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86D9-E43E-4E21-BF17-AC707ED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F8E2-DAE5-4840-82DC-CF1A9F7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0FC-0230-488F-B6C3-E881C90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0D59-6BB1-4958-A42C-C2EED6CA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C205-6EC8-4672-8F20-327525D0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E320-B0A4-4F9E-87BC-A3F36C2E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539B-EC48-454B-ABB3-BBFE28B6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4840-C8B4-4453-990D-B110615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7EDB-A3D6-4CD5-A361-D4EA3FD5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81396-5B04-40F7-ADCF-ACCAA83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9199E-1118-4DE5-AF3C-2DB4DDD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98F0-0F8B-49BF-9AAC-AD6EB48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4879-4798-4B1D-A156-F8A485C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B17-F9BC-4E8D-8392-E7D53CC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5CB3-4A5C-4825-8A58-AC771B7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01C8-9D86-4481-9F2F-D83E51A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AA2D-6AA2-4458-A892-13929F8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9D2A-64D0-45FF-A5B1-DCAC0DEB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F293-EFD5-4E83-AAAD-4D07029B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4D051-4942-49F1-AC15-30AE48A2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BD44E-EAEE-497F-81A9-4314B89D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8912-1967-48D5-96AF-012542E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188FF-7EED-4DD0-912C-E017844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9F6A-239E-4574-8F83-A197C163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3A1-4007-474E-A6BC-DD1FDC7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5996-A04F-49F3-986B-3CABF740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3DF75-A7AB-489A-9E9E-2CE491A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5D72-BD7F-4207-8D12-70016E4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07C6-0CAF-448A-BA56-E088C95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B871E-A2C1-4F4C-A526-B14E8CDE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7DA0-213A-4C21-B9A9-5A28AC8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296E-98B9-4437-A12D-21A010FF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9E0D0-0DD1-4084-9E62-C5673AE5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697E-8DC6-48B6-8EEF-807658B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B2052-5B3F-4EEE-9EE8-F026022D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F69-1E0C-4904-99F9-0F28117429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8FCE-0EB8-4A0B-9087-C97BE6169F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4F7-34BD-43D7-8FB9-87C9280F489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9FDB-D03C-48DE-98B6-9DF29545CE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F95D-6039-4115-BC84-0C06B4DC6D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AA8-3630-4F3E-8492-E7028474E6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2F9-0210-426F-A3D6-F241C8683D9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55A-5594-4E78-8664-0C17AD0385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0D2-9CDA-4DC1-8311-AE0F087036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1A15-245F-4CD6-968E-E76E65551B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10B7-A5B7-40D0-91FE-6A509D5255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8F2-B635-4DA8-A0A8-195D2DD5F1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3"/>
          <p:cNvGrpSpPr/>
          <p:nvPr/>
        </p:nvGrpSpPr>
        <p:grpSpPr>
          <a:xfrm>
            <a:off x="1305000" y="2103480"/>
            <a:ext cx="7053120" cy="1707120"/>
            <a:chOff x="1305000" y="2103480"/>
            <a:chExt cx="7053120" cy="1707120"/>
          </a:xfrm>
        </p:grpSpPr>
        <p:pic>
          <p:nvPicPr>
            <p:cNvPr id="566" name="Rectangle 3" descr=""/>
            <p:cNvPicPr/>
            <p:nvPr/>
          </p:nvPicPr>
          <p:blipFill>
            <a:blip r:embed="rId1"/>
            <a:stretch/>
          </p:blipFill>
          <p:spPr>
            <a:xfrm>
              <a:off x="1305000" y="2103480"/>
              <a:ext cx="70531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617840" y="2254320"/>
              <a:ext cx="6592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Gill Sans MT"/>
                </a:rPr>
                <a:t>Methods of slaughte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77760" y="142920"/>
            <a:ext cx="1523880" cy="1017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7585200" y="12852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86200" y="152280"/>
            <a:ext cx="2286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Halal metho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3352680" cy="3579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7" name=""/>
          <p:cNvSpPr txBox="1"/>
          <p:nvPr/>
        </p:nvSpPr>
        <p:spPr>
          <a:xfrm>
            <a:off x="1066680" y="4614840"/>
            <a:ext cx="792504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Bookman Old Style"/>
              </a:rPr>
              <a:t>Slaughter gently but firmly by holding animal’s head back, and in a quick, single cut move across animal’s throat just below the jawbone, cutting the windpipe, esophagus, arteries and veins forward of the neck bo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85800" y="2514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most important requirements of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ala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slaughter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e animal should be </a:t>
            </a:r>
            <a:r>
              <a:rPr b="0" lang="en-US" sz="2200" spc="-1" strike="noStrike">
                <a:solidFill>
                  <a:srgbClr val="c00000"/>
                </a:solidFill>
                <a:latin typeface="Bookman Old Style"/>
              </a:rPr>
              <a:t>healthy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2200" spc="-1" strike="noStrike">
                <a:solidFill>
                  <a:srgbClr val="c00000"/>
                </a:solidFill>
                <a:latin typeface="Bookman Old Style"/>
              </a:rPr>
              <a:t>without injuries</a:t>
            </a:r>
            <a:r>
              <a:rPr b="0" lang="en-US" sz="2200" spc="-1" strike="noStrike">
                <a:solidFill>
                  <a:srgbClr val="a50021"/>
                </a:solidFill>
                <a:latin typeface="Bookman Old Style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e animal should be treated with </a:t>
            </a:r>
            <a:r>
              <a:rPr b="0" lang="en-US" sz="2200" spc="-1" strike="noStrike">
                <a:solidFill>
                  <a:srgbClr val="c00000"/>
                </a:solidFill>
                <a:latin typeface="Bookman Old Style"/>
              </a:rPr>
              <a:t>respect and sympathy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No animal should see another animal di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e slaughter should be done </a:t>
            </a:r>
            <a:r>
              <a:rPr b="0" lang="en-US" sz="2200" spc="-1" strike="noStrike">
                <a:solidFill>
                  <a:srgbClr val="c00000"/>
                </a:solidFill>
                <a:latin typeface="Bookman Old Style"/>
              </a:rPr>
              <a:t>by a practicing Muslim.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99" name="Rectangle 3"/>
          <p:cNvGrpSpPr/>
          <p:nvPr/>
        </p:nvGrpSpPr>
        <p:grpSpPr>
          <a:xfrm>
            <a:off x="907920" y="334800"/>
            <a:ext cx="8315280" cy="1932120"/>
            <a:chOff x="907920" y="334800"/>
            <a:chExt cx="8315280" cy="1932120"/>
          </a:xfrm>
        </p:grpSpPr>
        <p:pic>
          <p:nvPicPr>
            <p:cNvPr id="600" name="Rectangle 3" descr=""/>
            <p:cNvPicPr/>
            <p:nvPr/>
          </p:nvPicPr>
          <p:blipFill>
            <a:blip r:embed="rId7"/>
            <a:stretch/>
          </p:blipFill>
          <p:spPr>
            <a:xfrm>
              <a:off x="907920" y="334800"/>
              <a:ext cx="831528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066680" y="380880"/>
              <a:ext cx="80010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The method of killing an animal for the sole purpose of making its meat fit for human consumption is called 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Zibah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 (Arabic word – purification / rendering good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378560" y="152280"/>
            <a:ext cx="1384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Contd…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90360" y="1143000"/>
            <a:ext cx="7878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blessing should be given before the cu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sharp instrument, usually a knife, should be used to slaughter the animal in a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single, unbroken mov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oesophagus, trachea and jugular vein should be cut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without damaging the spinal marrow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bloo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should be totally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draine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Loss of consciousness and bleeding efficienc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09120" y="160020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eep, large cut through all the blood vessels of the neck causes       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Blood loss &amp; hemorrhagic shoc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od loss leads to       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noxi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almost immediate loss of consciousne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inal cord intact               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omplete bleeding 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quality mea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Right Arrow 4"/>
          <p:cNvSpPr/>
          <p:nvPr/>
        </p:nvSpPr>
        <p:spPr>
          <a:xfrm>
            <a:off x="3733920" y="3429000"/>
            <a:ext cx="533160" cy="7632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ight Arrow 5"/>
          <p:cNvSpPr/>
          <p:nvPr/>
        </p:nvSpPr>
        <p:spPr>
          <a:xfrm>
            <a:off x="2209680" y="5410080"/>
            <a:ext cx="4572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ight Arrow 6"/>
          <p:cNvSpPr/>
          <p:nvPr/>
        </p:nvSpPr>
        <p:spPr>
          <a:xfrm>
            <a:off x="3429000" y="5029200"/>
            <a:ext cx="6858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971800" cy="381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0666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Gill Sans MT"/>
              </a:rPr>
              <a:t>Kashru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is the body of Jewish law dealing with what foods we can and cannot ea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ccording to Kashrut you may eat any animal that has </a:t>
            </a:r>
            <a:r>
              <a:rPr b="0" lang="en-US" sz="3000" spc="-1" strike="noStrike">
                <a:solidFill>
                  <a:srgbClr val="c00000"/>
                </a:solidFill>
                <a:latin typeface="Gill Sans MT"/>
              </a:rPr>
              <a:t>cloven hooves and chews cu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Gill Sans MT"/>
              </a:rPr>
              <a:t>Camel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3000" spc="-1" strike="noStrike">
                <a:solidFill>
                  <a:srgbClr val="c00000"/>
                </a:solidFill>
                <a:latin typeface="Gill Sans MT"/>
              </a:rPr>
              <a:t>pig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lack these qualities so they are not Koshe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the animals to be eaten the birds and mammals should be </a:t>
            </a:r>
            <a:r>
              <a:rPr b="0" lang="en-US" sz="3000" spc="-1" strike="noStrike">
                <a:solidFill>
                  <a:srgbClr val="c00000"/>
                </a:solidFill>
                <a:latin typeface="Gill Sans MT"/>
              </a:rPr>
              <a:t>killed according to Jewish law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1" name="Horizontal Scroll 3"/>
          <p:cNvGrpSpPr/>
          <p:nvPr/>
        </p:nvGrpSpPr>
        <p:grpSpPr>
          <a:xfrm>
            <a:off x="1365120" y="225360"/>
            <a:ext cx="7480440" cy="1079640"/>
            <a:chOff x="1365120" y="225360"/>
            <a:chExt cx="7480440" cy="1079640"/>
          </a:xfrm>
        </p:grpSpPr>
        <p:pic>
          <p:nvPicPr>
            <p:cNvPr id="612" name="Horizontal Scroll 3" descr=""/>
            <p:cNvPicPr/>
            <p:nvPr/>
          </p:nvPicPr>
          <p:blipFill>
            <a:blip r:embed="rId1"/>
            <a:stretch/>
          </p:blipFill>
          <p:spPr>
            <a:xfrm>
              <a:off x="1365120" y="225360"/>
              <a:ext cx="74804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1504800" y="361800"/>
              <a:ext cx="72676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ill Sans MT"/>
                </a:rPr>
                <a:t>Jewish / Kosher Metho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imal with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diseas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flaws in orga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re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forbidde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imal must be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aliv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 the time of slaughte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y form of prior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stunn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prohibi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prohibits consumption of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bloo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rtain parts of permitted animal may not be eaten (Spleen, heart, liver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28440" y="122400"/>
            <a:ext cx="6095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ome of the term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680" y="990360"/>
            <a:ext cx="7925040" cy="5715000"/>
          </a:xfrm>
          <a:prstGeom prst="rect">
            <a:avLst/>
          </a:prstGeom>
          <a:solidFill>
            <a:srgbClr val="ffeaa7"/>
          </a:solidFill>
          <a:ln w="0">
            <a:noFill/>
          </a:ln>
        </p:spPr>
        <p:txBody>
          <a:bodyPr anchor="t">
            <a:normAutofit/>
          </a:bodyPr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Talmud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body of the Jewish law, which specifies the ritual metho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ill Sans MT"/>
              </a:rPr>
              <a:t>Kosher Mea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t fit for Jewish consumption. (Obtained according to the ritual method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Shechit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The act of killing of animals for foo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ill Sans MT"/>
              </a:rPr>
              <a:t>Shoche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person who performs Shechi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Terefa / Treyf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meat unfit for consumption by Jewish commun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Gill Sans MT"/>
              </a:rPr>
              <a:t>Chalef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razor sharp knife, roughly twice the width of animal neck used to kill the anim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066680" y="60948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ong other features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hechit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slaughter severs th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jugular vein, carotid artery, esophagus and trachea in a single continuous cutting movement with an unserrated, sharp knife, avoiding unnecessary pain to the animal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lure of any of these criteria renders the meat of the animal unsui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8" name="Group 5"/>
          <p:cNvGrpSpPr/>
          <p:nvPr/>
        </p:nvGrpSpPr>
        <p:grpSpPr>
          <a:xfrm>
            <a:off x="1143000" y="3429000"/>
            <a:ext cx="7848720" cy="3124080"/>
            <a:chOff x="1143000" y="3429000"/>
            <a:chExt cx="7848720" cy="3124080"/>
          </a:xfrm>
        </p:grpSpPr>
        <p:pic>
          <p:nvPicPr>
            <p:cNvPr id="619" name="Picture 3" descr="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309636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" descr=""/>
            <p:cNvPicPr/>
            <p:nvPr/>
          </p:nvPicPr>
          <p:blipFill>
            <a:blip r:embed="rId2"/>
            <a:stretch/>
          </p:blipFill>
          <p:spPr>
            <a:xfrm>
              <a:off x="4383360" y="3429000"/>
              <a:ext cx="172800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5" descr=""/>
            <p:cNvPicPr/>
            <p:nvPr/>
          </p:nvPicPr>
          <p:blipFill>
            <a:blip r:embed="rId3"/>
            <a:stretch/>
          </p:blipFill>
          <p:spPr>
            <a:xfrm>
              <a:off x="6255360" y="3429000"/>
              <a:ext cx="2736360" cy="31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Content Placeholder 2"/>
          <p:cNvGrpSpPr/>
          <p:nvPr/>
        </p:nvGrpSpPr>
        <p:grpSpPr>
          <a:xfrm>
            <a:off x="993600" y="1249200"/>
            <a:ext cx="8229600" cy="5400720"/>
            <a:chOff x="993600" y="1249200"/>
            <a:chExt cx="8229600" cy="5400720"/>
          </a:xfrm>
        </p:grpSpPr>
        <p:pic>
          <p:nvPicPr>
            <p:cNvPr id="62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993600" y="1249200"/>
              <a:ext cx="822960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066680" y="1295280"/>
              <a:ext cx="800100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The neck incision shall be completed </a:t>
              </a: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with out pause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, pressure, stabbing, slanting or tearing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The Shochet is normally assisted by the sealer (</a:t>
              </a:r>
              <a:r>
                <a:rPr b="0" lang="en-US" sz="2400" spc="-1" strike="noStrike">
                  <a:solidFill>
                    <a:srgbClr val="c00000"/>
                  </a:solidFill>
                  <a:latin typeface="Bookman Old Style"/>
                </a:rPr>
                <a:t>Shomer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) who is responsible for put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Kosher mark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on the brisket and edible off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80960" indent="-39996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Shochet carries out a post mortem examination by making an incision to Xyphoid process and inserting the arm to detect adhesions in thoracic cavity. (process called </a:t>
              </a: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Searching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Rounded Rectangle 5"/>
          <p:cNvGrpSpPr/>
          <p:nvPr/>
        </p:nvGrpSpPr>
        <p:grpSpPr>
          <a:xfrm>
            <a:off x="969840" y="6480"/>
            <a:ext cx="8124840" cy="1261800"/>
            <a:chOff x="969840" y="6480"/>
            <a:chExt cx="8124840" cy="1261800"/>
          </a:xfrm>
        </p:grpSpPr>
        <p:pic>
          <p:nvPicPr>
            <p:cNvPr id="626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969840" y="6480"/>
              <a:ext cx="812484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1187280" y="196920"/>
              <a:ext cx="7683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ill Sans MT"/>
                </a:rPr>
                <a:t>The Five basic rules of Jewish Slaugh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Content Placeholder 7"/>
          <p:cNvGrpSpPr/>
          <p:nvPr/>
        </p:nvGrpSpPr>
        <p:grpSpPr>
          <a:xfrm>
            <a:off x="1073160" y="835200"/>
            <a:ext cx="7997760" cy="2766960"/>
            <a:chOff x="1073160" y="835200"/>
            <a:chExt cx="7997760" cy="2766960"/>
          </a:xfrm>
        </p:grpSpPr>
        <p:pic>
          <p:nvPicPr>
            <p:cNvPr id="629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1073160" y="835200"/>
              <a:ext cx="799776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43000" y="914400"/>
              <a:ext cx="77724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95440" indent="-51444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The carcass fit for consumption must be </a:t>
              </a: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porged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 by removing large blood vessels in fore quarter prior to sale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95440" indent="-51444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95440" indent="-514440" algn="just">
                <a:lnSpc>
                  <a:spcPct val="100000"/>
                </a:lnSpc>
                <a:spcBef>
                  <a:spcPts val="601"/>
                </a:spcBef>
                <a:buClr>
                  <a:srgbClr val="0000cc"/>
                </a:buClr>
                <a:buSzPct val="80000"/>
                <a:buFont typeface="Bookman Old Style"/>
                <a:buAutoNum type="romanU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Kashrut  or </a:t>
              </a:r>
              <a:r>
                <a:rPr b="1" lang="en-US" sz="2400" spc="-1" strike="noStrike">
                  <a:solidFill>
                    <a:srgbClr val="ff0000"/>
                  </a:solidFill>
                  <a:latin typeface="Bookman Old Style"/>
                </a:rPr>
                <a:t>Kosher certif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 for me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3"/>
          <p:cNvSpPr/>
          <p:nvPr/>
        </p:nvSpPr>
        <p:spPr>
          <a:xfrm>
            <a:off x="1066680" y="36464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Meat (the flesh of birds and mammals) cannot be eaten with dai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tensils that have come into contact with meat may not be used with dairy, and vice 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70102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ont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Title 1"/>
          <p:cNvGrpSpPr/>
          <p:nvPr/>
        </p:nvGrpSpPr>
        <p:grpSpPr>
          <a:xfrm>
            <a:off x="1731960" y="433440"/>
            <a:ext cx="5832360" cy="730080"/>
            <a:chOff x="1731960" y="433440"/>
            <a:chExt cx="5832360" cy="730080"/>
          </a:xfrm>
        </p:grpSpPr>
        <p:pic>
          <p:nvPicPr>
            <p:cNvPr id="571" name="Title 1" descr=""/>
            <p:cNvPicPr/>
            <p:nvPr/>
          </p:nvPicPr>
          <p:blipFill>
            <a:blip r:embed="rId1"/>
            <a:stretch/>
          </p:blipFill>
          <p:spPr>
            <a:xfrm>
              <a:off x="1731960" y="433440"/>
              <a:ext cx="583236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52480" y="457200"/>
              <a:ext cx="5791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35e01"/>
                  </a:solidFill>
                  <a:latin typeface="Gill Sans MT"/>
                </a:rPr>
                <a:t>Methods of slaught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0663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laught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s the term used to describe the killing and butchering of animals (bleed to death) usually for food. Commonly it refers to killing and </a:t>
            </a:r>
            <a:r>
              <a:rPr b="0" lang="en-US" sz="2200" spc="-1" strike="noStrike">
                <a:solidFill>
                  <a:srgbClr val="cc3300"/>
                </a:solidFill>
                <a:latin typeface="Gill Sans MT"/>
                <a:ea typeface="Times New Roman"/>
              </a:rPr>
              <a:t>butchering of domestic livestock (</a:t>
            </a:r>
            <a:r>
              <a:rPr b="0" i="1" lang="en-US" sz="2200" spc="-1" strike="noStrike">
                <a:solidFill>
                  <a:srgbClr val="cc3300"/>
                </a:solidFill>
                <a:latin typeface="Gill Sans MT"/>
                <a:ea typeface="Times New Roman"/>
              </a:rPr>
              <a:t>tamed animals</a:t>
            </a:r>
            <a:r>
              <a:rPr b="0" lang="en-US" sz="2200" spc="-1" strike="noStrike">
                <a:solidFill>
                  <a:srgbClr val="cc3300"/>
                </a:solidFill>
                <a:latin typeface="Gill Sans MT"/>
                <a:ea typeface="Times New Roman"/>
              </a:rPr>
              <a:t>) in a humane way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t present the animals most commonly slaughtered for food ar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attle (for beef and veal)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uffalo (cara beef)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Sheep (for mutton)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Goats (chevon)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Pigs (for pork)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orses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owl (largely chickens, turkeys, and duck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Fish from the aquaculture industry (fish farming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7953-64C8-4E34-B45A-D7992CDE3FB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Rectangle 4" descr=""/>
          <p:cNvPicPr/>
          <p:nvPr/>
        </p:nvPicPr>
        <p:blipFill>
          <a:blip r:embed="rId1"/>
          <a:stretch/>
        </p:blipFill>
        <p:spPr>
          <a:xfrm>
            <a:off x="2266920" y="2676600"/>
            <a:ext cx="6029280" cy="2352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77760" y="142920"/>
            <a:ext cx="1523880" cy="1017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"/>
          <p:cNvPicPr/>
          <p:nvPr/>
        </p:nvPicPr>
        <p:blipFill>
          <a:blip r:embed="rId3"/>
          <a:stretch/>
        </p:blipFill>
        <p:spPr>
          <a:xfrm>
            <a:off x="7585200" y="12852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1066680" y="3048120"/>
            <a:ext cx="2819520" cy="14475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Ritual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5638680" y="4795920"/>
            <a:ext cx="2819520" cy="14475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Human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Title 1"/>
          <p:cNvGrpSpPr/>
          <p:nvPr/>
        </p:nvGrpSpPr>
        <p:grpSpPr>
          <a:xfrm>
            <a:off x="1414440" y="1427040"/>
            <a:ext cx="7540560" cy="1108080"/>
            <a:chOff x="1414440" y="1427040"/>
            <a:chExt cx="7540560" cy="1108080"/>
          </a:xfrm>
        </p:grpSpPr>
        <p:pic>
          <p:nvPicPr>
            <p:cNvPr id="577" name="Title 1" descr=""/>
            <p:cNvPicPr/>
            <p:nvPr/>
          </p:nvPicPr>
          <p:blipFill>
            <a:blip r:embed="rId1"/>
            <a:stretch/>
          </p:blipFill>
          <p:spPr>
            <a:xfrm>
              <a:off x="1414440" y="1427040"/>
              <a:ext cx="7540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434960" y="1447920"/>
              <a:ext cx="74995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buClr>
                  <a:srgbClr val="3891a7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835e01"/>
                  </a:solidFill>
                  <a:latin typeface="Gill Sans MT"/>
                </a:rPr>
                <a:t>Methods of slaughter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4191120" cy="609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835e01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3e21"/>
                </a:solidFill>
                <a:latin typeface="Bookman Old Style"/>
              </a:rPr>
              <a:t>Some of the norm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9036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laughter methods vary all over the world according to religion, tradition and regal legislation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35e01"/>
                </a:solidFill>
                <a:latin typeface="Gill Sans MT"/>
              </a:rPr>
              <a:t>Every method ought to fulfill the following condition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animal should be </a:t>
            </a: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killed with a minimum suffering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considering pre slaughter treatment and killing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Bleeding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of the animals should be </a:t>
            </a: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complete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as possible to ensure good quality mea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sticking and dressing should be performed in </a:t>
            </a: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most hygienic way 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- to avoid contamination of mea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ounded Rectangle 8" descr=""/>
          <p:cNvPicPr/>
          <p:nvPr/>
        </p:nvPicPr>
        <p:blipFill>
          <a:blip r:embed="rId1"/>
          <a:stretch/>
        </p:blipFill>
        <p:spPr>
          <a:xfrm>
            <a:off x="987480" y="79200"/>
            <a:ext cx="8156520" cy="1335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1752120" y="4267080"/>
            <a:ext cx="6172200" cy="2292480"/>
          </a:xfrm>
          <a:prstGeom prst="rect">
            <a:avLst/>
          </a:prstGeom>
          <a:solidFill>
            <a:srgbClr val="f5d3d3"/>
          </a:solidFill>
          <a:ln w="9360">
            <a:solidFill>
              <a:srgbClr val="c0654c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inly three method are the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hatka / Hindu / Sikh Meth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lal / Muslim Meth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ewish / Kosher Method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990720" y="137160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The major difference from the general practices in most countries is that the animals are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  <a:ea typeface="Arial"/>
              </a:rPr>
              <a:t>not stunned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ior to sl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In most of the cases the slaughtering is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  <a:ea typeface="Arial"/>
              </a:rPr>
              <a:t>regarded as offering to their go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 therefore the slaughtering is one of the most pious and religious ma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09120" y="190512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Jhatk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d0d0d"/>
                </a:solidFill>
                <a:latin typeface="Bookman Old Style"/>
              </a:rPr>
              <a:t>meat is meat from an animal which has been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killed by a single strike of a sword or axe to sever the he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d0d0d"/>
                </a:solidFill>
                <a:latin typeface="Bookman Old Style"/>
              </a:rPr>
              <a:t>The head of the animal is held securely, or fastened to a rigid pole or other objec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man Old Style"/>
              </a:rPr>
              <a:t>The hind legs are held away by hand. The head is severed with a heavy, sharp axe or sword in a </a:t>
            </a:r>
            <a:r>
              <a:rPr b="1" lang="en-US" sz="2400" spc="-1" strike="noStrike">
                <a:solidFill>
                  <a:srgbClr val="a50021"/>
                </a:solidFill>
                <a:latin typeface="Bookman Old Style"/>
              </a:rPr>
              <a:t>single stroke</a:t>
            </a:r>
            <a:r>
              <a:rPr b="0" lang="en-US" sz="2400" spc="-1" strike="noStrike">
                <a:solidFill>
                  <a:srgbClr val="0d0d0d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Horizontal Scroll 3"/>
          <p:cNvSpPr/>
          <p:nvPr/>
        </p:nvSpPr>
        <p:spPr>
          <a:xfrm>
            <a:off x="1143000" y="0"/>
            <a:ext cx="7772400" cy="1447920"/>
          </a:xfrm>
          <a:prstGeom prst="horizontalScroll">
            <a:avLst>
              <a:gd name="adj" fmla="val 12500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1d15"/>
                </a:solidFill>
                <a:latin typeface="Bookman Old Style"/>
              </a:rPr>
              <a:t>Sikh or Hindu slaughter method (jhat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0040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hatka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11480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8" name="Picture 5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38163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60948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This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kills the animal immediately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because the spinal cord is severed, and the blood flow to the brain is stopped almost instantly, causing brain death within second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Therefore this method is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</a:rPr>
              <a:t>less painful to the animal than other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Jhatka is the Sikh method of killing an animal. Sikhs are recommended to eat the jhatka form of meat, as they do not believe that any ritual gives meat a spiritual virt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09120" y="15235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Halal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slaughter is the method of slaughtering animals for meat prescribed by Muslims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It involves </a:t>
            </a: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cutting the throat of the animal 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so as to bring about rapid, complete bleeding and the quickest death possible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Stunning prior to slaughter is generally </a:t>
            </a:r>
            <a:r>
              <a:rPr b="0" lang="en-US" sz="2700" spc="-1" strike="noStrike">
                <a:solidFill>
                  <a:srgbClr val="ff0000"/>
                </a:solidFill>
                <a:latin typeface="Bookman Old Sty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practiced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91" name="Horizontal Scroll 3"/>
          <p:cNvGrpSpPr/>
          <p:nvPr/>
        </p:nvGrpSpPr>
        <p:grpSpPr>
          <a:xfrm>
            <a:off x="1378080" y="-49320"/>
            <a:ext cx="7613640" cy="1365480"/>
            <a:chOff x="1378080" y="-49320"/>
            <a:chExt cx="7613640" cy="1365480"/>
          </a:xfrm>
        </p:grpSpPr>
        <p:pic>
          <p:nvPicPr>
            <p:cNvPr id="592" name="Horizontal Scroll 3" descr=""/>
            <p:cNvPicPr/>
            <p:nvPr/>
          </p:nvPicPr>
          <p:blipFill>
            <a:blip r:embed="rId6"/>
            <a:stretch/>
          </p:blipFill>
          <p:spPr>
            <a:xfrm>
              <a:off x="1378080" y="-49320"/>
              <a:ext cx="761364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1600200" y="152280"/>
              <a:ext cx="7238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b2203"/>
                  </a:solidFill>
                  <a:latin typeface="Bookman Old Style"/>
                </a:rPr>
                <a:t>Muslim/</a:t>
              </a:r>
              <a:r>
                <a:rPr b="1" i="1" lang="en-US" sz="3200" spc="-1" strike="noStrike">
                  <a:solidFill>
                    <a:srgbClr val="4b2203"/>
                  </a:solidFill>
                  <a:latin typeface="Bookman Old Style"/>
                </a:rPr>
                <a:t>Halal</a:t>
              </a:r>
              <a:r>
                <a:rPr b="1" lang="en-US" sz="3200" spc="-1" strike="noStrike">
                  <a:solidFill>
                    <a:srgbClr val="4b2203"/>
                  </a:solidFill>
                  <a:latin typeface="Bookman Old Style"/>
                </a:rPr>
                <a:t> Metho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2" descr=""/>
          <p:cNvPicPr/>
          <p:nvPr/>
        </p:nvPicPr>
        <p:blipFill>
          <a:blip r:embed="rId7"/>
          <a:stretch/>
        </p:blipFill>
        <p:spPr>
          <a:xfrm>
            <a:off x="5943600" y="1905120"/>
            <a:ext cx="2971800" cy="358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dhi</dc:creator>
  <dc:description/>
  <dc:language>en-US</dc:language>
  <cp:lastModifiedBy>dranjayvet@gmail.com</cp:lastModifiedBy>
  <dcterms:modified xsi:type="dcterms:W3CDTF">2020-05-18T08:26:53Z</dcterms:modified>
  <cp:revision>214</cp:revision>
  <dc:subject/>
  <dc:title>Methods of slaughter</dc:title>
</cp:coreProperties>
</file>