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wmf" ContentType="image/x-wmf"/>
  <Override PartName="/ppt/media/image17.png" ContentType="image/png"/>
  <Override PartName="/ppt/media/image32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4.png" ContentType="image/png"/>
  <Override PartName="/ppt/media/image1.png" ContentType="image/png"/>
  <Override PartName="/ppt/media/image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41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28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40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.jpeg" ContentType="image/jpeg"/>
  <Override PartName="/ppt/media/image38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85A-32C1-4402-BBA5-ABA0A4ABD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86C1-BC37-4516-990F-C11A823E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EFB1-3BBF-468F-84ED-A2126A32388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547-057E-480D-A97D-5B5FB5A4B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EA5-08AA-49E1-BF2D-9FB15A473DF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B3A-F016-4528-9DAE-4AF501FC1F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FE90-FF47-47D1-BFB5-220DBB0F47F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18C-BAAF-482B-AA72-1E9C5AB3A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BF5-7240-47BD-B7C1-6290E864F2C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DA75-D28F-4A30-B093-F87B803062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D23-DEA2-4017-97FC-7CB7F505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930-19E2-4415-B5F4-C0B4756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1D3-C2C7-4413-825D-D13CBD1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7E8-CC9E-4F64-B103-FC0E1FC9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1337-DA22-404F-AB06-D5A4EFA8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EC1-7066-4AE7-8920-E047094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E16-BAD8-4BBA-A927-A6D7EE0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9A4-4A0D-4C37-A1CB-BA22F2C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CDD3-DAD3-4EA3-87B5-C11C05A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2C36-E9C3-4F37-9EAF-67D1ACB2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A52-E13E-4A76-A190-DA7D0BB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1CD-9E5E-4E47-AD8B-1AF0108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8F7-22F3-4447-B098-1C8BA99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3DE0-95E5-464A-9A1E-ACC3D79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8063-0F00-4CB1-9510-C95F48C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F2AC-2397-4DAC-9091-58F11983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AE8-98BB-4751-B999-5398065E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3E2-50C1-412D-B960-5DF6D10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B74-F094-43DD-97DA-FA720F77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358-1CDD-4D94-93EE-36D4624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51E-769D-4E20-8530-DAD7A569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E74-C01C-43B1-8735-EA464B0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F8F-6DFC-4067-A566-A97F2317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279-08AB-4839-8B48-848FD08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46D-32C1-4D69-B6D2-94B86986C01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45B-AFED-435F-B5CA-E47623C7C03F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32E-CCA1-44C0-AA69-B5E29D1508C2}" type="datetime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100-7ED8-4521-95D1-37F40E697474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850-02E8-48AA-91B0-DE46B061A150}" type="datetime">
              <a:rPr b="0" lang="en-US" sz="1400" spc="-1" strike="noStrike">
                <a:solidFill>
                  <a:srgbClr val="660033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087-3CAF-40B3-B42A-E9728CA9EB9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47960" y="1142640"/>
            <a:ext cx="4470120" cy="243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aenia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Cysticer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8EC-AC05-4DBC-B3D2-F0AB03F1101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083-8296-4922-9B36-09FD1AC583B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ngitudinal rectang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sterior bod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st parts of repro sys rudiment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arge, branched uterus filled with eg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anch each side  7-13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lt;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rcRect l="0" t="0" r="0" b="44378"/>
          <a:stretch/>
        </p:blipFill>
        <p:spPr>
          <a:xfrm>
            <a:off x="4952880" y="2362320"/>
            <a:ext cx="1866960" cy="4495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1905120" y="1663560"/>
            <a:ext cx="4267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Gravid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946-558D-47A4-B20E-815609B06B0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9931-1ACA-400E-B7FE-0F6CE386C92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EG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/>
          <a:srcRect l="36390" t="12617" r="3343" b="12617"/>
          <a:stretch/>
        </p:blipFill>
        <p:spPr>
          <a:xfrm>
            <a:off x="6019920" y="4572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646-AF0F-4459-A568-44C27197485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513-88C1-4A26-BECC-B185879637B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8475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188" name="Rectangle 4"/>
          <p:cNvSpPr/>
          <p:nvPr/>
        </p:nvSpPr>
        <p:spPr>
          <a:xfrm>
            <a:off x="4648320" y="6324480"/>
            <a:ext cx="44956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key, wild boar, camel, dog, cat, fox and rod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315200" y="2286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zoonosis 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fect 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62120" y="2286000"/>
            <a:ext cx="12952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liga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yclo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18360" y="581508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orcine 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822040" y="261468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aenia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819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Hu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CD38-52F2-46E6-AD1E-F97DEC0C679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D19A-1FF3-459A-8E89-2FA59BD874F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lobal distribution of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ysticercosis &amp; taeni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0" t="10718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4912-0D13-4B2A-8298-7AA58A8E359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1B1E-A0E8-4929-AE1B-8B94FEBB16E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eographical distribution of cysticercosis &amp; taeniosi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n In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0" t="5082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206" name="Rectangle 5"/>
          <p:cNvSpPr/>
          <p:nvPr/>
        </p:nvSpPr>
        <p:spPr>
          <a:xfrm>
            <a:off x="3581280" y="2286000"/>
            <a:ext cx="1828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1E11-34F3-4E95-94FA-2ECF395C813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B1E-0A03-4120-9D87-331768F9F0A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  <a:ea typeface="宋体"/>
              </a:rPr>
              <a:t>Clinical Manifest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ysticercosis: 3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ular/ Subcutaneous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ular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 cysticercosi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09A-6B4B-4004-AF24-9C217404000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8DC-5BA7-4CB4-8154-5F9E0047EE3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PORCINE 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dge anywhere in body of pig, most commonly in muscle &amp; s/c f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 associated with symp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C in naturally infected swine showed excessive salivation, blinking and tea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degenerative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7838-F4B9-49F7-880B-982751955A6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02B-3616-4DD3-874C-63D703E531F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hetero infection: eggs in contaminated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xogenous autoinfection: Ano-oral contam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ndogenous autoinfection: Reverse peristal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rval stage infests different tissues skeletal muscle, diaphragm, heart, peritoneum, pleura &amp; subcutaneous tissue (Shank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HUMAN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BD2-A00B-4743-A43F-5DC5185FD90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1DE1-B669-4B9E-9D52-703E6E47A9B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1936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 prevalent type, but in India with high prevalence as 1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le cysticercosis cause pain &amp; hypertrophy &amp; dead &amp; calcified cy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found in head, limbs, neck, abdomen &amp; bac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vable &amp; painl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740880" y="185436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scular / Subcutaneous 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962520" cy="1990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8E2-3977-483F-A173-9D40430C07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0053-7060-4AFD-8C37-4B3A7D8764A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ly ra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% prevalence in some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nd in vitreous body or subret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tosis, diplopia, visual disturb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ed body of worm may provokes local inflam. causing blin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426708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1904760" y="1893960"/>
            <a:ext cx="4153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宋体"/>
              </a:rPr>
              <a:t>Ocular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ysticer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9D3-4565-4CBB-94A9-E7E00C75068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DAA-A961-4D50-982A-A11D82E099A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eniosis (Greek: Tainia means bend, ribbon or tape-like structure-tape-wor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nfatal intestinal infection of human caused by adult cyclophyllidean cestodes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vae (Cysticercus, cyst or bladderworm) affects many spp of animals &amp; man &amp; produce a disease K/A Cysticec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 meat borne obligatory cyclo anthropozoonotic helminth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designated as a “biological marker” of  social &amp; economic development of a commu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6B5C-4005-41E7-9B84-4C51567598A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898-67F8-439B-A2D5-C9BB0888227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572000" cy="449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valent &amp; dangerous 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mpt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aches, nausea, vomi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rred vision, neurologic chang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confusion, ↑ IC pressu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neurologic deficit, intellectual defic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lepsy (70% ca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903320" y="180828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urocysticercosis (N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A3DB-6D9F-42F7-9223-7BF1B51D0E6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EEF1-1866-4070-82B3-B796C196DA7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FORM OF NC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ages of development &amp; regression of  cysticercus in C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ystic or vesic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ble &amp; composed of well-defined, fluid-filled membrane, contain scolex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Degenerating, colloid or gran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s to parasite necrosis &amp; inflam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 as eosinophilic structures contain components of bladder &amp; disintegrated scolex &amp; tissue  surrounded by multinuclear giant cells, foamy macrophages &amp; neutrophils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3A4-2D94-436F-A0B4-E44505AE6A1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271C-664C-4785-963E-AEB6F5F44E8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dular st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rosis develops recognized as a nodule of smaller size than the blad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ineralization &amp; calcification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dystrophic calcification of necrotic larva or presence of cysticercal calcareous corpus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7AC-C071-431A-9DFD-6829C5CB2AC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B910-EA9C-4809-B4C8-1B969598353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Taenia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wide zoonotic cest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f / un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va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ysticercus bov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cattle (IH) musculature; bovine cysticerco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 worms in human (DH) SI; 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 50 million cases of infestation worldwide &amp; 50,000 deaths (human) ann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losses in cattle production due to downgrading &amp;/or condemnation of carcasses as untreated infected meat an important source of zoono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0782-3332-47C0-9C7C-28285219BBB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294-4751-409D-8178-D71EB7A3EB2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17200" y="1084320"/>
            <a:ext cx="7813800" cy="76536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Biological differences between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 and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agin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362320"/>
          <a:ext cx="8305920" cy="4495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2-7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5- 12 (24)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col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1 mm in diameter with 4 suckers, 1 rostellum &amp; 22- 36 hooklet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mm in diameter, wit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4 suckers but no rostellum &amp; hookl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seg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00 to 1000 (&lt; 1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000 to 2000 (~ 200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ture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3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ravid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-13 uterine lateral branches on one si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5-30 uterine lateral branches on one 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FAC-A512-45E4-86A6-2C215A3955F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2DA-A6DC-458F-A397-02420A522F3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2362320"/>
          <a:ext cx="8305920" cy="44845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. of gravid proglottid detach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everal seg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ingle seg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e of proglottids passing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Passively expel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Actively migrate out of a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ysticer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colex with hookle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in man &amp; pi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No hooklets on scolex only in catt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ease in 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 &amp; Cysticerc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g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pherical, 31- 43 µm diameter, thick radially striated brown embryophore. oncosphere with 6 hookle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610-B692-4DF1-925E-D5CB6D6C9E5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9B9F-1AE2-4C7F-95B9-4C3638E6688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  <a:ea typeface="宋体"/>
              </a:rPr>
              <a:t>Body leng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4D3-FFE6-4121-9458-06FEF8E4559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FEE-33BC-4528-B3AD-218EE444C02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Scolex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105520" y="3419640"/>
            <a:ext cx="3278160" cy="3438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698-9E3C-4BF4-B6E1-29D8B878668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6A6-B761-4AB5-BBAF-B5E7051B200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  <a:ea typeface="宋体"/>
              </a:rPr>
              <a:t>Mature proglotti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CD1-A3C7-408C-A7B4-90235219037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7D5-EE0C-4C01-BE8F-72C109C2E650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Gravid proglottid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733920" cy="396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51A-850B-417B-B93F-B5A7731C568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37D-8068-4478-A429-3EE82E57474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rd century BC: Aristophanes &amp; Aristotle; first described Cysticercosis in pi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: Parunoli; noticed Cysticercosis in hum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d in ancient Indian medical book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ak Sanh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ocrates;  first documen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oli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0: Audry; first repor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ut unable to distinguish proglottids of two tapew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2: Goeze; first correctly distinguis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eatise on helmintholog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3: Kuchenmeister indicated cysticercus as developmental stag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BD35-3601-42D3-9838-F51A7720C3F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03E5-8B71-485D-AE3B-5456DA0CE5A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Cysticercu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414-D187-4E3D-9AE0-2CDC741C7F2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4E5-6143-4078-97DB-05E6D5AFB58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Life cycle of </a:t>
            </a:r>
            <a:r>
              <a:rPr b="0" i="1" lang="en-US" sz="3600" spc="-1" strike="noStrike">
                <a:solidFill>
                  <a:srgbClr val="0066cc"/>
                </a:solidFill>
                <a:latin typeface="Arial"/>
              </a:rPr>
              <a:t>T.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8107" t="39656" r="67573" b="41385"/>
          <a:stretch/>
        </p:blipFill>
        <p:spPr>
          <a:xfrm>
            <a:off x="3809880" y="40384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3"/>
          <a:srcRect l="52784" t="13470" r="26857" b="36030"/>
          <a:stretch/>
        </p:blipFill>
        <p:spPr>
          <a:xfrm>
            <a:off x="6248520" y="2286000"/>
            <a:ext cx="2895480" cy="1371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152280" y="152280"/>
            <a:ext cx="15242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nt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159-BB0C-4C9A-A263-D3DAF852EE3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3BD-3851-4963-A22B-71508582F82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CATT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ospheres develop in skeletal &amp; cardiac muscles &amp; in fat &amp; visceral org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d symptoms: Increased pulse &amp; respiratory rates, slight increase in body temp. depending on dose of inf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inflammatory reactions (Ory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y infestation by lar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carditis or heart fail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1D4-A48C-44CC-B6B7-6C629EDEDC7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1F0-2636-4DC1-8710-0782CD7A659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Hu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station with mild sympto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us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ominal discomfor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gastric p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rrh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deficienc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appetite or loss of appeti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weigh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estive disturb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stinal blo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B344-1B3D-481A-9B82-187C29136E6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629-58FD-4678-981B-CB565781BC5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DIAGNOSIS IN HUMA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y finding gravid proglottides or egg in sto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rect fecal sme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ine floatation techniqu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llophane-tape techn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ch tape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cal concentration techniques (Kato thick smear, Formyl 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enia antigens in s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032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217-D8A5-4827-878D-2190DDBE2EA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037-D6B7-41C5-A3DD-D71E5531125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Manife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imaging / Radiologic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: Sensitivity and specificity over 9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I: Most accurate technique to assess degree of infection, location &amp; evolutionary stage of  paras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51000" y="18288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55A6-0D3B-49E9-A420-4B5B6D2FBF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8F65-1A55-4FA0-BD14-B004DEB6254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es lentil-lectin purified glycoproteins (LL-GP) diagnosi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sticercosis based on antibody det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body detection EL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 EL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051-09A8-4916-B08F-D786176DB36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141-6AB2-4B0E-A640-2B7E0855BEB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CATT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al incision &amp; inspection of target organs/muscle groups: heart, masseters, tongue, triceps brachii &amp; diaphragm; search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body detection ELISA: 3 weeks post-inf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stick-immuno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-ELISA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A3BC-6404-4742-90CB-F1A262A8C57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A76-4D50-43E5-A0D2-832DEBDA5CE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PI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ensitive to detect dead, degenerated, or calcified cysticerci; but most likely to miss quite a number of viable cysticerci (same pinkish-red color as meat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incision &amp; careful observation in “predilection” sites: heart, masseters, tongue,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gue palp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s in live pigs by palpation and visual inspection (high specificity (100%), but generally low sensitivity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3A0-BBF6-4C9C-9D6F-EFBF3118488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3FE9-8069-4AB3-9BE6-D5C0DF2B0C2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ensitive and specific assays for the detection of antibodies specific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in pi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y detection ELISA: assay detects Ig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6F4-1522-4239-9986-D8CBD709A3D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8B3-5DCE-401B-B12E-8D66BCC630F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3: Leuckart first showed experimentally proglottid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 to calves developed into cysticerci in the calf's musc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iver, first discover that when humans ingested "bladder worms,“ they developed adul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8: Armstrong reported NCC in a coolie from Madras, who died to seizure &amp; found infected with cyst on autop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2: Krishnaswamy reported cysticerci related case of muscle pain &amp; s/c nodules with abundant cysticerci in muscles, heart &amp; brain at autop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4: MacArthur noticed high rate of  onset epilepsy related to cysticercosis in British army deployed in In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1613-2408-4021-B4D5-7FF0DCB4954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5B2-8CA4-4522-9548-282534E4706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57800" y="75780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vised Diagnostic Criteria for NC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logical demonstration of  parasite from biopsy of brain or spinal cord le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 lesions with scolex on CT or M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visualization of sub retinal parasite by fundos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highly suggestive of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serum EITB for detection of anticysticercal antibo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cysts after antiparasitic 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taneous resolution of small single enhancing le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1874-A8E5-4FB9-8CB4-627C154CF5F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15C-3ECC-4695-9247-E0B2DC733F8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compatible with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manifestations suggestive of N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CSF-ELISA for detection of anticysti-cereal Ab or cysticerca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outside C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emiolog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household contact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coming from living in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y of  travel to 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CCA-7CC1-4ADC-87B3-4145066C779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EE37-F960-4AC9-92D6-0BB7C7DC509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Treat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447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mpkin s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ca nu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64280" y="38862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Drug of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38080" y="4495680"/>
          <a:ext cx="8305920" cy="2362320"/>
        </p:xfrm>
        <a:graphic>
          <a:graphicData uri="http://schemas.openxmlformats.org/drawingml/2006/table">
            <a:tbl>
              <a:tblPr/>
              <a:tblGrid>
                <a:gridCol w="2770200"/>
                <a:gridCol w="2765520"/>
                <a:gridCol w="277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ul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atri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aziquant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onc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los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gm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34"/>
          <p:cNvSpPr/>
          <p:nvPr/>
        </p:nvSpPr>
        <p:spPr>
          <a:xfrm>
            <a:off x="3584160" y="1857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9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134-B021-4CDD-B9C1-9FAAD8E1777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4BD-E563-4FA1-BD2C-FBC9FD3ED5F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nervous sy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ign disorder not merit 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ical or cyst excision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icular shunts or steroids to decrease inf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ziquan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ndaz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3432240" y="18432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DDE-5DA9-4ED5-B31A-A27E7135193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8F71-3149-477D-A8A6-C8A88DBE0AC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DELINES FOR TREATMENT OF NEURO-CYSTICERCO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0" t="11867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E2C5-6370-44FA-A432-399AB928266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07A-711A-4047-B6C8-7A3487429B9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ARG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major arguments against  use of cysticidal therapy in NC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risks because of neurologic symptoms due to acute inflammation results from death of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 prognosis of underlying seizure disorder may worsen because of increased scarring due to acute inflam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 may be unnecessary since most cysts die by themselves within a short period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592-F8E8-4FFC-BAB7-C85290D862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ADC-11F3-456A-9368-88A2C65F0C3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宋体"/>
              </a:rPr>
              <a:t>PREVENTION &amp;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CONTROL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hygiene 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alth educ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eating raw bean-pork or beef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pigs or cattle eating human s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inspection of slaugh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ing only officially inspected mea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es irradiation.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D9A-4303-4D2D-B00B-D20750C2EB0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E766-EF79-45C5-891E-6184BD0DF80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ng of beef at 5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refrigeration at -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or less for 2 days, pickling meat in 25% salt solution for 5 day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disposal of night so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ol examination of food handlers from endemic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eating uncooked vegetables &amp; fruits that cannot be peeled while traveling in developing countrie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1CA-38E6-4DA8-83DF-3C233448B79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1ED2-39E6-423F-AA26-2E9A66A1F06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 meat inspection: most important public health measure practised in controlling transmission cycle of para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chemotherapy (using praziquantel &amp;/or albendazole &amp; praziquantel or niclosamid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cination of pi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D2AC-043B-49CA-9B08-384429DE1EA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81A-E209-42DC-B803-467B80A4C90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combinant Vaccines against Cysticerc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36" name="Ink 4" descr=""/>
          <p:cNvPicPr/>
          <p:nvPr/>
        </p:nvPicPr>
        <p:blipFill>
          <a:blip r:embed="rId2"/>
          <a:stretch/>
        </p:blipFill>
        <p:spPr>
          <a:xfrm>
            <a:off x="725400" y="4533840"/>
            <a:ext cx="5527800" cy="293760"/>
          </a:xfrm>
          <a:prstGeom prst="rect">
            <a:avLst/>
          </a:prstGeom>
          <a:ln w="0">
            <a:noFill/>
          </a:ln>
        </p:spPr>
      </p:pic>
      <p:pic>
        <p:nvPicPr>
          <p:cNvPr id="437" name="Ink 5" descr=""/>
          <p:cNvPicPr/>
          <p:nvPr/>
        </p:nvPicPr>
        <p:blipFill>
          <a:blip r:embed="rId3"/>
          <a:stretch/>
        </p:blipFill>
        <p:spPr>
          <a:xfrm>
            <a:off x="750960" y="4781520"/>
            <a:ext cx="5406840" cy="347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1221-CB4B-4FE0-8294-BBF2B65173A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BE9-C65F-486A-8F01-D680B73F6BD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 sol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956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rk  or 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ult:  Human S.I. causing taenia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rval stage (Cysticercus cellulose): Pig or human tissues causing cysticerco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H: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H: Pig &amp;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ED8-F19E-43F4-AACC-0F4118E9074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D823-5E88-4A46-9854-C9A4D5E7B73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3240" y="14479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116880" y="3011400"/>
            <a:ext cx="51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3300"/>
                </a:solidFill>
                <a:latin typeface="Vrinda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9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43B-C5E6-41EE-BD16-A40C17F810D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CAE-083A-4BCA-AEFF-AB3963B785E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  <a:ea typeface="宋体"/>
              </a:rPr>
              <a:t>Morpholog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411480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lattened ribbon-lik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my white in col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-7 m lo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00-1000 proglott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st o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olex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c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robi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681720" y="180504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"/>
          <a:srcRect l="24403" t="15602" r="52948" b="26466"/>
          <a:stretch/>
        </p:blipFill>
        <p:spPr>
          <a:xfrm>
            <a:off x="4876920" y="2362320"/>
            <a:ext cx="426708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2"/>
          <a:srcRect l="80366" t="3453" r="0" b="0"/>
          <a:stretch/>
        </p:blipFill>
        <p:spPr>
          <a:xfrm>
            <a:off x="4876920" y="4419720"/>
            <a:ext cx="426708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5943600" y="3657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001000" y="6095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426-049B-4D3B-BD50-D55AC5468BC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82FC-439D-4146-9629-D5B9C4F50B2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4190760" cy="45720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Sco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lobular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m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 suck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rostell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2-36 hooklets arranged in a double cr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rrowest part of body (5-10 mm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dding zone containing germinative tiss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743560" y="18082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宋体"/>
              </a:rPr>
              <a:t>Scolex &amp;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2286000"/>
            <a:ext cx="160020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4952880" y="510552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6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E85-992A-4CF9-808E-56A1FB95EC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333-27EE-4E57-BB74-146479A8DEE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STROBI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9112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vid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宋体"/>
              </a:rPr>
              <a:t>Immature proglottid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verse rectan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ted at anterior part of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ner organs develo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gt;leng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49653" t="0" r="0" b="0"/>
          <a:stretch/>
        </p:blipFill>
        <p:spPr>
          <a:xfrm>
            <a:off x="5029200" y="2286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5029200" y="6400800"/>
            <a:ext cx="41148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bila  of adult tape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233E-B525-4246-AC71-CAC4AC8C9EA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912-A1D2-4E8C-8E4C-A01D87A33C3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uare shap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d bod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roductive systems fully develop (hermaphroditi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es: 150-200 follic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entrally straight uter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lobes of ov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=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133720" y="1676520"/>
            <a:ext cx="5257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ature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dranjayvet@gmail.com</cp:lastModifiedBy>
  <dcterms:modified xsi:type="dcterms:W3CDTF">2020-05-17T07:04:4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