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22F8-59DE-46CC-B10F-6E33B78C7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5679-6403-4112-89C1-4661A980E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15CB-F573-4650-A832-4E889258D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C904-CEF7-4E09-85F3-FB80BB018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813EB-0C1F-4155-9BDC-6F19D9C68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2E7ED-18C6-4CDD-8D2E-68E29B058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ECB77-9A9F-4613-B344-147E1B87E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56AD0-14D1-4666-AA34-4920BB6E2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B78CC-2532-4C4D-8177-8BD4AC8F7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21F1F-A956-437B-8054-0C68D2F05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48AC8-03BD-4FA5-80F5-E3B2B943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637B-DC82-4991-82DE-DE358D380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976C7-359D-4CEA-B143-6DA02CE01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411DF-E201-43FC-AD4A-E37B0FFB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02D03-836D-4A46-8138-5BAA0CC1C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F08DB-53F7-4926-B55C-CD7E437DA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90EB2-2391-45C3-AA5F-42A6FBD6A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31DAE-EB85-4DB8-84C6-98B2AA8FE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26AFE-FF0A-4A1D-B885-4573992BC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60449-57FC-4635-9E62-83753E8F8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F8CB4-2BFA-4A70-96F9-959295FCA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64DDB-112A-44C8-949E-67AE19C6C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C6F6-8446-4A45-8EE7-DEA3EB748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71391-7AE8-4CB4-986F-F0FCE42AD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E342E-6A5B-4313-958B-051E114F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F5FDF-C3CB-415E-8C8F-2377118C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C62E5-A17F-426D-BB47-CAC40623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A3BD1-FE08-4EDF-84DC-D89907727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0C101-7274-489F-B355-5CC7B2FD0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2239E-B1A8-4BFC-832A-2B36CD8BE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A44A6-5D9F-4F03-B4A0-ED0643222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99885-BCC9-48F6-85F1-2582FFAFF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D1652-715C-4648-B00D-F37B4D61F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368B-B5F6-4FF9-B0D6-51743D801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C1A47-16CA-4244-A120-AFBC159D1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A9C65-0EEF-4C30-8B4E-416E78DB5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1D280-66AF-4177-BEF8-3C0D8F742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12CAA-89B1-4765-832D-CCCCE61E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38D53-47B8-4B0F-95D5-28CC92C0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1FA9C-80E0-407B-A35F-7B3A5B7A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CAE30-C3DD-4AE8-8293-1812E48BC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E8D52-34CA-4D89-BDFD-5A69B7DEC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C968F-5006-400B-88A6-A19C182C0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928A0-3C28-4322-A35A-5579CB902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65A7-E496-44F8-B295-578478805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E2830-4B83-4614-A703-E33AC155B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1CF6A-97B5-439B-90C9-599C7F2C2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0AC2C-073F-407F-A680-FFDA09107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E9484-9208-4919-8267-6A9E862DB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10156-1C53-407D-8C1E-1C07324FD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EE537-64B9-4CA2-86B2-6BDC6DCD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61765-D074-44C3-B326-B1B6BFBF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901BD-8AC8-4544-A0CB-F84040A0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3344D-1FB7-4D85-A27B-9FD3528D5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B9828-B0C8-40E0-BF08-92E42E6B6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420E-8619-4E0D-AF5C-6591753B7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A0896-8089-412A-B312-679031D40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2728-802D-4B4B-87F9-E1B95479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6F99-6AC8-46C1-9408-611A736A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3BFB-15F9-40EB-8C6F-E72CAC8E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4D276-CAC4-4D56-8EC5-D0031CC25F2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D339C-6368-45EE-AE61-5F7AEABB6C8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5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E637D-04AB-4F2D-8A0C-87023EB4D46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D270F-D3BD-4E46-AD14-E8DA0F804DF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92B15-ACFD-494A-902B-08DC60378E2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00"/>
                </a:solidFill>
                <a:uFillTx/>
                <a:latin typeface="comic"/>
              </a:rPr>
              <a:t>Unit -8</a:t>
            </a:r>
            <a:endParaRPr b="0" lang="en-US" sz="48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comic"/>
              </a:rPr>
              <a:t>Information and communication technolog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4403880" y="2936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990720" y="4773600"/>
            <a:ext cx="69339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Bell MT"/>
              </a:rPr>
              <a:t>Department of A. H. Extension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Bell MT"/>
              </a:rPr>
              <a:t>Bihar Veterinary College, Patna-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Box 6"/>
          <p:cNvSpPr/>
          <p:nvPr/>
        </p:nvSpPr>
        <p:spPr>
          <a:xfrm>
            <a:off x="2971800" y="5867280"/>
            <a:ext cx="642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 Black"/>
              </a:rPr>
              <a:t>         </a:t>
            </a:r>
            <a:r>
              <a:rPr b="0" lang="en-US" sz="2400" spc="-1" strike="noStrike">
                <a:solidFill>
                  <a:srgbClr val="7030a0"/>
                </a:solidFill>
                <a:latin typeface="Arial Black"/>
              </a:rPr>
              <a:t>Instructor : </a:t>
            </a: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Dr. Saroj K. Raj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haroni"/>
                <a:ea typeface="Aharoni"/>
              </a:rPr>
              <a:t>           </a:t>
            </a:r>
            <a:r>
              <a:rPr b="0" lang="en-US" sz="2400" spc="-1" strike="noStrike">
                <a:solidFill>
                  <a:srgbClr val="000099"/>
                </a:solidFill>
                <a:latin typeface="Aharoni"/>
                <a:ea typeface="Aharoni"/>
              </a:rPr>
              <a:t>Asstt. Prof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Box 7"/>
          <p:cNvSpPr/>
          <p:nvPr/>
        </p:nvSpPr>
        <p:spPr>
          <a:xfrm>
            <a:off x="228600" y="3164040"/>
            <a:ext cx="83818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Sydney"/>
              </a:rPr>
              <a:t>Topic : </a:t>
            </a:r>
            <a:r>
              <a:rPr b="1" lang="en-US" sz="3200" spc="-1" strike="noStrike">
                <a:solidFill>
                  <a:srgbClr val="000099"/>
                </a:solidFill>
                <a:latin typeface="Bell MT"/>
              </a:rPr>
              <a:t>Introduction to Information and       Communication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Bell MT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Bell MT"/>
              </a:rPr>
              <a:t>ICT application in Livestock sector</a:t>
            </a:r>
            <a:r>
              <a:rPr b="1" lang="en-US" sz="3200" spc="-1" strike="noStrike">
                <a:solidFill>
                  <a:srgbClr val="000099"/>
                </a:solidFill>
                <a:latin typeface="Sydne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Picture 4" descr="E:\Dr. Saroj New 1 W bkt 21.02.2016\LOGO\New Logo\BASU LOGO copy.jpg"/>
          <p:cNvPicPr/>
          <p:nvPr/>
        </p:nvPicPr>
        <p:blipFill>
          <a:blip r:embed="rId1"/>
          <a:stretch/>
        </p:blipFill>
        <p:spPr>
          <a:xfrm>
            <a:off x="3048120" y="163440"/>
            <a:ext cx="2514600" cy="1193760"/>
          </a:xfrm>
          <a:prstGeom prst="rect">
            <a:avLst/>
          </a:prstGeom>
          <a:ln w="0">
            <a:noFill/>
          </a:ln>
        </p:spPr>
      </p:pic>
      <p:pic>
        <p:nvPicPr>
          <p:cNvPr id="238" name="Rectangle 9" descr=""/>
          <p:cNvPicPr/>
          <p:nvPr/>
        </p:nvPicPr>
        <p:blipFill>
          <a:blip r:embed="rId2"/>
          <a:stretch/>
        </p:blipFill>
        <p:spPr>
          <a:xfrm>
            <a:off x="6595920" y="438120"/>
            <a:ext cx="2401920" cy="75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1000440" y="0"/>
            <a:ext cx="64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</a:rPr>
              <a:t>CONRTIBUTION BY TRADITIONAL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228600" y="650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Played a major role in diffusing information to rural commu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342720" y="1219320"/>
            <a:ext cx="8481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Need to connect rural communities, research &amp; ext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networks provide access to much needed knowledge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and servi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341280" y="2286000"/>
            <a:ext cx="843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d3481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d3481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Rural information system must involve rural communities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local concept must be of prime import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102600" y="3505320"/>
            <a:ext cx="902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Video ,Television, films, Slides, Pictures, Drama, Dance, Folk so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,etc has also been used to speed up the flow of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295560" y="5029200"/>
            <a:ext cx="880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d3481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New ICT has potential of getting vast amount of informatio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rural population in a more timely ,comprehensive &amp; cost eff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ma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Arial Black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99072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00000"/>
                </a:solidFill>
                <a:uFillTx/>
                <a:latin typeface="Perpetua"/>
              </a:rPr>
              <a:t>Potential of new ICT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00000"/>
                </a:solidFill>
                <a:uFillTx/>
                <a:latin typeface="Arial"/>
              </a:rPr>
              <a:t>Venturing into computerization at the rural leve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337680" y="304920"/>
            <a:ext cx="848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d3481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00000"/>
                </a:solidFill>
                <a:uFillTx/>
                <a:latin typeface="Times New Roman"/>
              </a:rPr>
              <a:t>POTENTIAL OF NEW ICT FOR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332640" y="1143000"/>
            <a:ext cx="885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The modern technology offer new and multiple perspectives su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as faster and better focused access to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405720" y="2209680"/>
            <a:ext cx="53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d3481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E-mail is the most commonly used I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392040" y="2743200"/>
            <a:ext cx="877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w.w.w. enables people to access information on millions of 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comp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497160" y="3733920"/>
            <a:ext cx="825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Internet opens new communication  channels that bring ne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Knowledge and information resources to rur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commun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7"/>
          <p:cNvSpPr/>
          <p:nvPr/>
        </p:nvSpPr>
        <p:spPr>
          <a:xfrm>
            <a:off x="493200" y="5486400"/>
            <a:ext cx="837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d3481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Smartphone's are easily accessible and equipped with app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Social Med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8"/>
          <p:cNvSpPr/>
          <p:nvPr/>
        </p:nvSpPr>
        <p:spPr>
          <a:xfrm>
            <a:off x="823680" y="59086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33480" y="457200"/>
            <a:ext cx="9273960" cy="38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Venturing into computerization at the rural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he potential of computer in rural development was recognised af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research of some academics during 1975-80 (patel 197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he general awareness of the utility of computers was created in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bureaucracy through seminars and training programmes (compu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Society of India 198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By 1988 about 15 districts of India has started using personal comput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2"/>
          <p:cNvSpPr/>
          <p:nvPr/>
        </p:nvSpPr>
        <p:spPr>
          <a:xfrm>
            <a:off x="324000" y="649440"/>
            <a:ext cx="869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Govt. of India programme for district level</a:t>
            </a:r>
            <a:r>
              <a:rPr b="0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compute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278280" y="1382760"/>
            <a:ext cx="89053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he NIC was chosen for to implement a national programme call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istrict Information System of National Informatics Centre (DISNIC) 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omputerize all district off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Free hardware and software was offered to states (Plan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ommission (1989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By 1990 each district computer was connected to a state compu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hrough a local dish antenna and a satellite communication networ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he state computer in tern was connected to a computer in New Delh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his network is called NICNET.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2"/>
          <p:cNvSpPr/>
          <p:nvPr/>
        </p:nvSpPr>
        <p:spPr>
          <a:xfrm>
            <a:off x="2589120" y="257040"/>
            <a:ext cx="434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Contribution from Tele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356400" y="1763640"/>
            <a:ext cx="884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oday Indian Television has grown into one of the largest networks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he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303840" y="3352680"/>
            <a:ext cx="8847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ntroduced in 1959 and used as an educational &amp; development tool 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Govt. agenc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5"/>
          <p:cNvSpPr/>
          <p:nvPr/>
        </p:nvSpPr>
        <p:spPr>
          <a:xfrm>
            <a:off x="432720" y="4278240"/>
            <a:ext cx="8205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elevision in India today is primarily a medium for entertai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lmost all Doordarshan Kendras are broadcasting programm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related to Livestock and allied viz. Krishi Darshan, Gaon Ghar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Some private television channels such as E-TV Bihar is als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broadcasting programmes on Livestock and allied viz. Annada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Box 5"/>
          <p:cNvSpPr/>
          <p:nvPr/>
        </p:nvSpPr>
        <p:spPr>
          <a:xfrm>
            <a:off x="380880" y="24382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Smart Televisions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are playing role of Computer and supports Several other devi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89640" y="1066680"/>
            <a:ext cx="908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We all know that distance is ended up. What used to be far is nea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what is local is glob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152280" y="35053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0" y="358128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Information technology is that technology by which in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is retrieved, processed, exhibited and disseminated  in a fast and error free 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ICT is the broader term of Information Technology (IT) to explici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Include the field of electronic communication, in addition to IT (Wikipedia, 200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61128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20520" y="1905120"/>
            <a:ext cx="8894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The term IT is defined as “the study, design, developmen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implementation, support or management of computer bas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information  systems, particularly software applications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computer hardwa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2895480" y="304920"/>
            <a:ext cx="248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10"/>
          <p:cNvSpPr/>
          <p:nvPr/>
        </p:nvSpPr>
        <p:spPr>
          <a:xfrm>
            <a:off x="241920" y="304920"/>
            <a:ext cx="836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</a:rPr>
              <a:t>INFORMATION AND COMMUNICATION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228600" y="2438280"/>
            <a:ext cx="9083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The objective of sustainable of Dairy Development is to improve the standard of living of  Livestock owners in multisectoral intervension including  Agriculture ,  Entrepreneurship  and Social facil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457200" y="3429000"/>
            <a:ext cx="7527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Times New Roman"/>
              </a:rPr>
              <a:t>REQUIREMENTS OF LIVESTOCK OWNERS FROM ICT</a:t>
            </a:r>
            <a:r>
              <a:rPr b="0" lang="en-US" sz="2400" spc="-1" strike="noStrike" u="sng">
                <a:solidFill>
                  <a:srgbClr val="7030a0"/>
                </a:solidFill>
                <a:uFillTx/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1030320" y="4648320"/>
            <a:ext cx="44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Information on supply of in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838080" y="5029200"/>
            <a:ext cx="275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Information ab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762840" y="541008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Early warning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7"/>
          <p:cNvSpPr/>
          <p:nvPr/>
        </p:nvSpPr>
        <p:spPr>
          <a:xfrm>
            <a:off x="644040" y="5791320"/>
            <a:ext cx="60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Credits,market prices and their competi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3200760" y="5029200"/>
            <a:ext cx="268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new technolog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265320" y="1600200"/>
            <a:ext cx="88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Least expensive input for agricultural development is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and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84240" y="228600"/>
            <a:ext cx="905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ICT may be defined as the basket of technologies which assist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Support or support in storage, processing of data or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Or in dissemination of data/ information or bot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304920" y="0"/>
            <a:ext cx="86104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00000"/>
                </a:solidFill>
                <a:uFillTx/>
                <a:latin typeface="Perpetua"/>
              </a:rPr>
              <a:t>Present Status of Livestock Farmer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609480" indent="-6094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Perpetua"/>
              </a:rPr>
              <a:t>1. Small fragmented holding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609480" indent="-6094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Perpetua"/>
              </a:rPr>
              <a:t>2. Poor per animal yield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609480" indent="-6094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Perpetua"/>
              </a:rPr>
              <a:t>3. Inferior quality produce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609480" indent="-6094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Perpetua"/>
              </a:rPr>
              <a:t>4. Market competitiveness and vacuum in the market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609480" indent="-6094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Perpetua"/>
              </a:rPr>
              <a:t>5. Multiple products in small qualities with heavy wastages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609480" indent="-6094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Perpetua"/>
              </a:rPr>
              <a:t>6. Selling everything in wholesale and buying everything in retail.   (No Storage facilities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609480" indent="-6094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Perpetua"/>
              </a:rPr>
              <a:t>7. Distress sale of produc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609480" indent="-6094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Perpetua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Perpetua"/>
              </a:rPr>
              <a:t>8. Poor bargaining power.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609480" indent="-6094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Perpetua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Perpetua"/>
              </a:rPr>
              <a:t>9. Weak market intelligence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609480" indent="-6094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Perpetua"/>
              </a:rPr>
              <a:t>10. Everything exploited by commission agents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609480" indent="-6094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00000"/>
                </a:solidFill>
                <a:uFillTx/>
                <a:latin typeface="Perpetua"/>
              </a:rPr>
              <a:t>Other informations required by Livestock Owner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Perpetua"/>
              </a:rPr>
              <a:t>1. Breeding and Production management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Perpetua"/>
              </a:rPr>
              <a:t>2. Feeding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Perpetua"/>
              </a:rPr>
              <a:t>3. Health and Prevention of Disease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Perpetua"/>
              </a:rPr>
              <a:t>4. Milk Production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Perpetua"/>
              </a:rPr>
              <a:t>5. Reproductive problems and solution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Perpetua"/>
              </a:rPr>
              <a:t>6. Care of new born calve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Perpetua"/>
              </a:rPr>
              <a:t>7. Deworming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ardvark"/>
              </a:rPr>
              <a:t>Role of ICT in Animal Husbandry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6840" y="990720"/>
            <a:ext cx="83818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1. </a:t>
            </a:r>
            <a:r>
              <a:rPr b="1" lang="en-US" sz="3000" spc="-1" strike="noStrike">
                <a:solidFill>
                  <a:srgbClr val="000000"/>
                </a:solidFill>
                <a:latin typeface="Perpetua"/>
              </a:rPr>
              <a:t>Production and management 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Perpetua"/>
              </a:rPr>
              <a:t>2. Identification of animals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Perpetua"/>
              </a:rPr>
              <a:t>3. Record Management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Perpetua"/>
              </a:rPr>
              <a:t>4. On-line weight measurement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Perpetua"/>
              </a:rPr>
              <a:t>5. Voice recognition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Perpetua"/>
              </a:rPr>
              <a:t>6. Robotics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Perpetua"/>
              </a:rPr>
              <a:t>7. Livestock Management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Perpetua"/>
              </a:rPr>
              <a:t>8. Dissemination of information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Perpetua"/>
              </a:rPr>
              <a:t>9. Wildlife Management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ardvark"/>
              </a:rPr>
              <a:t>ICT Projects for Livestock Development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80880" y="1066680"/>
            <a:ext cx="83822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1. </a:t>
            </a:r>
            <a:r>
              <a:rPr b="0" lang="en-US" sz="2600" spc="-1" strike="noStrike">
                <a:solidFill>
                  <a:srgbClr val="000099"/>
                </a:solidFill>
                <a:latin typeface="Aharoni"/>
                <a:ea typeface="Aharoni"/>
              </a:rPr>
              <a:t>Mobile Computing based initiatives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MSSRF : Village Knowledge Centre (VKC) of MSSRF in Puducherry  - project sponsored by NABAR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IFFCO (Indian Farmer Fertilizer Cooperative Ltd. And (KSL) Kisan Sanchar Ltd. Has introduced Green SIM Card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KISSAN (Karshaka Information System Services and Networking) is an innovative project implemented in Kerala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KCC : 1800-180-1551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Warana Wired Village Project : Information through internet to cooperative societies in 70 villages of Maharastra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haroni"/>
                <a:ea typeface="Aharoni"/>
              </a:rPr>
              <a:t>2</a:t>
            </a:r>
            <a:r>
              <a:rPr b="0" lang="en-US" sz="2800" spc="-1" strike="noStrike">
                <a:solidFill>
                  <a:srgbClr val="000099"/>
                </a:solidFill>
                <a:latin typeface="Aharoni"/>
                <a:ea typeface="Aharoni"/>
              </a:rPr>
              <a:t>. Decision support System based Initiatives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0520" y="99072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ERP (Enterprise Resource Planning : for online feed formulation In poultry industry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IT in Cooperative Dair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Akashgangea – Automatic milk collection centre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Touch screen information kiosk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Computerized dairy farm management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076960" cy="792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haroni"/>
                <a:ea typeface="Aharoni"/>
              </a:rPr>
              <a:t>3. Web based initiatives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14300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National Animal Disease Reporting System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Dairy Information System Kiosk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India Development Gatewa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Goat Manageme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Animal Health Information Syste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Feeding Manageme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Information system of Animal Genetic Resources of Indi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Computer programme for identification of eggs and larvae of parasit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Software for Identification and Management of Nematodes in Indi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8T15:55:55Z</dcterms:created>
  <dc:creator>imam</dc:creator>
  <dc:description/>
  <dc:language>en-US</dc:language>
  <cp:lastModifiedBy>Dr. Saroj</cp:lastModifiedBy>
  <dcterms:modified xsi:type="dcterms:W3CDTF">2020-04-29T03:08:42Z</dcterms:modified>
  <cp:revision>163</cp:revision>
  <dc:subject/>
  <dc:title>Slide 1</dc:title>
</cp:coreProperties>
</file>