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43B-EEB7-4833-AC67-7D327A62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F3B-9614-4493-BF90-2EB2D620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F01-F361-4E00-BD6E-C02406F2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4D9-FACC-4F64-A086-C3843C60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5578-2AC4-462F-B888-3FC8DD03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20EB-E4C0-4422-9799-CD5E4FCE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5160-4ABD-44C2-906D-E92F0981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22DA-12B6-48C5-A7B6-4D11F6F6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647E-6FC1-4FE0-B38B-BCB4A081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D284-2BE3-4331-8E6A-69C3E14C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0B9A-83C2-4CB1-8828-61F43CD1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A90-9F72-4A4A-BEBF-A3B85776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B353-579A-4181-900A-8DB8DA91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795E-C056-4CBA-8487-95A44189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A30C-7117-4E45-93EB-ACCE8208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2FE8-F7B7-4E8F-81FF-BB0DF472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7D03-3D27-4C11-8A14-7C582502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1C99-2AB8-4518-AA06-2E1E2FBB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2B993-CAF5-4A82-A3F5-408399F0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4037-8DEE-4421-B034-B33EF9B0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0ED5B-F1B2-4855-A147-FAA6C02F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3FE26-F6D4-44E3-A679-8A411B93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E3D-66DF-4CB9-B5E9-47B3DD01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A8A83-3CE3-4A69-9F12-25635527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271AD-F815-4EC6-9724-0DF41842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3713-47D6-4645-B4B5-C0B52A3C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5A86E-F364-4747-9882-5875C2D8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F2534-AA1D-4333-ACFC-A6CAB0D7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B77A-9E42-490A-A264-942A08EB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575AB-95B7-4579-A126-0030B1D9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8458C-86AA-412C-B16A-27DFB7B6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3ABFE-A24C-4B72-9F65-CCA3600C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B1FFE-92B2-4772-B122-D116D0BE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CB99-C270-4CC2-B83D-ACD6C755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9CEDA-856C-477D-967C-8698AAB0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07FE4-284B-4E37-B40C-7C781D3A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6DE4-1535-4829-AA81-579B16E1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42B34-3D0C-4DB8-930D-7E77DD0C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3F789-DAB3-412B-AB2E-20929F25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2E352-8AB4-47C1-AB09-E61A40B8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281EA-45EB-40AF-AFEB-143AC8EB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E63AC-A654-4048-A2A6-14DFF982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A2DF7-E386-4638-9F3A-B4945862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D58AB-8543-477B-B6E1-9C6F3E99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7ED-1E0B-446E-B85F-69002F61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663C8-8D3E-4816-9678-A7E677E0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BC9C3-47F9-495F-9864-74477CBF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993CB-CD70-484C-82B8-49495F7B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E890D-7A95-4297-952D-8F77BA2D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86EC7-694F-4BD1-90BE-34AB3C82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81A5C-B786-417F-A2EA-4CD14C97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48174-66BB-41E7-A931-A1B04D24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AA79A-428F-47EB-B601-A9783FEC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E8CBA-FEEF-4909-B894-E1DAA48F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DF99C-C5D3-47F5-BC1C-B173A388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189-DBF2-4DBB-BA15-BEB94D47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B923E-DB89-4B3D-8363-89C437F9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7D1-2F26-4B49-9F96-279EB24D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16D-88A8-47D8-8C58-27A5561D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F11-3820-41D2-B966-9C9AE9DD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463D-1532-4AC5-9FCE-AF3E0AA0719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C67B-95B0-43B3-86C5-E6E254032A3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3CAA-F550-4E4A-8689-CC3A07AFF3D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D821-2D69-4B80-B10F-41C823F01A3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6A7E-71F1-4B1D-BEE7-C3B9945EA3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comic"/>
              </a:rPr>
              <a:t>Unit -8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"/>
              </a:rPr>
              <a:t>Information and communication technolog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40388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990720" y="4773600"/>
            <a:ext cx="6933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ell MT"/>
              </a:rPr>
              <a:t>Department of A. H. Extension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ell MT"/>
              </a:rPr>
              <a:t>Bihar Veterinary College, Patna-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2971800" y="5867280"/>
            <a:ext cx="64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 Black"/>
              </a:rPr>
              <a:t>         </a:t>
            </a:r>
            <a:r>
              <a:rPr b="0" lang="en-US" sz="2400" spc="-1" strike="noStrike">
                <a:solidFill>
                  <a:srgbClr val="7030a0"/>
                </a:solidFill>
                <a:latin typeface="Arial Black"/>
              </a:rPr>
              <a:t>Instructor : </a:t>
            </a: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Dr. Saroj K. Ra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haroni"/>
                <a:ea typeface="Aharoni"/>
              </a:rPr>
              <a:t>           </a:t>
            </a:r>
            <a:r>
              <a:rPr b="0" lang="en-US" sz="2400" spc="-1" strike="noStrike">
                <a:solidFill>
                  <a:srgbClr val="000099"/>
                </a:solidFill>
                <a:latin typeface="Aharoni"/>
                <a:ea typeface="Aharoni"/>
              </a:rPr>
              <a:t>Asstt.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228600" y="316404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dney"/>
              </a:rPr>
              <a:t>Topic : </a:t>
            </a:r>
            <a:r>
              <a:rPr b="1" lang="en-US" sz="3200" spc="-1" strike="noStrike">
                <a:solidFill>
                  <a:srgbClr val="000099"/>
                </a:solidFill>
                <a:latin typeface="Bell MT"/>
              </a:rPr>
              <a:t>Computer aided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ell MT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Bell MT"/>
              </a:rPr>
              <a:t>Virtual Class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E:\Dr. Saroj New 1 W bkt 21.02.2016\LOGO\New Logo\BASU LOGO copy.jpg"/>
          <p:cNvPicPr/>
          <p:nvPr/>
        </p:nvPicPr>
        <p:blipFill>
          <a:blip r:embed="rId1"/>
          <a:stretch/>
        </p:blipFill>
        <p:spPr>
          <a:xfrm>
            <a:off x="3048120" y="163440"/>
            <a:ext cx="2514600" cy="119376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9" descr=""/>
          <p:cNvPicPr/>
          <p:nvPr/>
        </p:nvPicPr>
        <p:blipFill>
          <a:blip r:embed="rId2"/>
          <a:stretch/>
        </p:blipFill>
        <p:spPr>
          <a:xfrm>
            <a:off x="6595920" y="438120"/>
            <a:ext cx="2401920" cy="7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pabilities of CAD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roject report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The computer can be used to prepare project reports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ngineering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There is a separate category of programs called CAE that can use CAD drawings for engineering analysi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D Mode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A CAD model is a computer representation of an object or part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t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contains all of the design information including geometry, dimensions, tolerances, materials and manufacturing information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CAD models replace the paper blueprints and engineering drawing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The simplest model used in CAD is a 2D model. This model is essentially the computer graphics equivalent to an orthographic projection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D Mode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A 3D model is the most general model used in CAD software. This model is equivalent to an isometric view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2 basic types of 3D models are wire frame and surface models.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a 3D wire frame model, only edges of the object are represented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A 3D surface model defines the object in terms of surfaces such as plates (flat) and shells (curved) in addition to edg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9907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Rounded Rectangle 3"/>
          <p:cNvSpPr/>
          <p:nvPr/>
        </p:nvSpPr>
        <p:spPr>
          <a:xfrm>
            <a:off x="1676520" y="2362320"/>
            <a:ext cx="6553080" cy="25146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7200" spc="-1" strike="noStrike">
                <a:solidFill>
                  <a:srgbClr val="ffff00"/>
                </a:solidFill>
                <a:latin typeface="Perpetua"/>
              </a:rPr>
              <a:t>Virtual Classroo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914400" y="457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7200" spc="-1" strike="noStrike">
                <a:solidFill>
                  <a:srgbClr val="c00000"/>
                </a:solidFill>
                <a:latin typeface="Perpetua"/>
              </a:rPr>
              <a:t>Virtual Classroom</a:t>
            </a:r>
            <a:endParaRPr b="0" lang="en-US" sz="7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8487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6" name="Picture 2" descr=" A virtual classroom is an online classroom that allows&#13;&#10;participants to communicate with one another, view&#13;&#10;presentations ..."/>
          <p:cNvPicPr/>
          <p:nvPr/>
        </p:nvPicPr>
        <p:blipFill>
          <a:blip r:embed="rId1"/>
          <a:stretch/>
        </p:blipFill>
        <p:spPr>
          <a:xfrm>
            <a:off x="906480" y="152280"/>
            <a:ext cx="7510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8" name="Content Placeholder 1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 Non- Restricting&#13;&#10; Affordable&#13;&#10; Flexible Learning&#13;&#10; Practical and Proven&#13;&#10; Easy Accessiblity&#13;&#10;Key Components of Virtual C..."/>
          <p:cNvPicPr/>
          <p:nvPr/>
        </p:nvPicPr>
        <p:blipFill>
          <a:blip r:embed="rId2"/>
          <a:stretch/>
        </p:blipFill>
        <p:spPr>
          <a:xfrm>
            <a:off x="380880" y="279360"/>
            <a:ext cx="8305920" cy="6235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4343400" y="1447920"/>
            <a:ext cx="4419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3" name="Picture 2" descr=" It brings participants together from different geographical&#13;&#10;locations.&#13;&#10; No expenses for travel, hotel &amp; training facili..."/>
          <p:cNvPicPr/>
          <p:nvPr/>
        </p:nvPicPr>
        <p:blipFill>
          <a:blip r:embed="rId1"/>
          <a:stretch/>
        </p:blipFill>
        <p:spPr>
          <a:xfrm>
            <a:off x="533520" y="274680"/>
            <a:ext cx="807876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6" name="Picture 2" descr=" Suitable for training deliverables on short notice.&#13;&#10; Encourages Social Learning.&#13;&#10; The sessions can be recorded and use..."/>
          <p:cNvPicPr/>
          <p:nvPr/>
        </p:nvPicPr>
        <p:blipFill>
          <a:blip r:embed="rId1"/>
          <a:stretch/>
        </p:blipFill>
        <p:spPr>
          <a:xfrm>
            <a:off x="457200" y="457200"/>
            <a:ext cx="80629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Picture 2" descr=" Sharing Documents&#13;&#10; Here the facilitator can upload a file into viewing window and all&#13;&#10;participants can see it. When he ..."/>
          <p:cNvPicPr/>
          <p:nvPr/>
        </p:nvPicPr>
        <p:blipFill>
          <a:blip r:embed="rId1"/>
          <a:stretch/>
        </p:blipFill>
        <p:spPr>
          <a:xfrm>
            <a:off x="420840" y="380880"/>
            <a:ext cx="826596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Franklin Gothic Book"/>
              </a:rPr>
              <a:t>Computer Aided Design           (CAD)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c00000"/>
                </a:solidFill>
                <a:latin typeface="Franklin Gothic Book"/>
              </a:rPr>
              <a:t>Introduction to CAD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2" name="Picture 2" descr=" Annotate&#13;&#10; Annotation tools allow for real –time “drawing” on top of shared&#13;&#10;documents or whiteboards . It adds visual fl..."/>
          <p:cNvPicPr/>
          <p:nvPr/>
        </p:nvPicPr>
        <p:blipFill>
          <a:blip r:embed="rId1"/>
          <a:stretch/>
        </p:blipFill>
        <p:spPr>
          <a:xfrm>
            <a:off x="304920" y="290520"/>
            <a:ext cx="79246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5" name="Picture 2" descr=" Polling&#13;&#10; It allows the trainer to ask surveys questions in real time to&#13;&#10;participants. Questions can be multiple choice,..."/>
          <p:cNvPicPr/>
          <p:nvPr/>
        </p:nvPicPr>
        <p:blipFill>
          <a:blip r:embed="rId1"/>
          <a:stretch/>
        </p:blipFill>
        <p:spPr>
          <a:xfrm>
            <a:off x="243000" y="152280"/>
            <a:ext cx="8321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Picture 2" descr=" Can be applied to create learning spaces that transcend safety&#13;&#10;or distance parameters.&#13;&#10; It helps to integrate media suc..."/>
          <p:cNvPicPr/>
          <p:nvPr/>
        </p:nvPicPr>
        <p:blipFill>
          <a:blip r:embed="rId1"/>
          <a:stretch/>
        </p:blipFill>
        <p:spPr>
          <a:xfrm>
            <a:off x="457200" y="119160"/>
            <a:ext cx="822960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1" name="Picture 2" descr=" Collaborative learning through group activities, discussions,&#13;&#10;forums and chats with learners, guests etc.&#13;&#10; Allows learn...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4" name="Picture 2" descr=" The Organization/Institution does not have enough budget in&#13;&#10;order to implement a virtual classroom.&#13;&#10; Lack of motivation..."/>
          <p:cNvPicPr/>
          <p:nvPr/>
        </p:nvPicPr>
        <p:blipFill>
          <a:blip r:embed="rId1"/>
          <a:stretch/>
        </p:blipFill>
        <p:spPr>
          <a:xfrm>
            <a:off x="655560" y="380880"/>
            <a:ext cx="805824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7" name="Picture 2" descr=" Determine your goals and objectives.&#13;&#10; Choose the ideal method of delivery.&#13;&#10; Create interactive learning activities to ..."/>
          <p:cNvPicPr/>
          <p:nvPr/>
        </p:nvPicPr>
        <p:blipFill>
          <a:blip r:embed="rId1"/>
          <a:stretch/>
        </p:blipFill>
        <p:spPr>
          <a:xfrm>
            <a:off x="658800" y="307800"/>
            <a:ext cx="802800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99" name="Content Placeholder 3" descr=""/>
          <p:cNvPicPr/>
          <p:nvPr/>
        </p:nvPicPr>
        <p:blipFill>
          <a:blip r:embed="rId1"/>
          <a:stretch/>
        </p:blipFill>
        <p:spPr>
          <a:xfrm>
            <a:off x="304920" y="257040"/>
            <a:ext cx="8550000" cy="61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01" name="Content Placeholder 5" descr=""/>
          <p:cNvPicPr/>
          <p:nvPr/>
        </p:nvPicPr>
        <p:blipFill>
          <a:blip r:embed="rId1"/>
          <a:stretch/>
        </p:blipFill>
        <p:spPr>
          <a:xfrm>
            <a:off x="228600" y="274680"/>
            <a:ext cx="4273560" cy="2849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2"/>
          <a:stretch/>
        </p:blipFill>
        <p:spPr>
          <a:xfrm>
            <a:off x="4462560" y="320040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5" name="Picture 2" descr=" HP Virtual Classroom&#13;&#10; Blackboard Collaborate&#13;&#10; Horizon Wimba&#13;&#10; IBM Lotus Virtual Classroom&#13;&#10; Elluminate Live Virtual cl..."/>
          <p:cNvPicPr/>
          <p:nvPr/>
        </p:nvPicPr>
        <p:blipFill>
          <a:blip r:embed="rId1"/>
          <a:stretch/>
        </p:blipFill>
        <p:spPr>
          <a:xfrm>
            <a:off x="446040" y="274680"/>
            <a:ext cx="81597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Franklin Gothic Book"/>
              </a:rPr>
              <a:t>What is CAD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Originally CAD includes any techniques that use computers in the design process including drafting, stress analysis and motion analysi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But over the last 35 years, CAD has come to refer more specifically to Computer Aided Design and Drafting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CAD program/software is an electronic tool that enables you to make quick and accurate drawings with the use of a computer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Perpetua"/>
                <a:ea typeface="Times New Roman"/>
              </a:rPr>
              <a:t>Computer drawings are neat, clean, highly presentable, and can be modified easily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just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Perpetua"/>
                <a:ea typeface="Times New Roman"/>
              </a:rPr>
              <a:t>With CAD, parts or components can be  modeled, visualized, revised, and improve on the computer screen before any engineering drawings have been created.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Parts that have been modeled can be assembled in the virtual environment of the computer. The relative motion of moving parts can be animated on the computer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The part can be analysed computationally and redesigned. The machine tool path or mold filling flow to fabricate the part can be modeled on the computer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The part model can be downloaded to a rapid prototyping system that can create a physical model of the part in a few hours with virtually no human intervention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6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Franklin Gothic Book"/>
              </a:rPr>
              <a:t>Capabilities of CAD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ome of the important capabilities of using CAD are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You can create fine drawings with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presentation symbols and text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styles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- Y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ou can use CAD program to mak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on screen presentation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Flexibility in edit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CAD provides the flexibility to make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quick alterations to drawings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Some of the editing capabilities are such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as; move or copy drawing elements,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enlarge or reduce size of a drawing,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make multiple copies of a drawing,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change units of measure and etc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pabilities of CAD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Units and accuracy level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36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CAD program allows you to work with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great accuracy. You can also work with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different units of measure, such as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architectural units, engineering units,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scientific units and surveyor unit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36040" indent="-5360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Storage and access of drawing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36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- It is quick and convenient to organize CAD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drawings. You can have thousands of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drawings on a computer’s hard disk and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you can open any one of them within  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seconds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36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pabilities of CAD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000000"/>
              </a:buClr>
              <a:buSzPct val="85000"/>
              <a:buFont typeface="Perpetu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Sharing CAD drawing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The drawings can be shared by a number of users, allowing them to coordinate projects and work as a team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This is accomplished by connecting different computers via a network. You can also publish your drawings on the Internet and collaborate CAD projects using a web sit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5:55:55Z</dcterms:created>
  <dc:creator>imam</dc:creator>
  <dc:description/>
  <dc:language>en-US</dc:language>
  <cp:lastModifiedBy>Dr. Saroj</cp:lastModifiedBy>
  <dcterms:modified xsi:type="dcterms:W3CDTF">2020-04-29T03:21:34Z</dcterms:modified>
  <cp:revision>162</cp:revision>
  <dc:subject/>
  <dc:title>Slide 1</dc:title>
</cp:coreProperties>
</file>