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D1A-1A24-4EC6-BB58-2F586A60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BEA-0AC6-476D-9FBF-B27D4C37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370-C22C-4159-9890-9474EB62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007-1CB0-4C4C-B85C-F7C927DD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5116-A238-432B-A224-D825CC46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0F00-0FA3-4E98-B19B-AE769254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AE5E-EC89-42BA-86CB-39CB8256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DA14-5442-436D-8899-9F37B27F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D6E2-0C6B-466F-9F61-AF85330A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AE99-482B-4134-B483-63CA50E2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7B4B-684C-4654-93FD-4F78A28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A3B-4FF3-4B08-9FE4-B0C482F7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FE93-3F55-4D72-991E-7FB40A43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D428-8226-4733-B78F-1BB9D032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FCAB-A81A-458E-9BE3-94DB55F9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40FC-151C-4222-B2EB-014EEF12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6A77-13BA-44D6-9F5A-2E6C78F4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D114D-6C83-4952-8BD9-5DFC8011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5102-4B3F-460B-ACF5-F0216280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F2E06-595F-4513-93CF-C5C87388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54A7-1405-4E7C-8EA8-839E691D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5AC9-036F-43D3-8577-AEE6D509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DF9-FCE1-4325-A36C-3B0CF3E7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C76B-6525-4C94-B987-811DBC97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6F469-BCB6-401F-9BC6-4658B471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17F7-D87B-4DB6-B6AF-FDDDFF91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4E10-37DA-4CAF-9074-FE4F136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97CED-8B6F-4A6F-BAB1-C5174456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AFE5-DBB2-45E4-8576-C328E8F7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1F9E-727F-416B-93C7-16A46390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257A-FB9B-4614-BC89-B966F418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BAD93-A1D9-4B66-96E0-7DCD4993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77D30-5AF5-4B46-BAFF-EB9D866D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962-93EE-4ADF-8333-4CD939A9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23B86-A6A8-483A-8327-E7076081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69954-B9AC-4000-8F6A-591AFD90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7E813-B3F6-412D-917A-2AC10674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16083-A2D9-444E-BB58-813191E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9635A-7DFA-4041-BD2C-6F39C1D0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2A7C-CAB3-48C5-9994-3794B9BC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DBF72-D8AA-45D0-9FD0-868F59DC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41CAE-D9F5-4064-B0C3-0EF29A72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D91D-8B74-43BF-8BD0-B206AB28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5C931-3D29-432D-8633-C276666B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51A-0074-42FD-B13F-E9425C59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FB83F-CA55-4462-A406-B85F4782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31BC6-B0FB-4E37-91A8-C95D3EDF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B2A84-AFCF-4FE5-9C88-B071B4B2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39101-6F0D-4242-A150-74609EF8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56730-465F-4717-8171-D14E3590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C82E4-451D-434C-86FE-19729CC7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68427-2E59-4CC3-9981-0CD75001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4135A-94E0-48AE-8E62-8F709A89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AF4AD-0181-45A6-8DAA-ACF1EA0E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950D0-D4F4-4B85-B492-64523FD7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619-9557-411E-A183-325EFEFC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32B2A-8288-4A28-9BBF-5CAFAEDD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39F-38E9-474A-A29E-C367D3A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40D-3024-4B7F-97CF-478F74FB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9B4-16F8-460D-AF1E-B74A05F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D195-6461-4B72-896B-E03774BB372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1B23-1755-4107-8E11-858C2FEC6B0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4DD3-B8AA-4791-84D4-1B0966D36C9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AC6B-93E5-49D6-AD21-610FF59AD67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036F-B3A1-4FDE-8C85-24F2ED7FCD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"/>
              </a:rPr>
              <a:t>Unit -8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"/>
              </a:rPr>
              <a:t>Information and communication technolog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40388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990720" y="4773600"/>
            <a:ext cx="6933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ll MT"/>
              </a:rPr>
              <a:t>Department of A. H. Extension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ll MT"/>
              </a:rPr>
              <a:t>Bihar Veterinary College, Patna-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971800" y="5867280"/>
            <a:ext cx="64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 Black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Arial Black"/>
              </a:rPr>
              <a:t>Instructor :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Dr. Saroj K. Ra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           </a:t>
            </a: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Asstt.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28600" y="3164040"/>
            <a:ext cx="838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dney"/>
              </a:rPr>
              <a:t>Topic : </a:t>
            </a: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Virtual Reality and Cyber Ex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E:\Dr. Saroj New 1 W bkt 21.02.2016\LOGO\New Logo\BASU LOGO copy.jpg"/>
          <p:cNvPicPr/>
          <p:nvPr/>
        </p:nvPicPr>
        <p:blipFill>
          <a:blip r:embed="rId1"/>
          <a:stretch/>
        </p:blipFill>
        <p:spPr>
          <a:xfrm>
            <a:off x="3048120" y="163440"/>
            <a:ext cx="2514600" cy="1193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9" descr=""/>
          <p:cNvPicPr/>
          <p:nvPr/>
        </p:nvPicPr>
        <p:blipFill>
          <a:blip r:embed="rId2"/>
          <a:stretch/>
        </p:blipFill>
        <p:spPr>
          <a:xfrm>
            <a:off x="6595920" y="438120"/>
            <a:ext cx="2401920" cy="7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5" name="Picture 2" descr="Magic wand&#13;&#10;Prio VR&#13;&#10;Stem&#13;&#10;Razer Hydra Leap Motion&#13;&#10;Control VR&#13;&#10;Input Devices&#13;&#10;10&#13;&#10; "/>
          <p:cNvPicPr/>
          <p:nvPr/>
        </p:nvPicPr>
        <p:blipFill>
          <a:blip r:embed="rId1"/>
          <a:stretch/>
        </p:blipFill>
        <p:spPr>
          <a:xfrm>
            <a:off x="192240" y="228600"/>
            <a:ext cx="849456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Picture 2" descr="Sensing Gloves&#13;&#10;3D Audio&#13;&#10;Output Devices&#13;&#10;Helsinki&#13;&#10;Headset&#13;&#10;11&#13;&#10; "/>
          <p:cNvPicPr/>
          <p:nvPr/>
        </p:nvPicPr>
        <p:blipFill>
          <a:blip r:embed="rId1"/>
          <a:stretch/>
        </p:blipFill>
        <p:spPr>
          <a:xfrm>
            <a:off x="476280" y="274680"/>
            <a:ext cx="864864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1" name="Picture 2" descr="Applications of Virtual Reality&#13;&#10;1. Virtual Reality in the Military&#13;&#10;12&#13;&#10; "/>
          <p:cNvPicPr/>
          <p:nvPr/>
        </p:nvPicPr>
        <p:blipFill>
          <a:blip r:embed="rId1"/>
          <a:stretch/>
        </p:blipFill>
        <p:spPr>
          <a:xfrm>
            <a:off x="380880" y="274680"/>
            <a:ext cx="844236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4" name="Picture 2" descr="2.Virtual Reality in Healthcare&#13;&#10;13&#13;&#10; "/>
          <p:cNvPicPr/>
          <p:nvPr/>
        </p:nvPicPr>
        <p:blipFill>
          <a:blip r:embed="rId1"/>
          <a:stretch/>
        </p:blipFill>
        <p:spPr>
          <a:xfrm>
            <a:off x="303120" y="274680"/>
            <a:ext cx="805824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Picture 2" descr="3.Virtual Reality and Education&#13;&#10;14&#13;&#10; "/>
          <p:cNvPicPr/>
          <p:nvPr/>
        </p:nvPicPr>
        <p:blipFill>
          <a:blip r:embed="rId1"/>
          <a:stretch/>
        </p:blipFill>
        <p:spPr>
          <a:xfrm>
            <a:off x="293760" y="272880"/>
            <a:ext cx="839304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0" name="Picture 2" descr="4.Virtual Reality and Scientific Visualization&#13;&#10;15&#13;&#10; "/>
          <p:cNvPicPr/>
          <p:nvPr/>
        </p:nvPicPr>
        <p:blipFill>
          <a:blip r:embed="rId1"/>
          <a:stretch/>
        </p:blipFill>
        <p:spPr>
          <a:xfrm>
            <a:off x="487440" y="311040"/>
            <a:ext cx="817884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3" name="Picture 2" descr="5.Virtual Reality in Entertainment&#13;&#10;16&#13;&#10; "/>
          <p:cNvPicPr/>
          <p:nvPr/>
        </p:nvPicPr>
        <p:blipFill>
          <a:blip r:embed="rId1"/>
          <a:stretch/>
        </p:blipFill>
        <p:spPr>
          <a:xfrm>
            <a:off x="533520" y="380880"/>
            <a:ext cx="8281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6" name="Picture 2" descr="Advantages and Disadvantages&#13;&#10;Advantages&#13;&#10; Virtual reality creates a&#13;&#10;realistic world.&#13;&#10; It enables user to explore&#13;&#10;places.&#13;&#10;..."/>
          <p:cNvPicPr/>
          <p:nvPr/>
        </p:nvPicPr>
        <p:blipFill>
          <a:blip r:embed="rId1"/>
          <a:stretch/>
        </p:blipFill>
        <p:spPr>
          <a:xfrm>
            <a:off x="457200" y="133200"/>
            <a:ext cx="845820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907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Rounded Rectangle 3"/>
          <p:cNvSpPr/>
          <p:nvPr/>
        </p:nvSpPr>
        <p:spPr>
          <a:xfrm>
            <a:off x="1676520" y="2362320"/>
            <a:ext cx="6553080" cy="25146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7200" spc="-1" strike="noStrike">
                <a:solidFill>
                  <a:srgbClr val="ffff00"/>
                </a:solidFill>
                <a:latin typeface="Perpetua"/>
              </a:rPr>
              <a:t>Cyber Extensio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"/>
          <p:cNvSpPr/>
          <p:nvPr/>
        </p:nvSpPr>
        <p:spPr>
          <a:xfrm>
            <a:off x="3057120" y="45720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Cyber Ex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45360" y="1447920"/>
            <a:ext cx="940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yber Extension can be defines as Extension over the cyber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yber extension is using the power of online computer networks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 help of communication channels to deliver the content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orm of text, graphics, audio and video either passively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actively to facilitate dissemination of agricultural technolog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2662920" y="350532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yber Extension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27720" y="4267080"/>
            <a:ext cx="779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ll the tools of internet used for browsing the agricultu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formation form the basket of the cyber extension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1&#13;&#10; "/>
          <p:cNvPicPr/>
          <p:nvPr/>
        </p:nvPicPr>
        <p:blipFill>
          <a:blip r:embed="rId1"/>
          <a:stretch/>
        </p:blipFill>
        <p:spPr>
          <a:xfrm>
            <a:off x="628560" y="277920"/>
            <a:ext cx="805824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2205720" y="53352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yber Extension Tool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"/>
          <p:cNvSpPr/>
          <p:nvPr/>
        </p:nvSpPr>
        <p:spPr>
          <a:xfrm>
            <a:off x="707760" y="1447920"/>
            <a:ext cx="7332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active expert system on diseases of livesto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rop, pests, and problems related with the agri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NET browsing for the extension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al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iscussion  groups and news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1"/>
          <p:cNvSpPr/>
          <p:nvPr/>
        </p:nvSpPr>
        <p:spPr>
          <a:xfrm>
            <a:off x="2235240" y="4572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Success Stories of Cyber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243000" y="1219320"/>
            <a:ext cx="799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entral government initiatives to provid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o the expert system – NATP-ITD (1998) compon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CAR- Extension Component under NATP, NIC initia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 kolhapur of Maharastra (Warana Wired Vill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31320" y="3124080"/>
            <a:ext cx="861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tate  initiatives: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aharastra governments initiatives to pro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formation kiosks, Kerala Government (Akshaya Project)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nnect all village panchay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GO ‘s Project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formation villages project in pondicherry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SSRF chenn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Multiple rural services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 Include agriculture extension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arana, Gyandoot (Raj), Jhabua development commun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(MP), Mango informati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2"/>
          <p:cNvSpPr/>
          <p:nvPr/>
        </p:nvSpPr>
        <p:spPr>
          <a:xfrm>
            <a:off x="627480" y="30492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Concept of Information Kio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3"/>
          <p:cNvSpPr/>
          <p:nvPr/>
        </p:nvSpPr>
        <p:spPr>
          <a:xfrm>
            <a:off x="132480" y="990720"/>
            <a:ext cx="89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 concept of “ICT Kiosk” is to provide various services incl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ivestock, Agricultural information to the rural people to en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ccessibility  of information at village level through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698400" y="22096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190080" y="2743200"/>
            <a:ext cx="86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net is worldwide network of computer networks. It is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 connections of Networks that enables connected compu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o communicat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7"/>
          <p:cNvSpPr/>
          <p:nvPr/>
        </p:nvSpPr>
        <p:spPr>
          <a:xfrm>
            <a:off x="95040" y="4114800"/>
            <a:ext cx="900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net in not owned by any individual organization or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 is free for open service facility. It is governed by INTER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Internet Network Information Cent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699120" y="228600"/>
            <a:ext cx="31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nterne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406800" y="1143000"/>
            <a:ext cx="869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ome of the best known services available on the internet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orld Wide Web (ww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ile Transfer Protocol (FTP)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lectronic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iscussion groups and News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lnet Serv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391680" y="4114800"/>
            <a:ext cx="25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Search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304920" y="5029200"/>
            <a:ext cx="83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earch engines are powerful tools as they do searching for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ser of the internet by following information on the ww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388080" y="380880"/>
            <a:ext cx="841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ome of the popular search engines are: Google, Yahoo, Redif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ltavista, ask.com, gigablast.com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85800" y="1295280"/>
          <a:ext cx="7620120" cy="52578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Name of the Search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Name of the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n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ustralia/US/UK/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ra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iddle 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ai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Perpetua"/>
                        </a:rPr>
                        <a:t>Guruji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Perpetua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iner.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un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jdi.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lov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amb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us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Perpetua"/>
                        </a:rPr>
                        <a:t>Red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Perpetua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1612440" y="30492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Veterinary/Agricultural Search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24480" y="1066680"/>
            <a:ext cx="89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he major search engines for agriculture and livestock domain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695160" y="1981080"/>
            <a:ext cx="455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 agfind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 agricultu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agricultureinformatio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 usagne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farm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agcareer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produceindust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fruitsearch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producelin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28600" y="2282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Perpetua"/>
              </a:rPr>
              <a:t>Some useful website addresses for Livestock Owner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Perpetu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ahd.bih.nic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dahd.nic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bihar.com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gov.bih.nic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biharonline.gov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krishi.bih.nic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pusavarsity.org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www.bvcpatna.org.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04560" y="304920"/>
            <a:ext cx="8381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www.ivri.nic.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www.ndri.res.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www.nddb.org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www.vci.nic.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www.icar.org.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4" descr="http://t3.gstatic.com/images?q=tbn:ANd9GcTEY8pTZ4DWG3qV1xywrTCl0Wwgef6KBQYYzJPyDdznTtg7qD-KMUqS5oLP"/>
          <p:cNvPicPr/>
          <p:nvPr/>
        </p:nvPicPr>
        <p:blipFill>
          <a:blip r:embed="rId1"/>
          <a:stretch/>
        </p:blipFill>
        <p:spPr>
          <a:xfrm>
            <a:off x="1447920" y="3809880"/>
            <a:ext cx="6933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Perpetua"/>
              </a:rPr>
              <a:t>Some other useful website addresses for Livestock Owne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e-choupal.co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e-agriculture.or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mssrf.or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itcportal.co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fao.or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gisdevelopment.ne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www.ruralinformatics.nic.i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127160" y="26820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e-Choupal – a boost for fa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73040" y="1382760"/>
            <a:ext cx="812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T  through e-choupal aims to enhancing competitiveness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lobal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76200" y="2286000"/>
            <a:ext cx="54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ole of choupal sanchalak is central r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75920" y="2819520"/>
            <a:ext cx="86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-choupal delivers real-time information and customizes knowl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51080" y="3352680"/>
            <a:ext cx="57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-choupal creates direct marketing chan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457200" y="3809880"/>
            <a:ext cx="8077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-choupal is benefiting over 4 million far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he programme involves the installation of computers with Internet access in rural areas of India to offer fa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p-to-date marketing and agricultural information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What is Virtual Reality?&#13;&#10; Virtual Reality means feeling the imaginary(virtual) world,&#13;&#10;rather than the real one. The imagi..."/>
          <p:cNvPicPr/>
          <p:nvPr/>
        </p:nvPicPr>
        <p:blipFill>
          <a:blip r:embed="rId1"/>
          <a:stretch/>
        </p:blipFill>
        <p:spPr>
          <a:xfrm>
            <a:off x="227160" y="255600"/>
            <a:ext cx="84596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288000" y="64944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 digital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21120" y="1611360"/>
            <a:ext cx="84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TC began to silent evolution of rural India with Soya growers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llages of M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79360" y="2678040"/>
            <a:ext cx="88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armers log on to the site through Internet kiosks to get information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best farming pract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84040" y="3897360"/>
            <a:ext cx="7629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ves a transparent and cost effective marketing chan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isaan Call Centres are established in all KVK’s. No. is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5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05640" y="52578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Linking farmers to remunerative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294120" y="5867280"/>
            <a:ext cx="85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e- choupal site helps farmers to discover the best price for the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Quality at the village itsel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http://t1.gstatic.com/images?q=tbn:ANd9GcSFtnyI4UqqR3mRi3pJYdbFSH_E4UoKjPQYVcOlcTSY01CUOHU_"/>
          <p:cNvPicPr/>
          <p:nvPr/>
        </p:nvPicPr>
        <p:blipFill>
          <a:blip r:embed="rId1"/>
          <a:stretch/>
        </p:blipFill>
        <p:spPr>
          <a:xfrm>
            <a:off x="914400" y="380880"/>
            <a:ext cx="7086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2" descr="History&#13;&#10; More than one person has been involved in the development of&#13;&#10;this technological system.&#13;&#10; In 1950’s visionary ci..."/>
          <p:cNvPicPr/>
          <p:nvPr/>
        </p:nvPicPr>
        <p:blipFill>
          <a:blip r:embed="rId1"/>
          <a:stretch/>
        </p:blipFill>
        <p:spPr>
          <a:xfrm>
            <a:off x="457200" y="272880"/>
            <a:ext cx="839304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2" descr="Types of Virtual Reality&#13;&#10; Immersive Virtual Reality&#13;&#10; Non-Immersive Virtual Reality&#13;&#10; Window on world Virtual Reality&#13;&#10;5&#13;&#10; "/>
          <p:cNvPicPr/>
          <p:nvPr/>
        </p:nvPicPr>
        <p:blipFill>
          <a:blip r:embed="rId1"/>
          <a:stretch/>
        </p:blipFill>
        <p:spPr>
          <a:xfrm>
            <a:off x="304920" y="255600"/>
            <a:ext cx="84643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2" descr="•Immersive Virtual Reality&#13;&#10;Immersive Virtual Reality&#13;&#10;Immersion into virtual reality is a perception of being&#13;&#10;physically pr..."/>
          <p:cNvPicPr/>
          <p:nvPr/>
        </p:nvPicPr>
        <p:blipFill>
          <a:blip r:embed="rId1"/>
          <a:stretch/>
        </p:blipFill>
        <p:spPr>
          <a:xfrm>
            <a:off x="307800" y="277920"/>
            <a:ext cx="837900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Picture 2" descr="Non-Immersive Virtual Reality&#13;&#10; Large display, but doesn’t surround the user.&#13;&#10;7&#13;&#10; "/>
          <p:cNvPicPr/>
          <p:nvPr/>
        </p:nvPicPr>
        <p:blipFill>
          <a:blip r:embed="rId1"/>
          <a:stretch/>
        </p:blipFill>
        <p:spPr>
          <a:xfrm>
            <a:off x="380880" y="250920"/>
            <a:ext cx="83059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127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Picture 2" descr="Window on world Virtual Reality&#13;&#10; Desktop- based Virtual Reality involves displaying a&#13;&#10;3-dimensional virtual on regular de..."/>
          <p:cNvPicPr/>
          <p:nvPr/>
        </p:nvPicPr>
        <p:blipFill>
          <a:blip r:embed="rId1"/>
          <a:stretch/>
        </p:blipFill>
        <p:spPr>
          <a:xfrm>
            <a:off x="379440" y="285840"/>
            <a:ext cx="830736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Picture 2" descr="Hardware Devices&#13;&#10; Input Devices&#13;&#10; Output Devices&#13;&#10;9&#13;&#10; "/>
          <p:cNvPicPr/>
          <p:nvPr/>
        </p:nvPicPr>
        <p:blipFill>
          <a:blip r:embed="rId1"/>
          <a:stretch/>
        </p:blipFill>
        <p:spPr>
          <a:xfrm>
            <a:off x="571680" y="274680"/>
            <a:ext cx="81594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5:55:55Z</dcterms:created>
  <dc:creator>imam</dc:creator>
  <dc:description/>
  <dc:language>en-US</dc:language>
  <cp:lastModifiedBy>Dr. Saroj</cp:lastModifiedBy>
  <dcterms:modified xsi:type="dcterms:W3CDTF">2020-04-29T03:24:58Z</dcterms:modified>
  <cp:revision>162</cp:revision>
  <dc:subject/>
  <dc:title>Slide 1</dc:title>
</cp:coreProperties>
</file>