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7BA-83C8-468F-9FC0-13744648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F8B-857F-47BA-8DB9-6DCF5733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26C-3A06-449B-8CB5-75894D95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474-1F94-4A38-9249-8535FF3B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2E2F-C502-4DBB-8BED-EDB31EEE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06A5-1C78-485E-BDD4-9512090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567-7D54-423E-8709-70845737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29D5-106D-4033-B406-25A09832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E2A9-CE61-4136-8CA3-0F40A68B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1EF-6D5B-48DA-86B9-955DA2C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94F4-F37D-4681-AE6F-4901B17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988-FC1A-44EB-9DDE-D516843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15D-D557-4E68-A974-DCF857B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447-9787-4A37-AEA8-520CBD99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E5C6-235D-43E9-AB26-625C9CB6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3705-27B4-4962-8EA5-8BB3DF20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765D-C78A-44B3-B763-3C0D415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2960-B7BC-4E58-B7B8-4E15743C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152A-F1C9-4127-AF23-E65A908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6329-B09A-44B8-98BA-139ACC1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6D65-0E2B-49A6-BD78-7B97A30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77B5-99E0-4DDA-AE8D-7C34DC34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20B-511E-4737-B0C9-F92CD7C8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6FF4-9EF3-40C4-BCA9-5A34ACA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FB7F-096B-4D0B-88AC-E1944F9A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042B-4824-4BA1-8852-BACD022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C31F-F936-42A0-A8DB-22261073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2787-4FEF-4C85-9898-3C9ACD7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AE84-DD00-45C7-969C-EF341DCA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A02C-354B-4B9E-9057-243122A7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2CF3-BD9C-4329-B0B9-CE569AF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62A2-FD02-4467-AC6C-BD33BCF7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71B4-0ECD-473F-B814-7F8DFA8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1AC-6FBC-4C5D-8093-1470E2E2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C2C7F-5684-4E47-B569-3678A458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2810-9A7E-49AB-A634-5194E46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0853-0762-44DC-8DE1-B986DFB5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BB60-026B-43F2-95A8-5A939C99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D7D6-A403-4094-99D7-B0158FF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2F22-3922-48FB-B768-B378E04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FAFE-CC55-4177-B2F5-78DC4D3D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B33B-9EE4-40C7-BE93-F2F5E6A9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30C8-209C-4E31-82C9-45D33105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2374-05A5-4B9F-A394-8E2014C8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0F3-6F3A-4417-A5ED-38E99DF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583E-C0A8-4EC7-9F51-56A2A1C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DB47D-03E5-4994-8288-1BD1626E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3E43-5875-4B3A-B89C-0D058A1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A1ED2-BFF5-49E6-9897-9A4E84B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1D73-35F7-4DB0-B20E-6C93847C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95DA-EB5B-466F-8A34-9BE8CE5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3A4F6-9458-4317-B949-7D603ED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2CB3-5C66-44FE-91B3-34F89F5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4378-947D-495E-9C43-42EE7C5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D548-2A8F-44B5-BA7D-4090A187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73B-C4FB-403F-B3E9-E153AC1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00AE-9071-4B66-A589-AB7EF15F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A9D-5FCF-47BF-BAC5-6B9724F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441-5604-4321-83E5-7B1C6C2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C22-E473-40FD-AB6B-6187DF9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3B0-9E38-41B0-84EF-F33A4AC2CE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403-8839-4297-BC77-674F4381DE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EFDC-80E1-456B-8D44-5E20033C3E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0FF-4127-47EB-AEBC-C821AD72F2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6E78-61EA-447D-B5FF-F3C8BD57FA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"/>
              </a:rPr>
              <a:t>Unit -8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"/>
              </a:rPr>
              <a:t>Information and communication techn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4038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990720" y="477360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Department of A. H. Extensio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Bihar Veterinary College, Patna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71800" y="586728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Instructor :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r. Saroj K. Ra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Asstt.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" y="3164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dney"/>
              </a:rPr>
              <a:t>Topic :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Concept of Information Kiosk</a:t>
            </a:r>
            <a:r>
              <a:rPr b="1" lang="en-US" sz="3200" spc="-1" strike="noStrike">
                <a:solidFill>
                  <a:srgbClr val="000099"/>
                </a:solidFill>
                <a:latin typeface="Sydne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Internet and Teleconferen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E:\Dr. Saroj New 1 W bkt 21.02.2016\LOGO\New Logo\BASU LOGO copy.jpg"/>
          <p:cNvPicPr/>
          <p:nvPr/>
        </p:nvPicPr>
        <p:blipFill>
          <a:blip r:embed="rId1"/>
          <a:stretch/>
        </p:blipFill>
        <p:spPr>
          <a:xfrm>
            <a:off x="3048120" y="163440"/>
            <a:ext cx="2514600" cy="119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9" descr=""/>
          <p:cNvPicPr/>
          <p:nvPr/>
        </p:nvPicPr>
        <p:blipFill>
          <a:blip r:embed="rId2"/>
          <a:stretch/>
        </p:blipFill>
        <p:spPr>
          <a:xfrm>
            <a:off x="6595920" y="438120"/>
            <a:ext cx="240192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8000" y="649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 digital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21120" y="1611360"/>
            <a:ext cx="84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C began to silent evolution of rural India with Soya growers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llages of M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79360" y="2678040"/>
            <a:ext cx="88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armers log on to the site through Internet kiosks to get information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best farming pract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84040" y="3897360"/>
            <a:ext cx="7629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ves a transparent and cost effective marketing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isaan Call Centres are established in all KVK’s. No. is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5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05640" y="5257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inking farmers to remunerative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94120" y="5867280"/>
            <a:ext cx="85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e- choupal site helps farmers to discover the best price for the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Quality at the village itsel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t1.gstatic.com/images?q=tbn:ANd9GcSFtnyI4UqqR3mRi3pJYdbFSH_E4UoKjPQYVcOlcTSY01CUOHU_"/>
          <p:cNvPicPr/>
          <p:nvPr/>
        </p:nvPicPr>
        <p:blipFill>
          <a:blip r:embed="rId1"/>
          <a:stretch/>
        </p:blipFill>
        <p:spPr>
          <a:xfrm>
            <a:off x="914400" y="3808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Picture 2" descr="E:\Dr. Saroj New 1 W bkt 21.02.2016\Class Notes New 29.3.2020\LECTURE WISE PPT\PPT sought\Unit 8\pict\teleconferencing-2-638.jpg"/>
          <p:cNvPicPr/>
          <p:nvPr/>
        </p:nvPicPr>
        <p:blipFill>
          <a:blip r:embed="rId1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E:\Dr. Saroj New 1 W bkt 21.02.2016\Class Notes New 29.3.2020\LECTURE WISE PPT\PPT sought\Unit 8\pict\teleconferencing-3-63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Picture 2" descr="E:\Dr. Saroj New 1 W bkt 21.02.2016\Class Notes New 29.3.2020\LECTURE WISE PPT\PPT sought\Unit 8\pict\teleconferencing-4-638.jpg"/>
          <p:cNvPicPr/>
          <p:nvPr/>
        </p:nvPicPr>
        <p:blipFill>
          <a:blip r:embed="rId1"/>
          <a:stretch/>
        </p:blipFill>
        <p:spPr>
          <a:xfrm>
            <a:off x="22860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E:\Dr. Saroj New 1 W bkt 21.02.2016\Class Notes New 29.3.2020\LECTURE WISE PPT\PPT sought\Unit 8\pict\communication-tools-technices-9-63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9" name="Picture 2" descr="E:\Dr. Saroj New 1 W bkt 21.02.2016\Class Notes New 29.3.2020\LECTURE WISE PPT\PPT sought\Unit 8\pict\teleconferencing-5-638.jpg"/>
          <p:cNvPicPr/>
          <p:nvPr/>
        </p:nvPicPr>
        <p:blipFill>
          <a:blip r:embed="rId1"/>
          <a:stretch/>
        </p:blipFill>
        <p:spPr>
          <a:xfrm>
            <a:off x="411120" y="396720"/>
            <a:ext cx="81993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3" name="Picture 2" descr="E:\Dr. Saroj New 1 W bkt 21.02.2016\Class Notes New 29.3.2020\LECTURE WISE PPT\PPT sought\Unit 8\pict\teleconferencing-6-63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E:\Dr. Saroj New 1 W bkt 21.02.2016\Class Notes New 29.3.2020\LECTURE WISE PPT\PPT sought\Unit 8\pict\teleconferencing-7-63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1" name="Picture 2" descr="E:\Dr. Saroj New 1 W bkt 21.02.2016\Class Notes New 29.3.2020\LECTURE WISE PPT\PPT sought\Unit 8\pict\teleconferencing-13-63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"/>
          <p:cNvSpPr/>
          <p:nvPr/>
        </p:nvSpPr>
        <p:spPr>
          <a:xfrm>
            <a:off x="627480" y="30492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Concept of Information Kio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132480" y="990720"/>
            <a:ext cx="89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concept of “ICT Kiosk” is to provide various services incl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ivestock, Agricultural information to the rural people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ccessibility  of information at village level through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98400" y="22096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190080" y="2743200"/>
            <a:ext cx="86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et is worldwide network of computer networks. It i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 connections of Networks that enables connected compu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communicat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95040" y="4114800"/>
            <a:ext cx="90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et in not owned by any individual organization or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is free for open service facility. It is governed by INTER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Internet Network Information Cent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5" name="Picture 2" descr="E:\Dr. Saroj New 1 W bkt 21.02.2016\Class Notes New 29.3.2020\LECTURE WISE PPT\PPT sought\Unit 8\pict\teleconferencing-15-638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9" name="Picture 2" descr="E:\Dr. Saroj New 1 W bkt 21.02.2016\Class Notes New 29.3.2020\LECTURE WISE PPT\PPT sought\Unit 8\pict\communication-tools-technices-13-638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3" name="Picture 2" descr="E:\Dr. Saroj New 1 W bkt 21.02.2016\Class Notes New 29.3.2020\LECTURE WISE PPT\PPT sought\Unit 8\pict\communication-tools-technices-14-638.jpg"/>
          <p:cNvPicPr/>
          <p:nvPr/>
        </p:nvPicPr>
        <p:blipFill>
          <a:blip r:embed="rId1"/>
          <a:stretch/>
        </p:blipFill>
        <p:spPr>
          <a:xfrm>
            <a:off x="228600" y="168120"/>
            <a:ext cx="8686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699120" y="228600"/>
            <a:ext cx="31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terne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06800" y="1143000"/>
            <a:ext cx="869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me of the best known services available on the internet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orld Wide Web (ww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le Transfer Protocol (FTP)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scussion groups and News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net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91680" y="4114800"/>
            <a:ext cx="25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304920" y="5029200"/>
            <a:ext cx="83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arch engines are powerful tools as they do searching for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er of the internet by following information on the ww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388080" y="380880"/>
            <a:ext cx="84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me of the popular search engines are: Google, Yahoo, Redif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ltavista, ask.com, gigablast.com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1295280"/>
          <a:ext cx="7620120" cy="52578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Name of the Search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Name of the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n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ustralia/US/UK/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a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ai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Guruji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iner.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jdi.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amb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Red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1612440" y="30492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Veterinary/Agricultural 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24480" y="1066680"/>
            <a:ext cx="89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he major search engines for agriculture and livestock domai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695160" y="1981080"/>
            <a:ext cx="455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 agfin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 agricultu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agricultureinformati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 usagne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farm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agcareer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produceindust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fruitsearch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producelin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Perpetua"/>
              </a:rPr>
              <a:t>Some useful website addresses for Livestock Owner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Perpetu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ahd.bih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dahd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bihar.com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gov.bih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biharonline.gov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krishi.bih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pusavarsity.org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bvcpatna.org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560" y="3049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ivri.nic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ndri.res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nddb.org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vci.nic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icar.org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4" descr="http://t3.gstatic.com/images?q=tbn:ANd9GcTEY8pTZ4DWG3qV1xywrTCl0Wwgef6KBQYYzJPyDdznTtg7qD-KMUqS5oLP"/>
          <p:cNvPicPr/>
          <p:nvPr/>
        </p:nvPicPr>
        <p:blipFill>
          <a:blip r:embed="rId1"/>
          <a:stretch/>
        </p:blipFill>
        <p:spPr>
          <a:xfrm>
            <a:off x="1447920" y="3809880"/>
            <a:ext cx="6933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Perpetua"/>
              </a:rPr>
              <a:t>Some other useful website addresses for Livestock Owne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e-choupal.c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e-agriculture.or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mssrf.or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itcportal.c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fao.or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gisdevelopment.ne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ruralinformatics.nic.i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27160" y="26820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e-Choupal – a boost for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73040" y="1382760"/>
            <a:ext cx="81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  through e-choupal aims to enhancing competitiveness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lobal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76200" y="2286000"/>
            <a:ext cx="54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ole of choupal sanchalak is central r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75920" y="2819520"/>
            <a:ext cx="86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choupal delivers real-time information and customizes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51080" y="3352680"/>
            <a:ext cx="57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choupal creates direct marketing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57200" y="3809880"/>
            <a:ext cx="8077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choupal is benefiting over 4 million far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programme involves the installation of computers with Internet access in rural areas of India to offer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p-to-date marketing and agricultural information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55:55Z</dcterms:created>
  <dc:creator>imam</dc:creator>
  <dc:description/>
  <dc:language>en-US</dc:language>
  <cp:lastModifiedBy>Dr. Saroj</cp:lastModifiedBy>
  <dcterms:modified xsi:type="dcterms:W3CDTF">2020-04-29T04:00:13Z</dcterms:modified>
  <cp:revision>164</cp:revision>
  <dc:subject/>
  <dc:title>Slide 1</dc:title>
</cp:coreProperties>
</file>